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40.jpeg" ContentType="image/jpeg"/>
  <Override PartName="/ppt/media/image55.wmf" ContentType="image/x-wmf"/>
  <Override PartName="/ppt/media/image54.wmf" ContentType="image/x-wmf"/>
  <Override PartName="/ppt/media/image53.wmf" ContentType="image/x-wmf"/>
  <Override PartName="/ppt/media/image12.jpeg" ContentType="image/jpeg"/>
  <Override PartName="/ppt/media/image35.gif" ContentType="image/gif"/>
  <Override PartName="/ppt/media/image5.gif" ContentType="image/gif"/>
  <Override PartName="/ppt/media/image33.jpeg" ContentType="image/jpeg"/>
  <Override PartName="/ppt/media/image60.png" ContentType="image/png"/>
  <Override PartName="/ppt/media/image28.jpeg" ContentType="image/jpeg"/>
  <Override PartName="/ppt/media/image27.wmf" ContentType="image/x-wmf"/>
  <Override PartName="/ppt/media/image16.png" ContentType="image/png"/>
  <Override PartName="/ppt/media/image1.gif" ContentType="image/gif"/>
  <Override PartName="/ppt/media/image64.png" ContentType="image/png"/>
  <Override PartName="/ppt/media/image62.gif" ContentType="image/gif"/>
  <Override PartName="/ppt/media/image63.png" ContentType="image/png"/>
  <Override PartName="/ppt/media/image61.jpeg" ContentType="image/jpeg"/>
  <Override PartName="/ppt/media/image38.wmf" ContentType="image/x-wmf"/>
  <Override PartName="/ppt/media/image59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29.wmf" ContentType="image/x-wmf"/>
  <Override PartName="/ppt/media/image18.png" ContentType="image/png"/>
  <Override PartName="/ppt/media/image3.gif" ContentType="image/gif"/>
  <Override PartName="/ppt/media/image26.gif" ContentType="image/gif"/>
  <Override PartName="/ppt/media/image4.gif" ContentType="image/gif"/>
  <Override PartName="/ppt/media/image19.png" ContentType="image/png"/>
  <Override PartName="/ppt/media/image31.jpeg" ContentType="image/jpeg"/>
  <Override PartName="/ppt/media/image25.jpeg" ContentType="image/jpeg"/>
  <Override PartName="/ppt/media/image32.png" ContentType="image/png"/>
  <Override PartName="/ppt/media/image58.png" ContentType="image/png"/>
  <Override PartName="/ppt/media/image15.wmf" ContentType="image/x-wmf"/>
  <Override PartName="/ppt/media/image57.png" ContentType="image/png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23.png" ContentType="image/png"/>
  <Override PartName="/ppt/media/image30.gif" ContentType="image/gif"/>
  <Override PartName="/ppt/media/image13.jpeg" ContentType="image/jpeg"/>
  <Override PartName="/ppt/media/image44.png" ContentType="image/png"/>
  <Override PartName="/ppt/media/image51.gif" ContentType="image/gif"/>
  <Override PartName="/ppt/media/image34.jpeg" ContentType="image/jpeg"/>
  <Override PartName="/ppt/media/image36.wmf" ContentType="image/x-wmf"/>
  <Override PartName="/ppt/media/image20.png" ContentType="image/png"/>
  <Override PartName="/ppt/media/image37.jpeg" ContentType="image/jpeg"/>
  <Override PartName="/ppt/media/image14.gif" ContentType="image/gif"/>
  <Override PartName="/ppt/media/image17.png" ContentType="image/png"/>
  <Override PartName="/ppt/media/image2.gif" ContentType="image/gif"/>
  <Override PartName="/ppt/media/image39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png" ContentType="image/png"/>
  <Override PartName="/ppt/media/image49.png" ContentType="image/png"/>
  <Override PartName="/ppt/media/image50.jpeg" ContentType="image/jpeg"/>
  <Override PartName="/ppt/media/image5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98D7-2AC8-4574-9541-09FEBC1B22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1932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думайте как можно больше слов с этими слогами ( на этапе автоматизации звука Р в слов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3E8-ACF4-4DD5-B569-CF767D96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A37-DB04-4AAA-AAB7-87438469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BA3-1180-4D58-9987-B9F91721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E7A-46B9-4EC8-AA07-2D39F99D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76CE-C515-461C-AE65-B89CA2D1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1F4F-5846-4387-970E-90D8A1DA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58F2-99A4-41D2-945F-46B5A401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157E-F97A-44D2-B512-2F461C26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E064-B2AD-4694-95BA-2D564105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BCA2-E0A5-4AB0-B82C-1D3712DE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C204-B534-4334-A964-378CE78D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A1F-A42C-4884-ADE3-D15F78D8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AE07-1A39-4263-95F2-42DBD9D8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A440-F9E7-4B98-8B1F-161B9687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2EF1-B832-4A90-8466-C779CB33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38A7-7B11-4210-9401-1D5C4AF4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7781-4FC4-49BE-A655-49B11D54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B5A-AB99-4263-A87A-44096040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D2C-4CDB-47D5-AD91-16E97A78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8CD-2F8D-4FB2-889E-A1CE4C85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6E7-D348-4369-BFDD-1DCAF372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AC8-AE00-4B7A-B8DB-7295CB89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837-9CAB-4331-A519-F8809B63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165-57D1-428E-93E5-7F1F396F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9727-99E0-4148-A902-4DDF2255AF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C773-2A67-4F02-982D-8140BCF3DB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31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7.gif"/><Relationship Id="rId3" Type="http://schemas.openxmlformats.org/officeDocument/2006/relationships/image" Target="../media/image34.jpeg"/><Relationship Id="rId4" Type="http://schemas.openxmlformats.org/officeDocument/2006/relationships/image" Target="../media/image35.gif"/><Relationship Id="rId5" Type="http://schemas.openxmlformats.org/officeDocument/2006/relationships/image" Target="../media/image36.wmf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2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png"/><Relationship Id="rId1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6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57.pn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png"/><Relationship Id="rId7" Type="http://schemas.openxmlformats.org/officeDocument/2006/relationships/image" Target="../media/image61.jpeg"/><Relationship Id="rId8" Type="http://schemas.openxmlformats.org/officeDocument/2006/relationships/image" Target="../media/image62.gif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Звук С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ановка и закрепление звука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28840" y="743040"/>
            <a:ext cx="674352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оваривать чистоговор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а-са-са, са-са-са,               Сад, собака, самолёт,             Со-со-со,  со-со-со,             Соль, солдат и колесо,              су-су-су, су-су-су,             Сумка, суп, сундук, барсук,           сы-сы-сы, сы-сы-сы,           сыр, усы, две полос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428840" y="743040"/>
            <a:ext cx="6743520" cy="62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оваривать чистоговор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а-са-са, са-са-са,                         Вот бежит-бежит лиса.             Со-со-со,  со-со-со,             Лиса катит колесо.                         Сы-сы-сы, сы-сы-сы,           Хвост красивый у лисы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у-су-су, су-су-су,                             В лесу видул я лису.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755640" y="2781360"/>
          <a:ext cx="208908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781360"/>
                    <a:ext cx="208908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635280" y="14842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он, слониха и слон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онялись по склону утё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771640" y="3068640"/>
          <a:ext cx="172908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3068640"/>
                    <a:ext cx="17290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444920" y="3429000"/>
          <a:ext cx="127944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4920" y="3429000"/>
                    <a:ext cx="12794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6012000" y="3645000"/>
          <a:ext cx="1008000" cy="976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2000" y="3645000"/>
                    <a:ext cx="1008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826920" y="501336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ит спокойно старый слон,                                     Стоя спать умеет 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900000" y="1125360"/>
          <a:ext cx="153684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25360"/>
                    <a:ext cx="153684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2484360" y="1484280"/>
          <a:ext cx="153684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484280"/>
                    <a:ext cx="153684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4284720" y="1268280"/>
            <a:ext cx="446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Жили у бабу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ва веселых гу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дин серый, другой 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ва веселых гус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аня в лесу поймал ли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468360" y="2349360"/>
          <a:ext cx="177156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17715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755640" y="4724280"/>
          <a:ext cx="11239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4724280"/>
                    <a:ext cx="1123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7380360" y="2492280"/>
          <a:ext cx="1047600" cy="108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2492280"/>
                    <a:ext cx="10476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284720" y="4437000"/>
          <a:ext cx="790560" cy="11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4720" y="4437000"/>
                    <a:ext cx="7905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6804000" y="4653000"/>
          <a:ext cx="1266840" cy="96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04000" y="4653000"/>
                    <a:ext cx="12668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211640" y="2421000"/>
          <a:ext cx="1076400" cy="1200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1640" y="2421000"/>
                    <a:ext cx="10764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028880" y="743040"/>
            <a:ext cx="7619760" cy="52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оваривать чистоговор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а-са-са, са-са-са,               Посмотрите, вот оса.       Сы-сы-сы, сы-сы-сы,         Не боюсь я злой осы.       Су-су-су, су-су-су,             Полюбуйтесь на осу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04000" y="1628640"/>
            <a:ext cx="1949400" cy="29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28880" y="743040"/>
            <a:ext cx="8115120" cy="52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оваривать чистоговор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рок сорок  для своих сорочат                     Сорок сорочек, не  ссорясь,  строчат.                                      Сорок сорочек   прострочены в срок -                Сразу поссорились,                          Сразу поссорились,                           Сразу поссорились                             Сорок  соро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508720" y="3284640"/>
            <a:ext cx="316692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50920" y="514440"/>
            <a:ext cx="8569080" cy="67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работать  произношение в слов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 звуком С в прямых слогах:                                                               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ам, сад, самый, сок, соль, сажа, соболь, сон, сахар, сыр, сын, суп, сушка, сутки, садик, суслик, сумочка, сушит, сумка, соловей, самолет, сорока, санитар, салат, сурок, судак, суд, сыворотка, сынок, самокат, сукно, сук, колесо, волосы, голоса, полоса, оса, коса, носы, насос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38080" y="51444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работать звук С  в словах  со стечением соглас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79640" y="907920"/>
            <a:ext cx="66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такан, стол, стул, скамейка, столб, стройка, страна, остров, строй, струна, строка, свои, свалка, скала, сдал, сосна, снежинка, снег, снежок, случай, сладкий, сладости, скатер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1847880" cy="2790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164360" y="4653000"/>
            <a:ext cx="1743120" cy="17780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429264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варить, стряпать, строить, свалить, случайно, скоро, скорость, скромность, строгость, стройный, строгий, стра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1858680" cy="2663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203640" y="476280"/>
            <a:ext cx="5257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ле снегопада Степа и Света слепили из снега снегов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осулька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спугалась высоты, Сосулька от испуга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тала плакать,                              И потому опять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стала сляко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4508640"/>
            <a:ext cx="5400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осать сосульку- вот беда!                  Нам строго воспрещается.            Но почему она тогда                   Сосулькой называ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офиль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627280" y="2205000"/>
            <a:ext cx="3544920" cy="2843280"/>
            <a:chOff x="2627280" y="2205000"/>
            <a:chExt cx="3544920" cy="2843280"/>
          </a:xfrm>
        </p:grpSpPr>
        <p:sp>
          <p:nvSpPr>
            <p:cNvPr id="160" name=""/>
            <p:cNvSpPr/>
            <p:nvPr/>
          </p:nvSpPr>
          <p:spPr>
            <a:xfrm>
              <a:off x="2638440" y="2298600"/>
              <a:ext cx="409680" cy="542880"/>
            </a:xfrm>
            <a:custGeom>
              <a:avLst/>
              <a:gdLst/>
              <a:ahLst/>
              <a:rect l="l" t="t" r="r" b="b"/>
              <a:pathLst>
                <a:path w="258" h="342">
                  <a:moveTo>
                    <a:pt x="82" y="0"/>
                  </a:moveTo>
                  <a:cubicBezTo>
                    <a:pt x="41" y="89"/>
                    <a:pt x="0" y="179"/>
                    <a:pt x="12" y="234"/>
                  </a:cubicBezTo>
                  <a:cubicBezTo>
                    <a:pt x="24" y="289"/>
                    <a:pt x="111" y="314"/>
                    <a:pt x="152" y="328"/>
                  </a:cubicBezTo>
                  <a:cubicBezTo>
                    <a:pt x="193" y="342"/>
                    <a:pt x="238" y="318"/>
                    <a:pt x="258" y="31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59280" y="2205000"/>
              <a:ext cx="3112920" cy="879480"/>
            </a:xfrm>
            <a:custGeom>
              <a:avLst/>
              <a:gdLst/>
              <a:ahLst/>
              <a:rect l="l" t="t" r="r" b="b"/>
              <a:pathLst>
                <a:path w="1961" h="554">
                  <a:moveTo>
                    <a:pt x="1844" y="0"/>
                  </a:moveTo>
                  <a:cubicBezTo>
                    <a:pt x="1684" y="23"/>
                    <a:pt x="1524" y="47"/>
                    <a:pt x="1294" y="47"/>
                  </a:cubicBezTo>
                  <a:cubicBezTo>
                    <a:pt x="1064" y="47"/>
                    <a:pt x="640" y="0"/>
                    <a:pt x="463" y="0"/>
                  </a:cubicBezTo>
                  <a:cubicBezTo>
                    <a:pt x="286" y="0"/>
                    <a:pt x="291" y="18"/>
                    <a:pt x="229" y="47"/>
                  </a:cubicBezTo>
                  <a:cubicBezTo>
                    <a:pt x="167" y="76"/>
                    <a:pt x="119" y="125"/>
                    <a:pt x="88" y="176"/>
                  </a:cubicBezTo>
                  <a:cubicBezTo>
                    <a:pt x="57" y="227"/>
                    <a:pt x="53" y="289"/>
                    <a:pt x="41" y="351"/>
                  </a:cubicBezTo>
                  <a:cubicBezTo>
                    <a:pt x="29" y="413"/>
                    <a:pt x="0" y="546"/>
                    <a:pt x="18" y="550"/>
                  </a:cubicBezTo>
                  <a:cubicBezTo>
                    <a:pt x="36" y="554"/>
                    <a:pt x="94" y="420"/>
                    <a:pt x="147" y="375"/>
                  </a:cubicBezTo>
                  <a:cubicBezTo>
                    <a:pt x="200" y="330"/>
                    <a:pt x="285" y="312"/>
                    <a:pt x="334" y="281"/>
                  </a:cubicBezTo>
                  <a:cubicBezTo>
                    <a:pt x="383" y="250"/>
                    <a:pt x="334" y="195"/>
                    <a:pt x="439" y="187"/>
                  </a:cubicBezTo>
                  <a:cubicBezTo>
                    <a:pt x="544" y="179"/>
                    <a:pt x="798" y="220"/>
                    <a:pt x="966" y="234"/>
                  </a:cubicBezTo>
                  <a:cubicBezTo>
                    <a:pt x="1134" y="248"/>
                    <a:pt x="1317" y="279"/>
                    <a:pt x="1446" y="269"/>
                  </a:cubicBezTo>
                  <a:cubicBezTo>
                    <a:pt x="1575" y="259"/>
                    <a:pt x="1671" y="162"/>
                    <a:pt x="1739" y="176"/>
                  </a:cubicBezTo>
                  <a:cubicBezTo>
                    <a:pt x="1807" y="190"/>
                    <a:pt x="1825" y="316"/>
                    <a:pt x="1856" y="351"/>
                  </a:cubicBezTo>
                  <a:cubicBezTo>
                    <a:pt x="1887" y="386"/>
                    <a:pt x="1909" y="400"/>
                    <a:pt x="1926" y="386"/>
                  </a:cubicBezTo>
                  <a:cubicBezTo>
                    <a:pt x="1943" y="372"/>
                    <a:pt x="1955" y="288"/>
                    <a:pt x="1961" y="2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27280" y="3279600"/>
              <a:ext cx="1239840" cy="1768680"/>
            </a:xfrm>
            <a:custGeom>
              <a:avLst/>
              <a:gdLst/>
              <a:ahLst/>
              <a:rect l="l" t="t" r="r" b="b"/>
              <a:pathLst>
                <a:path w="781" h="1114">
                  <a:moveTo>
                    <a:pt x="277" y="107"/>
                  </a:moveTo>
                  <a:cubicBezTo>
                    <a:pt x="238" y="67"/>
                    <a:pt x="199" y="28"/>
                    <a:pt x="160" y="14"/>
                  </a:cubicBezTo>
                  <a:cubicBezTo>
                    <a:pt x="121" y="0"/>
                    <a:pt x="68" y="4"/>
                    <a:pt x="43" y="25"/>
                  </a:cubicBezTo>
                  <a:cubicBezTo>
                    <a:pt x="18" y="46"/>
                    <a:pt x="0" y="94"/>
                    <a:pt x="8" y="143"/>
                  </a:cubicBezTo>
                  <a:cubicBezTo>
                    <a:pt x="16" y="192"/>
                    <a:pt x="53" y="265"/>
                    <a:pt x="90" y="318"/>
                  </a:cubicBezTo>
                  <a:cubicBezTo>
                    <a:pt x="127" y="371"/>
                    <a:pt x="191" y="404"/>
                    <a:pt x="230" y="459"/>
                  </a:cubicBezTo>
                  <a:cubicBezTo>
                    <a:pt x="269" y="514"/>
                    <a:pt x="298" y="576"/>
                    <a:pt x="324" y="646"/>
                  </a:cubicBezTo>
                  <a:cubicBezTo>
                    <a:pt x="350" y="716"/>
                    <a:pt x="342" y="810"/>
                    <a:pt x="383" y="880"/>
                  </a:cubicBezTo>
                  <a:cubicBezTo>
                    <a:pt x="424" y="950"/>
                    <a:pt x="504" y="1028"/>
                    <a:pt x="570" y="1067"/>
                  </a:cubicBezTo>
                  <a:cubicBezTo>
                    <a:pt x="636" y="1106"/>
                    <a:pt x="746" y="1106"/>
                    <a:pt x="781" y="11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65400" y="3168720"/>
              <a:ext cx="2919600" cy="1436760"/>
            </a:xfrm>
            <a:custGeom>
              <a:avLst/>
              <a:gdLst/>
              <a:ahLst/>
              <a:rect l="l" t="t" r="r" b="b"/>
              <a:pathLst>
                <a:path w="1839" h="905">
                  <a:moveTo>
                    <a:pt x="1839" y="669"/>
                  </a:moveTo>
                  <a:cubicBezTo>
                    <a:pt x="1714" y="676"/>
                    <a:pt x="1589" y="683"/>
                    <a:pt x="1382" y="716"/>
                  </a:cubicBezTo>
                  <a:cubicBezTo>
                    <a:pt x="1175" y="749"/>
                    <a:pt x="773" y="845"/>
                    <a:pt x="598" y="868"/>
                  </a:cubicBezTo>
                  <a:cubicBezTo>
                    <a:pt x="423" y="891"/>
                    <a:pt x="399" y="905"/>
                    <a:pt x="329" y="856"/>
                  </a:cubicBezTo>
                  <a:cubicBezTo>
                    <a:pt x="259" y="807"/>
                    <a:pt x="228" y="694"/>
                    <a:pt x="177" y="575"/>
                  </a:cubicBezTo>
                  <a:cubicBezTo>
                    <a:pt x="126" y="456"/>
                    <a:pt x="50" y="237"/>
                    <a:pt x="25" y="142"/>
                  </a:cubicBezTo>
                  <a:cubicBezTo>
                    <a:pt x="0" y="47"/>
                    <a:pt x="13" y="4"/>
                    <a:pt x="25" y="2"/>
                  </a:cubicBezTo>
                  <a:cubicBezTo>
                    <a:pt x="37" y="0"/>
                    <a:pt x="64" y="88"/>
                    <a:pt x="95" y="131"/>
                  </a:cubicBezTo>
                  <a:cubicBezTo>
                    <a:pt x="126" y="174"/>
                    <a:pt x="169" y="238"/>
                    <a:pt x="212" y="259"/>
                  </a:cubicBezTo>
                  <a:cubicBezTo>
                    <a:pt x="255" y="280"/>
                    <a:pt x="319" y="264"/>
                    <a:pt x="352" y="259"/>
                  </a:cubicBezTo>
                  <a:cubicBezTo>
                    <a:pt x="385" y="254"/>
                    <a:pt x="390" y="250"/>
                    <a:pt x="413" y="229"/>
                  </a:cubicBezTo>
                  <a:cubicBezTo>
                    <a:pt x="436" y="208"/>
                    <a:pt x="461" y="149"/>
                    <a:pt x="490" y="133"/>
                  </a:cubicBezTo>
                  <a:cubicBezTo>
                    <a:pt x="519" y="117"/>
                    <a:pt x="558" y="116"/>
                    <a:pt x="586" y="131"/>
                  </a:cubicBezTo>
                  <a:cubicBezTo>
                    <a:pt x="614" y="146"/>
                    <a:pt x="646" y="227"/>
                    <a:pt x="657" y="224"/>
                  </a:cubicBezTo>
                  <a:cubicBezTo>
                    <a:pt x="668" y="221"/>
                    <a:pt x="641" y="139"/>
                    <a:pt x="653" y="114"/>
                  </a:cubicBezTo>
                  <a:cubicBezTo>
                    <a:pt x="665" y="89"/>
                    <a:pt x="703" y="73"/>
                    <a:pt x="727" y="72"/>
                  </a:cubicBezTo>
                  <a:cubicBezTo>
                    <a:pt x="751" y="71"/>
                    <a:pt x="783" y="90"/>
                    <a:pt x="797" y="107"/>
                  </a:cubicBezTo>
                  <a:cubicBezTo>
                    <a:pt x="811" y="124"/>
                    <a:pt x="804" y="181"/>
                    <a:pt x="809" y="177"/>
                  </a:cubicBezTo>
                  <a:cubicBezTo>
                    <a:pt x="814" y="173"/>
                    <a:pt x="812" y="104"/>
                    <a:pt x="826" y="85"/>
                  </a:cubicBezTo>
                  <a:cubicBezTo>
                    <a:pt x="840" y="66"/>
                    <a:pt x="869" y="60"/>
                    <a:pt x="891" y="60"/>
                  </a:cubicBezTo>
                  <a:cubicBezTo>
                    <a:pt x="913" y="60"/>
                    <a:pt x="943" y="68"/>
                    <a:pt x="961" y="84"/>
                  </a:cubicBezTo>
                  <a:cubicBezTo>
                    <a:pt x="979" y="100"/>
                    <a:pt x="988" y="154"/>
                    <a:pt x="996" y="154"/>
                  </a:cubicBezTo>
                  <a:cubicBezTo>
                    <a:pt x="1004" y="154"/>
                    <a:pt x="1003" y="103"/>
                    <a:pt x="1008" y="84"/>
                  </a:cubicBezTo>
                  <a:cubicBezTo>
                    <a:pt x="1013" y="65"/>
                    <a:pt x="1017" y="47"/>
                    <a:pt x="1027" y="37"/>
                  </a:cubicBezTo>
                  <a:cubicBezTo>
                    <a:pt x="1037" y="27"/>
                    <a:pt x="1052" y="27"/>
                    <a:pt x="1066" y="25"/>
                  </a:cubicBezTo>
                  <a:cubicBezTo>
                    <a:pt x="1080" y="23"/>
                    <a:pt x="1092" y="13"/>
                    <a:pt x="1109" y="27"/>
                  </a:cubicBezTo>
                  <a:cubicBezTo>
                    <a:pt x="1126" y="41"/>
                    <a:pt x="1155" y="92"/>
                    <a:pt x="1167" y="10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09840" y="2786040"/>
              <a:ext cx="1339920" cy="204840"/>
            </a:xfrm>
            <a:custGeom>
              <a:avLst/>
              <a:gdLst/>
              <a:ahLst/>
              <a:rect l="l" t="t" r="r" b="b"/>
              <a:pathLst>
                <a:path w="844" h="129">
                  <a:moveTo>
                    <a:pt x="0" y="4"/>
                  </a:moveTo>
                  <a:cubicBezTo>
                    <a:pt x="5" y="31"/>
                    <a:pt x="11" y="59"/>
                    <a:pt x="24" y="76"/>
                  </a:cubicBezTo>
                  <a:cubicBezTo>
                    <a:pt x="37" y="93"/>
                    <a:pt x="57" y="103"/>
                    <a:pt x="77" y="105"/>
                  </a:cubicBezTo>
                  <a:cubicBezTo>
                    <a:pt x="97" y="107"/>
                    <a:pt x="126" y="106"/>
                    <a:pt x="144" y="91"/>
                  </a:cubicBezTo>
                  <a:cubicBezTo>
                    <a:pt x="162" y="76"/>
                    <a:pt x="178" y="16"/>
                    <a:pt x="187" y="14"/>
                  </a:cubicBezTo>
                  <a:cubicBezTo>
                    <a:pt x="196" y="12"/>
                    <a:pt x="194" y="63"/>
                    <a:pt x="201" y="76"/>
                  </a:cubicBezTo>
                  <a:cubicBezTo>
                    <a:pt x="208" y="89"/>
                    <a:pt x="214" y="92"/>
                    <a:pt x="230" y="95"/>
                  </a:cubicBezTo>
                  <a:cubicBezTo>
                    <a:pt x="246" y="98"/>
                    <a:pt x="277" y="101"/>
                    <a:pt x="297" y="95"/>
                  </a:cubicBezTo>
                  <a:cubicBezTo>
                    <a:pt x="317" y="89"/>
                    <a:pt x="340" y="72"/>
                    <a:pt x="350" y="57"/>
                  </a:cubicBezTo>
                  <a:cubicBezTo>
                    <a:pt x="360" y="42"/>
                    <a:pt x="352" y="0"/>
                    <a:pt x="355" y="4"/>
                  </a:cubicBezTo>
                  <a:cubicBezTo>
                    <a:pt x="358" y="8"/>
                    <a:pt x="359" y="64"/>
                    <a:pt x="369" y="81"/>
                  </a:cubicBezTo>
                  <a:cubicBezTo>
                    <a:pt x="379" y="98"/>
                    <a:pt x="401" y="103"/>
                    <a:pt x="417" y="105"/>
                  </a:cubicBezTo>
                  <a:cubicBezTo>
                    <a:pt x="433" y="107"/>
                    <a:pt x="452" y="102"/>
                    <a:pt x="465" y="95"/>
                  </a:cubicBezTo>
                  <a:cubicBezTo>
                    <a:pt x="478" y="88"/>
                    <a:pt x="489" y="74"/>
                    <a:pt x="494" y="62"/>
                  </a:cubicBezTo>
                  <a:cubicBezTo>
                    <a:pt x="499" y="50"/>
                    <a:pt x="492" y="20"/>
                    <a:pt x="494" y="23"/>
                  </a:cubicBezTo>
                  <a:cubicBezTo>
                    <a:pt x="496" y="26"/>
                    <a:pt x="495" y="66"/>
                    <a:pt x="504" y="81"/>
                  </a:cubicBezTo>
                  <a:cubicBezTo>
                    <a:pt x="513" y="96"/>
                    <a:pt x="526" y="109"/>
                    <a:pt x="547" y="115"/>
                  </a:cubicBezTo>
                  <a:cubicBezTo>
                    <a:pt x="568" y="121"/>
                    <a:pt x="610" y="128"/>
                    <a:pt x="629" y="115"/>
                  </a:cubicBezTo>
                  <a:cubicBezTo>
                    <a:pt x="648" y="102"/>
                    <a:pt x="654" y="40"/>
                    <a:pt x="662" y="38"/>
                  </a:cubicBezTo>
                  <a:cubicBezTo>
                    <a:pt x="670" y="36"/>
                    <a:pt x="666" y="92"/>
                    <a:pt x="677" y="105"/>
                  </a:cubicBezTo>
                  <a:cubicBezTo>
                    <a:pt x="688" y="118"/>
                    <a:pt x="711" y="116"/>
                    <a:pt x="729" y="119"/>
                  </a:cubicBezTo>
                  <a:cubicBezTo>
                    <a:pt x="747" y="122"/>
                    <a:pt x="769" y="129"/>
                    <a:pt x="787" y="124"/>
                  </a:cubicBezTo>
                  <a:cubicBezTo>
                    <a:pt x="805" y="119"/>
                    <a:pt x="826" y="104"/>
                    <a:pt x="835" y="91"/>
                  </a:cubicBezTo>
                  <a:cubicBezTo>
                    <a:pt x="844" y="78"/>
                    <a:pt x="838" y="52"/>
                    <a:pt x="840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224160" y="2600280"/>
            <a:ext cx="2648160" cy="2374920"/>
          </a:xfrm>
          <a:custGeom>
            <a:avLst/>
            <a:gdLst/>
            <a:ahLst/>
            <a:rect l="l" t="t" r="r" b="b"/>
            <a:pathLst>
              <a:path w="1668" h="1496">
                <a:moveTo>
                  <a:pt x="281" y="613"/>
                </a:moveTo>
                <a:cubicBezTo>
                  <a:pt x="244" y="604"/>
                  <a:pt x="226" y="590"/>
                  <a:pt x="181" y="570"/>
                </a:cubicBezTo>
                <a:cubicBezTo>
                  <a:pt x="136" y="550"/>
                  <a:pt x="24" y="540"/>
                  <a:pt x="12" y="495"/>
                </a:cubicBezTo>
                <a:cubicBezTo>
                  <a:pt x="0" y="450"/>
                  <a:pt x="72" y="349"/>
                  <a:pt x="111" y="297"/>
                </a:cubicBezTo>
                <a:cubicBezTo>
                  <a:pt x="150" y="245"/>
                  <a:pt x="186" y="223"/>
                  <a:pt x="246" y="180"/>
                </a:cubicBezTo>
                <a:cubicBezTo>
                  <a:pt x="306" y="137"/>
                  <a:pt x="383" y="64"/>
                  <a:pt x="471" y="36"/>
                </a:cubicBezTo>
                <a:cubicBezTo>
                  <a:pt x="559" y="8"/>
                  <a:pt x="675" y="0"/>
                  <a:pt x="777" y="9"/>
                </a:cubicBezTo>
                <a:cubicBezTo>
                  <a:pt x="879" y="18"/>
                  <a:pt x="990" y="34"/>
                  <a:pt x="1083" y="90"/>
                </a:cubicBezTo>
                <a:cubicBezTo>
                  <a:pt x="1176" y="146"/>
                  <a:pt x="1275" y="261"/>
                  <a:pt x="1337" y="344"/>
                </a:cubicBezTo>
                <a:cubicBezTo>
                  <a:pt x="1399" y="427"/>
                  <a:pt x="1437" y="462"/>
                  <a:pt x="1453" y="589"/>
                </a:cubicBezTo>
                <a:cubicBezTo>
                  <a:pt x="1469" y="716"/>
                  <a:pt x="1421" y="1007"/>
                  <a:pt x="1433" y="1108"/>
                </a:cubicBezTo>
                <a:cubicBezTo>
                  <a:pt x="1445" y="1209"/>
                  <a:pt x="1489" y="1181"/>
                  <a:pt x="1525" y="1194"/>
                </a:cubicBezTo>
                <a:cubicBezTo>
                  <a:pt x="1561" y="1207"/>
                  <a:pt x="1632" y="1125"/>
                  <a:pt x="1650" y="1188"/>
                </a:cubicBezTo>
                <a:cubicBezTo>
                  <a:pt x="1668" y="1251"/>
                  <a:pt x="1487" y="1335"/>
                  <a:pt x="1457" y="1386"/>
                </a:cubicBezTo>
                <a:cubicBezTo>
                  <a:pt x="1427" y="1437"/>
                  <a:pt x="1470" y="1478"/>
                  <a:pt x="1472" y="1496"/>
                </a:cubicBezTo>
              </a:path>
            </a:pathLst>
          </a:custGeom>
          <a:noFill/>
          <a:ln w="38160">
            <a:solidFill>
              <a:srgbClr val="66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1800" y="2771640"/>
            <a:ext cx="2609640" cy="2086200"/>
          </a:xfrm>
          <a:custGeom>
            <a:avLst/>
            <a:gdLst/>
            <a:ahLst/>
            <a:rect l="l" t="t" r="r" b="b"/>
            <a:pathLst>
              <a:path w="1644" h="1314">
                <a:moveTo>
                  <a:pt x="241" y="478"/>
                </a:moveTo>
                <a:cubicBezTo>
                  <a:pt x="216" y="470"/>
                  <a:pt x="131" y="453"/>
                  <a:pt x="91" y="432"/>
                </a:cubicBezTo>
                <a:cubicBezTo>
                  <a:pt x="51" y="411"/>
                  <a:pt x="0" y="385"/>
                  <a:pt x="1" y="351"/>
                </a:cubicBezTo>
                <a:cubicBezTo>
                  <a:pt x="2" y="317"/>
                  <a:pt x="32" y="266"/>
                  <a:pt x="100" y="225"/>
                </a:cubicBezTo>
                <a:cubicBezTo>
                  <a:pt x="168" y="184"/>
                  <a:pt x="288" y="144"/>
                  <a:pt x="406" y="108"/>
                </a:cubicBezTo>
                <a:cubicBezTo>
                  <a:pt x="524" y="72"/>
                  <a:pt x="694" y="18"/>
                  <a:pt x="811" y="9"/>
                </a:cubicBezTo>
                <a:cubicBezTo>
                  <a:pt x="928" y="0"/>
                  <a:pt x="1027" y="27"/>
                  <a:pt x="1108" y="54"/>
                </a:cubicBezTo>
                <a:cubicBezTo>
                  <a:pt x="1189" y="81"/>
                  <a:pt x="1243" y="138"/>
                  <a:pt x="1297" y="209"/>
                </a:cubicBezTo>
                <a:cubicBezTo>
                  <a:pt x="1351" y="280"/>
                  <a:pt x="1426" y="368"/>
                  <a:pt x="1432" y="477"/>
                </a:cubicBezTo>
                <a:cubicBezTo>
                  <a:pt x="1438" y="586"/>
                  <a:pt x="1354" y="782"/>
                  <a:pt x="1333" y="864"/>
                </a:cubicBezTo>
                <a:cubicBezTo>
                  <a:pt x="1312" y="946"/>
                  <a:pt x="1306" y="939"/>
                  <a:pt x="1306" y="972"/>
                </a:cubicBezTo>
                <a:cubicBezTo>
                  <a:pt x="1306" y="1005"/>
                  <a:pt x="1315" y="1036"/>
                  <a:pt x="1333" y="1062"/>
                </a:cubicBezTo>
                <a:cubicBezTo>
                  <a:pt x="1351" y="1088"/>
                  <a:pt x="1392" y="1117"/>
                  <a:pt x="1413" y="1127"/>
                </a:cubicBezTo>
                <a:cubicBezTo>
                  <a:pt x="1434" y="1137"/>
                  <a:pt x="1442" y="1131"/>
                  <a:pt x="1461" y="1122"/>
                </a:cubicBezTo>
                <a:cubicBezTo>
                  <a:pt x="1480" y="1113"/>
                  <a:pt x="1506" y="1088"/>
                  <a:pt x="1528" y="1074"/>
                </a:cubicBezTo>
                <a:cubicBezTo>
                  <a:pt x="1550" y="1060"/>
                  <a:pt x="1578" y="1043"/>
                  <a:pt x="1595" y="1040"/>
                </a:cubicBezTo>
                <a:cubicBezTo>
                  <a:pt x="1612" y="1037"/>
                  <a:pt x="1644" y="1024"/>
                  <a:pt x="1629" y="1055"/>
                </a:cubicBezTo>
                <a:cubicBezTo>
                  <a:pt x="1614" y="1086"/>
                  <a:pt x="1526" y="1184"/>
                  <a:pt x="1504" y="1227"/>
                </a:cubicBezTo>
                <a:cubicBezTo>
                  <a:pt x="1482" y="1270"/>
                  <a:pt x="1500" y="1296"/>
                  <a:pt x="1499" y="1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7719840" y="456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8410"/>
                </a:moveTo>
                <a:lnTo>
                  <a:pt x="8224" y="8410"/>
                </a:lnTo>
                <a:lnTo>
                  <a:pt x="12645" y="3797"/>
                </a:lnTo>
                <a:lnTo>
                  <a:pt x="12645" y="17810"/>
                </a:lnTo>
                <a:lnTo>
                  <a:pt x="8224" y="13197"/>
                </a:lnTo>
                <a:lnTo>
                  <a:pt x="3794" y="13197"/>
                </a:lnTo>
                <a:close/>
              </a:path>
              <a:path fill="darken" w="21600" h="21607">
                <a:moveTo>
                  <a:pt x="14299" y="10804"/>
                </a:moveTo>
                <a:lnTo>
                  <a:pt x="17806" y="10804"/>
                </a:lnTo>
              </a:path>
              <a:path fill="darken" w="21600" h="21607">
                <a:moveTo>
                  <a:pt x="14299" y="8410"/>
                </a:moveTo>
                <a:lnTo>
                  <a:pt x="17806" y="5642"/>
                </a:lnTo>
              </a:path>
              <a:path fill="darken" w="21600" h="21607">
                <a:moveTo>
                  <a:pt x="14299" y="13197"/>
                </a:moveTo>
                <a:lnTo>
                  <a:pt x="17806" y="15965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6676560" y="456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88a3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543640"/>
            <a:ext cx="5357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тикуляция звуков  С, 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24040" y="6134040"/>
            <a:ext cx="6825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6134040"/>
            <a:ext cx="682560" cy="0"/>
          </a:xfrm>
          <a:prstGeom prst="line">
            <a:avLst/>
          </a:prstGeom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68760" y="600084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21320" y="600084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67520" y="5415120"/>
            <a:ext cx="2595600" cy="1042920"/>
          </a:xfrm>
          <a:custGeom>
            <a:avLst/>
            <a:gdLst>
              <a:gd name="textAreaLeft" fmla="*/ 67320 w 2595600"/>
              <a:gd name="textAreaRight" fmla="*/ 2528280 w 25956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3747" h="21600">
                <a:moveTo>
                  <a:pt x="0" y="0"/>
                </a:moveTo>
                <a:lnTo>
                  <a:pt x="53747" y="0"/>
                </a:lnTo>
                <a:lnTo>
                  <a:pt x="53747" y="21600"/>
                </a:lnTo>
                <a:lnTo>
                  <a:pt x="0" y="21600"/>
                </a:lnTo>
                <a:close/>
              </a:path>
              <a:path fill="lightenLess" w="53747" h="21600">
                <a:moveTo>
                  <a:pt x="0" y="0"/>
                </a:moveTo>
                <a:lnTo>
                  <a:pt x="53747" y="0"/>
                </a:lnTo>
                <a:lnTo>
                  <a:pt x="52347" y="1400"/>
                </a:lnTo>
                <a:lnTo>
                  <a:pt x="1400" y="1400"/>
                </a:lnTo>
                <a:close/>
              </a:path>
              <a:path fill="darken" w="53747" h="21600">
                <a:moveTo>
                  <a:pt x="53747" y="0"/>
                </a:moveTo>
                <a:lnTo>
                  <a:pt x="53747" y="21600"/>
                </a:lnTo>
                <a:lnTo>
                  <a:pt x="52347" y="20200"/>
                </a:lnTo>
                <a:lnTo>
                  <a:pt x="52347" y="1400"/>
                </a:lnTo>
                <a:close/>
              </a:path>
              <a:path fill="darkenLess" w="53747" h="21600">
                <a:moveTo>
                  <a:pt x="53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47" y="20200"/>
                </a:lnTo>
                <a:close/>
              </a:path>
              <a:path fill="lighten" w="53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6167520" y="5543640"/>
            <a:ext cx="25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клад органов артик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5280" y="549360"/>
            <a:ext cx="830592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работать  звук С в обратных слогах:                                                            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оляска, Аляска, каска, краски, мыс, мост, тряска, пляска, маска, баркас, каркас, атлас, ананас, нас, вас, костёр, мастер, паста, постель, час, часто, фломастеры, насос, доска, нос, ряска, жесткий, красный, носки, маститый, остаток, мороз, газ, глаз, раз, таз, лаз, голос, волос, пылесо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38080" y="666720"/>
            <a:ext cx="79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работать  произношение в словах со звуком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84360" y="4005360"/>
            <a:ext cx="2735280" cy="1809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1326960" cy="16686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5867280" y="2060640"/>
            <a:ext cx="1440000" cy="1295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5219640" y="4019400"/>
            <a:ext cx="2881440" cy="192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3780000" y="2205000"/>
          <a:ext cx="1447560" cy="109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2205000"/>
                    <a:ext cx="14475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Закрепление звука С в слогах с сочетанием согласны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093080" y="1844640"/>
            <a:ext cx="1422360" cy="21290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64360" y="5157720"/>
            <a:ext cx="1209600" cy="9525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132000" y="1989000"/>
            <a:ext cx="2260800" cy="1533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755640" y="486900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3492360" y="4508640"/>
            <a:ext cx="1886040" cy="18730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6"/>
          <a:stretch/>
        </p:blipFill>
        <p:spPr>
          <a:xfrm>
            <a:off x="684360" y="1989000"/>
            <a:ext cx="120312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84360" y="4076640"/>
            <a:ext cx="1636560" cy="1828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724360" y="2060640"/>
            <a:ext cx="2527560" cy="16984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012000" y="3860640"/>
            <a:ext cx="2058840" cy="23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755640" y="2060640"/>
          <a:ext cx="1481040" cy="120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2060640"/>
                    <a:ext cx="148104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348000" y="4221000"/>
          <a:ext cx="1752480" cy="17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48000" y="4221000"/>
                    <a:ext cx="17524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564000" y="2060640"/>
          <a:ext cx="1333440" cy="1314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64000" y="2060640"/>
                    <a:ext cx="133344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1258920" y="1125360"/>
          <a:ext cx="2521080" cy="15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25360"/>
                    <a:ext cx="252108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755640" y="3500280"/>
          <a:ext cx="2232000" cy="10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3500280"/>
                    <a:ext cx="22320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7308720" y="1557360"/>
          <a:ext cx="1285920" cy="96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720" y="1557360"/>
                    <a:ext cx="12859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211640" y="1484280"/>
          <a:ext cx="1400040" cy="82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1640" y="1484280"/>
                    <a:ext cx="14000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6732720" y="3213000"/>
          <a:ext cx="2009520" cy="13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32720" y="3213000"/>
                    <a:ext cx="200952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4067280" y="3716280"/>
          <a:ext cx="1114200" cy="57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67280" y="3716280"/>
                    <a:ext cx="11142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-360" y="1943280"/>
            <a:ext cx="6056280" cy="40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Здра -здра- здр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здро-здро-здро          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тра- стра-стр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тро-стро-стро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тру-стру-стру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24000" y="3789360"/>
            <a:ext cx="2592360" cy="19591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971640" y="174636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611280" y="40464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работать звук Сь в слов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372360" y="1989000"/>
          <a:ext cx="1333440" cy="131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1989000"/>
                    <a:ext cx="1333440" cy="13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009800" y="571680"/>
            <a:ext cx="7143480" cy="62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Разучить текс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ртинка  в кор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ке,                          Кара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картинке,                             Кара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кара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ёнком                                и ёршик 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ершонком.                                  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ерый кро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Вот 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рый крот,                                      вот 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рый крот,                                        Вот 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рый, 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рый, 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рый крот.                Он не кра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вец, не урод,                          Он про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рый, </a:t>
            </a:r>
            <a:r>
              <a:rPr b="0" lang="ru-RU" sz="3200" spc="-1" strike="noStrike">
                <a:solidFill>
                  <a:srgbClr val="7e9ce8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рый к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00000" y="620640"/>
            <a:ext cx="5688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елёный заб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 забором – завали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евнул, засну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бияка – Заинь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59280" y="2852640"/>
            <a:ext cx="5688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ечили з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самых гу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Я не крич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идел, молч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сё пото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то этот з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верлили мне у самых г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00000" y="620640"/>
            <a:ext cx="568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йка затих – заснул за забором. Звонко запела синичка Зина: «Не будь, Заинька, забиякой». Забежала мышка Зоя, затопала, захлопала, заговорила, залопотала: «Будь, заинька, паиньк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Уклад органов артикуля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314360"/>
            <a:ext cx="84582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записа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6896160" y="6095880"/>
            <a:ext cx="1866960" cy="45972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09800" y="800280"/>
            <a:ext cx="7143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Отработать произношение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  в берё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вом бору,                   Ручеёк прорыл нору.                              И помчал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 по оврагу,                              И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гробы  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ружил,                               И горбатую  корягу                                  На пути ра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рмошил.                          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енел  на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 моро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                   Тёплым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лнышком в руке…                  И о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бшие  берё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ы                    Умывали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ь в ручейке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009800" y="800280"/>
            <a:ext cx="7143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Отработать произношение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  в берё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вом бору,                   Ручеёк прорыл нору.                              И помчал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 по оврагу,                              И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гробы  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ружил,                               И горбатую  корягу                                  На пути ра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рмошил.                          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енел  на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 моро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                   Тёплым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лнышком в руке…                  И о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бшие  берё</a:t>
            </a:r>
            <a:r>
              <a:rPr b="0" lang="en-US" sz="3200" spc="-1" strike="noStrike">
                <a:solidFill>
                  <a:srgbClr val="27d934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ы                    Умывали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ь в ручейке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684360" y="4172040"/>
          <a:ext cx="244764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72040"/>
                    <a:ext cx="244764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1066680" y="324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кажи, как  называются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954000" y="1450800"/>
            <a:ext cx="1206720" cy="1812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948360" y="1700280"/>
            <a:ext cx="1290600" cy="1687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3635280" y="1557360"/>
            <a:ext cx="1795680" cy="142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3780000" y="4508640"/>
          <a:ext cx="2592360" cy="139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80000" y="4508640"/>
                    <a:ext cx="259236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7093080" y="4365720"/>
          <a:ext cx="1512720" cy="1487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93080" y="4365720"/>
                    <a:ext cx="15127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 rot="17946600">
            <a:off x="1172880" y="3587040"/>
            <a:ext cx="1374840" cy="20671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627280" y="1413000"/>
            <a:ext cx="6121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йку бросила хозяй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 дождем остался зай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 скамейки слезть не с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есь до ниточки пром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1085760" y="4267080"/>
          <a:ext cx="15843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5760" y="4267080"/>
                    <a:ext cx="1584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6443640" y="2924280"/>
          <a:ext cx="2038320" cy="32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43640" y="2924280"/>
                    <a:ext cx="2038320" cy="32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1116000" y="1341360"/>
          <a:ext cx="1924200" cy="209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1341360"/>
                    <a:ext cx="192420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0" name="" descr=""/>
          <p:cNvPicPr/>
          <p:nvPr/>
        </p:nvPicPr>
        <p:blipFill>
          <a:blip r:embed="rId7"/>
          <a:stretch/>
        </p:blipFill>
        <p:spPr>
          <a:xfrm>
            <a:off x="3635280" y="1413000"/>
            <a:ext cx="3024360" cy="20206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8"/>
          <a:stretch/>
        </p:blipFill>
        <p:spPr>
          <a:xfrm>
            <a:off x="4211640" y="429264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55640" y="1052640"/>
          <a:ext cx="180036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052640"/>
                    <a:ext cx="180036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3924360" y="2867040"/>
          <a:ext cx="129528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2867040"/>
                    <a:ext cx="1295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43000" y="819000"/>
            <a:ext cx="7601040" cy="51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коло  нашего  лагеря  пруд. Вода в пруду чистая и  гладкая. По берегам  пруда растут  берёзы и рябинки. От дома  к нему  ведёт узкая  дорожка. На  пруду мы часто катаемся  на лодке. В тихой  воде мелькают рыб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143000" y="266760"/>
            <a:ext cx="8001000" cy="58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тавьте предложения так, чтобы  получился тек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я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Из кустов выскочили  зайцы.              2. Зайцы прыгали  с кочки на кочку.        3. Это была зайчиха с зайчатами.             4. Ребята ходили в лес за смородиной.        5. Они забыли про смородину.  6. Долго гонялись  ребята  за зайцами, но  зайцы  ускакали. 7. Мальчики  погнались за зайц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4995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Подготовительные упражнения                      к постановке звука С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1844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ис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81080" y="189000"/>
            <a:ext cx="84362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крепление звука С в слогах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95280" y="1197000"/>
          <a:ext cx="8218440" cy="5317920"/>
        </p:xfrm>
        <a:graphic>
          <a:graphicData uri="http://schemas.openxmlformats.org/drawingml/2006/table">
            <a:tbl>
              <a:tblPr/>
              <a:tblGrid>
                <a:gridCol w="1643040"/>
                <a:gridCol w="1644840"/>
                <a:gridCol w="1643040"/>
                <a:gridCol w="1644480"/>
                <a:gridCol w="1643040"/>
              </a:tblGrid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543800" y="5848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1800360" cy="1632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140360" y="1197000"/>
            <a:ext cx="1942920" cy="1571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826920" y="3645000"/>
            <a:ext cx="1602000" cy="1800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067280" y="4221000"/>
            <a:ext cx="1800000" cy="1281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7236000" y="1700280"/>
            <a:ext cx="1296720" cy="1112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6804000" y="4076640"/>
            <a:ext cx="1911240" cy="13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620640"/>
            <a:ext cx="3816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собаки  в ми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ясо и соси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кусные соси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собаки в ми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1727280" cy="1565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300720" y="1413000"/>
            <a:ext cx="1209600" cy="952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56000" y="3429000"/>
            <a:ext cx="46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попа была соба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 её люб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а съела кусок мяса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 её прост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900000" y="4797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093080" y="2060640"/>
            <a:ext cx="1317600" cy="1317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308720" y="4797360"/>
            <a:ext cx="854280" cy="1077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3780000" y="2060640"/>
            <a:ext cx="2189160" cy="1481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3924360" y="4797360"/>
            <a:ext cx="1800000" cy="10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1440000" cy="1226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153036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7:44:43Z</dcterms:created>
  <dc:creator>User</dc:creator>
  <dc:description/>
  <dc:language>en-US</dc:language>
  <cp:lastModifiedBy>1</cp:lastModifiedBy>
  <dcterms:modified xsi:type="dcterms:W3CDTF">2008-11-03T12:52:32Z</dcterms:modified>
  <cp:revision>27</cp:revision>
  <dc:subject/>
  <dc:title>Слайд 1</dc:title>
</cp:coreProperties>
</file>