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wmf" ContentType="image/x-wmf"/>
  <Override PartName="/ppt/media/image54.wmf" ContentType="image/x-wmf"/>
  <Override PartName="/ppt/media/image53.wmf" ContentType="image/x-wmf"/>
  <Override PartName="/ppt/media/image12.jpeg" ContentType="image/jpeg"/>
  <Override PartName="/ppt/media/image35.gif" ContentType="image/gif"/>
  <Override PartName="/ppt/media/image5.gif" ContentType="image/gif"/>
  <Override PartName="/ppt/media/image33.jpeg" ContentType="image/jpeg"/>
  <Override PartName="/ppt/media/image60.png" ContentType="image/png"/>
  <Override PartName="/ppt/media/image28.jpeg" ContentType="image/jpeg"/>
  <Override PartName="/ppt/media/image27.wmf" ContentType="image/x-wmf"/>
  <Override PartName="/ppt/media/image16.png" ContentType="image/png"/>
  <Override PartName="/ppt/media/image1.gif" ContentType="image/gif"/>
  <Override PartName="/ppt/media/image64.png" ContentType="image/png"/>
  <Override PartName="/ppt/media/image62.gif" ContentType="image/gif"/>
  <Override PartName="/ppt/media/image63.png" ContentType="image/png"/>
  <Override PartName="/ppt/media/image61.jpeg" ContentType="image/jpeg"/>
  <Override PartName="/ppt/media/image38.wmf" ContentType="image/x-wmf"/>
  <Override PartName="/ppt/media/image59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9.wmf" ContentType="image/x-wmf"/>
  <Override PartName="/ppt/media/image18.png" ContentType="image/png"/>
  <Override PartName="/ppt/media/image3.gif" ContentType="image/gif"/>
  <Override PartName="/ppt/media/image26.gif" ContentType="image/gif"/>
  <Override PartName="/ppt/media/image4.gif" ContentType="image/gif"/>
  <Override PartName="/ppt/media/image19.png" ContentType="image/png"/>
  <Override PartName="/ppt/media/image31.jpeg" ContentType="image/jpeg"/>
  <Override PartName="/ppt/media/image25.jpeg" ContentType="image/jpeg"/>
  <Override PartName="/ppt/media/image32.png" ContentType="image/png"/>
  <Override PartName="/ppt/media/image58.png" ContentType="image/png"/>
  <Override PartName="/ppt/media/image15.wmf" ContentType="image/x-wmf"/>
  <Override PartName="/ppt/media/image57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23.png" ContentType="image/png"/>
  <Override PartName="/ppt/media/image30.gif" ContentType="image/gif"/>
  <Override PartName="/ppt/media/image13.jpeg" ContentType="image/jpeg"/>
  <Override PartName="/ppt/media/image44.png" ContentType="image/png"/>
  <Override PartName="/ppt/media/image51.gif" ContentType="image/gif"/>
  <Override PartName="/ppt/media/image34.jpeg" ContentType="image/jpeg"/>
  <Override PartName="/ppt/media/image36.wmf" ContentType="image/x-wmf"/>
  <Override PartName="/ppt/media/image20.png" ContentType="image/png"/>
  <Override PartName="/ppt/media/image37.jpeg" ContentType="image/jpeg"/>
  <Override PartName="/ppt/media/image14.gif" ContentType="image/gif"/>
  <Override PartName="/ppt/media/image17.png" ContentType="image/png"/>
  <Override PartName="/ppt/media/image2.gif" ContentType="image/gif"/>
  <Override PartName="/ppt/media/image39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0.jpeg" ContentType="image/jpeg"/>
  <Override PartName="/ppt/media/image5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B10-DC4D-4E3E-BB86-27E7DE35FF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думайте как можно больше слов с этими слогами ( на этапе автоматизации звука Р в слов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C0B-1828-4ACE-919A-2EE3717F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3F0-5B6C-406C-AD6D-1603B8C2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3C2-0818-43B7-AC79-468A2742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E93-CBE4-42A6-A96A-9D05FEED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50A-9431-4DD7-983B-BE99805E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1E1D-50A7-4EDA-87E6-8880A4FF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DBB-9162-48AF-B79D-E34D63F4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761D-CEC4-4610-A7AE-3AD24BDC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BA98-EF46-46B0-9CF2-91FC57D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202-8B18-47D1-A949-BDF933C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7EBB-D3C1-4F66-86CA-444D1BA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853-B310-46C3-9900-389BBF7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170C-FEA8-43C3-9DE5-3108BEA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039-6772-4B67-AD6D-3F748E0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13E-C7C9-474C-9A3F-88FE413E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6AA1-124A-417C-9C69-A8B635C8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732B-F4C4-49FF-900B-9550F5BA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01B-68F7-40CA-9826-6420667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203-ABB7-4455-90CC-16E8B7A3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6D8-96A9-47E5-8196-040E09A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430-F421-4402-A922-21651EEB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331-EF25-4145-A133-AB3A995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72D-F9CF-42FF-8056-5BC6ED8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B44-4AB5-4367-A5D2-1287E9A5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9F6-02DE-475A-9D97-9B95C8DD7E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245-5BBE-4614-B14B-6A2721E6D8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gif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image" Target="../media/image36.wmf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Звук 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ка и закрепление звука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28840" y="743040"/>
            <a:ext cx="674352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-са-са, са-са-са,               Сад, собака, самолёт,             Со-со-со,  со-со-со,             Соль, солдат и колесо,              су-су-су, су-су-су,             Сумка, суп, сундук, барсук,           сы-сы-сы, сы-сы-сы,           сыр, усы, две пол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28840" y="743040"/>
            <a:ext cx="674352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-са-са, са-са-са,                         Вот бежит-бежит лиса.             Со-со-со,  со-со-со,             Лиса катит колесо.                         Сы-сы-сы, сы-сы-сы,           Хвост красивый у лис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у-су-су, су-су-су,                             В лесу видул я лису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755640" y="2781360"/>
          <a:ext cx="20890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20890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635280" y="1484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н, слониха и сло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нялись по склону утё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771640" y="3068640"/>
          <a:ext cx="172908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068640"/>
                    <a:ext cx="17290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44920" y="3429000"/>
          <a:ext cx="127944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4920" y="3429000"/>
                    <a:ext cx="1279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012000" y="3645000"/>
          <a:ext cx="100800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3645000"/>
                    <a:ext cx="100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26920" y="50133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ит спокойно старый слон,                                     Стоя спать умеет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900000" y="1125360"/>
          <a:ext cx="153684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15368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484360" y="1484280"/>
          <a:ext cx="153684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484280"/>
                    <a:ext cx="15368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284720" y="1268280"/>
            <a:ext cx="446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или у баб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ва веселых гу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ин серый, другой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ва веселых гу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ня в лесу поймал л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468360" y="2349360"/>
          <a:ext cx="177156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17715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55640" y="4724280"/>
          <a:ext cx="1123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7242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380360" y="2492280"/>
          <a:ext cx="104760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2492280"/>
                    <a:ext cx="1047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284720" y="4437000"/>
          <a:ext cx="79056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4437000"/>
                    <a:ext cx="790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04000" y="4653000"/>
          <a:ext cx="12668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653000"/>
                    <a:ext cx="1266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211640" y="2421000"/>
          <a:ext cx="1076400" cy="12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2421000"/>
                    <a:ext cx="1076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28880" y="743040"/>
            <a:ext cx="76197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а-са-са, са-са-са,               Посмотрите, вот оса.       Сы-сы-сы, сы-сы-сы,         Не боюсь я злой осы.       Су-су-су, су-су-су,             Полюбуйтесь на ос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04000" y="1628640"/>
            <a:ext cx="1949400" cy="29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28880" y="743040"/>
            <a:ext cx="81151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рок сорок  для своих сорочат                     Сорок сорочек, не  ссорясь,  строчат.                                      Сорок сорочек   прострочены в срок -                Сразу поссорились,                          Сразу поссорились,                           Сразу поссорились                             Сорок  соро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166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514440"/>
            <a:ext cx="8569080" cy="67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работать  произношение в слов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 звуком С в прямых слогах:   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, сад, самый, сок, соль, сажа, соболь, сон, сахар, сыр, сын, суп, сушка, сутки, садик, суслик, сумочка, сушит, сумка, соловей, самолет, сорока, санитар, салат, сурок, судак, суд, сыворотка, сынок, самокат, сукно, сук, колесо, волосы, голоса, полоса, оса, коса, носы, нас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514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звук С  в словах  со стечением соглас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90792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кан, стол, стул, скамейка, столб, стройка, страна, остров, строй, струна, строка, свои, свалка, скала, сдал, сосна, снежинка, снег, снежок, случай, сладкий, сладости, скатер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847880" cy="279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743120" cy="177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4292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варить, стряпать, строить, свалить, случайно, скоро, скорость, скромность, строгость, стройный, строгий, стр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1858680" cy="266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03640" y="476280"/>
            <a:ext cx="5257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снегопада Степа и Света слепили из снега снегов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улька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угалась высоты, Сосулька от испуга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ла плакать,                              И потому опять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ла сляк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508640"/>
            <a:ext cx="54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ать сосульку- вот беда!                  Нам строго воспрещается.            Но почему она тогда                   Сосулькой назы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фил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205000"/>
            <a:ext cx="3544920" cy="2843280"/>
            <a:chOff x="2627280" y="2205000"/>
            <a:chExt cx="3544920" cy="2843280"/>
          </a:xfrm>
        </p:grpSpPr>
        <p:sp>
          <p:nvSpPr>
            <p:cNvPr id="160" name=""/>
            <p:cNvSpPr/>
            <p:nvPr/>
          </p:nvSpPr>
          <p:spPr>
            <a:xfrm>
              <a:off x="2638440" y="2298600"/>
              <a:ext cx="409680" cy="542880"/>
            </a:xfrm>
            <a:custGeom>
              <a:avLst/>
              <a:gdLst/>
              <a:ahLst/>
              <a:rect l="l" t="t" r="r" b="b"/>
              <a:pathLst>
                <a:path w="258" h="342">
                  <a:moveTo>
                    <a:pt x="82" y="0"/>
                  </a:moveTo>
                  <a:cubicBezTo>
                    <a:pt x="41" y="89"/>
                    <a:pt x="0" y="179"/>
                    <a:pt x="12" y="234"/>
                  </a:cubicBezTo>
                  <a:cubicBezTo>
                    <a:pt x="24" y="289"/>
                    <a:pt x="111" y="314"/>
                    <a:pt x="152" y="328"/>
                  </a:cubicBezTo>
                  <a:cubicBezTo>
                    <a:pt x="193" y="342"/>
                    <a:pt x="238" y="318"/>
                    <a:pt x="258" y="3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9280" y="2205000"/>
              <a:ext cx="3112920" cy="879480"/>
            </a:xfrm>
            <a:custGeom>
              <a:avLst/>
              <a:gdLst/>
              <a:ahLst/>
              <a:rect l="l" t="t" r="r" b="b"/>
              <a:pathLst>
                <a:path w="1961" h="554">
                  <a:moveTo>
                    <a:pt x="1844" y="0"/>
                  </a:moveTo>
                  <a:cubicBezTo>
                    <a:pt x="1684" y="23"/>
                    <a:pt x="1524" y="47"/>
                    <a:pt x="1294" y="47"/>
                  </a:cubicBezTo>
                  <a:cubicBezTo>
                    <a:pt x="1064" y="47"/>
                    <a:pt x="640" y="0"/>
                    <a:pt x="463" y="0"/>
                  </a:cubicBezTo>
                  <a:cubicBezTo>
                    <a:pt x="286" y="0"/>
                    <a:pt x="291" y="18"/>
                    <a:pt x="229" y="47"/>
                  </a:cubicBezTo>
                  <a:cubicBezTo>
                    <a:pt x="167" y="76"/>
                    <a:pt x="119" y="125"/>
                    <a:pt x="88" y="176"/>
                  </a:cubicBezTo>
                  <a:cubicBezTo>
                    <a:pt x="57" y="227"/>
                    <a:pt x="53" y="289"/>
                    <a:pt x="41" y="351"/>
                  </a:cubicBezTo>
                  <a:cubicBezTo>
                    <a:pt x="29" y="413"/>
                    <a:pt x="0" y="546"/>
                    <a:pt x="18" y="550"/>
                  </a:cubicBezTo>
                  <a:cubicBezTo>
                    <a:pt x="36" y="554"/>
                    <a:pt x="94" y="420"/>
                    <a:pt x="147" y="375"/>
                  </a:cubicBezTo>
                  <a:cubicBezTo>
                    <a:pt x="200" y="330"/>
                    <a:pt x="285" y="312"/>
                    <a:pt x="334" y="281"/>
                  </a:cubicBezTo>
                  <a:cubicBezTo>
                    <a:pt x="383" y="250"/>
                    <a:pt x="334" y="195"/>
                    <a:pt x="439" y="187"/>
                  </a:cubicBezTo>
                  <a:cubicBezTo>
                    <a:pt x="544" y="179"/>
                    <a:pt x="798" y="220"/>
                    <a:pt x="966" y="234"/>
                  </a:cubicBezTo>
                  <a:cubicBezTo>
                    <a:pt x="1134" y="248"/>
                    <a:pt x="1317" y="279"/>
                    <a:pt x="1446" y="269"/>
                  </a:cubicBezTo>
                  <a:cubicBezTo>
                    <a:pt x="1575" y="259"/>
                    <a:pt x="1671" y="162"/>
                    <a:pt x="1739" y="176"/>
                  </a:cubicBezTo>
                  <a:cubicBezTo>
                    <a:pt x="1807" y="190"/>
                    <a:pt x="1825" y="316"/>
                    <a:pt x="1856" y="351"/>
                  </a:cubicBezTo>
                  <a:cubicBezTo>
                    <a:pt x="1887" y="386"/>
                    <a:pt x="1909" y="400"/>
                    <a:pt x="1926" y="386"/>
                  </a:cubicBezTo>
                  <a:cubicBezTo>
                    <a:pt x="1943" y="372"/>
                    <a:pt x="1955" y="288"/>
                    <a:pt x="1961" y="2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7280" y="3279600"/>
              <a:ext cx="1239840" cy="1768680"/>
            </a:xfrm>
            <a:custGeom>
              <a:avLst/>
              <a:gdLst/>
              <a:ahLst/>
              <a:rect l="l" t="t" r="r" b="b"/>
              <a:pathLst>
                <a:path w="781" h="1114">
                  <a:moveTo>
                    <a:pt x="277" y="107"/>
                  </a:moveTo>
                  <a:cubicBezTo>
                    <a:pt x="238" y="67"/>
                    <a:pt x="199" y="28"/>
                    <a:pt x="160" y="14"/>
                  </a:cubicBezTo>
                  <a:cubicBezTo>
                    <a:pt x="121" y="0"/>
                    <a:pt x="68" y="4"/>
                    <a:pt x="43" y="25"/>
                  </a:cubicBezTo>
                  <a:cubicBezTo>
                    <a:pt x="18" y="46"/>
                    <a:pt x="0" y="94"/>
                    <a:pt x="8" y="143"/>
                  </a:cubicBezTo>
                  <a:cubicBezTo>
                    <a:pt x="16" y="192"/>
                    <a:pt x="53" y="265"/>
                    <a:pt x="90" y="318"/>
                  </a:cubicBezTo>
                  <a:cubicBezTo>
                    <a:pt x="127" y="371"/>
                    <a:pt x="191" y="404"/>
                    <a:pt x="230" y="459"/>
                  </a:cubicBezTo>
                  <a:cubicBezTo>
                    <a:pt x="269" y="514"/>
                    <a:pt x="298" y="576"/>
                    <a:pt x="324" y="646"/>
                  </a:cubicBezTo>
                  <a:cubicBezTo>
                    <a:pt x="350" y="716"/>
                    <a:pt x="342" y="810"/>
                    <a:pt x="383" y="880"/>
                  </a:cubicBezTo>
                  <a:cubicBezTo>
                    <a:pt x="424" y="950"/>
                    <a:pt x="504" y="1028"/>
                    <a:pt x="570" y="1067"/>
                  </a:cubicBezTo>
                  <a:cubicBezTo>
                    <a:pt x="636" y="1106"/>
                    <a:pt x="746" y="1106"/>
                    <a:pt x="781" y="11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65400" y="3168720"/>
              <a:ext cx="2919600" cy="1436760"/>
            </a:xfrm>
            <a:custGeom>
              <a:avLst/>
              <a:gdLst/>
              <a:ahLst/>
              <a:rect l="l" t="t" r="r" b="b"/>
              <a:pathLst>
                <a:path w="1839" h="905">
                  <a:moveTo>
                    <a:pt x="1839" y="669"/>
                  </a:moveTo>
                  <a:cubicBezTo>
                    <a:pt x="1714" y="676"/>
                    <a:pt x="1589" y="683"/>
                    <a:pt x="1382" y="716"/>
                  </a:cubicBezTo>
                  <a:cubicBezTo>
                    <a:pt x="1175" y="749"/>
                    <a:pt x="773" y="845"/>
                    <a:pt x="598" y="868"/>
                  </a:cubicBezTo>
                  <a:cubicBezTo>
                    <a:pt x="423" y="891"/>
                    <a:pt x="399" y="905"/>
                    <a:pt x="329" y="856"/>
                  </a:cubicBezTo>
                  <a:cubicBezTo>
                    <a:pt x="259" y="807"/>
                    <a:pt x="228" y="694"/>
                    <a:pt x="177" y="575"/>
                  </a:cubicBezTo>
                  <a:cubicBezTo>
                    <a:pt x="126" y="456"/>
                    <a:pt x="50" y="237"/>
                    <a:pt x="25" y="142"/>
                  </a:cubicBezTo>
                  <a:cubicBezTo>
                    <a:pt x="0" y="47"/>
                    <a:pt x="13" y="4"/>
                    <a:pt x="25" y="2"/>
                  </a:cubicBezTo>
                  <a:cubicBezTo>
                    <a:pt x="37" y="0"/>
                    <a:pt x="64" y="88"/>
                    <a:pt x="95" y="131"/>
                  </a:cubicBezTo>
                  <a:cubicBezTo>
                    <a:pt x="126" y="174"/>
                    <a:pt x="169" y="238"/>
                    <a:pt x="212" y="259"/>
                  </a:cubicBezTo>
                  <a:cubicBezTo>
                    <a:pt x="255" y="280"/>
                    <a:pt x="319" y="264"/>
                    <a:pt x="352" y="259"/>
                  </a:cubicBezTo>
                  <a:cubicBezTo>
                    <a:pt x="385" y="254"/>
                    <a:pt x="390" y="250"/>
                    <a:pt x="413" y="229"/>
                  </a:cubicBezTo>
                  <a:cubicBezTo>
                    <a:pt x="436" y="208"/>
                    <a:pt x="461" y="149"/>
                    <a:pt x="490" y="133"/>
                  </a:cubicBezTo>
                  <a:cubicBezTo>
                    <a:pt x="519" y="117"/>
                    <a:pt x="558" y="116"/>
                    <a:pt x="586" y="131"/>
                  </a:cubicBezTo>
                  <a:cubicBezTo>
                    <a:pt x="614" y="146"/>
                    <a:pt x="646" y="227"/>
                    <a:pt x="657" y="224"/>
                  </a:cubicBezTo>
                  <a:cubicBezTo>
                    <a:pt x="668" y="221"/>
                    <a:pt x="641" y="139"/>
                    <a:pt x="653" y="114"/>
                  </a:cubicBezTo>
                  <a:cubicBezTo>
                    <a:pt x="665" y="89"/>
                    <a:pt x="703" y="73"/>
                    <a:pt x="727" y="72"/>
                  </a:cubicBezTo>
                  <a:cubicBezTo>
                    <a:pt x="751" y="71"/>
                    <a:pt x="783" y="90"/>
                    <a:pt x="797" y="107"/>
                  </a:cubicBezTo>
                  <a:cubicBezTo>
                    <a:pt x="811" y="124"/>
                    <a:pt x="804" y="181"/>
                    <a:pt x="809" y="177"/>
                  </a:cubicBezTo>
                  <a:cubicBezTo>
                    <a:pt x="814" y="173"/>
                    <a:pt x="812" y="104"/>
                    <a:pt x="826" y="85"/>
                  </a:cubicBezTo>
                  <a:cubicBezTo>
                    <a:pt x="840" y="66"/>
                    <a:pt x="869" y="60"/>
                    <a:pt x="891" y="60"/>
                  </a:cubicBezTo>
                  <a:cubicBezTo>
                    <a:pt x="913" y="60"/>
                    <a:pt x="943" y="68"/>
                    <a:pt x="961" y="84"/>
                  </a:cubicBezTo>
                  <a:cubicBezTo>
                    <a:pt x="979" y="100"/>
                    <a:pt x="988" y="154"/>
                    <a:pt x="996" y="154"/>
                  </a:cubicBezTo>
                  <a:cubicBezTo>
                    <a:pt x="1004" y="154"/>
                    <a:pt x="1003" y="103"/>
                    <a:pt x="1008" y="84"/>
                  </a:cubicBezTo>
                  <a:cubicBezTo>
                    <a:pt x="1013" y="65"/>
                    <a:pt x="1017" y="47"/>
                    <a:pt x="1027" y="37"/>
                  </a:cubicBezTo>
                  <a:cubicBezTo>
                    <a:pt x="1037" y="27"/>
                    <a:pt x="1052" y="27"/>
                    <a:pt x="1066" y="25"/>
                  </a:cubicBezTo>
                  <a:cubicBezTo>
                    <a:pt x="1080" y="23"/>
                    <a:pt x="1092" y="13"/>
                    <a:pt x="1109" y="27"/>
                  </a:cubicBezTo>
                  <a:cubicBezTo>
                    <a:pt x="1126" y="41"/>
                    <a:pt x="1155" y="92"/>
                    <a:pt x="1167" y="1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09840" y="2786040"/>
              <a:ext cx="1339920" cy="204840"/>
            </a:xfrm>
            <a:custGeom>
              <a:avLst/>
              <a:gdLst/>
              <a:ahLst/>
              <a:rect l="l" t="t" r="r" b="b"/>
              <a:pathLst>
                <a:path w="844" h="129">
                  <a:moveTo>
                    <a:pt x="0" y="4"/>
                  </a:moveTo>
                  <a:cubicBezTo>
                    <a:pt x="5" y="31"/>
                    <a:pt x="11" y="59"/>
                    <a:pt x="24" y="76"/>
                  </a:cubicBezTo>
                  <a:cubicBezTo>
                    <a:pt x="37" y="93"/>
                    <a:pt x="57" y="103"/>
                    <a:pt x="77" y="105"/>
                  </a:cubicBezTo>
                  <a:cubicBezTo>
                    <a:pt x="97" y="107"/>
                    <a:pt x="126" y="106"/>
                    <a:pt x="144" y="91"/>
                  </a:cubicBezTo>
                  <a:cubicBezTo>
                    <a:pt x="162" y="76"/>
                    <a:pt x="178" y="16"/>
                    <a:pt x="187" y="14"/>
                  </a:cubicBezTo>
                  <a:cubicBezTo>
                    <a:pt x="196" y="12"/>
                    <a:pt x="194" y="63"/>
                    <a:pt x="201" y="76"/>
                  </a:cubicBezTo>
                  <a:cubicBezTo>
                    <a:pt x="208" y="89"/>
                    <a:pt x="214" y="92"/>
                    <a:pt x="230" y="95"/>
                  </a:cubicBezTo>
                  <a:cubicBezTo>
                    <a:pt x="246" y="98"/>
                    <a:pt x="277" y="101"/>
                    <a:pt x="297" y="95"/>
                  </a:cubicBezTo>
                  <a:cubicBezTo>
                    <a:pt x="317" y="89"/>
                    <a:pt x="340" y="72"/>
                    <a:pt x="350" y="57"/>
                  </a:cubicBezTo>
                  <a:cubicBezTo>
                    <a:pt x="360" y="42"/>
                    <a:pt x="352" y="0"/>
                    <a:pt x="355" y="4"/>
                  </a:cubicBezTo>
                  <a:cubicBezTo>
                    <a:pt x="358" y="8"/>
                    <a:pt x="359" y="64"/>
                    <a:pt x="369" y="81"/>
                  </a:cubicBezTo>
                  <a:cubicBezTo>
                    <a:pt x="379" y="98"/>
                    <a:pt x="401" y="103"/>
                    <a:pt x="417" y="105"/>
                  </a:cubicBezTo>
                  <a:cubicBezTo>
                    <a:pt x="433" y="107"/>
                    <a:pt x="452" y="102"/>
                    <a:pt x="465" y="95"/>
                  </a:cubicBezTo>
                  <a:cubicBezTo>
                    <a:pt x="478" y="88"/>
                    <a:pt x="489" y="74"/>
                    <a:pt x="494" y="62"/>
                  </a:cubicBezTo>
                  <a:cubicBezTo>
                    <a:pt x="499" y="50"/>
                    <a:pt x="492" y="20"/>
                    <a:pt x="494" y="23"/>
                  </a:cubicBezTo>
                  <a:cubicBezTo>
                    <a:pt x="496" y="26"/>
                    <a:pt x="495" y="66"/>
                    <a:pt x="504" y="81"/>
                  </a:cubicBezTo>
                  <a:cubicBezTo>
                    <a:pt x="513" y="96"/>
                    <a:pt x="526" y="109"/>
                    <a:pt x="547" y="115"/>
                  </a:cubicBezTo>
                  <a:cubicBezTo>
                    <a:pt x="568" y="121"/>
                    <a:pt x="610" y="128"/>
                    <a:pt x="629" y="115"/>
                  </a:cubicBezTo>
                  <a:cubicBezTo>
                    <a:pt x="648" y="102"/>
                    <a:pt x="654" y="40"/>
                    <a:pt x="662" y="38"/>
                  </a:cubicBezTo>
                  <a:cubicBezTo>
                    <a:pt x="670" y="36"/>
                    <a:pt x="666" y="92"/>
                    <a:pt x="677" y="105"/>
                  </a:cubicBezTo>
                  <a:cubicBezTo>
                    <a:pt x="688" y="118"/>
                    <a:pt x="711" y="116"/>
                    <a:pt x="729" y="119"/>
                  </a:cubicBezTo>
                  <a:cubicBezTo>
                    <a:pt x="747" y="122"/>
                    <a:pt x="769" y="129"/>
                    <a:pt x="787" y="124"/>
                  </a:cubicBezTo>
                  <a:cubicBezTo>
                    <a:pt x="805" y="119"/>
                    <a:pt x="826" y="104"/>
                    <a:pt x="835" y="91"/>
                  </a:cubicBezTo>
                  <a:cubicBezTo>
                    <a:pt x="844" y="78"/>
                    <a:pt x="838" y="52"/>
                    <a:pt x="840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24160" y="2600280"/>
            <a:ext cx="2648160" cy="2374920"/>
          </a:xfrm>
          <a:custGeom>
            <a:avLst/>
            <a:gdLst/>
            <a:ahLst/>
            <a:rect l="l" t="t" r="r" b="b"/>
            <a:pathLst>
              <a:path w="1668" h="1496">
                <a:moveTo>
                  <a:pt x="281" y="613"/>
                </a:moveTo>
                <a:cubicBezTo>
                  <a:pt x="244" y="604"/>
                  <a:pt x="226" y="590"/>
                  <a:pt x="181" y="570"/>
                </a:cubicBezTo>
                <a:cubicBezTo>
                  <a:pt x="136" y="550"/>
                  <a:pt x="24" y="540"/>
                  <a:pt x="12" y="495"/>
                </a:cubicBezTo>
                <a:cubicBezTo>
                  <a:pt x="0" y="450"/>
                  <a:pt x="72" y="349"/>
                  <a:pt x="111" y="297"/>
                </a:cubicBezTo>
                <a:cubicBezTo>
                  <a:pt x="150" y="245"/>
                  <a:pt x="186" y="223"/>
                  <a:pt x="246" y="180"/>
                </a:cubicBezTo>
                <a:cubicBezTo>
                  <a:pt x="306" y="137"/>
                  <a:pt x="383" y="64"/>
                  <a:pt x="471" y="36"/>
                </a:cubicBezTo>
                <a:cubicBezTo>
                  <a:pt x="559" y="8"/>
                  <a:pt x="675" y="0"/>
                  <a:pt x="777" y="9"/>
                </a:cubicBezTo>
                <a:cubicBezTo>
                  <a:pt x="879" y="18"/>
                  <a:pt x="990" y="34"/>
                  <a:pt x="1083" y="90"/>
                </a:cubicBezTo>
                <a:cubicBezTo>
                  <a:pt x="1176" y="146"/>
                  <a:pt x="1275" y="261"/>
                  <a:pt x="1337" y="344"/>
                </a:cubicBezTo>
                <a:cubicBezTo>
                  <a:pt x="1399" y="427"/>
                  <a:pt x="1437" y="462"/>
                  <a:pt x="1453" y="589"/>
                </a:cubicBezTo>
                <a:cubicBezTo>
                  <a:pt x="1469" y="716"/>
                  <a:pt x="1421" y="1007"/>
                  <a:pt x="1433" y="1108"/>
                </a:cubicBezTo>
                <a:cubicBezTo>
                  <a:pt x="1445" y="1209"/>
                  <a:pt x="1489" y="1181"/>
                  <a:pt x="1525" y="1194"/>
                </a:cubicBezTo>
                <a:cubicBezTo>
                  <a:pt x="1561" y="1207"/>
                  <a:pt x="1632" y="1125"/>
                  <a:pt x="1650" y="1188"/>
                </a:cubicBezTo>
                <a:cubicBezTo>
                  <a:pt x="1668" y="1251"/>
                  <a:pt x="1487" y="1335"/>
                  <a:pt x="1457" y="1386"/>
                </a:cubicBezTo>
                <a:cubicBezTo>
                  <a:pt x="1427" y="1437"/>
                  <a:pt x="1470" y="1478"/>
                  <a:pt x="1472" y="1496"/>
                </a:cubicBezTo>
              </a:path>
            </a:pathLst>
          </a:custGeom>
          <a:noFill/>
          <a:ln w="38160">
            <a:solidFill>
              <a:srgbClr val="66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1800" y="2771640"/>
            <a:ext cx="2609640" cy="2086200"/>
          </a:xfrm>
          <a:custGeom>
            <a:avLst/>
            <a:gdLst/>
            <a:ahLst/>
            <a:rect l="l" t="t" r="r" b="b"/>
            <a:pathLst>
              <a:path w="1644" h="1314">
                <a:moveTo>
                  <a:pt x="241" y="478"/>
                </a:moveTo>
                <a:cubicBezTo>
                  <a:pt x="216" y="470"/>
                  <a:pt x="131" y="453"/>
                  <a:pt x="91" y="432"/>
                </a:cubicBezTo>
                <a:cubicBezTo>
                  <a:pt x="51" y="411"/>
                  <a:pt x="0" y="385"/>
                  <a:pt x="1" y="351"/>
                </a:cubicBezTo>
                <a:cubicBezTo>
                  <a:pt x="2" y="317"/>
                  <a:pt x="32" y="266"/>
                  <a:pt x="100" y="225"/>
                </a:cubicBezTo>
                <a:cubicBezTo>
                  <a:pt x="168" y="184"/>
                  <a:pt x="288" y="144"/>
                  <a:pt x="406" y="108"/>
                </a:cubicBezTo>
                <a:cubicBezTo>
                  <a:pt x="524" y="72"/>
                  <a:pt x="694" y="18"/>
                  <a:pt x="811" y="9"/>
                </a:cubicBezTo>
                <a:cubicBezTo>
                  <a:pt x="928" y="0"/>
                  <a:pt x="1027" y="27"/>
                  <a:pt x="1108" y="54"/>
                </a:cubicBezTo>
                <a:cubicBezTo>
                  <a:pt x="1189" y="81"/>
                  <a:pt x="1243" y="138"/>
                  <a:pt x="1297" y="209"/>
                </a:cubicBezTo>
                <a:cubicBezTo>
                  <a:pt x="1351" y="280"/>
                  <a:pt x="1426" y="368"/>
                  <a:pt x="1432" y="477"/>
                </a:cubicBezTo>
                <a:cubicBezTo>
                  <a:pt x="1438" y="586"/>
                  <a:pt x="1354" y="782"/>
                  <a:pt x="1333" y="864"/>
                </a:cubicBezTo>
                <a:cubicBezTo>
                  <a:pt x="1312" y="946"/>
                  <a:pt x="1306" y="939"/>
                  <a:pt x="1306" y="972"/>
                </a:cubicBezTo>
                <a:cubicBezTo>
                  <a:pt x="1306" y="1005"/>
                  <a:pt x="1315" y="1036"/>
                  <a:pt x="1333" y="1062"/>
                </a:cubicBezTo>
                <a:cubicBezTo>
                  <a:pt x="1351" y="1088"/>
                  <a:pt x="1392" y="1117"/>
                  <a:pt x="1413" y="1127"/>
                </a:cubicBezTo>
                <a:cubicBezTo>
                  <a:pt x="1434" y="1137"/>
                  <a:pt x="1442" y="1131"/>
                  <a:pt x="1461" y="1122"/>
                </a:cubicBezTo>
                <a:cubicBezTo>
                  <a:pt x="1480" y="1113"/>
                  <a:pt x="1506" y="1088"/>
                  <a:pt x="1528" y="1074"/>
                </a:cubicBezTo>
                <a:cubicBezTo>
                  <a:pt x="1550" y="1060"/>
                  <a:pt x="1578" y="1043"/>
                  <a:pt x="1595" y="1040"/>
                </a:cubicBezTo>
                <a:cubicBezTo>
                  <a:pt x="1612" y="1037"/>
                  <a:pt x="1644" y="1024"/>
                  <a:pt x="1629" y="1055"/>
                </a:cubicBezTo>
                <a:cubicBezTo>
                  <a:pt x="1614" y="1086"/>
                  <a:pt x="1526" y="1184"/>
                  <a:pt x="1504" y="1227"/>
                </a:cubicBezTo>
                <a:cubicBezTo>
                  <a:pt x="1482" y="1270"/>
                  <a:pt x="1500" y="1296"/>
                  <a:pt x="1499" y="1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7719840" y="456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6676560" y="456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88a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543640"/>
            <a:ext cx="535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я звуков  С,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4040" y="6134040"/>
            <a:ext cx="6825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6134040"/>
            <a:ext cx="682560" cy="0"/>
          </a:xfrm>
          <a:prstGeom prst="line">
            <a:avLst/>
          </a:prstGeom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68760" y="6000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21320" y="6000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7520" y="5415120"/>
            <a:ext cx="2595600" cy="1042920"/>
          </a:xfrm>
          <a:custGeom>
            <a:avLst/>
            <a:gdLst>
              <a:gd name="textAreaLeft" fmla="*/ 67320 w 2595600"/>
              <a:gd name="textAreaRight" fmla="*/ 2528280 w 25956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3747" h="21600">
                <a:moveTo>
                  <a:pt x="0" y="0"/>
                </a:moveTo>
                <a:lnTo>
                  <a:pt x="53747" y="0"/>
                </a:lnTo>
                <a:lnTo>
                  <a:pt x="53747" y="21600"/>
                </a:lnTo>
                <a:lnTo>
                  <a:pt x="0" y="21600"/>
                </a:lnTo>
                <a:close/>
              </a:path>
              <a:path fill="lightenLess" w="53747" h="21600">
                <a:moveTo>
                  <a:pt x="0" y="0"/>
                </a:moveTo>
                <a:lnTo>
                  <a:pt x="53747" y="0"/>
                </a:lnTo>
                <a:lnTo>
                  <a:pt x="52347" y="1400"/>
                </a:lnTo>
                <a:lnTo>
                  <a:pt x="1400" y="1400"/>
                </a:lnTo>
                <a:close/>
              </a:path>
              <a:path fill="darken" w="53747" h="21600">
                <a:moveTo>
                  <a:pt x="53747" y="0"/>
                </a:moveTo>
                <a:lnTo>
                  <a:pt x="53747" y="21600"/>
                </a:lnTo>
                <a:lnTo>
                  <a:pt x="52347" y="20200"/>
                </a:lnTo>
                <a:lnTo>
                  <a:pt x="52347" y="1400"/>
                </a:lnTo>
                <a:close/>
              </a:path>
              <a:path fill="darkenLess" w="53747" h="21600">
                <a:moveTo>
                  <a:pt x="53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47" y="20200"/>
                </a:lnTo>
                <a:close/>
              </a:path>
              <a:path fill="lighten" w="53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167520" y="5543640"/>
            <a:ext cx="25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лад органов артик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549360"/>
            <a:ext cx="83059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 звук С в обратных слогах: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яска, Аляска, каска, краски, мыс, мост, тряска, пляска, маска, баркас, каркас, атлас, ананас, нас, вас, костёр, мастер, паста, постель, час, часто, фломастеры, насос, доска, нос, ряска, жесткий, красный, носки, маститый, остаток, мороз, газ, глаз, раз, таз, лаз, голос, волос, пылес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666720"/>
            <a:ext cx="79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 произношение в словах со звуком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735280" cy="1809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326960" cy="1668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219640" y="4019400"/>
            <a:ext cx="2881440" cy="192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3780000" y="2205000"/>
          <a:ext cx="144756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2205000"/>
                    <a:ext cx="14475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Закрепление звука С в слогах с сочетанием согласны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093080" y="1844640"/>
            <a:ext cx="1422360" cy="2129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2260800" cy="1533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1886040" cy="1873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684360" y="1989000"/>
            <a:ext cx="12031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1636560" cy="1828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724360" y="2060640"/>
            <a:ext cx="2527560" cy="1698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012000" y="3860640"/>
            <a:ext cx="205884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755640" y="2060640"/>
          <a:ext cx="1481040" cy="120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060640"/>
                    <a:ext cx="148104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348000" y="4221000"/>
          <a:ext cx="1752480" cy="17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4221000"/>
                    <a:ext cx="17524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64000" y="2060640"/>
          <a:ext cx="1333440" cy="131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2060640"/>
                    <a:ext cx="1333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58920" y="1125360"/>
          <a:ext cx="252108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25210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55640" y="3500280"/>
          <a:ext cx="223200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500280"/>
                    <a:ext cx="2232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308720" y="1557360"/>
          <a:ext cx="12859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1557360"/>
                    <a:ext cx="1285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211640" y="1484280"/>
          <a:ext cx="140004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1484280"/>
                    <a:ext cx="1400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732720" y="3213000"/>
          <a:ext cx="200952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3213000"/>
                    <a:ext cx="20095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067280" y="3716280"/>
          <a:ext cx="111420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7280" y="3716280"/>
                    <a:ext cx="1114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943280"/>
            <a:ext cx="6056280" cy="40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Здра -здра- здр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здро-здро-здро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а- стра-стр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о-стро-стр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у-стру-стр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2592360" cy="1959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971640" y="174636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11280" y="404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ботать звук Сь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372360" y="1989000"/>
          <a:ext cx="1333440" cy="13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1989000"/>
                    <a:ext cx="133344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09800" y="571680"/>
            <a:ext cx="714348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Разучить тек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а  в кор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ке,                         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картинке,                            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ёнком                                и ёршик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ршонком.       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рый кр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,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,  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.                Он не к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ец, не урод,                          Он про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0000" y="620640"/>
            <a:ext cx="568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лёный заб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забором – завал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внул, засн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бияка – Заи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9280" y="2852640"/>
            <a:ext cx="568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чили з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амых гу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не крич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дел, мол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ё по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этот з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рлили мне у самых г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0000" y="620640"/>
            <a:ext cx="56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йка затих – заснул за забором. Звонко запела синичка Зина: «Не будь, Заинька, забиякой». Забежала мышка Зоя, затопала, захлопала, заговорила, залопотала: «Будь, заинька, паинь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клад органов артикуля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84582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записа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6896160" y="6095880"/>
            <a:ext cx="1866960" cy="4597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09800" y="800280"/>
            <a:ext cx="714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Отработать произношение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 в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м бору,                   Ручеёк прорыл нору.                              И помчал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по оврагу,                              И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робы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ружил,                               И горбатую  корягу                                  На пути ра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рмошил.                        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нел  н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 мор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                  Тёплым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лнышком в руке…                  И 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бшие 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ы                    Умывали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ь в ручейк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09800" y="800280"/>
            <a:ext cx="714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Отработать произношение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 в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м бору,                   Ручеёк прорыл нору.                              И помчал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по оврагу,                              И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робы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ружил,                               И горбатую  корягу                                  На пути ра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рмошил.                        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нел  н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 мор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                  Тёплым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лнышком в руке…                  И 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бшие 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ы                    Умывали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ь в ручейк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84360" y="4172040"/>
          <a:ext cx="244764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72040"/>
                    <a:ext cx="24476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1066680" y="324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жи, как  называются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954000" y="1450800"/>
            <a:ext cx="1206720" cy="1812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1290600" cy="1687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635280" y="1557360"/>
            <a:ext cx="1795680" cy="14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780000" y="4508640"/>
          <a:ext cx="2592360" cy="13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80000" y="4508640"/>
                    <a:ext cx="25923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093080" y="4365720"/>
          <a:ext cx="1512720" cy="148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4365720"/>
                    <a:ext cx="15127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17946600">
            <a:off x="1172880" y="3587040"/>
            <a:ext cx="1374840" cy="2067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627280" y="1413000"/>
            <a:ext cx="612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йку бросила хозяй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дождем остался за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 скамейки слезть не с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ь до ниточки про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085760" y="4267080"/>
          <a:ext cx="1584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4267080"/>
                    <a:ext cx="1584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443640" y="2924280"/>
          <a:ext cx="2038320" cy="32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924280"/>
                    <a:ext cx="203832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116000" y="1341360"/>
          <a:ext cx="1924200" cy="20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1341360"/>
                    <a:ext cx="19242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3635280" y="141300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4211640" y="4292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55640" y="1052640"/>
          <a:ext cx="180036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1800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924360" y="2867040"/>
          <a:ext cx="129528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867040"/>
                    <a:ext cx="1295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819000"/>
            <a:ext cx="760104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коло  нашего  лагеря  пруд. Вода в пруду чистая и  гладкая. По берегам  пруда растут  берёзы и рябинки. От дома  к нему  ведёт узкая  дорожка. На  пруду мы часто катаемся  на лодке. В тихой  воде мелькают ры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266760"/>
            <a:ext cx="800100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вьте предложения так, чтобы  получился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Из кустов выскочили  зайцы.              2. Зайцы прыгали  с кочки на кочку.        3. Это была зайчиха с зайчатами.             4. Ребята ходили в лес за смородиной.        5. Они забыли про смородину.  6. Долго гонялись  ребята  за зайцами, но  зайцы  ускакали. 7. Мальчики  погнались за зайц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одготовительные упражнения                      к постановке звука С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8436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крепление звука С в слог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197000"/>
          <a:ext cx="8218440" cy="5317920"/>
        </p:xfrm>
        <a:graphic>
          <a:graphicData uri="http://schemas.openxmlformats.org/drawingml/2006/table">
            <a:tbl>
              <a:tblPr/>
              <a:tblGrid>
                <a:gridCol w="1643040"/>
                <a:gridCol w="1644840"/>
                <a:gridCol w="1643040"/>
                <a:gridCol w="1644480"/>
                <a:gridCol w="164304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543800" y="5848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1800360" cy="163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1942920" cy="157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1602000" cy="1800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067280" y="4221000"/>
            <a:ext cx="1800000" cy="128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1296720" cy="111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804000" y="4076640"/>
            <a:ext cx="191124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620640"/>
            <a:ext cx="38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обаки  в м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ясо и соси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кусные сос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обаки в м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1209600" cy="952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6000" y="3429000"/>
            <a:ext cx="46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попа была соб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её лю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а съела кусок мяса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её про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206064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308720" y="4797360"/>
            <a:ext cx="854280" cy="1077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780000" y="2060640"/>
            <a:ext cx="2189160" cy="1481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797360"/>
            <a:ext cx="18000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1440000" cy="122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15303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44:43Z</dcterms:created>
  <dc:creator>User</dc:creator>
  <dc:description/>
  <dc:language>en-US</dc:language>
  <cp:lastModifiedBy>1</cp:lastModifiedBy>
  <dcterms:modified xsi:type="dcterms:W3CDTF">2008-11-03T12:52:32Z</dcterms:modified>
  <cp:revision>27</cp:revision>
  <dc:subject/>
  <dc:title>Слайд 1</dc:title>
</cp:coreProperties>
</file>