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333-7FBB-4430-8E1B-73EEF744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830-C176-4368-A24C-960DE12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2DA-4F2F-487A-B864-42CFA987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0AE-EE55-481C-9580-3448601C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C46-F764-4C2B-AE3C-3D51512B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DF26-52F2-477B-AFDA-2B7674A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2032-F869-4217-ADFF-8EACCB0B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16C-6465-45AB-B4B5-6B14AA43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A320-44E6-4A10-B112-D96753AF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4FA6-F109-4C8A-9C71-FEBD1BAA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A693-5E4B-41B6-822B-D470490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A98-6016-4AEC-99B5-730FE31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829-21DC-4406-8462-E29B589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EF80-3E2C-4D5E-B0FC-1DC5F1E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133E-A7C7-4EDB-88B3-38B537E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109-B2D5-4106-8494-9FACDDFB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0F4B-0009-4731-9A59-A97A52B0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7354-F96E-4076-998F-30716D18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D07C-326C-4A11-B1DE-8DC5413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8589-E6C8-4A92-8B60-45A3E74D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57EF-859F-4A7D-A7E6-B149FCE7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3C1B-20E1-451E-9432-07FA0A53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E0C-CC1F-4824-83D5-5078F67F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BF0A-069B-4E92-9E8D-C0BCEFD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55F8-9301-4BB2-B63A-9425865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0474-B0A6-4490-B5A8-6F9E5A88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AD04-9E0E-4122-94C8-9957D27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4763-897A-44ED-BD98-0D6E2C5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8D46-E74B-48A5-B0F3-C7AA8E06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A1CD-F897-4799-8414-3BB89837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CED0-2329-4415-B7D8-72323C9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8F4B-CA57-4E01-84FC-5454870F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81F7-B456-4691-9B18-94CD3431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856-186D-42DB-9AB9-B3FCBFE5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2486-2DBB-4205-8E0F-F5C4FA1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61E7-1DC8-406D-957F-85EEF158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8757-976F-4E33-93A0-701D9F6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71A2-AE29-4615-8848-E43A2E1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0E5D-6026-4ECA-89ED-DAABEAD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5008-891A-4312-BD04-C0311B7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777A-F84D-4D17-8817-8D003E6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7C78-DB86-4F3C-9FBF-FCFF7796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D398-BDA4-45CF-A60A-F478CA26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ADCBD-D958-4843-A95B-37FAB069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FD3-D91C-40CF-9281-E3C8C19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12D6B-44B3-4932-85C7-240E97E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C6BD-6DC4-4F2F-8449-6392A48A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C3F2-EFEE-4478-9473-1EDF103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3E99-2BE4-45EE-B3D7-EBF034E7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97F75-B521-47EA-94CA-482CD001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81AF-E6AB-425D-84E3-B83B11B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8E46-7C65-4687-8D25-D2000D1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C907-F99F-4754-8EEA-8D8D352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D27A9-4899-44AA-AA57-E2BC3BE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8379-3154-4497-86CD-AF01D6BF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240-1C4B-49ED-95D9-3944B48C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E538-9421-4A63-9299-DF93D0A3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D4D-14B9-4CB3-A70F-0A74E6C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EE8-CEDC-4B29-B0F3-03011AF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6B4-73AD-4717-B088-92367AB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986DF-3C60-43CB-8DF0-2DF3344064B5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752400" y="744120"/>
            <a:ext cx="10674360" cy="5350320"/>
            <a:chOff x="752400" y="744120"/>
            <a:chExt cx="10674360" cy="5350320"/>
          </a:xfrm>
        </p:grpSpPr>
        <p:sp>
          <p:nvSpPr>
            <p:cNvPr id="44" name="Freeform 6"/>
            <p:cNvSpPr/>
            <p:nvPr/>
          </p:nvSpPr>
          <p:spPr>
            <a:xfrm>
              <a:off x="8151840" y="1685520"/>
              <a:ext cx="3274920" cy="4408920"/>
            </a:xfrm>
            <a:prstGeom prst="pie">
              <a:avLst/>
            </a:pr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752040" y="743760"/>
              <a:ext cx="3275280" cy="4408920"/>
            </a:xfrm>
            <a:prstGeom prst="pie">
              <a:avLst/>
            </a:prstGeom>
            <a:solidFill>
              <a:srgbClr val="e7de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9C3EE-8FE8-4DB4-9E66-598C16D9BBD9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BBE19-A2CB-4AE9-B07E-E322E8540798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A3422-3927-4555-86F0-E7BD256CBC16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504b"/>
            </a:gs>
            <a:gs pos="100000">
              <a:srgbClr val="431b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B64FA-BA7D-48AB-8E96-B6A05C4AD352}" type="slidenum">
              <a:rPr b="0" lang="en-US" sz="1000" spc="-1" strike="noStrike">
                <a:solidFill>
                  <a:srgbClr val="e7dec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Заголовок 1"/>
          <p:cNvSpPr/>
          <p:nvPr/>
        </p:nvSpPr>
        <p:spPr>
          <a:xfrm>
            <a:off x="1068480" y="1181160"/>
            <a:ext cx="9988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ОБРАЗОВАТЕЛЬНАЯ ПРОГРАММА «ПЕРСПЕКТИВНАЯ НАЧАЛЬНАЯ ШКОЛА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593800" y="4311360"/>
            <a:ext cx="70725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езентацию выполнила студентка 46 группы, Нагимулина А.Р.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750960" y="821880"/>
            <a:ext cx="111600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Русский язык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збука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Агаркова Н.Г., Агарков Ю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Русский язык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Чуракова Н.А., Каленчук М.Л., Малаховская О.В., Байкова Т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Литературное чтение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 Чуракова Н.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атематика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Чекин А.Л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нформатика и ИКТ (2-4 классы)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Бененсон Е.П., Паутова А.Г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кружающий мир. 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 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сновы религиозных культур и светской этики (4 класс).  Основы духовно-нравственной культуры народов России. Основы светской этики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зобразительное искусство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Кашекова И.Э., Кашеков А.Л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узыка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</a:t>
            </a: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Челышева Т.В., Кузнецова В.В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Технология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изическая культура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лийский язык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”Fafourite” 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-4 классы).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78720" indent="-378720"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:</a:t>
            </a:r>
            <a:r>
              <a:rPr b="0" lang="ru-RU" sz="10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 Тер-Минасова С.Г., Узунова Л.М., Сухина Е.И.</a:t>
            </a:r>
            <a:r>
              <a:rPr b="0" lang="ru-RU" sz="1000" spc="-1" strike="noStrike">
                <a:solidFill>
                  <a:srgbClr val="e7dec9"/>
                </a:solidFill>
                <a:latin typeface="Georgia"/>
              </a:rPr>
              <a:t> </a:t>
            </a: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11137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Franklin Gothic Book"/>
              </a:rPr>
              <a:t>Авторство предметных линий учебников образовательной программы «Перспективная начальная школа»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4120" y="163440"/>
            <a:ext cx="112870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e7dec9"/>
                </a:solidFill>
                <a:latin typeface="Franklin Gothic Book"/>
              </a:rPr>
              <a:t>Учебно – методический комплект образовательной программы «Перспективная начальная школа»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239" name="Picture 2" descr="https://myslide.ru/documents_4/5304238a2c04d5148db1a88772526992/img14.jpg"/>
          <p:cNvPicPr/>
          <p:nvPr/>
        </p:nvPicPr>
        <p:blipFill>
          <a:blip r:embed="rId1"/>
          <a:stretch/>
        </p:blipFill>
        <p:spPr>
          <a:xfrm>
            <a:off x="2873520" y="1938240"/>
            <a:ext cx="7019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7200" y="317160"/>
            <a:ext cx="1116144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идея УМК «Перспективная начальная школа» :</a:t>
            </a:r>
            <a:endParaRPr b="0" lang="en-US" sz="4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0960" y="2122200"/>
            <a:ext cx="111362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оптимальное развитие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, где ученик выступает то в роли обучаемого, то в роли обучающего, то в роли организатора учебной ситуации.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3280" y="293760"/>
            <a:ext cx="111297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образовательной программы 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50600" y="1872720"/>
            <a:ext cx="11295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формирование познавательных интересов школьников и их готовности к самообразовательной деятельности на основе учета индивидуальных склонностей к изучению той или иной предметной области; развитие умственных способностей, творческого мышления; воспитание чувства уважения к эрудиции и предметной компетентности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воспитание социально-психологической адаптированности к учебно-воспитательному процессу и к жизни в коллективе: готовности брать ответственность на себя, принимать решение и действовать, работать в коллективе ведомым и ведущим, общаться как в коллективе сверстников, так и со старшими, критиковать и не обижаться на критику, оказывать помощь другим, объяснять и доказывать собственное мнение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8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727200" y="1326960"/>
            <a:ext cx="111600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воспитание физической культуры младшего школьника: осознание ценности здорового образа жизни, понимание вреда алкоголя и наркотиков, повышение осведомленности в разных областях физической культуры, обеспечение безопасности жизнедеятельности;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формирование эстетического сознания младших школьников и художественного вкуса: эстетической способности чувствовать красоту окружающего мира и понимать смысл и красоту произведений художественной культуры; воспитание эстетического чувства;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  <a:p>
            <a:pPr marL="339480" indent="-3394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социально-нравственное воспитание школьников: развитие природных задатков сочувствовать и сопереживать ближнему, формирование умения различать и анализировать собственные эмоциональные переживания и состояния и переживания других людей; воспитание уважения к чужому мнению, развитие умений общаться в обществе и семье, знакомство с этическими нормами и их культурно-исторической обусловленностью, осознание их ценности и необходимости.</a:t>
            </a:r>
            <a:endParaRPr b="0" lang="en-US" sz="24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5" name="Заголовок 2"/>
          <p:cNvSpPr/>
          <p:nvPr/>
        </p:nvSpPr>
        <p:spPr>
          <a:xfrm>
            <a:off x="773280" y="0"/>
            <a:ext cx="111297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образовательной программы «Перспективная начальная школа»: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7200" y="281160"/>
            <a:ext cx="11137680" cy="11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образовательной программы</a:t>
            </a: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«Перспективная начальная школа»:</a:t>
            </a:r>
            <a:br>
              <a:rPr sz="4000"/>
            </a:b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26840" y="2249280"/>
            <a:ext cx="111553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Принцип непрерывного общего развития каждого ребенка предполагает ориентацию содержания начального образования на эмоциональное, духовно-нравственное и интеллектуальное развитие и саморазвитие каждого ребенка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Принцип целостности картины мира предполагает отбор такого содержания образования, которое поможет школьнику удерживать и воссоздать целостность картины мира, обеспечит осознание ребенком разнообразных связей между его объектами и явлениями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одержимое 2"/>
          <p:cNvSpPr/>
          <p:nvPr/>
        </p:nvSpPr>
        <p:spPr>
          <a:xfrm>
            <a:off x="727200" y="1476360"/>
            <a:ext cx="1119960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 учета индивидуальных возможностей и способностей школьников ориентирован на постоянную педагогическую поддержку всех учащихся (в том числе и тех, которые по тем или другим причинам не могут усвоить все представленное содержание образования)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ы прочности и наглядности. Эти принципы, на которых столетиями базируется традиционная школа, реализуют ведущую идею учебно-методического комплекта: через рассмотрение частного к пониманию общего, от общего, то есть, от постигнутой закономерности, к частному – способу решения конкретной учебной задачи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нцип охраны и укрепления психического и физического здоровья детей. Реализация этого принципа связана с формированием привычек к чистоте, порядку, аккуратности, соблюдению режима дня, к созданию условий для активного участия детей в оздоровительных мероприятиях: утренняя гимнастика, динамические паузы во время занятий в школе, экскурсии на природу и др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Заголовок 1"/>
          <p:cNvSpPr/>
          <p:nvPr/>
        </p:nvSpPr>
        <p:spPr>
          <a:xfrm>
            <a:off x="750960" y="281160"/>
            <a:ext cx="111376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9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образовательной программы</a:t>
            </a:r>
            <a:r>
              <a:rPr b="0" lang="ru-RU" sz="3600" spc="-1" strike="noStrike">
                <a:solidFill>
                  <a:srgbClr val="ffffff"/>
                </a:solidFill>
                <a:latin typeface="Georgia"/>
              </a:rPr>
              <a:t>«Перспективная начальная школа»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7040" y="316080"/>
            <a:ext cx="1104264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ичительные черты УМК образовательной програм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97040" y="2344320"/>
            <a:ext cx="111139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спользование единой системы условных обозначений во всем УМК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Система перекрестных взаимных ссылок между учебниками; 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Использование единых сквозных героев (брата и сестры);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Пошаговое введение терминологии и мотивированное ее использование</a:t>
            </a:r>
            <a:r>
              <a:rPr b="0" lang="ru-RU" sz="22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0600" y="293400"/>
            <a:ext cx="110473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УМК образовательной програм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26840" y="1687680"/>
            <a:ext cx="1112508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УМК по каждому учебному предмету, как правило, включает в себя учебник, хрестоматию, тетрадь для самостоятельной работы, методическое пособие для учителя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Межпредметные связи: 2 часть русского языка включает в себя ряд словарей для использования на всех предметах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Занятия в форме заседания клуба;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e7dec9"/>
              </a:solidFill>
              <a:latin typeface="Franklin Gothic Book"/>
            </a:endParaRPr>
          </a:p>
          <a:p>
            <a:pPr marL="343080" indent="-3430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- Задания направлены на самостоятельную деятельность ученика.</a:t>
            </a:r>
            <a:endParaRPr b="0" lang="en-US" sz="28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6680" y="339840"/>
            <a:ext cx="110250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е особенности УМК образовательной программы «Перспективная начальная школа»: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0960" y="2250720"/>
            <a:ext cx="11120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УМК по каждому учебному предмету включает в себя учебник, хрестоматию, тетрадь для самостоятельной работы, методическое пособие для учителя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Каждое методическое пособие состоит из двух частей: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Теоретическая, которая может быть использована учителем как теоретическое основание повышения его квалификации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7dec9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600" spc="-1" strike="noStrike">
                <a:solidFill>
                  <a:srgbClr val="e7dec9"/>
                </a:solidFill>
                <a:latin typeface="Times New Roman"/>
                <a:ea typeface="Times New Roman"/>
              </a:rPr>
              <a:t>Поурочно-тематическое планирование, где расписан ход каждого урока, сформулированы его цели и задачи, содержатся вариатны ответов на заданные в учебнике вопросы.</a:t>
            </a:r>
            <a:endParaRPr b="0" lang="en-US" sz="2600" spc="-1" strike="noStrike">
              <a:solidFill>
                <a:srgbClr val="e7dec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22:10:11Z</dcterms:created>
  <dc:creator>Adam</dc:creator>
  <dc:description/>
  <dc:language>en-US</dc:language>
  <cp:lastModifiedBy>Ryu</cp:lastModifiedBy>
  <dcterms:modified xsi:type="dcterms:W3CDTF">2019-05-24T15:33:36Z</dcterms:modified>
  <cp:revision>20</cp:revision>
  <dc:subject/>
  <dc:title>Барьеры в общении</dc:title>
</cp:coreProperties>
</file>