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12D-9D4B-4F2E-A146-071485A8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F5D-138A-45A2-87D6-263D15C4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FD6-CCEC-4575-BEE3-C579B934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106-6C7D-46F5-85C4-A185961F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91F9-5AB4-4A9C-A78F-3DDC0206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B78E-3CC8-4D87-94C6-6187E9D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0752-D268-4E7D-AC52-E30A7A03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1E35-FF1A-4C0C-A11A-76C6E55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89E-EFB9-4A33-80AB-4E46EB0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050-AC57-4621-B4C0-6DA959F3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90A-F4C2-48F3-A35B-6175413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FA0-BE38-4D30-A15A-B0FBB3EB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7C9-D0EA-44AF-8D74-16590F9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70B-2266-461C-B1AD-E759DA8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9E7-D093-429A-9FF7-BAEB256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2B7-AD42-46A9-9039-AF33F56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C1E0-8250-4B21-812A-B9EC703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1974-B066-4973-860E-75308A2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C427-32B9-49F3-8F90-8262DDC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1B38-83B2-4DF5-A526-3FC075FB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95534-FF3F-4A8F-8416-08D3893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C19F-3E17-4BA1-B081-F8C1031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F06-77A6-4BFB-89E9-9C8AC9F9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AB39-2AA7-4A17-A701-0E38545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9587-5ED9-4859-9845-69F2812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1D19-5D79-440E-BEB3-458A13D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37A1-B56E-4008-811A-9039A4A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C5D4-F5D0-437B-B13F-38D0833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58E0-67FF-46D9-9C39-5945A87E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D17E-6AC9-42D3-9AE7-D01739F0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A81D-BB1A-47CD-B211-3170D316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310D-46E8-48A2-9274-60A2D91F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AB43-18F0-4240-A775-576F1BE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7A7-D095-4B1B-AB34-640CC2A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C0CC-C7B2-402E-943B-75DC0B7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2EAB-4D7D-41F1-ADC1-8B95176E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56DB-2742-48CC-97DA-5EF665E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67DE-5846-41F3-AA32-127ADB8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B8C3-2691-4FD9-AAFA-3BBF6A7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98BB-4EA3-4348-92B6-35E4766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5FAC-386E-49A0-8DE3-AC41B60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82F4-7CED-4763-BC2D-EF7579F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EC15-FB17-414D-B19C-8FD41024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C1CA-51CB-4A01-80AE-2437A591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EAE-B8C2-4F52-982E-2487907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4B0C-2FD0-463B-A427-467BF52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ECCAB-76DC-40E4-BD30-96450A9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36D4-B195-42B0-962C-FCB66CD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31CA7-5F42-404F-BCE6-D43D785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B771-5D4A-467C-9582-35456CD7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B052-793F-436D-A9A0-EF43303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E2DF-9EA0-4D4E-96C3-77CCAA84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302E-A5FD-413E-94CB-09E2655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B06B-D303-4DFC-9A88-F1ADB0D3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AA98-AC4D-48A5-A61D-DA5E1823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D2B-4ACB-488B-B023-FE652F2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F029-3E61-42A3-9062-3E502D22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A31-9C18-4FD5-B788-CBBF13A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FA5-8069-4AD7-9FE1-1971303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02B-9CB4-4DD4-9B31-2AE07A6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6FD6E-EA89-484E-950C-A864657CDE25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752400" y="744120"/>
            <a:ext cx="10674360" cy="5350320"/>
            <a:chOff x="752400" y="744120"/>
            <a:chExt cx="10674360" cy="5350320"/>
          </a:xfrm>
        </p:grpSpPr>
        <p:sp>
          <p:nvSpPr>
            <p:cNvPr id="44" name="Freeform 6"/>
            <p:cNvSpPr/>
            <p:nvPr/>
          </p:nvSpPr>
          <p:spPr>
            <a:xfrm>
              <a:off x="8151840" y="1685520"/>
              <a:ext cx="3274920" cy="4408920"/>
            </a:xfrm>
            <a:prstGeom prst="pie">
              <a:avLst/>
            </a:pr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752040" y="743760"/>
              <a:ext cx="3275280" cy="4408920"/>
            </a:xfrm>
            <a:prstGeom prst="pie">
              <a:avLst/>
            </a:pr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6788-0BF3-49BE-9974-38D71A4F9F52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09C75-730E-4414-B8F9-FE8D38E9EBF3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EA7F4-1F19-4886-A072-7DDC2D701B66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FE1C4-1249-4F52-8AAF-C4D5F2EB0348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Заголовок 1"/>
          <p:cNvSpPr/>
          <p:nvPr/>
        </p:nvSpPr>
        <p:spPr>
          <a:xfrm>
            <a:off x="1068480" y="1181160"/>
            <a:ext cx="9988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ОБРАЗОВАТЕЛЬНАЯ ПРОГРАММА 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593800" y="4311360"/>
            <a:ext cx="70725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езентацию выполнила студентка 46 группы, Нагимулина А.Р.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750960" y="821880"/>
            <a:ext cx="111600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Русский язык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збука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Агаркова Н.Г., Агарков Ю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Русский язык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Чуракова Н.А., Каленчук М.Л., Малаховская О.В., Байкова Т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Литературное чтение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 Чуракова Н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атематика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Чекин А.Л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нформатика и ИКТ (2-4 классы)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Бененсон Е.П., Паутова А.Г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кружающий мир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сновы религиозных культур и светской этики (4 класс).  Основы духовно-нравственной культуры народов России. Основы светской этики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зобразительное искусство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Кашекова И.Э., Кашеков А.Л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узыка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Челышева Т.В., Кузнецова В.В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Технология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изическая культура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лийский язык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”Fafourite”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-4 классы)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Тер-Минасова С.Г., Узунова Л.М., Сухина Е.И.</a:t>
            </a:r>
            <a:r>
              <a:rPr b="0" lang="ru-RU" sz="1000" spc="-1" strike="noStrike">
                <a:solidFill>
                  <a:srgbClr val="e7dec9"/>
                </a:solidFill>
                <a:latin typeface="Georgia"/>
              </a:rPr>
              <a:t>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11137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Franklin Gothic Book"/>
              </a:rPr>
              <a:t>Авторство предметных линий учебников образовательной программы «Перспективная начальная школа»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4120" y="163440"/>
            <a:ext cx="112870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e7dec9"/>
                </a:solidFill>
                <a:latin typeface="Franklin Gothic Book"/>
              </a:rPr>
              <a:t>Учебно – методический комплект образовательной программы «Перспективная начальная школа»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239" name="Picture 2" descr="https://myslide.ru/documents_4/5304238a2c04d5148db1a88772526992/img14.jpg"/>
          <p:cNvPicPr/>
          <p:nvPr/>
        </p:nvPicPr>
        <p:blipFill>
          <a:blip r:embed="rId1"/>
          <a:stretch/>
        </p:blipFill>
        <p:spPr>
          <a:xfrm>
            <a:off x="2873520" y="1938240"/>
            <a:ext cx="7019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7200" y="317160"/>
            <a:ext cx="1116144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идея УМК «Перспективная начальная школа» :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0960" y="2122200"/>
            <a:ext cx="111362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3280" y="293760"/>
            <a:ext cx="111297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образовательной программы 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50600" y="1872720"/>
            <a:ext cx="11295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ормирование познавательных интересов школьников и их готовности к самообразовательной деятельности на основе учета индивидуальных склонностей к изучению той или иной предметной области; развитие умственных способностей, творческого мышления; воспитание чувства уважения к эрудиции и предметной компетентности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воспитание социально-психологической адаптированности к учебно-воспитательному процессу и к жизни в коллективе: готовности брать ответственность на себя, принимать решение и действовать, работать в коллективе ведомым и ведущим, общаться как в коллективе сверстников, так и со старшими, критиковать и не обижаться на критику, оказывать помощь другим, объяснять и доказывать собственное мнение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727200" y="1326960"/>
            <a:ext cx="111600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воспитание физической культуры младшего школьника: осознание ценности здорового образа жизни, понимание вреда алкоголя и наркотиков, повышение осведомленности в разных областях физической культуры, обеспечение безопасности жизнедеятельности;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формирование эстетического сознания младших школьников и художественного вкуса: эстетической способности чувствовать красоту окружающего мира и понимать смысл и красоту произведений художественной культуры; воспитание эстетического чувства;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социально-нравственное воспитание школьников: развитие природных задатков сочувствовать и сопереживать ближнему, формирование умения различать и анализировать собственные эмоциональные переживания и состояния и переживания других людей; воспитание уважения к чужому мнению, развитие умений общаться в обществе и семье, знакомство с этическими нормами и их культурно-исторической обусловленностью, осознание их ценности и необходимости.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5" name="Заголовок 2"/>
          <p:cNvSpPr/>
          <p:nvPr/>
        </p:nvSpPr>
        <p:spPr>
          <a:xfrm>
            <a:off x="773280" y="0"/>
            <a:ext cx="111297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образовательной программы «Перспективная начальная школа»: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7200" y="281160"/>
            <a:ext cx="11137680" cy="11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образовательной программы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«Перспективная начальная школа»:</a:t>
            </a:r>
            <a:br>
              <a:rPr sz="4000"/>
            </a:b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6840" y="2249280"/>
            <a:ext cx="111553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Принцип непрерывного общего развития каждого ребенка предполагает ориентацию содержания начального образования на эмоциональное, духовно-нравственное и интеллектуальное развитие и саморазвитие каждого ребенка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Принцип целостности картины мира предполагает отбор такого содержания образования, которое поможет школьнику удерживать и воссоздать целостность картины мира, обеспечит осознание ребенком разнообразных связей между его объектами и явлениями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одержимое 2"/>
          <p:cNvSpPr/>
          <p:nvPr/>
        </p:nvSpPr>
        <p:spPr>
          <a:xfrm>
            <a:off x="727200" y="1476360"/>
            <a:ext cx="1119960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 учета индивидуальных возможностей и способностей школьников ориентирован на постоянную педагогическую поддержку всех учащихся (в том числе и тех, которые по тем или другим причинам не могут усвоить все представленное содержание образования)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ы прочности и наглядности. Эти принципы, на которых столетиями базируется традиционная школа, реализуют ведущую идею учебно-методического комплекта: через рассмотрение частного к пониманию общего, от общего, то есть, от постигнутой закономерности, к частному – способу решения конкретной учебной задачи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 охраны и укрепления психического и физического здоровья детей. Реализация этого принципа связана с формированием привычек к чистоте, порядку, аккуратности, соблюдению режима дня, к созданию условий для активного участия детей в оздоровительных мероприятиях: утренняя гимнастика, динамические паузы во время занятий в школе, экскурсии на природу и др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750960" y="281160"/>
            <a:ext cx="111376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образовательной программы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«Перспективная начальная школа»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1104264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ичительные черты УМК образовательной програм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97040" y="2344320"/>
            <a:ext cx="111139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спользование единой системы условных обозначений во всем УМК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Система перекрестных взаимных ссылок между учебниками; 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спользование единых сквозных героев (брата и сестры)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Пошаговое введение терминологии и мотивированное ее использование</a:t>
            </a:r>
            <a:r>
              <a:rPr b="0" lang="ru-RU" sz="22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0600" y="293400"/>
            <a:ext cx="110473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УМК образовательной програм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26840" y="1687680"/>
            <a:ext cx="1112508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ежпредметные связи: 2 часть русского языка включает в себя ряд словарей для использования на всех предметах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Занятия в форме заседания клуба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Задания направлены на самостоятельную деятельность ученика.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6680" y="339840"/>
            <a:ext cx="110250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е особенности УМК образовательной программы 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0960" y="2250720"/>
            <a:ext cx="11120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УМК по каждому учебному предмету включает в себя учебник, хрестоматию, тетрадь для самостоятельной работы, методическое пособие для учителя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Каждое методическое пособие состоит из двух частей: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Теоретическая, которая может быть использована учителем как теоретическое основание повышения его квалификации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Поурочно-тематическое планирование, где расписан ход каждого урока, сформулированы его цели и задачи, содержатся вариатны ответов на заданные в учебнике вопросы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22:10:11Z</dcterms:created>
  <dc:creator>Adam</dc:creator>
  <dc:description/>
  <dc:language>en-US</dc:language>
  <cp:lastModifiedBy>Ryu</cp:lastModifiedBy>
  <dcterms:modified xsi:type="dcterms:W3CDTF">2019-05-24T15:33:36Z</dcterms:modified>
  <cp:revision>20</cp:revision>
  <dc:subject/>
  <dc:title>Барьеры в общении</dc:title>
</cp:coreProperties>
</file>