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ADBD-8006-41A9-BEE5-8A0B0363B9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86B8-FB06-436F-953E-3C40641B8A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E38-0BC6-4795-95AE-C382CF55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10E-5673-4066-A8B6-D0B5B390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D80-FF24-4607-91ED-C1AE3982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85B-F178-457B-8FA0-EF1E33D9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7878-2D0B-4DA1-BBD3-D763FEF3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ADE7-908B-424B-920D-FB78315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2B9F-9996-47FB-A672-23FA0537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27F1-BB74-410F-AEAC-E47AF4E6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E78E-AAFD-4B20-A672-F63DE9FA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259A-9AAB-418F-80CF-55BFA04D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C4CC-2CD3-4F10-BF9D-C8673DD5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04D-7203-4C3D-B30A-D615BBEA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4195-3A81-4BAA-B6A5-4AF2060D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1406-DBBD-4154-8E8B-DF70674C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D545-77F2-49E1-867E-DCEDC4D5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DB2B-7EC2-408F-99BE-712CBDB7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C67E-1E65-4005-B6B4-A642AD56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CEE3-1F9D-4A9E-AB4C-28C66463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11F2-3A60-4558-8D2E-05751A15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9DCA-84BA-4D10-B0C5-D3930B61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1581-B05E-48FF-AE83-61C44DAF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36521-14CC-4C84-8579-C3FA19EC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754-219D-4625-9C28-4E917D34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C89F9-D87A-4A6C-B08B-947F8719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5F6C-1D03-4D5F-A29C-FD7E465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3C69-8846-4D60-BAF6-345A4833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C0E5-6E0F-469F-8554-683186B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3D78-1491-4DC7-A62B-2F7E1C0E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27E4-BB88-4215-9FB1-BC8BA51F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680B-A725-4C1A-8608-FB948410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B792-1A8B-4601-9A8C-31FFF0A3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56A12-D856-4233-94A8-07692D0E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C805-88F2-4835-B876-31A2D3F2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52A-8D20-4746-8103-D24A08B1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3616-9BBA-44E9-8392-52E7AEE7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47C2-19D4-4033-A65B-14B26AC4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4A75-80EE-488E-8F72-AD3CF967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E314-2FAC-4C19-AE52-30AB074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7E9C-945D-4505-9D44-B09AC69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4078-0EF8-4B2F-9E1D-1D30410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E833-C372-41C3-B173-BECEC067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7386F-6D17-497B-A3EE-5ABA07E9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F65B-FF82-41AB-9BA3-DFC00EB5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2996-E078-4526-9F1F-D5FC8766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A6E-F9B4-4F20-BCF9-B2557F3D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734B-090A-4E74-A8CD-63115187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D4EC8-A0B1-42D1-AF8A-AD2EA9DC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6619D-072A-48A5-B3A0-DFFD2BA3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18D28-BC54-4D97-AE64-05483EC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6E17-1B3B-44AE-9BA5-9F1C26BA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D2231-6B1F-46CE-8A9E-854CD55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DCE1-03C1-421E-A77F-BC2E0128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91A84-E175-4469-B2F5-519919F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D3571-492B-4D3D-A24C-6CD660E7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F2DE-5A4B-46CD-9E8F-13A07EE3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E95-1207-4928-9076-98B4C7F2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0032-EED5-438E-BBAA-52EB06F9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CE40F-9CDF-4F0D-BEDE-9B233F0A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76184-A3FB-4847-A11B-0A700F55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AA603-60CC-45F6-BF33-7392A8D7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1F6CA-1F79-44FE-B16A-0C486FA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57C74-5DB9-41E5-B0CA-CE46D611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A1220-C6E2-4E73-9E8C-9063F677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9AF7C-AA00-475E-BB00-77FE88D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FB29B-4210-41AA-89D1-A631386F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C16B-E4D2-4A61-9B3D-3CA4E66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B21-7FE7-410A-ADBF-D87FA628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7EB17-24E5-4EBD-A86A-9CABCC58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33CF5-74B2-4722-BABE-3128C6D7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B76F6-D42C-4313-8381-62C5E94C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99756-882D-44F7-8027-5FBBCCB9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60897-6DBB-4AA1-AE93-BC9C7594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1B95-03E0-48A6-B122-A2B388EF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2032A-4D5F-45C1-81A2-09FE1511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FBD59-7465-4E81-99F8-2A56C21B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D8CE1-F919-4CBE-9C5E-4CACD16B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474C3-DEDB-493D-8816-A9797230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383-688F-4A97-BCEF-157238D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1A62-7145-496D-8B3A-AAABCCED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B14D-9AD7-4BF7-BCF2-D67CBA8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85DAF-DB9F-4E9D-8210-61902F27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BAAD1-E467-46A8-B64D-96EB6A8B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566A-5100-4CC9-B2E6-234D3CCC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0A4-F065-4B62-BC15-73E75D7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4FB9-9C6A-4B24-BA27-DD8B93D070F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B1E4-7C22-4872-82E2-1F78214AC57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8EFD-247B-4B93-9EE4-6F65FEACA05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7798-97F0-4953-8977-81243306F48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38F1-3EE5-41F0-BAD8-EAAF6F88684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24FC-E4C3-44B5-B400-7FADF7577ED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069-0957-4892-A80F-BB97A3EA060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-973080" y="401400"/>
            <a:ext cx="1137744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Учебно – методический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комплекс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C:\Users\Артём\Desktop\1478356171.jpg"/>
          <p:cNvPicPr/>
          <p:nvPr/>
        </p:nvPicPr>
        <p:blipFill>
          <a:blip r:embed="rId1"/>
          <a:stretch/>
        </p:blipFill>
        <p:spPr>
          <a:xfrm>
            <a:off x="3419640" y="2492280"/>
            <a:ext cx="2736720" cy="342900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УМК «Школа России» состоит из следующих завершенных предметных линий учебников:</a:t>
            </a:r>
            <a:br>
              <a:rPr sz="54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71280" y="1773000"/>
            <a:ext cx="7993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орецкий В.Г., Кирюшкин В.А., Виноградская Л.А. и д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накина В.П., Горецкий В.Г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лиманова Л.Ф., Горецкий В.Г., Голованова М.В. и др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ро М.И., Волкова С.И., Степанова С.В., Бантова М.А., Бельтюкова Г.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аков А.А., Крючкова Е.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менская Л.А., Коротеева Е.И., Горяева Н.А., Питерских А.С. и д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4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бники имеют законченные линии с 1 по 4 класс, а также развернутое учебно-методическое сопровождение в виде рабочих тетрадей, дидактических материалов, проверочных работ, поурочных разработок, книг для чтения и других пособ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C:\Users\Артём\Desktop\img8.jpg"/>
          <p:cNvPicPr/>
          <p:nvPr/>
        </p:nvPicPr>
        <p:blipFill>
          <a:blip r:embed="rId1"/>
          <a:stretch/>
        </p:blipFill>
        <p:spPr>
          <a:xfrm>
            <a:off x="468360" y="3429000"/>
            <a:ext cx="8388360" cy="3213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УМК «Школа Росси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280" y="404640"/>
            <a:ext cx="8604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446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 для 2-4 классов, работающих по УМК «Школа России» разработана в соответствии с требованиями Федерального государственного образовательного стандарта начального общего образования, определяет содержание и организацию образовательного процесса на ступени начального общего образования(2-4 классы) и направлена на формирование духовно-нравственного, социального, личностного и интеллектуального развития, на создание основы для самостоятельной реализации учебной деятельности, обеспечивающей социальную успешность, саморазвитие и самосовершенствование, сохранение и укрепление здоровья обучающихс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9144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МК «Школа России» бережно сохранены лучшие традиции российской школы, доказавшие свою эффективность в образовании учащихся младшего школьного возраста, обеспечивая как реальные возможности личностного развития и воспитания ребёнка, так и достижение положительных результатов в его обучен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54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 один из самых известных и востребованных учебно-методических комплексов для обучения в начальных классах. Ведущая целевая установка и основные средства ее реализации, заложенные в основу учебно-методического комплекса направлены на обеспечение современного образования младшего школьника в контексте требований ФГОС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97128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реализации образовательной программы «Школа России»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и воспитания личности младшего школьника в соответствии с требованиями стандарта начального общего образования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ланируемых результатов на основе УМК «Школа России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реализации образовательной программы «Школа России» 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результатов учащихся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мотивации к обучению и познанию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и принятие основных базовых ценностей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метапредметных результатов обучающихся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универсальных учебных действий (регулятивных, познавательных, коммуникативных)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редметных результатов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пыта предметной деятельности по получению нового знания, его преобразования и применения на основе элементов научного знания, современной научной картины ми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Принципы УМК «Школа России»: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9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71280" y="1412640"/>
            <a:ext cx="817236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оспитания гражданина России;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нностных ориентиров; 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учения в деятельности; 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боты на результат; 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нтеза традиций и инноваций в образован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личностно-ориентированный и деятельностный характер обуч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71280" y="188640"/>
            <a:ext cx="8172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программы «Школа России»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аких качеств, как ответственность, терпимость, сопереживание, доброта, взаимопомощ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навыков, имеющих отношение к труду, здоровью, безопасности жизнедеят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ых ситуаций для поиска доказательств, для предположений и формулирования своих выводов, для последующего сопоставления полученных результатов с эталон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Технологии реализуемые в УМК «Школа России»:</a:t>
            </a:r>
            <a:br>
              <a:rPr sz="54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71280" y="141264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блемного обучения (элементы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(компьютерные)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и исследовательская деятель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Обобщающими характеристиками содержания комплекта являются следующие:</a:t>
            </a:r>
            <a:br>
              <a:rPr sz="54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05704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52:52Z</dcterms:created>
  <dc:creator>Игорь</dc:creator>
  <dc:description/>
  <dc:language>en-US</dc:language>
  <cp:lastModifiedBy>Артём</cp:lastModifiedBy>
  <dcterms:modified xsi:type="dcterms:W3CDTF">2019-05-24T19:01:17Z</dcterms:modified>
  <cp:revision>94</cp:revision>
  <dc:subject/>
  <dc:title>ПРОГРАМ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