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1AA-C938-4E09-8DBB-825C11972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01DB-3978-4521-B3C9-04685B2811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504-3E08-4C5C-AD92-D158F801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A98-1C7E-451E-AC9E-8137EF2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996-6716-4093-9264-1B6BD2BE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33D-7984-4D4E-BEA1-E86A8C98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79D9-5BC5-40CC-B9EC-92FFC42B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A578-10DC-46A6-A5EF-9316DDEB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4C08-FFFB-4F1F-8B47-E17DB123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C60B-BC01-493C-BAFE-D1A0BF60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019E-4ECD-4801-AB9F-2FA4EA34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C5C1-9919-45BF-976B-D1B1DD04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1208-E2CF-41F0-B760-B277508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AF0-1C42-4EE2-9E54-DC0DDB44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D6E1-08C2-4E59-AA7A-C48B5FBE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0F26-5F6F-4436-9851-C65D8088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5E89-526E-42D0-91A3-AFF4302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CAD8-3FD1-43DF-ADA0-F0084267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08ED-0FE1-4588-A94B-3DAAA259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BA19-D090-47C0-8F68-BE1538F2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3813-EDA5-4DF2-BF2A-764E56C8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BAE6-D56B-4225-9482-9E5387D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569D-A940-4169-A800-1ACB12FB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CA9D-C2A3-4E6C-A4B9-5CDBF530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7CE-A5BC-4F28-BA7E-91A2D49F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A2DB-64D1-4864-93C5-1213B186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F1A1-5BDC-48F1-ACB1-E1965CA0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387C-B806-4CCC-9BE8-A75F87B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4B88-835E-47FB-8C81-23AD61E1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1840-AA92-4223-A9FE-5009203A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7B46-3CF4-4C0C-895B-9B72CB43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37892-3B6C-486E-9331-753A89C7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AC4D3-C39D-4CA7-A3F7-FABDF9AF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9549-BE24-4515-90CA-6679672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26CB6-F795-402E-B8E2-B11C9DBC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A26-7219-4F36-A312-2890287F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AE53B-2B6F-4F90-BA7B-0F8FD3CA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4851-D604-4B04-B67A-EF2FE619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6D563-1D68-4826-90DA-3C409323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E39C-17CC-4A30-98B9-B3F95D99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1EEBF-4856-4C81-B222-01E3F29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C2FB-9407-44D1-913E-FAB1557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92B5-3980-4565-A25B-1500BEA2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50E1-F839-49A8-B9FD-CC740A8A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42AA-49D3-4844-9567-D0912927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D783-1BC5-4BEF-A4B9-C9DD970C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A22-DC39-4630-9694-65608BD9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231C-05B7-43A2-A019-CA85D29F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D8EA-9701-4FF1-9E15-5F30561C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D863-4723-442F-822E-56A797FC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E3888-8EA7-4FEF-B7A9-EB16221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ED77-DF88-461C-ADC9-7CD2C38F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42490-21F8-47F4-A113-1CA7252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C592-6999-43FF-B635-6E15FC6D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37F55-CABB-40B9-95AF-5532884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E27DD-EE5B-43F1-8181-7D79D368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A67D-5592-4B65-90A0-1725A555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199-FD3E-4853-826F-08E9BE42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7920-6927-4A0B-8DC5-BA1A524E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ABD82-FA5B-4537-9FE3-353BA44A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DBE6-27A2-4B32-AE4F-342AFA47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2367E-CBF6-4FB9-8852-977E7DA4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8D2AC-CBF2-4062-AB90-4E76979E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4AE57-751B-4E15-842D-FD34BB11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BEB1-3E07-4E38-A5AB-1162B62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3A9B-9AD8-4312-A83A-7D09406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27AB9-5131-4C98-90FA-F7763E3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2429D-E1DA-477D-ACF4-645B1BDC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3E1-FD5A-4401-A383-1E8A025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0A9D3-A7D8-404A-96A0-F41CB1EB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88BA8-5C65-4729-A610-3DA99F3E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9B7C9-0BE7-4FD8-8852-FC822370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6CE3-EBF8-4821-8E0C-C91CC99D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305A6-7D67-4EA3-A423-AACBB9EC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D7DE-6851-41A1-927F-52BA5756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7683C-1DD4-4CF4-B1CF-130C8ABA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0D4A3-9726-4BA8-B7D1-BA547FA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2F800-1521-4DC6-BCC6-EE6A55B4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513C-C81C-478B-8757-002BA7D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BAF-452C-43DC-87DC-F543E8D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ABEDB-25F9-400E-888F-4DADEA9D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13AC5-7051-4157-9816-C190905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E6863-A0EB-4705-826F-06FA116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D73E2-A024-4B29-8103-AFDC7EC5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6998F-C658-4FBF-B95D-D02DCB7C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C70-0B96-409C-A5E1-997A1F72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258E-48EA-423F-B577-9DF0CEAC8C5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75D7-DCCF-465D-A4A7-DBE42550B81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8741-3A3E-4B1F-A8B8-ED2962E146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42A3-EFF7-48D2-9D40-FF94321C6EC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21A5-A545-43C5-B739-221435D49F8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9FF1-E7C0-4FA0-88AB-83C347B92EE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BCDD-4307-4494-BF9A-8F55484EEAA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-973080" y="401400"/>
            <a:ext cx="1137744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Учебно – методический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комплекс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C:\Users\Артём\Desktop\1478356171.jpg"/>
          <p:cNvPicPr/>
          <p:nvPr/>
        </p:nvPicPr>
        <p:blipFill>
          <a:blip r:embed="rId1"/>
          <a:stretch/>
        </p:blipFill>
        <p:spPr>
          <a:xfrm>
            <a:off x="3419640" y="2492280"/>
            <a:ext cx="2736720" cy="342900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УМК «Школа России» состоит из следующих завершенных предметных линий учебников:</a:t>
            </a:r>
            <a:br>
              <a:rPr sz="54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71280" y="1773000"/>
            <a:ext cx="799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орецкий В.Г., Кирюшкин В.А., Виноградская Л.А. и др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накина В.П., Горецкий В.Г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лиманова Л.Ф., Горецкий В.Г., Голованова М.В. и др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ро М.И., Волкова С.И., Степанова С.В., Бантова М.А., Бельтюкова Г.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 А.А., Крючкова Е.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менская Л.А., Коротеева Е.И., Горяева Н.А., Питерских А.С. и д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бники имеют законченные линии с 1 по 4 класс, а также развернутое учебно-методическое сопровождение в виде рабочих тетрадей, дидактических материалов, проверочных работ, поурочных разработок, книг для чтения и других пособ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C:\Users\Артём\Desktop\img8.jpg"/>
          <p:cNvPicPr/>
          <p:nvPr/>
        </p:nvPicPr>
        <p:blipFill>
          <a:blip r:embed="rId1"/>
          <a:stretch/>
        </p:blipFill>
        <p:spPr>
          <a:xfrm>
            <a:off x="468360" y="3429000"/>
            <a:ext cx="8388360" cy="321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280" y="404640"/>
            <a:ext cx="8604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446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начального общего образования для 2-4 классов, работающих по УМК «Школа России» разработана в соответствии с требованиями Федерального государственного образовательного стандарта начального общего образования, определяет содержание и организацию образовательного процесса на ступени начального общего образования(2-4 классы) и направлена на формирование духовно-нравственного, социального, личностного и интеллектуального развития, на создание основы для самостоятельной реализации учебной деятельности, обеспечивающей социальную успешность, саморазвитие и самосовершенствование, сохранение и укрепление здоровья обучающихс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144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МК «Школа России» бережно сохранены лучшие традиции российской школы, доказавшие свою эффективность в образовании учащихся младшего школьного возраста, обеспечивая как реальные возможности личностного развития и воспитания ребёнка, так и достижение положительных результатов в его обучен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54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 один из самых известных и востребованных учебно-методических комплексов для обучения в начальных классах. Ведущая целевая установка и основные средства ее реализации, заложенные в основу учебно-методического комплекса направлены на обеспечение современного образования младшего школьника в контексте требований ФГОС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97128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реализации образовательной программы «Школа России»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 воспитания личности младшего школьника в соответствии с требованиями стандарта начального общего образования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ланируемых результатов на основе УМК «Школа России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реализации образовательной программы «Школа России» 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мотивации к обучению и познанию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и принятие основных базовых ценностей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метапредметных результатов обучающихся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универсальных учебных действий (регулятивных, познавательных, коммуникативных)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редметных результато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45072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пыта предметной деятельности по получению нового знания, его преобразования и применения на основе элементов научного знания, современной научной картины ми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Принципы УМК «Школа России»: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9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71280" y="1412640"/>
            <a:ext cx="817236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воспитания гражданина России;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нностных ориентиров; 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учения в деятельности; 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работы на результат; 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нтеза традиций и инноваций в образован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личностно-ориентированный и деятельностный характер обуч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71280" y="188640"/>
            <a:ext cx="8172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программы «Школа России»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аких качеств, как ответственность, терпимость, сопереживание, доброта, взаимопомощ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навыков, имеющих отношение к труду, здоровью, безопасности жизнедеятель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блемных ситуаций для поиска доказательств, для предположений и формулирования своих выводов, для последующего сопоставления полученных результатов с эталон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Технологии реализуемые в УМК «Школа России»:</a:t>
            </a:r>
            <a:br>
              <a:rPr sz="54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971280" y="141264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 (элементы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(компьютерные)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исследовательская деятель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Обобщающими характеристиками содержания комплекта являются следующие:</a:t>
            </a:r>
            <a:br>
              <a:rPr sz="54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05704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52:52Z</dcterms:created>
  <dc:creator>Игорь</dc:creator>
  <dc:description/>
  <dc:language>en-US</dc:language>
  <cp:lastModifiedBy>Артём</cp:lastModifiedBy>
  <dcterms:modified xsi:type="dcterms:W3CDTF">2019-05-24T19:01:17Z</dcterms:modified>
  <cp:revision>94</cp:revision>
  <dc:subject/>
  <dc:title>ПРОГРАМ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