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6.wmf" ContentType="image/x-wm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wmf" ContentType="image/x-wmf"/>
  <Override PartName="/ppt/media/image30.png" ContentType="image/png"/>
  <Override PartName="/ppt/media/image5.png" ContentType="image/png"/>
  <Override PartName="/ppt/media/image39.gif" ContentType="image/gif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AEDD-E693-4FDC-B275-95BD5059E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350C-1477-4547-BC23-059DC77A8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07B-FAD9-4C4B-9E38-7D2F96B23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Цоканье копыт (нижние зубы прижаты к верхним зубам) - выполняется 10-15 сек. Контроль: выбрасывание большого па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Щелканье. Контроль: сжимаем пальцы в кул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Дятел. Контроль: стучим указательным пальцем по сто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Жук. Контроль: выбрасывание пяти паль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Губное р. Язык лежит между губами, произноси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п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ECD-FEC1-4011-B210-72B718F2E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как можно больше слов с этими слогами ( на этапе автоматизации звука Р в слов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DDCF-EDB3-4DF1-B5FD-0CCD4106B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257-D12A-400C-829F-094884BE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236-3981-4CAD-A12A-59F7AD0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3FE-EDFC-4657-9B6D-A73E20EE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35B-165E-4F5B-8E88-6194BF9A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1D6-F423-4C4F-A3CA-F1626440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753-7FCB-4314-A5B6-CC2B9BB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DA7-0976-4326-AEAB-D04F400F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206-E719-474C-B5E5-CBC34C1B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A59-6169-4CAC-B350-57E939DE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AC3-50DB-40F9-8F82-EAF37E1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1E5-4BB2-4C08-925D-4D73268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4FE-8A05-41F1-825F-AC2CC9F5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AD3-5070-493A-9027-B09D704B6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 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8724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а и закрепление звука 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итель-логопед: Шлепетнева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6"/>
          <p:cNvSpPr/>
          <p:nvPr/>
        </p:nvSpPr>
        <p:spPr>
          <a:xfrm>
            <a:off x="611280" y="47628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а шла, шла, шла,  Пирожок нашла,          Села, поела,              Дальше пош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 rot="21284400">
            <a:off x="3203640" y="321300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ша шел, шел, шел, Пирожок нашел.          Сел, поел,           Дальше пош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j0283641"/>
          <p:cNvPicPr/>
          <p:nvPr/>
        </p:nvPicPr>
        <p:blipFill>
          <a:blip r:embed="rId1"/>
          <a:stretch/>
        </p:blipFill>
        <p:spPr>
          <a:xfrm>
            <a:off x="5867280" y="836640"/>
            <a:ext cx="8524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47628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Маши на кармашке  маки и рома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 rot="21284400">
            <a:off x="2004840" y="1627200"/>
            <a:ext cx="674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 камышах шуршат мышата,                       Шумно  плещутся в уша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19280" y="3357720"/>
            <a:ext cx="60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ошка кошка на окошке            кашу кушала по кро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 rot="514200">
            <a:off x="684000" y="486864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очной тиши у шалаша    чуть слышен шорох камыш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11280" y="47628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Ивашки – рубашка,         у рубашки – карма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 rot="21284400">
            <a:off x="1954080" y="163044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шалаше шесть шалу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26836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ушали старушки             кукушек на опу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 rot="514200">
            <a:off x="179280" y="4723920"/>
            <a:ext cx="452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есть мышат           в камышах шур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 rot="19626000">
            <a:off x="4643280" y="3860640"/>
            <a:ext cx="47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кроши в окрошку картошки и горош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"/>
          <p:cNvGraphicFramePr/>
          <p:nvPr/>
        </p:nvGraphicFramePr>
        <p:xfrm>
          <a:off x="3564000" y="4292640"/>
          <a:ext cx="99036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292640"/>
                    <a:ext cx="9903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11280" y="47628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50920" y="54936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сказал гусак. И сказал вот так.                                        Он сказал: «Вы знаете,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 так сильно лаете,                                                         Вы так страшшшно лаете,                                      Что просто всем мешшшает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9"/>
          <p:cNvGraphicFramePr/>
          <p:nvPr/>
        </p:nvGraphicFramePr>
        <p:xfrm>
          <a:off x="6948360" y="1052640"/>
          <a:ext cx="174636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1052640"/>
                    <a:ext cx="17463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611280" y="476280"/>
            <a:ext cx="59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детишки:                     Маша, Миша.                                  Маша меньше,                     Миша вы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 rot="21284400">
            <a:off x="3276720" y="155736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шалаше шесть шалу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6836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ушали старушки             кукушек на опу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 rot="514200">
            <a:off x="179280" y="4723920"/>
            <a:ext cx="452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есть мышат           в камышах шур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 rot="19626000">
            <a:off x="4643280" y="3860640"/>
            <a:ext cx="47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кроши в окрошку картошки и горош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3564000" y="4292640"/>
          <a:ext cx="99036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292640"/>
                    <a:ext cx="9903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47628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дворе четыре Сашки    на траве играли в ша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 rot="21284400">
            <a:off x="4668480" y="155628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шные шутки                            у Даши с Мишут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95280" y="1916280"/>
            <a:ext cx="46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умел камыш, Шуршали мыши,  Мы осторожно           шли по крыше, Шипенье страшное услышав,                    Мы шлепнулись          на землю с кр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7"/>
          <p:cNvGraphicFramePr/>
          <p:nvPr/>
        </p:nvGraphicFramePr>
        <p:xfrm>
          <a:off x="5724360" y="3429000"/>
          <a:ext cx="217980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429000"/>
                    <a:ext cx="217980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09800" y="819000"/>
            <a:ext cx="71434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Разучить текст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сыпал  Парамошка       Горошка на дорожку.           Зовёт теперь к порожку   Дорожка из  горошка.             До порожка - дорожка,               У порожка - рогожка,                Не просыпь, Парамошка,          На рогожку горош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260280"/>
            <a:ext cx="7143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лла  меняла                         Брошку на гармошку, Гармошку на рожок,             Рожок на гребешок, Гребешок на книжку, Книжку на шишку,              Шишку на ложку,                    Ложку на плошку,               Плошку на карандаш –                Вот какой ерала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95280" y="260280"/>
            <a:ext cx="714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апка, варежки и шуба, Пряжка, ремешок, штаны, - Так укутан, даже губы                Из-под шарфа не вид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47640" y="2852640"/>
            <a:ext cx="7143840" cy="3750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чатся бешено машины –                По шоссе  шуршат их шины. И в несущейся лавине  Слышен шёпот – шу-шу-шу. Это шина шепчет шине:              «Я спешу, спешу, спешу!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4"/>
          <p:cNvGraphicFramePr/>
          <p:nvPr/>
        </p:nvGraphicFramePr>
        <p:xfrm>
          <a:off x="971640" y="1413000"/>
          <a:ext cx="685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685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5" descr="j0174179"/>
          <p:cNvPicPr/>
          <p:nvPr/>
        </p:nvPicPr>
        <p:blipFill>
          <a:blip r:embed="rId3"/>
          <a:stretch/>
        </p:blipFill>
        <p:spPr>
          <a:xfrm>
            <a:off x="755640" y="400536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j0223761"/>
          <p:cNvPicPr/>
          <p:nvPr/>
        </p:nvPicPr>
        <p:blipFill>
          <a:blip r:embed="rId4"/>
          <a:stretch/>
        </p:blipFill>
        <p:spPr>
          <a:xfrm>
            <a:off x="6808680" y="3141720"/>
            <a:ext cx="182880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j0189253"/>
          <p:cNvPicPr/>
          <p:nvPr/>
        </p:nvPicPr>
        <p:blipFill>
          <a:blip r:embed="rId5"/>
          <a:stretch/>
        </p:blipFill>
        <p:spPr>
          <a:xfrm>
            <a:off x="7308720" y="1268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упражнений для постановки звука 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уй ша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пит  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6002280" y="1936080"/>
            <a:ext cx="1271520" cy="2644920"/>
            <a:chOff x="6002280" y="1936080"/>
            <a:chExt cx="1271520" cy="2644920"/>
          </a:xfrm>
        </p:grpSpPr>
        <p:grpSp>
          <p:nvGrpSpPr>
            <p:cNvPr id="53" name="Group 7"/>
            <p:cNvGrpSpPr/>
            <p:nvPr/>
          </p:nvGrpSpPr>
          <p:grpSpPr>
            <a:xfrm>
              <a:off x="6002280" y="1936080"/>
              <a:ext cx="1271520" cy="2644920"/>
              <a:chOff x="6002280" y="1936080"/>
              <a:chExt cx="1271520" cy="2644920"/>
            </a:xfrm>
          </p:grpSpPr>
          <p:sp>
            <p:nvSpPr>
              <p:cNvPr id="54" name="Oval 4"/>
              <p:cNvSpPr/>
              <p:nvPr/>
            </p:nvSpPr>
            <p:spPr>
              <a:xfrm rot="1585200">
                <a:off x="6220080" y="2060640"/>
                <a:ext cx="835920" cy="1175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6012000" y="3152880"/>
                <a:ext cx="375840" cy="1428120"/>
              </a:xfrm>
              <a:custGeom>
                <a:avLst/>
                <a:gdLst/>
                <a:ahLst/>
                <a:rect l="l" t="t" r="r" b="b"/>
                <a:pathLst>
                  <a:path w="204" h="771">
                    <a:moveTo>
                      <a:pt x="204" y="0"/>
                    </a:moveTo>
                    <a:cubicBezTo>
                      <a:pt x="125" y="49"/>
                      <a:pt x="46" y="98"/>
                      <a:pt x="23" y="181"/>
                    </a:cubicBezTo>
                    <a:cubicBezTo>
                      <a:pt x="0" y="264"/>
                      <a:pt x="68" y="401"/>
                      <a:pt x="68" y="499"/>
                    </a:cubicBezTo>
                    <a:cubicBezTo>
                      <a:pt x="68" y="597"/>
                      <a:pt x="30" y="726"/>
                      <a:pt x="23" y="7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8"/>
            <p:cNvSpPr/>
            <p:nvPr/>
          </p:nvSpPr>
          <p:spPr>
            <a:xfrm>
              <a:off x="6264360" y="3141720"/>
              <a:ext cx="144360" cy="215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11"/>
          <p:cNvGraphicFramePr/>
          <p:nvPr/>
        </p:nvGraphicFramePr>
        <p:xfrm>
          <a:off x="826920" y="3141720"/>
          <a:ext cx="171144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141720"/>
                    <a:ext cx="17114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00" y="981000"/>
            <a:ext cx="4319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а-жа-жа, жа-жа-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ы увидели 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е-же-же, же-же-ж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дит муха на 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-жи-жи, жи-жи-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ха, муха, не жуж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о-жо-жо, жо-жо-ж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ло к вечеру свеж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356000" y="1197000"/>
            <a:ext cx="478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у-жу-жу, жу-жу-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ха села на ме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-жи-жи, жи-жи-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шь конфету, не ли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а, же, жи, жо, жу, жи, 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про муху и еж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6948360" y="4941720"/>
          <a:ext cx="12668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941720"/>
                    <a:ext cx="12668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4000" y="981000"/>
            <a:ext cx="540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Жук жужжи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Жу-жу, жу-ж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 на жёлуде сиж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Жу-жу, жу-ж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5076720" y="1484280"/>
          <a:ext cx="158436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484280"/>
                    <a:ext cx="158436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24000" y="260280"/>
            <a:ext cx="59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Лежебока  рыжий кот Отлежал себе живот. Кушать хочется,                       да лень ворочаться.                  Вот и ждет рыжий кот, - Может, миска подполз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71640" y="3284640"/>
            <a:ext cx="7632720" cy="1068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еня с Жанной  подружилась. Дружба с Жанной не слож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 rot="21348600">
            <a:off x="539640" y="4508640"/>
            <a:ext cx="54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ж  пожаловал ежам   Новых дюжину пижам. Прежние пижамы  Исколоты еж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95280" y="404640"/>
            <a:ext cx="518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ил жук по имени Жак.  Сшил Жак желтый пиджак,  Маме – пижаму,                       Жене – жакет,                    Сыночку – тужурку,                 Дочке – жилет,              Внучке Жучке –                  Кожаные брючки,                   Жабе – жабо,                                  А себе –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 rot="21091200">
            <a:off x="3058920" y="4508280"/>
            <a:ext cx="637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684360" y="5516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 живом уголке жили ужи и е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rot="21130800">
            <a:off x="2673000" y="2205000"/>
            <a:ext cx="560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ирная жаба жалела ж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979640" y="3213000"/>
            <a:ext cx="634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алкий жулик                 жаловался жене                             на жуткую, ужасную                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 rot="20913000">
            <a:off x="467640" y="549000"/>
            <a:ext cx="3962520" cy="2043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ук и жаба Дружно живут, Дружно живут, Баклажаны ж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 rot="21130800">
            <a:off x="468360" y="836640"/>
            <a:ext cx="68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ук жужжал: «Ж-ж-ж-у –жжжу,  Я с ежом давно друж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373480" y="1914480"/>
            <a:ext cx="6343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Я жук, Я жук,                                        Я тут живу,                                   Жужжу, жужжу.                          Жу-жу-жу, жу-жу-жу,                Я на ветке сижу,                          Букву Ж все твержу.                                             Зная твердо букву эту,                       Я жужжу зимой и л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7236000" y="1557360"/>
          <a:ext cx="117144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1557360"/>
                    <a:ext cx="117144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9640" y="692280"/>
            <a:ext cx="63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На базаре ежик                         Накупил сапожек.              Сапожки по ножке – себе, Поменьше немножко – жене, С пряжками – сыну,                          С застежками – дочке,             И все уложил в мешочки. Сколько в семействе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 ежика ножек?                               И сколько купил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на них ежик сапож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39640" y="692280"/>
            <a:ext cx="634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едный ежик ежится,                    Все ему неможется:  Посинела кожица, Искривилась рожица.                  Мать его тревожится:                      «Вот забот умножится!» Бедный ежик еж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39640" y="692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адину я ни о чем не прошу,               И в гости я жадину не пригла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187280" y="1916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ук летает над лужком.                    Он устал ходить пеш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42920" y="386064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Целый день лежит тюлень,                    И лежать ему не лень.                          Жаль, тюленье прилежанье                Не пример для подраж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39640" y="692280"/>
            <a:ext cx="56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ора-обжора               жевал беляши,                                                    У Жоры-обжоры                 живот зашалил.                     Жора-обжора                                пшенку пожарил,                Жора-обжора                      живот убла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репление звука Ш в слог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- ша- 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о- шо- ш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у- шу- ш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- ши- 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-ше-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000" y="1844640"/>
            <a:ext cx="42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ш- аш- 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- ош-о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ш- уш- 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ш- ыш- ы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ш-еш-е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39640" y="1484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ымыли мышки миску для М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36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Дифференциация звуков С-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2492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арус наш на совесть сшит –  Нас и шторм не устра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55640" y="3860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Шел Фрол по шоссе                             к Саше играть в ш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539640" y="522936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урок шуршал усами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 шевелил уш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11280" y="62064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аша стих писал смешной. Дождик хлынул проливной.                          Стих повешен на шесток.                Сушит Саша свой ли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547640" y="4221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 крыса шуршала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 крыше шерш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476360" y="299736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урок шуршал усами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 шевелил уш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4360" y="1268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ышка, мышка, что не спишь? Что соломкою шурш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26920" y="414972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 полосатой кошки                            В полоску дети-крошки -                  Шесть маленьких котят,                       Едят и пьют из пло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7280" y="40464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Шла Саша по шоссе  и сосала су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95280" y="2708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Шила Саша шапку скоро,                    Шов строчила шелком сп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250920" y="189000"/>
            <a:ext cx="6481800" cy="204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ышка сушек насушила, Мышек кушать пригласила, Мышки сушки кушать стали,  Зубки сразу же слом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0920" y="4508640"/>
            <a:ext cx="727236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ша шустро сушит сушки,                  Саша высушил штук шесть.                    И смешно спешат старушки              Сушек Сашиных по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042920" y="2349360"/>
            <a:ext cx="777708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новись скорей под душ,             Смой с ушей под душем тушь.                 Смой и с шеи тушь под душем,        После душа вытрись с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539640" y="620640"/>
            <a:ext cx="83534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а-шка-ш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та-шта-ш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-шко-шк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ту-шту-ш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и-шки-ш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па-шпа-ш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ла-шла-шл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мы-шмы-ш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вы-швы-шв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ны-шны-ш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ве-шве-шв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пу-шпу-шп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не-шне-шн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ли-шли-ш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900000" y="1125360"/>
          <a:ext cx="184788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184788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"/>
          <p:cNvGraphicFramePr/>
          <p:nvPr/>
        </p:nvGraphicFramePr>
        <p:xfrm>
          <a:off x="3276720" y="981000"/>
          <a:ext cx="1438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981000"/>
                    <a:ext cx="1438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7"/>
          <p:cNvGraphicFramePr/>
          <p:nvPr/>
        </p:nvGraphicFramePr>
        <p:xfrm>
          <a:off x="6372360" y="189000"/>
          <a:ext cx="172080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89000"/>
                    <a:ext cx="172080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1"/>
          <p:cNvGraphicFramePr/>
          <p:nvPr/>
        </p:nvGraphicFramePr>
        <p:xfrm>
          <a:off x="4067280" y="5013360"/>
          <a:ext cx="140004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5013360"/>
                    <a:ext cx="14000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12" descr="j0233363"/>
          <p:cNvPicPr/>
          <p:nvPr/>
        </p:nvPicPr>
        <p:blipFill>
          <a:blip r:embed="rId5"/>
          <a:stretch/>
        </p:blipFill>
        <p:spPr>
          <a:xfrm>
            <a:off x="971640" y="476280"/>
            <a:ext cx="147636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13"/>
          <p:cNvGraphicFramePr/>
          <p:nvPr/>
        </p:nvGraphicFramePr>
        <p:xfrm>
          <a:off x="1187280" y="4869000"/>
          <a:ext cx="1266840" cy="125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4869000"/>
                    <a:ext cx="12668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4"/>
          <p:cNvGraphicFramePr/>
          <p:nvPr/>
        </p:nvGraphicFramePr>
        <p:xfrm>
          <a:off x="3780000" y="549360"/>
          <a:ext cx="1353960" cy="132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549360"/>
                    <a:ext cx="135396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5"/>
          <p:cNvGraphicFramePr/>
          <p:nvPr/>
        </p:nvGraphicFramePr>
        <p:xfrm>
          <a:off x="6732720" y="5013360"/>
          <a:ext cx="1514520" cy="108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32720" y="5013360"/>
                    <a:ext cx="151452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3780000" y="2492280"/>
          <a:ext cx="1828800" cy="185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80000" y="2492280"/>
                    <a:ext cx="18288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7"/>
          <p:cNvGraphicFramePr/>
          <p:nvPr/>
        </p:nvGraphicFramePr>
        <p:xfrm>
          <a:off x="1042920" y="3213000"/>
          <a:ext cx="1562040" cy="876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1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2920" y="3213000"/>
                    <a:ext cx="15620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8"/>
          <p:cNvGraphicFramePr/>
          <p:nvPr/>
        </p:nvGraphicFramePr>
        <p:xfrm>
          <a:off x="6891480" y="3139920"/>
          <a:ext cx="919080" cy="1008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3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91480" y="3139920"/>
                    <a:ext cx="9190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6"/>
          <p:cNvGraphicFramePr/>
          <p:nvPr/>
        </p:nvGraphicFramePr>
        <p:xfrm>
          <a:off x="3995640" y="476280"/>
          <a:ext cx="12193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476280"/>
                    <a:ext cx="1219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7"/>
          <p:cNvGraphicFramePr/>
          <p:nvPr/>
        </p:nvGraphicFramePr>
        <p:xfrm>
          <a:off x="1042920" y="2276640"/>
          <a:ext cx="990720" cy="119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276640"/>
                    <a:ext cx="99072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6804000" y="765000"/>
          <a:ext cx="1266840" cy="6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765000"/>
                    <a:ext cx="126684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0"/>
          <p:cNvGraphicFramePr/>
          <p:nvPr/>
        </p:nvGraphicFramePr>
        <p:xfrm>
          <a:off x="900000" y="692280"/>
          <a:ext cx="126684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692280"/>
                    <a:ext cx="12668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1"/>
          <p:cNvGraphicFramePr/>
          <p:nvPr/>
        </p:nvGraphicFramePr>
        <p:xfrm>
          <a:off x="3995640" y="2492280"/>
          <a:ext cx="1247760" cy="94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2492280"/>
                    <a:ext cx="12477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2"/>
          <p:cNvGraphicFramePr/>
          <p:nvPr/>
        </p:nvGraphicFramePr>
        <p:xfrm>
          <a:off x="6877080" y="2492280"/>
          <a:ext cx="1224000" cy="102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7080" y="2492280"/>
                    <a:ext cx="1224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3"/>
          <p:cNvGraphicFramePr/>
          <p:nvPr/>
        </p:nvGraphicFramePr>
        <p:xfrm>
          <a:off x="971640" y="4076640"/>
          <a:ext cx="1171440" cy="217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4076640"/>
                    <a:ext cx="117144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4"/>
          <p:cNvGraphicFramePr/>
          <p:nvPr/>
        </p:nvGraphicFramePr>
        <p:xfrm>
          <a:off x="4140360" y="5157720"/>
          <a:ext cx="1104840" cy="11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9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40360" y="5157720"/>
                    <a:ext cx="11048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16" descr=""/>
          <p:cNvPicPr/>
          <p:nvPr/>
        </p:nvPicPr>
        <p:blipFill>
          <a:blip r:embed="rId17"/>
          <a:stretch/>
        </p:blipFill>
        <p:spPr>
          <a:xfrm>
            <a:off x="6732720" y="5013360"/>
            <a:ext cx="1681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0"/>
          <p:cNvGraphicFramePr/>
          <p:nvPr/>
        </p:nvGraphicFramePr>
        <p:xfrm>
          <a:off x="1042920" y="907920"/>
          <a:ext cx="108576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1085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1"/>
          <p:cNvGraphicFramePr/>
          <p:nvPr/>
        </p:nvGraphicFramePr>
        <p:xfrm>
          <a:off x="1042920" y="5013360"/>
          <a:ext cx="111456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5013360"/>
                    <a:ext cx="1114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2"/>
          <p:cNvGraphicFramePr/>
          <p:nvPr/>
        </p:nvGraphicFramePr>
        <p:xfrm>
          <a:off x="7093080" y="1125360"/>
          <a:ext cx="1314360" cy="105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1125360"/>
                    <a:ext cx="1314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3"/>
          <p:cNvGraphicFramePr/>
          <p:nvPr/>
        </p:nvGraphicFramePr>
        <p:xfrm>
          <a:off x="3851280" y="836640"/>
          <a:ext cx="120024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836640"/>
                    <a:ext cx="12002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4"/>
          <p:cNvGraphicFramePr/>
          <p:nvPr/>
        </p:nvGraphicFramePr>
        <p:xfrm>
          <a:off x="7093080" y="2924280"/>
          <a:ext cx="115236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3080" y="2924280"/>
                    <a:ext cx="115236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5"/>
          <p:cNvGraphicFramePr/>
          <p:nvPr/>
        </p:nvGraphicFramePr>
        <p:xfrm>
          <a:off x="3924360" y="5157720"/>
          <a:ext cx="106668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24360" y="5157720"/>
                    <a:ext cx="10666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6"/>
          <p:cNvGraphicFramePr/>
          <p:nvPr/>
        </p:nvGraphicFramePr>
        <p:xfrm>
          <a:off x="1258920" y="2924280"/>
          <a:ext cx="106668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58920" y="2924280"/>
                    <a:ext cx="1066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7"/>
          <p:cNvGraphicFramePr/>
          <p:nvPr/>
        </p:nvGraphicFramePr>
        <p:xfrm>
          <a:off x="4067280" y="2492280"/>
          <a:ext cx="930240" cy="180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2492280"/>
                    <a:ext cx="9302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6948360" y="5229360"/>
          <a:ext cx="1609920" cy="79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8360" y="5229360"/>
                    <a:ext cx="16099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3"/>
          <p:cNvGraphicFramePr/>
          <p:nvPr/>
        </p:nvGraphicFramePr>
        <p:xfrm>
          <a:off x="6496200" y="2616120"/>
          <a:ext cx="227304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6200" y="2616120"/>
                    <a:ext cx="2273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6"/>
          <p:cNvSpPr/>
          <p:nvPr/>
        </p:nvSpPr>
        <p:spPr>
          <a:xfrm>
            <a:off x="1066680" y="324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жи, как  называются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900000" y="4724280"/>
          <a:ext cx="12668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724280"/>
                    <a:ext cx="12668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8"/>
          <p:cNvGraphicFramePr/>
          <p:nvPr/>
        </p:nvGraphicFramePr>
        <p:xfrm>
          <a:off x="1258920" y="1341360"/>
          <a:ext cx="140976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1341360"/>
                    <a:ext cx="14097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9"/>
          <p:cNvGraphicFramePr/>
          <p:nvPr/>
        </p:nvGraphicFramePr>
        <p:xfrm>
          <a:off x="3995640" y="1341360"/>
          <a:ext cx="111456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1341360"/>
                    <a:ext cx="1114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0"/>
          <p:cNvGraphicFramePr/>
          <p:nvPr/>
        </p:nvGraphicFramePr>
        <p:xfrm>
          <a:off x="3635280" y="4653000"/>
          <a:ext cx="1400400" cy="104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4653000"/>
                    <a:ext cx="14004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1"/>
          <p:cNvGraphicFramePr/>
          <p:nvPr/>
        </p:nvGraphicFramePr>
        <p:xfrm>
          <a:off x="6588000" y="1268280"/>
          <a:ext cx="1656000" cy="105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1268280"/>
                    <a:ext cx="1656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7:50:39Z</dcterms:created>
  <dc:creator>User</dc:creator>
  <dc:description/>
  <dc:language>en-US</dc:language>
  <cp:lastModifiedBy>kab_3</cp:lastModifiedBy>
  <dcterms:modified xsi:type="dcterms:W3CDTF">2019-05-24T01:50:47Z</dcterms:modified>
  <cp:revision>13</cp:revision>
  <dc:subject/>
  <dc:title>Слайд 1</dc:title>
</cp:coreProperties>
</file>