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905-1483-4F5D-B8D6-9C3B5CB2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E25-1A71-4DA3-9202-4102D02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058-E3A0-4A78-9825-6BB98675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CCC-5539-4EB9-A11A-9BD6A2BD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1516-E6BF-4A44-A092-3467426E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358-2658-4DE5-8E42-51FE7C4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7943-E530-437F-BFD0-795739C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ECE-2159-451E-8DC6-75BC33F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E8FF-5FC8-4864-9B8D-BBE1EDA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A85F-DE28-4378-9171-FBD258A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06EE-B04F-4D42-90F6-6019A51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2DE-F595-4326-997A-194654BB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8B22-9779-4471-9F5E-E073C94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B0E5-40C8-470A-9BAE-89E4723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708-8661-4F8A-8373-A122156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FDC2-C3CD-4CB5-9CB4-6170B4A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39B7-40A9-42E9-A217-2399C6E0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65D3-1618-42EA-AABF-1F5F22A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12B8-7027-4433-BFF7-77179EC9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36E1-2DE2-43D0-852F-96282E0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5FF8-FAC9-439A-B622-D337D49E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2A03-1FF8-4929-A66B-AEAD972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AAA-9C56-4160-B1BA-7F18BB1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0FB0-8A8D-464A-B3CF-3CD0F44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95E9-C7E7-42B0-BCE1-8EC3C5C6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9EC4-D47B-4367-82B9-D1E02EC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51A1-FAD2-402A-A509-6DAB630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772E-B97D-4ADD-809C-8A7FF4BD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E950-D947-4A06-93FB-DDE3CF27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D661-CCAB-4618-9B78-A65EA8E6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84F5-DB64-4D81-B5C1-0668F6F9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72B5-68D7-4C61-B98C-6FDF004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9B5C-B83A-4353-89CC-7873169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228-40A5-465B-87B0-D8FC5F8F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DAC4-3000-4DA8-BBFA-DEDF9F0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DD47-2C2A-472E-A6BA-66DB777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2A6F-3F6C-44A5-A23D-8D1E1712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6948-37A3-4FC6-A3F4-577487E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78BF-5B9B-4ED5-B09C-A24FFDA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18E6-923A-4E18-9851-C6F76E6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E183-ED33-41ED-BFEA-AAA92E5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058D-B190-4399-8808-4D2CA312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D404-8AD6-40A7-BE25-9BDC6C68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DCE-EE5E-4054-B4AB-60631BF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391-16D8-4279-94D9-0BFD238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74B-7D89-4D3D-8C8F-5E613C4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084-7105-478D-9FA9-91237AD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24E-E235-4C52-9AE5-029AE4F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04D-E3E6-40A8-9624-EC1CDF0A370F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335-55A0-49E6-BB69-8A488BC602B2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7AC-BFDE-42DD-B5BF-B0C8D1A28CD2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57D5-1B07-4921-8960-E4A08FB02ADF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072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пользование игровых технологий на уроках физической культуры»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000" y="5373360"/>
            <a:ext cx="48099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студент 39 групп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мухаметов Камиль Уралович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-25560" y="2637000"/>
            <a:ext cx="8463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1eee9"/>
                </a:solidFill>
                <a:latin typeface="Times New Roman"/>
                <a:ea typeface="Times New Roman"/>
              </a:rPr>
              <a:t>«Каков ребенок в игре, таков во многом он будет в работе когда вырастет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1eee9"/>
                </a:solidFill>
                <a:latin typeface="Times New Roman"/>
                <a:ea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– это уникальная форма обучения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2052720"/>
            <a:ext cx="860724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позволяет сделать  обычный урок – интересным и увлекательным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гре ребенок учиться познавать себя, познавать окружающий его мир и свое место в нем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используются для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989000"/>
            <a:ext cx="85550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я физических качеств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я умения и навыков в выполнении ФУ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изация и совершенствование основных психических процесс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9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на уроках выступают как средство побуждения, стимулирования учащихся к учебной деятельности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848360" cy="4363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гры это доступный и очень эффективный метод воздействия на ребен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4" name="Содержимое 4" descr="mini_3_w510_h380.jpg"/>
          <p:cNvPicPr/>
          <p:nvPr/>
        </p:nvPicPr>
        <p:blipFill>
          <a:blip r:embed="rId1"/>
          <a:stretch/>
        </p:blipFill>
        <p:spPr>
          <a:xfrm>
            <a:off x="1754280" y="2340000"/>
            <a:ext cx="55544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гре развиваются познавательные процессы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новенно реагирует на действия партнера и соперник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ирает из множества действий одно, которое наиболее целесообразно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роведении нужно учитывать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та и доступность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 – активный участник игры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сть используемого инвентар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е должна унижать достоинства играющих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 принцип: от трудного,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8497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84720" y="5373720"/>
            <a:ext cx="14544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01:41Z</dcterms:created>
  <dc:creator>User</dc:creator>
  <dc:description/>
  <dc:language>en-US</dc:language>
  <cp:lastModifiedBy>Windows User</cp:lastModifiedBy>
  <dcterms:modified xsi:type="dcterms:W3CDTF">2019-05-04T19:42:30Z</dcterms:modified>
  <cp:revision>41</cp:revision>
  <dc:subject/>
  <dc:title>Здоровьесберегающие технологии</dc:title>
</cp:coreProperties>
</file>