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FEC-67E6-42E5-BA62-19C18832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62F-7BEF-4B59-BCD2-D467614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29E-37D8-4727-9133-E3B09791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20-F700-4530-AAAB-84B472A4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CCAA-4803-47A3-A20B-DE899382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3F14-5B18-4646-A1ED-95FEA62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ED3-CC54-4FFF-977C-96951FF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60FC-F45B-4A79-AEC7-0636EFDC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79CF-92B3-4D38-91C9-542E39E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931-DE47-406F-A3B7-03EF30D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2169-DC36-46A9-85E3-DF2C852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CB3-7011-462E-BF02-558D8FD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34E-5E73-414A-BA35-BBB46F4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0DA1-0074-48D7-AA29-3E6FD660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7BE-B79F-4CE2-BFA0-44A72ECE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055-7E27-4A92-BFDA-A2A57409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BC2-3943-49EC-9473-F8F49ABF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E036-8AF6-40D6-93B1-4758A7D3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F598-C9CF-459F-858A-9A58AAF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7181-AE01-43AE-B326-C74EE843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18D6-3E54-41CD-9B37-B7E9272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B311-41BC-4089-8FB7-8FEBF5A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F13-F4C5-4D4A-9D9D-301D4179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7EF2-B54F-420A-A0CC-400886C1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3584-06F3-46DA-A64F-B3D867E7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C8BD-350E-4EEA-B08C-26510CC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EB4D-DA49-45BE-B1C1-9A11E0C2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7B43-CD39-4CFE-8034-CF3D5E0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EE86-BD6A-4B9F-83EE-F9C3ECC7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FC7B-AF6D-4F61-B9CA-DB3184F8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CA53-E1BE-4819-976C-6785D347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7ADA-29D2-4E3A-ABD1-160B2C1C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A397-78ED-4F3E-8567-AB7C36C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525-4281-4900-A754-2096A58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B321-D008-49F1-A376-1020089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E13C-7921-40A8-9455-0D2E7AA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C9F2-6698-40C3-8E1F-BCCAFF2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BE36-5A65-4E8E-BE0A-0470C5FA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36918-FE2F-479B-8E01-83C15D1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3CFF-D70F-40EA-9A19-DA479AB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612D6-D2A1-4F6E-85F1-6CCADB6C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6094-6B9E-4862-80DD-03849581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3134-78D8-491F-B269-ED080D1F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7AE-D5CD-420A-A0F9-94D81CD0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263-7300-4018-9F23-099B619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A43-6B82-4FAE-8433-CFC99C67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1D4-927A-466F-942A-4363AED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86F-EAFB-418D-908E-29B41A6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FBE-9025-4047-A773-841AED2702EC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AFEB-473F-4502-9F1D-0427728D3C63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8ED9-0D9E-4EA6-9978-D5E87F938C89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04E9-06A3-4EB0-9D3B-26B4891E2090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6072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пользование игровых технологий на уроках физической культуры»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000" y="5373360"/>
            <a:ext cx="480996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 студент 39 групп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мухаметов Камиль Уралович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-25560" y="2637000"/>
            <a:ext cx="84632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1eee9"/>
                </a:solidFill>
                <a:latin typeface="Times New Roman"/>
                <a:ea typeface="Times New Roman"/>
              </a:rPr>
              <a:t>«Каков ребенок в игре, таков во многом он будет в работе когда вырастет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1eee9"/>
                </a:solidFill>
                <a:latin typeface="Times New Roman"/>
                <a:ea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– это уникальная форма обучения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560" y="2052720"/>
            <a:ext cx="860724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позволяет сделать  обычный урок – интересным и увлекательным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гре ребенок учиться познавать себя, познавать окружающий его мир и свое место в нем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технологии используются для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989000"/>
            <a:ext cx="85550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я физических качеств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я умения и навыков в выполнении ФУ;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изация и совершенствование основных психических процесс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9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на уроках выступают как средство побуждения, стимулирования учащихся к учебной деятельности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848360" cy="4363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гры это доступный и очень эффективный метод воздействия на ребен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4" name="Содержимое 4" descr="mini_3_w510_h380.jpg"/>
          <p:cNvPicPr/>
          <p:nvPr/>
        </p:nvPicPr>
        <p:blipFill>
          <a:blip r:embed="rId1"/>
          <a:stretch/>
        </p:blipFill>
        <p:spPr>
          <a:xfrm>
            <a:off x="1754280" y="2340000"/>
            <a:ext cx="55544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гре развиваются познавательные процессы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т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новенно реагирует на действия партнера и соперник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ирает из множества действий одно, которое наиболее целесообразно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проведении нужно учитывать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та и доступность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 – активный участник игры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опасность используемого инвентар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е должна унижать достоинства играющих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ывать принцип: от трудного,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8497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84720" y="5373720"/>
            <a:ext cx="145440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01:41Z</dcterms:created>
  <dc:creator>User</dc:creator>
  <dc:description/>
  <dc:language>en-US</dc:language>
  <cp:lastModifiedBy>Windows User</cp:lastModifiedBy>
  <dcterms:modified xsi:type="dcterms:W3CDTF">2019-05-04T19:42:30Z</dcterms:modified>
  <cp:revision>41</cp:revision>
  <dc:subject/>
  <dc:title>Здоровьесберегающие технологии</dc:title>
</cp:coreProperties>
</file>