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CA1-A9A0-4B2B-A288-ABE83506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1A7-2C80-4497-A6E2-207D8193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F75-25F4-4174-8806-9DCA7D3E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DA6-DECB-415B-9BEF-A754BC6C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D93-2D4E-4B6C-8827-9B647EC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201-B315-49F7-A997-A99899F8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1C2-73C0-4361-ABCD-0842EFFD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28C-95D7-45B3-91F8-98AEF303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C62-406C-4DC8-AEB3-CD99FBC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741-B870-4245-ACE8-A22094E1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F96-B86E-4B64-AF33-A7E0ED2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066-F261-44AE-A3E3-0179C2AB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87F70-B88A-463E-B37E-A88D25710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1768320"/>
            <a:ext cx="885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АРТОТЕКА ИГР ДЛЯ РАЗВИТИЯ МЕЛКОЙ МОТО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0720" y="4300560"/>
            <a:ext cx="8280360" cy="1820880"/>
          </a:xfrm>
          <a:prstGeom prst="rect">
            <a:avLst/>
          </a:prstGeom>
          <a:ln w="36000">
            <a:solidFill>
              <a:srgbClr val="ff00cc"/>
            </a:solidFill>
            <a:round/>
          </a:ln>
        </p:spPr>
      </p:pic>
      <p:sp>
        <p:nvSpPr>
          <p:cNvPr id="44" name="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39280"/>
            <a:ext cx="9215280" cy="625500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608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Игры и упражнения с мозаик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700360" y="3178080"/>
            <a:ext cx="4425840" cy="222084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  <p:sp>
        <p:nvSpPr>
          <p:cNvPr id="76" name=""/>
          <p:cNvSpPr/>
          <p:nvPr/>
        </p:nvSpPr>
        <p:spPr>
          <a:xfrm>
            <a:off x="720720" y="1260360"/>
            <a:ext cx="8820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ачале дети учатся выкладывать мозаику на игровое поле, затем выполняют упражнения: «Разложи по цвету», «Разноцветные дорожки», «Красивые бусы», «Яркие цветы». С возрастом задания усложняются. Дети учатся выкладывать узоры по схемам и придумывать их 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684360"/>
            <a:ext cx="8999640" cy="615600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1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     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Рисование и раскрашивание раскрасо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ование является одним из самых любимых видов детской деятельности. В процессе рисования у детей развивается общий кругозор, творческие способности, формируются умения пользоваться кистью, карандашом. В работе с детьми можно использовать разные изобразительные материалы: акварельные и гуашевые краски, фломастеры, карандаши, восковые мелки, цветные ручки. Рисование способствует развитию мелких мышц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879640" y="3270240"/>
            <a:ext cx="4426200" cy="248904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720720"/>
            <a:ext cx="9036000" cy="607392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1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                                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Лепка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важную роль для развития моторики рук играет лепка. Основным инструментом в лепке являются руки, значит уровень умений зависит от владения собственными руками. Занятия лепкой комплексно воздействуют на развитие ребенка: развивают сенсорную чувствительность, синхронную работу обеих рук, развивают общу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ую умелость, развивают мелкую моторику. В работе с детьми можно использовать пластилин, глину, соленое т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60720" y="3240000"/>
            <a:ext cx="4425840" cy="331956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60000" y="217080"/>
            <a:ext cx="8999640" cy="7188120"/>
          </a:xfrm>
          <a:prstGeom prst="rect">
            <a:avLst/>
          </a:prstGeom>
          <a:noFill/>
          <a:ln w="36000">
            <a:solidFill>
              <a:srgbClr val="ff33ff"/>
            </a:solidFill>
            <a:round/>
          </a:ln>
        </p:spPr>
        <p:txBody>
          <a:bodyPr lIns="18000" rIns="18000" tIns="32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Segoe Print"/>
              </a:rPr>
              <a:t>  </a:t>
            </a:r>
            <a:r>
              <a:rPr b="1" lang="en-US" sz="2600" spc="-1" strike="noStrike">
                <a:solidFill>
                  <a:srgbClr val="cc00cc"/>
                </a:solidFill>
                <a:latin typeface="Segoe Print"/>
              </a:rPr>
              <a:t>«Сухой бассейн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: Закрепление и развитие мелкой моторики, массаж пальцев рук, повышение чувствительности пальцев. Развитие классификации по различным признакам, формирование основных сенсорных этал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ал: Ёмкость наполненная сушёным горохом (гречкой, песком, пуговицами, манкой и т.п.) на дне которой спрятаны различные предметы (пуговицы, геометрические фигуры, мелкие игрушки по лексическим тема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д игры: ребёнку предлагается найти закопанные мелкие предметы. Погружая кисти рук в наполнитель, перебирая горох (или другие крупы или материал нополнителя) и игрушки, пальчики массируются, становятся более чувствительными, а их движения координированными, ребёнок на ощупь находит какой-либо предмет и называет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чевое сопровожд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Сюда насыпали горох и пальцы запусти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строим там переполох, чтоб пальцы не грустили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6000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0360" y="5060880"/>
            <a:ext cx="2738520" cy="1959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606600"/>
            <a:ext cx="8999640" cy="6773760"/>
          </a:xfrm>
          <a:prstGeom prst="rect">
            <a:avLst/>
          </a:prstGeom>
          <a:noFill/>
          <a:ln w="36000">
            <a:solidFill>
              <a:srgbClr val="ff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cc00cc"/>
                </a:solidFill>
                <a:latin typeface="Segoe Print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Segoe Print"/>
              </a:rPr>
              <a:t>«Игры с прищепк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: Развитие мелкой моторики, силу мышц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 игры: Ребёнок нанизывает на плоскостные изображения недостающие детали в виде прищеп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жнение: прищепки заменяются канцелярскими скреп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ю прищепки для массажа пальцев, дети нанизывают прищепки на кончики пальцев на несколько секунд, прицепки не должны быть туг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93800" y="3959280"/>
            <a:ext cx="4426200" cy="2995560"/>
          </a:xfrm>
          <a:prstGeom prst="rect">
            <a:avLst/>
          </a:prstGeom>
          <a:ln w="36000">
            <a:solidFill>
              <a:srgbClr val="9999ff"/>
            </a:solidFill>
            <a:round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900000"/>
            <a:ext cx="9396360" cy="5894640"/>
          </a:xfrm>
          <a:prstGeom prst="rect">
            <a:avLst/>
          </a:prstGeom>
          <a:noFill/>
          <a:ln w="36000">
            <a:solidFill>
              <a:srgbClr val="ff33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0">
              <a:lnSpc>
                <a:spcPct val="14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Segoe Print"/>
              </a:rPr>
              <a:t>                    </a:t>
            </a:r>
            <a:r>
              <a:rPr b="1" lang="en-US" sz="2000" spc="-1" strike="noStrike">
                <a:solidFill>
                  <a:srgbClr val="ff00ff"/>
                </a:solidFill>
                <a:latin typeface="Segoe Print"/>
              </a:rPr>
              <a:t>«Геометрическая моза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: знакомство, закрепление сенсорных эталонов, развитие мелкой моторики рук, комбинаторных способностей, умения работать по образцу и в соответствии с собственным за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01840" y="3780000"/>
            <a:ext cx="3999240" cy="2697120"/>
          </a:xfrm>
          <a:prstGeom prst="rect">
            <a:avLst/>
          </a:prstGeom>
          <a:ln w="72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079280"/>
            <a:ext cx="9396360" cy="5715000"/>
          </a:xfrm>
          <a:prstGeom prst="rect">
            <a:avLst/>
          </a:prstGeom>
          <a:noFill/>
          <a:ln w="36000">
            <a:solidFill>
              <a:srgbClr val="ff33ff"/>
            </a:solidFill>
            <a:round/>
          </a:ln>
        </p:spPr>
        <p:txBody>
          <a:bodyPr lIns="18000" rIns="18000" tIns="32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ff"/>
                </a:solidFill>
                <a:latin typeface="Segoe Prin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2519280"/>
            <a:ext cx="4425840" cy="3165480"/>
          </a:xfrm>
          <a:prstGeom prst="rect">
            <a:avLst/>
          </a:prstGeom>
          <a:ln w="72000">
            <a:solidFill>
              <a:srgbClr val="ffff99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520560" y="2340000"/>
            <a:ext cx="398016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Segoe Print"/>
              </a:rPr>
              <a:t>Игры-шну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ие различных шнуровок как покупных, так и сделанных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3080" y="899640"/>
            <a:ext cx="9286920" cy="597564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1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Segoe Print"/>
              </a:rPr>
              <a:t>Создание ожерелья из пуговиц, частиц соломинки,   крупных бусин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развития моторики посредством создания ожерелья понадобятся: шнурок, пуговицы с крупными отверстиями, несколько разноцветных соломинок для коктейля (разрезать на кусочки по 1-3 см длиной), бусины, ножниц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9280" y="3959280"/>
            <a:ext cx="4425840" cy="277956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39280"/>
            <a:ext cx="9036000" cy="669636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0">
              <a:lnSpc>
                <a:spcPct val="14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Пальчиковая гимнастика с карандаш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ое упражнение сопровождается своим стихотворением.  Малыши, с которыми проводят подобные занятия, как правило, начинают раньше говорить. Вместо карандаша можно использовать ручку. Желательно, что бы предмет не был гладкий, а имел грани и выпукл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единить ладони пальцами вперёд. Карандаш в вертикальном положении между ладонями. Перемещать ладони вперёд-назад, передвигая карандаш, постепенно ускоряя темп, затем замедля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води мотор ско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ладони разогр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ё быстрей, быстрей, быстр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л, приятель, не жа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д немного замедля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идно, к дому подъезжа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дем тише, тише, ти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мотор уже не слыш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4425840" cy="331956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720720"/>
            <a:ext cx="9215280" cy="627840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608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         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Аппликации из кру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азвития моторики посредством аппликации понадобятся: картон, пластилин, клей, крупы, семечки, макаронные изделия и тому подоб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52720" y="3378240"/>
            <a:ext cx="4425840" cy="292104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39280"/>
            <a:ext cx="9215280" cy="625500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1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Игры и упражнения со счетными палочк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879640" y="2879640"/>
            <a:ext cx="4426200" cy="367848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  <p:sp>
        <p:nvSpPr>
          <p:cNvPr id="72" name=""/>
          <p:cNvSpPr/>
          <p:nvPr/>
        </p:nvSpPr>
        <p:spPr>
          <a:xfrm>
            <a:off x="720720" y="1440000"/>
            <a:ext cx="8640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адобится лист бумаги с изображением какого-либо понятного ребенку предмета (домика, конфеты, бабочки, елочки и т.п.), выполненного в двух-трех цветах. Малыш должен выложить этот рисунок палочками, повторяя цвета на бумаге. В завершении попросить дошкольника назвать цвета, с помощью которых он создал свою кар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4T17:19:44Z</dcterms:created>
  <dc:creator/>
  <dc:description>Ochi Takashi (hagetaka0)</dc:description>
  <cp:keywords>simple background template Impress vivid</cp:keywords>
  <dc:language>en-US</dc:language>
  <cp:lastModifiedBy/>
  <dcterms:modified xsi:type="dcterms:W3CDTF">2019-05-25T11:26:27Z</dcterms:modified>
  <cp:revision>3</cp:revision>
  <dc:subject>simple background</dc:subject>
  <dc:title>arc_misty_mono_vivid_gr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cense">
    <vt:lpwstr>&lt;a href="http://www.youtube.com/hagetaka0&gt;YouTube - hagetaka0's Channel&lt;/a&gt;</vt:lpwstr>
  </property>
</Properties>
</file>