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FA6-C13F-48E5-BC50-DC40BF44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E58-64D0-4959-8473-34526251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6B3-55B4-41D9-BF36-4993A2E1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FA5-BCB2-477B-A341-0E1B0E00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CCDD-E1F5-4D6F-9129-01292C8C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BCB1-E949-4D28-8396-915E319F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2453-DA8B-4356-AB5B-8A385025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976D-DDD3-451D-8D99-C1B882D0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BF0F-4F42-44D1-BA8C-4CE8D5B1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1CD9-E0C0-42F8-98C4-2B18FA27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215B-AD4E-4B93-84D2-1CA345E2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1A9-FA42-402D-9258-271E06F7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A4C1-C2F2-4746-A5EB-B87D1707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A9B2-45C1-4BB0-8573-3DC6219A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9524-168D-4B65-8C3E-A8376B63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63AE-BF0A-464C-A680-ABE733EF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5118-4BA0-401B-A2AA-0111A3E7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B0E9-93C5-4CFD-BC31-E510CB6B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F0D2A-00B7-4C9A-90EB-D5D62458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72D61-E1DF-49B9-B231-4ACF4FFA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2B57B-86B8-4943-BC06-2B9D78D8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22338-B62B-4664-96B0-9E6CB1D1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5A8-C22D-4FBE-955A-D8154098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E6501-DF5A-4320-899E-E96C3891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87492-9FE4-4480-B9CF-AC0977DC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B1AA7-291C-4EBB-AEB3-AA63D001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FA81B-6542-47A3-96C0-AE5505AC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9F269-F9FA-483B-8FA6-4B73B1FE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EB7F4-9B20-482D-9999-58E73AB5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56B4-B451-4780-B12D-0C228EE7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01D63-290C-498F-A5F6-E6CA9EC3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12A80-3F0C-45F8-A6AD-4F64B2E2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DAA33-2692-4E3A-A337-34B6F917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34D-5C53-4860-9C30-50E36513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0138E-B386-4914-BB9F-1DFE25D7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AE526-9A45-49E0-8078-47005A5E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3085C-5204-4DD0-A39F-55F377DF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9144E-0B60-4247-A6A7-4AB93C98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09131-0BFE-4075-BEF3-4D2CAF8C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E89BB-D251-442B-B66D-AA9F3BF1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AB037-7F75-4CD6-B188-457954A2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1349D-42AB-4B17-A622-DB4175B1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F762D-FAED-4A88-8AAE-D4FAD246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E4CE8-4079-45C7-8A44-AF3A8469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DB19-D9F0-44B0-9DE6-C5E76CBA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1203E-C225-4789-BCC4-0CF74C23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64E80-0E1E-43D2-9563-AC9437C1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7BF43-B5AD-404C-A909-25166410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A78AC-F6E1-44D4-82AA-C8A7334B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4F07B-8F19-454F-9800-33E1FB11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2E574-BD11-442B-B3AE-CFF75227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76DD2-9A45-4842-B9C8-F515E10A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6F14D-FF67-40E7-9E02-593A33C6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28025-BCDE-4CB3-98C7-E1DC5EFD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2853E-7185-4B35-9A5C-18D7DA69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F9A-0BA1-442A-BE5F-E1F562D6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CFE62-C5FD-4491-BB01-8519D9B2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1EFD8-9378-4801-BB98-DEDA2E45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E6FE2-35A3-44BD-AD00-CBFBAA6A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342A0-3A97-4676-8EEC-A1C433E3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1F27C-7DDE-4C80-A2BC-6FC311EC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13A99-62DC-4524-B612-9DE30786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36541-2DB8-4DF0-96DB-923F477C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D9F93-58B0-428E-A3E5-BC30B8C4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23441-FE85-4A35-BD70-57C61CDA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627BF-DD07-4382-9470-5997160C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91B-37D2-418B-AE47-BFC02992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ECE86-3EBD-455A-A8D7-1DB4D50D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F6410-C372-4663-B7E9-02FB6A81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90CA2-BF19-44FA-A533-ECB6A75A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213-2E08-4201-983E-F8FFAA9F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747-F10A-4359-BEA4-48F68060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0040-6566-4DB8-B4AD-83AFF02A91E8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aadf5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6e99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6e99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df5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df5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df5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AAF6-6696-4CCB-B5B7-9C144F45E973}" type="slidenum">
              <a:rPr b="0" lang="ru-RU" sz="1000" spc="-1" strike="noStrike">
                <a:solidFill>
                  <a:srgbClr val="aadf5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aad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aad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7"/>
          <p:cNvGrpSpPr/>
          <p:nvPr/>
        </p:nvGrpSpPr>
        <p:grpSpPr>
          <a:xfrm>
            <a:off x="565200" y="744120"/>
            <a:ext cx="8005680" cy="5350320"/>
            <a:chOff x="565200" y="744120"/>
            <a:chExt cx="8005680" cy="5350320"/>
          </a:xfrm>
        </p:grpSpPr>
        <p:sp>
          <p:nvSpPr>
            <p:cNvPr id="85" name="Freeform 6"/>
            <p:cNvSpPr/>
            <p:nvPr/>
          </p:nvSpPr>
          <p:spPr>
            <a:xfrm>
              <a:off x="6114600" y="1685520"/>
              <a:ext cx="245628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aa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 flipH="1" flipV="1">
              <a:off x="564840" y="743760"/>
              <a:ext cx="245664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aa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aadf5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6e99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6e99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6484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df5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df5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df5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EA94-510E-46AF-8EC0-55E26BBA253D}" type="slidenum">
              <a:rPr b="0" lang="ru-RU" sz="1000" spc="-1" strike="noStrike">
                <a:solidFill>
                  <a:srgbClr val="aadf5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df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6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aad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7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f3f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f3fae9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f3fae9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3fae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3fae9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f3fae9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3fae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3fae9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f3fae9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3fae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3fae9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f3fae9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3fae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3fae9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f3fae9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3fae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3fae9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f3fae9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56a95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3fae9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f3fae9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56a95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3fae9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f3fae9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54040" y="6453360"/>
            <a:ext cx="121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ae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3fae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a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5C3B-4168-4C25-B6A3-0C3E75B78055}" type="slidenum">
              <a:rPr b="0" lang="ru-RU" sz="1000" spc="-1" strike="noStrike">
                <a:solidFill>
                  <a:srgbClr val="f3fae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aad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aad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aadf5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6e99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6e99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df5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df5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df5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4E1F-8A7A-4707-AF33-0268ADD73D15}" type="slidenum">
              <a:rPr b="0" lang="ru-RU" sz="1000" spc="-1" strike="noStrike">
                <a:solidFill>
                  <a:srgbClr val="aadf5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aad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aad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aadf5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6e99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6e99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df5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df5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df5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09E6-1231-440A-A148-F839CA589E23}" type="slidenum">
              <a:rPr b="0" lang="ru-RU" sz="1000" spc="-1" strike="noStrike">
                <a:solidFill>
                  <a:srgbClr val="aadf5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print-olympic.ru/?yclid=219086743853596979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matznanie.ru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m.kirov.ru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yi-erudit.ru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russian-kenguru.ru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runodog.r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Прямоугольник 3" descr=""/>
          <p:cNvPicPr/>
          <p:nvPr/>
        </p:nvPicPr>
        <p:blipFill>
          <a:blip r:embed="rId1"/>
          <a:stretch/>
        </p:blipFill>
        <p:spPr>
          <a:xfrm>
            <a:off x="755640" y="1914480"/>
            <a:ext cx="7486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0" spc="-1" strike="noStrike">
                <a:solidFill>
                  <a:srgbClr val="aadf5d"/>
                </a:solidFill>
                <a:latin typeface="Times New Roman"/>
                <a:ea typeface="Times New Roman"/>
              </a:rPr>
              <a:t>farosta.ru</a:t>
            </a:r>
            <a:endParaRPr b="0" lang="en-US" sz="90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78" name="Picture 2" descr="http://www.farosta.ru/sites/default/files/fr_my_vmeste_1.png"/>
          <p:cNvPicPr/>
          <p:nvPr/>
        </p:nvPicPr>
        <p:blipFill>
          <a:blip r:embed="rId1"/>
          <a:stretch/>
        </p:blipFill>
        <p:spPr>
          <a:xfrm>
            <a:off x="684360" y="2349360"/>
            <a:ext cx="7769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100" spc="-1" strike="noStrike">
                <a:solidFill>
                  <a:srgbClr val="aadf5d"/>
                </a:solidFill>
                <a:latin typeface="Times New Roman"/>
                <a:ea typeface="Times New Roman"/>
              </a:rPr>
              <a:t>olympiadonline.ru</a:t>
            </a:r>
            <a:endParaRPr b="0" lang="en-US" sz="81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80" name="Picture 2" descr="https://image.jimcdn.com/app/cms/image/transf/dimension=190x10000:format=png/path/sbce704cc1784548f/image/i45d95e6bd1c0e1c3/version/1471680526/image.png"/>
          <p:cNvPicPr/>
          <p:nvPr/>
        </p:nvPicPr>
        <p:blipFill>
          <a:blip r:embed="rId1"/>
          <a:stretch/>
        </p:blipFill>
        <p:spPr>
          <a:xfrm>
            <a:off x="2195640" y="2060640"/>
            <a:ext cx="4879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9036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200" spc="-1" strike="noStrike">
                <a:solidFill>
                  <a:srgbClr val="aadf5d"/>
                </a:solidFill>
                <a:latin typeface="Times New Roman"/>
                <a:ea typeface="Times New Roman"/>
              </a:rPr>
              <a:t>syndychok-znaniy.ru</a:t>
            </a:r>
            <a:endParaRPr b="0" lang="en-US" sz="72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701640" y="1916280"/>
            <a:ext cx="79866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28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100" spc="-1" strike="noStrike">
                <a:solidFill>
                  <a:srgbClr val="aadf5d"/>
                </a:solidFill>
                <a:latin typeface="Times New Roman"/>
                <a:ea typeface="Times New Roman"/>
              </a:rPr>
              <a:t>kladznanyi.ru</a:t>
            </a:r>
            <a:endParaRPr b="0" lang="en-US" sz="81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8172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100" spc="-1" strike="noStrike">
                <a:solidFill>
                  <a:srgbClr val="aadf5d"/>
                </a:solidFill>
                <a:latin typeface="Times New Roman"/>
                <a:ea typeface="Times New Roman"/>
              </a:rPr>
              <a:t>mir-olimpiad.ru</a:t>
            </a:r>
            <a:endParaRPr b="0" lang="en-US" sz="81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784836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1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sprint-olympic.ru</a:t>
            </a:r>
            <a:endParaRPr b="0" lang="en-US" sz="81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61" name="Picture 2" descr="https://pimg.mycdn.me/getImage?url=http%3A%2F%2Fwww.sprint-olympic.ru%2Fimg%2Fkids-bg.jpg&amp;type=WIDE_FEED_PANORAMA&amp;signatureToken=kjSI01Y02ejlVPQO4aQZ2Q"/>
          <p:cNvPicPr/>
          <p:nvPr/>
        </p:nvPicPr>
        <p:blipFill>
          <a:blip r:embed="rId2"/>
          <a:stretch/>
        </p:blipFill>
        <p:spPr>
          <a:xfrm>
            <a:off x="1227240" y="3213000"/>
            <a:ext cx="68040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39640" y="-3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matznanie.ru</a:t>
            </a:r>
            <a:endParaRPr b="0" lang="en-US" sz="90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63" name="Picture 2" descr="Картинки по запросу математические знания олимпиады"/>
          <p:cNvPicPr/>
          <p:nvPr/>
        </p:nvPicPr>
        <p:blipFill>
          <a:blip r:embed="rId2"/>
          <a:stretch/>
        </p:blipFill>
        <p:spPr>
          <a:xfrm>
            <a:off x="1763640" y="1773360"/>
            <a:ext cx="56167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aadf5d"/>
                </a:solidFill>
                <a:latin typeface="Franklin Gothic Book"/>
              </a:rPr>
              <a:t>=</a:t>
            </a: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8000" y="18864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rm.kirov.ru</a:t>
            </a:r>
            <a:endParaRPr b="0" lang="en-US" sz="90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66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2268360" y="1484280"/>
            <a:ext cx="42483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684000" y="25992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yi-erudit.ru</a:t>
            </a:r>
            <a:endParaRPr b="0" lang="en-US" sz="90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68" name="Рисунок 3" descr=""/>
          <p:cNvPicPr/>
          <p:nvPr/>
        </p:nvPicPr>
        <p:blipFill>
          <a:blip r:embed="rId2"/>
          <a:srcRect l="14371" t="11334" r="72940" b="79902"/>
          <a:stretch/>
        </p:blipFill>
        <p:spPr>
          <a:xfrm>
            <a:off x="1187280" y="1989000"/>
            <a:ext cx="6672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539640" y="188640"/>
            <a:ext cx="8391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3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russian-kenguru.ru</a:t>
            </a:r>
            <a:endParaRPr b="0" lang="en-US" sz="83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70" name="Picture 2" descr="Картинки по запросу кенгуру олимпиады"/>
          <p:cNvPicPr/>
          <p:nvPr/>
        </p:nvPicPr>
        <p:blipFill>
          <a:blip r:embed="rId2"/>
          <a:stretch/>
        </p:blipFill>
        <p:spPr>
          <a:xfrm>
            <a:off x="1908000" y="1700280"/>
            <a:ext cx="504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539640" y="404640"/>
            <a:ext cx="788688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runodog.ru</a:t>
            </a:r>
            <a:endParaRPr b="0" lang="en-US" sz="90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72" name="Picture 2" descr="Картинки по запросу золотое руно  олимпиады"/>
          <p:cNvPicPr/>
          <p:nvPr/>
        </p:nvPicPr>
        <p:blipFill>
          <a:blip r:embed="rId2"/>
          <a:stretch/>
        </p:blipFill>
        <p:spPr>
          <a:xfrm>
            <a:off x="1908000" y="2060640"/>
            <a:ext cx="51850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10920" y="404640"/>
            <a:ext cx="788652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0" spc="-1" strike="noStrike">
                <a:solidFill>
                  <a:srgbClr val="aadf5d"/>
                </a:solidFill>
                <a:latin typeface="Times New Roman"/>
                <a:ea typeface="Times New Roman"/>
              </a:rPr>
              <a:t>urfodu.ru</a:t>
            </a:r>
            <a:endParaRPr b="0" lang="en-US" sz="90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74" name="Picture 2" descr="Картинки по запросу урфо олимпиады"/>
          <p:cNvPicPr/>
          <p:nvPr/>
        </p:nvPicPr>
        <p:blipFill>
          <a:blip r:embed="rId1"/>
          <a:stretch/>
        </p:blipFill>
        <p:spPr>
          <a:xfrm>
            <a:off x="539640" y="2276640"/>
            <a:ext cx="80884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-360" y="-360"/>
            <a:ext cx="860436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0" spc="-1" strike="noStrike">
                <a:solidFill>
                  <a:srgbClr val="aadf5d"/>
                </a:solidFill>
                <a:latin typeface="Times New Roman"/>
                <a:ea typeface="Times New Roman"/>
              </a:rPr>
              <a:t>konkurskit.org</a:t>
            </a:r>
            <a:endParaRPr b="0" lang="en-US" sz="90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76" name="Picture 2" descr="Картинки по запросу кит олимпиады"/>
          <p:cNvPicPr/>
          <p:nvPr/>
        </p:nvPicPr>
        <p:blipFill>
          <a:blip r:embed="rId1"/>
          <a:stretch/>
        </p:blipFill>
        <p:spPr>
          <a:xfrm>
            <a:off x="1187280" y="1793880"/>
            <a:ext cx="60487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6T17:27:00Z</dcterms:created>
  <dc:creator>Windows User</dc:creator>
  <dc:description/>
  <dc:language>en-US</dc:language>
  <cp:lastModifiedBy>Asus553</cp:lastModifiedBy>
  <dcterms:modified xsi:type="dcterms:W3CDTF">2019-05-24T21:38:32Z</dcterms:modified>
  <cp:revision>5</cp:revision>
  <dc:subject/>
  <dc:title>sprint-olympic.ru</dc:title>
</cp:coreProperties>
</file>