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2CE-3B88-4D1D-9983-E5C4D209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E58-AD42-48A3-8EDC-DE70BD26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40F-C02B-4F83-B375-0454FC84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CE6-0809-475E-A7C4-AE18C53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9CDF-231B-4D8E-89DA-6731740E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87C-6FB1-4A30-A44E-EBCBC505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3AB2-7B53-4FFD-876E-C9B67F7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685-7DB1-46FA-B5A4-FC01F8A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BD25-1E12-4200-A59F-D271E5E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3C1F-8CE2-4926-BF49-6C9F58C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A344-CF1D-47DC-839E-17FC32C9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5D8-E6C0-424C-AE01-BB815D78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63E6-CF6A-480D-B207-7E678C3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E0A9-481D-43B9-93D4-4E5DC8E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DFF-D06A-4332-89B3-4E37455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D7FE-F744-4B71-8A9F-BCA7A7F4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3177-7673-4462-84E6-451A42AC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58B0-FF15-4BDF-9D9A-4DC36E5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03EB-A378-420B-A63B-DD76DFA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628C-ED55-4C49-BE62-09BA3C85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1C3C-88E0-4759-96E8-167B0229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F91B-745A-4412-BDC9-68A8D16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675-51F0-4D6D-BBED-5D97D04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8446-6323-4BDD-BA9E-FAFB387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993A-CCE0-46EF-9E2B-FA64B539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0172-2D06-441A-AF95-9532F69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E649-9EAD-4B1D-8E85-68CFD0A0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6533-BFB5-459F-951E-2B3E2DCE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CB9B-DB1D-48FD-829C-B3C333CB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102C-EF03-4E7C-86CC-7E9CDB9E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47CA-CAB7-4D00-B79E-C3B57641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11F20-95A7-4DEF-B995-62831AEF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D5BB-8133-43B0-A59F-B635CA5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6EC-5396-4436-8547-AEE5AF03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4A15-489C-430C-8C46-50923D0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1D22-4F04-402A-A0A6-817F781D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171B-96B3-482B-B5C7-1AE31372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B15E-CFDC-43E1-86A5-C8F2ED7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7684-8A39-41E5-A704-8127C31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B1BA-D2A7-4D45-B051-959392E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17B8-82F8-4809-9EFD-712CF01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20E6-ACE1-4FDA-AEDE-1E65A53F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B088-A085-4791-80F5-D29A9936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E0C7-781A-48C3-8636-874A1C5E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F06-C6B1-4724-A4EF-3E4477F6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84EA4-257D-4B02-9485-67C6735C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8318-DB90-4E1E-9D38-6B3A564B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C6CA-402B-4FAD-9F62-0C4A0805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D37DC-A221-46E2-B7B3-91A1DA39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7FAD-B27E-422C-827C-B23E96A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21D7-8412-429C-9BF6-3FAACE0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44566-729C-4005-A300-4ED6C16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1C10-A4F6-47F5-A76B-CE23922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47BA-F879-4E1D-9F1B-00313ED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F7C6-19F0-49DB-892D-A9969210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A61-513A-4DCB-9EB8-4B821F26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F6BA-16D8-4EC5-93AF-8DEACB50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7E536-F308-4DFB-A9AB-D8B0116D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7A94-7465-4EC4-8804-6F9E2028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4357-9988-4F02-BDBB-23822A73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41CC-7031-4437-8517-07AB4ED3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62EE1-A8A7-4DF5-A576-5B36491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1D79-A3F7-481F-A4CA-3BCAE4EB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FE200-1C93-492F-8FEC-87C144E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2D55-075B-46FD-ABB3-9DFEF78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71C4-8917-4D09-A6E2-6491E69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612-A49A-423D-8269-04E1B38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C8E3E-6B92-4DA9-ADE1-37181F00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751B-5F18-4994-85E5-6D9FC506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ED8E-CF61-4058-8C7F-2E6B3C06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D45-0059-4FB8-A312-BB67BCCD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A93-1239-4AF0-B633-8230516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6D8F-206C-4A42-8CCB-D78CA99A0698}" type="slidenum">
              <a:rPr b="0" lang="ru-RU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F12-E07D-4D9F-970E-C66CD8714A5E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85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aa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aad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D8D-C79F-4DD1-A9A6-1FEA5C864E1B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df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f3f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3fae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3fae9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3fae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56a95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56a95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3fae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3fae9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ae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ae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a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A65E-24D7-4CE3-B038-B5A67848B6D6}" type="slidenum">
              <a:rPr b="0" lang="ru-RU" sz="1000" spc="-1" strike="noStrike">
                <a:solidFill>
                  <a:srgbClr val="f3fae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EC3-7BEA-4B71-9227-00A20C9F5528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aad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aadf5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aadf5d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6e99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adf5d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df5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3DCF-6D55-4259-ABF8-D5F528F1B9FF}" type="slidenum">
              <a:rPr b="0" lang="ru-RU" sz="1000" spc="-1" strike="noStrike">
                <a:solidFill>
                  <a:srgbClr val="aadf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print-olympic.ru/?yclid=219086743853596979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tznanie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m.kirov.ru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yi-erudit.ru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russian-kenguru.ru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unodog.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1914480"/>
            <a:ext cx="7486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farosta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8" name="Picture 2" descr="http://www.farosta.ru/sites/default/files/fr_my_vmeste_1.png"/>
          <p:cNvPicPr/>
          <p:nvPr/>
        </p:nvPicPr>
        <p:blipFill>
          <a:blip r:embed="rId1"/>
          <a:stretch/>
        </p:blipFill>
        <p:spPr>
          <a:xfrm>
            <a:off x="684360" y="2349360"/>
            <a:ext cx="7769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olympiadonline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0" name="Picture 2" descr="https://image.jimcdn.com/app/cms/image/transf/dimension=190x10000:format=png/path/sbce704cc1784548f/image/i45d95e6bd1c0e1c3/version/1471680526/image.png"/>
          <p:cNvPicPr/>
          <p:nvPr/>
        </p:nvPicPr>
        <p:blipFill>
          <a:blip r:embed="rId1"/>
          <a:stretch/>
        </p:blipFill>
        <p:spPr>
          <a:xfrm>
            <a:off x="2195640" y="2060640"/>
            <a:ext cx="4879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903600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72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syndychok-znaniy.ru</a:t>
            </a:r>
            <a:endParaRPr b="0" lang="en-US" sz="72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701640" y="1916280"/>
            <a:ext cx="79866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2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kladznanyi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8172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mir-olimpiad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84836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1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sprint-olympic.ru</a:t>
            </a:r>
            <a:endParaRPr b="0" lang="en-US" sz="81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1" name="Picture 2" descr="https://pimg.mycdn.me/getImage?url=http%3A%2F%2Fwww.sprint-olympic.ru%2Fimg%2Fkids-bg.jpg&amp;type=WIDE_FEED_PANORAMA&amp;signatureToken=kjSI01Y02ejlVPQO4aQZ2Q"/>
          <p:cNvPicPr/>
          <p:nvPr/>
        </p:nvPicPr>
        <p:blipFill>
          <a:blip r:embed="rId2"/>
          <a:stretch/>
        </p:blipFill>
        <p:spPr>
          <a:xfrm>
            <a:off x="1227240" y="3213000"/>
            <a:ext cx="6804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-3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matznanie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3" name="Picture 2" descr="Картинки по запросу математические знания олимпиады"/>
          <p:cNvPicPr/>
          <p:nvPr/>
        </p:nvPicPr>
        <p:blipFill>
          <a:blip r:embed="rId2"/>
          <a:stretch/>
        </p:blipFill>
        <p:spPr>
          <a:xfrm>
            <a:off x="1763640" y="1773360"/>
            <a:ext cx="5616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aadf5d"/>
                </a:solidFill>
                <a:latin typeface="Franklin Gothic Book"/>
              </a:rPr>
              <a:t>=</a:t>
            </a:r>
            <a:endParaRPr b="0" lang="en-US" sz="4400" spc="-1" strike="noStrike">
              <a:solidFill>
                <a:srgbClr val="aadf5d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000" y="1886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m.kirov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6" name="Picture 2" descr="Похожее изображение"/>
          <p:cNvPicPr/>
          <p:nvPr/>
        </p:nvPicPr>
        <p:blipFill>
          <a:blip r:embed="rId2"/>
          <a:stretch/>
        </p:blipFill>
        <p:spPr>
          <a:xfrm>
            <a:off x="2268360" y="1484280"/>
            <a:ext cx="42483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84000" y="2599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yi-erudit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68" name="Рисунок 3" descr=""/>
          <p:cNvPicPr/>
          <p:nvPr/>
        </p:nvPicPr>
        <p:blipFill>
          <a:blip r:embed="rId2"/>
          <a:srcRect l="14371" t="11334" r="72940" b="79902"/>
          <a:stretch/>
        </p:blipFill>
        <p:spPr>
          <a:xfrm>
            <a:off x="1187280" y="1989000"/>
            <a:ext cx="6672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39640" y="188640"/>
            <a:ext cx="8391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3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ussian-kenguru.ru</a:t>
            </a:r>
            <a:endParaRPr b="0" lang="en-US" sz="83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0" name="Picture 2" descr="Картинки по запросу кенгуру олимпиады"/>
          <p:cNvPicPr/>
          <p:nvPr/>
        </p:nvPicPr>
        <p:blipFill>
          <a:blip r:embed="rId2"/>
          <a:stretch/>
        </p:blipFill>
        <p:spPr>
          <a:xfrm>
            <a:off x="1908000" y="1700280"/>
            <a:ext cx="504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9640" y="404640"/>
            <a:ext cx="7886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 u="sng">
                <a:solidFill>
                  <a:srgbClr val="0d2e46"/>
                </a:solidFill>
                <a:uFillTx/>
                <a:latin typeface="Times New Roman"/>
                <a:ea typeface="Times New Roman"/>
                <a:hlinkClick r:id="rId1"/>
              </a:rPr>
              <a:t>runodog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2" name="Picture 2" descr="Картинки по запросу золотое руно  олимпиады"/>
          <p:cNvPicPr/>
          <p:nvPr/>
        </p:nvPicPr>
        <p:blipFill>
          <a:blip r:embed="rId2"/>
          <a:stretch/>
        </p:blipFill>
        <p:spPr>
          <a:xfrm>
            <a:off x="1908000" y="2060640"/>
            <a:ext cx="5185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10920" y="404640"/>
            <a:ext cx="788652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urfodu.ru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4" name="Picture 2" descr="Картинки по запросу урфо олимпиады"/>
          <p:cNvPicPr/>
          <p:nvPr/>
        </p:nvPicPr>
        <p:blipFill>
          <a:blip r:embed="rId1"/>
          <a:stretch/>
        </p:blipFill>
        <p:spPr>
          <a:xfrm>
            <a:off x="539640" y="2276640"/>
            <a:ext cx="80884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-360" y="-360"/>
            <a:ext cx="860436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0" spc="-1" strike="noStrike">
                <a:solidFill>
                  <a:srgbClr val="aadf5d"/>
                </a:solidFill>
                <a:latin typeface="Times New Roman"/>
                <a:ea typeface="Times New Roman"/>
              </a:rPr>
              <a:t>konkurskit.org</a:t>
            </a:r>
            <a:endParaRPr b="0" lang="en-US" sz="9000" spc="-1" strike="noStrike">
              <a:solidFill>
                <a:srgbClr val="aadf5d"/>
              </a:solidFill>
              <a:latin typeface="Franklin Gothic Book"/>
            </a:endParaRPr>
          </a:p>
        </p:txBody>
      </p:sp>
      <p:pic>
        <p:nvPicPr>
          <p:cNvPr id="276" name="Picture 2" descr="Картинки по запросу кит олимпиады"/>
          <p:cNvPicPr/>
          <p:nvPr/>
        </p:nvPicPr>
        <p:blipFill>
          <a:blip r:embed="rId1"/>
          <a:stretch/>
        </p:blipFill>
        <p:spPr>
          <a:xfrm>
            <a:off x="1187280" y="1793880"/>
            <a:ext cx="6048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6T17:27:00Z</dcterms:created>
  <dc:creator>Windows User</dc:creator>
  <dc:description/>
  <dc:language>en-US</dc:language>
  <cp:lastModifiedBy>Asus553</cp:lastModifiedBy>
  <dcterms:modified xsi:type="dcterms:W3CDTF">2019-05-24T21:38:32Z</dcterms:modified>
  <cp:revision>5</cp:revision>
  <dc:subject/>
  <dc:title>sprint-olympic.ru</dc:title>
</cp:coreProperties>
</file>