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10.gif" ContentType="image/gif"/>
  <Override PartName="/ppt/media/image12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7.gif" ContentType="image/gif"/>
  <Override PartName="/ppt/media/image15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8.gif" ContentType="image/gi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3E6B-D322-4634-86D9-DC71D762D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528E-D313-4AA0-ACF3-7339046D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F7F5-D965-42D4-909F-8D04FB108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98BD-261B-43E6-A3C7-10896014A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947E-7779-47FB-997B-DCD5AD015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7C3C-9454-4242-9E31-20ECA670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D79D-7A07-400A-9E35-7FB51656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BF95-E1C5-418B-8694-ACBFEB26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BF36-7067-41C5-9921-D5DC9AA3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EC6C-DAA5-4861-B7CD-0E1E9E01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D1D4-DA7C-4849-8A29-FA05AC23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E9DE-700C-4F23-A0F9-E34138FB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33C2-69D9-4357-BD23-4A908143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7E39-4C21-4F6C-A843-E7B250AB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2151-D94F-4289-B309-D6FD871E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E09A-23FF-4109-9C5F-E485CBAA6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E805-72BE-4BDC-BC78-0E0AC2A7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F0A8-B0DA-419E-A962-67EFAAC6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7F61-E3C9-4B59-9010-8472B1B7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E4DB-4B00-4E3E-8950-1CA19CF9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FDA8-9968-42C8-9463-AED80EAC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0AC6-5D4B-4604-83D5-AD5C3FC9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9F31-2169-4986-AA00-B9244808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B307-6E71-4FB3-A522-D7CCF77F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49E2-3A6D-4CB9-AEB8-F18A2DA6B3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37A3-07FC-4986-BB64-9F7E9A12AE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6.wmf"/><Relationship Id="rId12" Type="http://schemas.openxmlformats.org/officeDocument/2006/relationships/image" Target="../media/image7.gif"/><Relationship Id="rId13" Type="http://schemas.openxmlformats.org/officeDocument/2006/relationships/image" Target="../media/image8.gi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6.wmf"/><Relationship Id="rId16" Type="http://schemas.openxmlformats.org/officeDocument/2006/relationships/image" Target="../media/image7.gi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4.wmf"/><Relationship Id="rId19" Type="http://schemas.openxmlformats.org/officeDocument/2006/relationships/image" Target="../media/image9.png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82080" y="189000"/>
            <a:ext cx="708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242492"/>
                </a:solidFill>
                <a:latin typeface="Arial Black"/>
              </a:rPr>
              <a:t>Правила поведен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242492"/>
                </a:solidFill>
                <a:latin typeface="Arial Black"/>
              </a:rPr>
              <a:t>           </a:t>
            </a:r>
            <a:r>
              <a:rPr b="1" i="1" lang="en-US" sz="5400" spc="-1" strike="noStrike">
                <a:solidFill>
                  <a:srgbClr val="242492"/>
                </a:solidFill>
                <a:latin typeface="Arial Black"/>
              </a:rPr>
              <a:t>в лес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773680" y="1628640"/>
            <a:ext cx="2830680" cy="4087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868480" cy="410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1403280" y="5915160"/>
          <a:ext cx="620640" cy="826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03280" y="5915160"/>
                    <a:ext cx="6206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2916360" y="5805360"/>
          <a:ext cx="726840" cy="874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5805360"/>
                    <a:ext cx="72684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179280" y="5867280"/>
          <a:ext cx="727200" cy="874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9280" y="5867280"/>
                    <a:ext cx="72720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5219640" y="5661000"/>
          <a:ext cx="582840" cy="1031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219640" y="5661000"/>
                    <a:ext cx="58284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" name="" descr=""/>
          <p:cNvPicPr/>
          <p:nvPr/>
        </p:nvPicPr>
        <p:blipFill>
          <a:blip r:embed="rId12"/>
          <a:stretch/>
        </p:blipFill>
        <p:spPr>
          <a:xfrm>
            <a:off x="1973160" y="5622840"/>
            <a:ext cx="943200" cy="1190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3"/>
          <a:stretch/>
        </p:blipFill>
        <p:spPr>
          <a:xfrm>
            <a:off x="3780000" y="5334120"/>
            <a:ext cx="1523880" cy="152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971640" y="5781600"/>
          <a:ext cx="582480" cy="1032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971640" y="5781600"/>
                    <a:ext cx="58248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" name="" descr=""/>
          <p:cNvPicPr/>
          <p:nvPr/>
        </p:nvPicPr>
        <p:blipFill>
          <a:blip r:embed="rId16"/>
          <a:stretch/>
        </p:blipFill>
        <p:spPr>
          <a:xfrm>
            <a:off x="6437160" y="5622840"/>
            <a:ext cx="943200" cy="119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5796000" y="5877000"/>
          <a:ext cx="620640" cy="826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796000" y="5877000"/>
                    <a:ext cx="6206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6804000" y="6524640"/>
            <a:ext cx="23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ab6"/>
                </a:solidFill>
                <a:latin typeface="Arial Black"/>
              </a:rPr>
              <a:t>Берюхова Е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9"/>
          <a:stretch/>
        </p:blipFill>
        <p:spPr>
          <a:xfrm>
            <a:off x="954072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42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048560" y="128520"/>
            <a:ext cx="50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242492"/>
                </a:solidFill>
                <a:latin typeface="Tahoma"/>
              </a:rPr>
              <a:t>Не разоряйте птичьи гнёзд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98320" y="1125360"/>
            <a:ext cx="35625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Дети запомнить долж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И поня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Гнёзда у птич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Нельзя разоря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Если в тра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Увидали яйц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Или услыша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Крики птенц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Не приближайтес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Не лезьте т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И не тревожь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Ни птиц, ни гнез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451640" y="5300640"/>
            <a:ext cx="1204920" cy="1204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3958920" cy="6478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9468000" y="836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21000">
    <p:blinds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12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50680" y="443700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2492"/>
                </a:solidFill>
                <a:latin typeface="Arial Black"/>
              </a:rPr>
              <a:t>Не разоряйте муравей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9760" y="4941720"/>
            <a:ext cx="415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Муравьи – лесные санита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Так прозвали люди их недаро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Чтобы лес красив был и здор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Без личинок вредных и жук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Муравьи на страже день и ноч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Гонят разных короедов проч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97480" y="4941720"/>
            <a:ext cx="443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Только ты им, друг мой, не меш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Муравейники не разоря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Эти санитары так нуж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Для лесов твоей родной стран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187280" y="189000"/>
            <a:ext cx="6480360" cy="4319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9540720" y="227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30000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80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390400" y="4556160"/>
            <a:ext cx="39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2492"/>
                </a:solidFill>
                <a:latin typeface="Arial Black"/>
              </a:rPr>
              <a:t>Не рвите редкие цв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00" y="5300640"/>
            <a:ext cx="3722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Есть цветочки редк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Белые и неж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Вам кивнут приветли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Ландыши, подснежник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67000" y="5241960"/>
            <a:ext cx="4007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Только рвать не надо их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С ними лес добрей, свет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Ведь теперь цветов та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Очень мало на земле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116000" y="141120"/>
            <a:ext cx="6696000" cy="4464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9396360" y="234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0000">
    <p:blinds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9596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92840" y="3716280"/>
            <a:ext cx="70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2492"/>
                </a:solidFill>
                <a:latin typeface="Arial Black"/>
              </a:rPr>
              <a:t>     </a:t>
            </a:r>
            <a:r>
              <a:rPr b="1" lang="en-US" sz="2400" spc="-1" strike="noStrike">
                <a:solidFill>
                  <a:srgbClr val="242492"/>
                </a:solidFill>
                <a:latin typeface="Arial Black"/>
              </a:rPr>
              <a:t>Не разжигай костёр в лесу без взросл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36560" y="4149720"/>
            <a:ext cx="6333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Без взрослых с огнём развлекаться опасно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Закончиться может забава ужас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В лесу очень сухо бывает пор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Костёр обернётся серьёзной бедо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Представьте, что пламя легко разгорит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Начнёт полыхать, разбегаться искриться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Его потушить невозможно тогд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Пожары лесные – большая бед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619280" y="95400"/>
            <a:ext cx="5473800" cy="3647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9540720" y="2924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30000">
    <p:blinds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0172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48200" y="4292640"/>
            <a:ext cx="42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2492"/>
                </a:solidFill>
                <a:latin typeface="Arial Black"/>
              </a:rPr>
              <a:t>Не оставляй мусор в ле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6360" y="4653000"/>
            <a:ext cx="4324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Вы в поход пришли, ребят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Отдохнуть, конечно, над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Поиграть и порезвить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И наесться, и напить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Но вокруг остались бан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Целлофан, железки, склянк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21160" y="4653000"/>
            <a:ext cx="3865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Оставлять их здесь нельз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Не поленимся, друзь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Мусор тут, в лесу, чуж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Заберём его с собо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692360" y="189000"/>
            <a:ext cx="6264360" cy="4174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9540720" y="263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28000">
    <p:blinds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7139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605600" y="4221000"/>
            <a:ext cx="531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2492"/>
                </a:solidFill>
                <a:latin typeface="Arial Black"/>
              </a:rPr>
              <a:t>Не портите несъедобные гри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8600" y="4869000"/>
            <a:ext cx="423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В лесу грибов различных мног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Ты несъедобные не трог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В корзинку их не собира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Но и ногами не сбивай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Нужны они лесным зверята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Лисичкам, ёжикам, зайчатам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96560" y="4869000"/>
            <a:ext cx="359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Их только люди не едя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В поганках, мухоморах – я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Но для зверья лесного всё 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Тот гриб полезен и хорош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692360" y="189000"/>
            <a:ext cx="5976720" cy="3984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932360" y="-45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32000">
    <p:blinds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0890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276360" y="1484280"/>
            <a:ext cx="179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кон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292640"/>
            <a:ext cx="864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резентация подготовлена на основе игрового дидактического материала «Береги живое» Воспитателем Кондакчян Г.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084720" y="1806480"/>
            <a:ext cx="2374920" cy="1962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42764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064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18:34:26Z</dcterms:created>
  <dc:creator>Берюхова</dc:creator>
  <dc:description/>
  <dc:language>en-US</dc:language>
  <cp:lastModifiedBy>Windows User</cp:lastModifiedBy>
  <dcterms:modified xsi:type="dcterms:W3CDTF">2019-05-25T12:34:21Z</dcterms:modified>
  <cp:revision>30</cp:revision>
  <dc:subject/>
  <dc:title>Слайд 1</dc:title>
</cp:coreProperties>
</file>