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gif" ContentType="image/gif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B70-F36F-4DCF-9D8F-51A749AA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307-093C-41C5-B88D-FAEBB8F9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18C-5E82-4A2B-BD09-7E2F1570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8B0-8F37-4928-AAB6-04E09E0A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CB5F-1377-4FA6-AE4D-3EE971FF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A58C-AEAE-4C71-AB4F-F5D78892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F77-D26C-4D30-A6F2-016BF8BF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E2DA-CDC5-48C0-8550-92F3AAB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7D1F-3AF9-4945-B168-77A7B2A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DAE-7190-4484-A195-943D133C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DC2-7C9A-4FA7-967D-1E574593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B87-E359-4C08-A17A-02C56952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895F-8C4F-44B9-8471-FB4FDA0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F5BC-C53C-4C17-BDD0-9849944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B49-2087-47A3-A6B2-A3145EE4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7EB9-B881-4075-9922-A65BEBCA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90D6-AE4C-43A5-B8AC-6CD3AFF3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A43-CFC1-43C5-8C26-C5C1806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627-4446-4ACE-85D5-427047E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71A-C6BC-48C7-90D4-1E192205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2B9-743E-40F6-BF0A-A69A032D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D3B-BD40-4BA1-8E77-A516E9F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905-87C0-4E9D-8551-C1A64707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763-AC18-4762-A4FA-DA3B582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C7E-3FB7-4707-8F5A-0F283D428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FE3-4AC5-4D79-80AB-081DB20A6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wmf"/><Relationship Id="rId12" Type="http://schemas.openxmlformats.org/officeDocument/2006/relationships/image" Target="../media/image7.gif"/><Relationship Id="rId13" Type="http://schemas.openxmlformats.org/officeDocument/2006/relationships/image" Target="../media/image8.gi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.wmf"/><Relationship Id="rId16" Type="http://schemas.openxmlformats.org/officeDocument/2006/relationships/image" Target="../media/image7.gi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.wmf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82080" y="189000"/>
            <a:ext cx="708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42492"/>
                </a:solidFill>
                <a:latin typeface="Arial Black"/>
              </a:rPr>
              <a:t>Правила повед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42492"/>
                </a:solidFill>
                <a:latin typeface="Arial Black"/>
              </a:rPr>
              <a:t>           </a:t>
            </a:r>
            <a:r>
              <a:rPr b="1" i="1" lang="en-US" sz="5400" spc="-1" strike="noStrike">
                <a:solidFill>
                  <a:srgbClr val="242492"/>
                </a:solidFill>
                <a:latin typeface="Arial Black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73680" y="1628640"/>
            <a:ext cx="2830680" cy="408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868480" cy="410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403280" y="5915160"/>
          <a:ext cx="620640" cy="8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591516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916360" y="5805360"/>
          <a:ext cx="726840" cy="8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5805360"/>
                    <a:ext cx="726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9280" y="5867280"/>
          <a:ext cx="72720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5867280"/>
                    <a:ext cx="727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219640" y="5661000"/>
          <a:ext cx="58284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5661000"/>
                    <a:ext cx="582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1973160" y="5622840"/>
            <a:ext cx="94320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780000" y="533412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971640" y="5781600"/>
          <a:ext cx="582480" cy="103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5781600"/>
                    <a:ext cx="58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6437160" y="5622840"/>
            <a:ext cx="94320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796000" y="5877000"/>
          <a:ext cx="620640" cy="82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6000" y="587700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04000" y="652464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ab6"/>
                </a:solidFill>
                <a:latin typeface="Arial Black"/>
              </a:rPr>
              <a:t>Берюх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95407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242492"/>
                </a:solidFill>
                <a:latin typeface="Tahoma"/>
              </a:rPr>
              <a:t>Не разоряйте птичьи гнёзд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98320" y="112536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468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0680" y="443700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разоряйте мураве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760" y="4941720"/>
            <a:ext cx="415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7480" y="494172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олько ты им, друг мой, не меш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равейники не разоря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Эти санитары так 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Для лесов твоей родной стра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480360" cy="431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54072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80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396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59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54072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0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17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48200" y="429264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оставляй мусор в л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360" y="4653000"/>
            <a:ext cx="432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ы в поход пришли, ребят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Отдохнуть, конечно, над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играть и порезв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 наесться, и напит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Но вокруг остались бан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21160" y="4653000"/>
            <a:ext cx="38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Оставлять их здесь нельз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Не поленимся, друз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берём его с с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6264360" cy="417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54072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8000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713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5600" y="422100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портите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8600" y="486900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96560" y="486900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976720" cy="3984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2000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89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360" y="1484280"/>
            <a:ext cx="17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292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зентация подготовлена на основе игрового дидактического материала «Береги живое» Воспитателем Кондакчян Г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84720" y="1806480"/>
            <a:ext cx="2374920" cy="196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2764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6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8:34:26Z</dcterms:created>
  <dc:creator>Берюхова</dc:creator>
  <dc:description/>
  <dc:language>en-US</dc:language>
  <cp:lastModifiedBy>Windows User</cp:lastModifiedBy>
  <dcterms:modified xsi:type="dcterms:W3CDTF">2019-05-25T12:34:21Z</dcterms:modified>
  <cp:revision>30</cp:revision>
  <dc:subject/>
  <dc:title>Слайд 1</dc:title>
</cp:coreProperties>
</file>