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DCC2-B4A8-45CB-A18A-A000390060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ECDD-A361-4F69-B8B1-35DB0A05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7EFD-F843-4C16-89B1-F8DAE5A6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2876-57B7-42BA-85E6-F75697E57F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2D378-0E83-45DC-AEFB-25BED39498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74C94-150F-4E35-8DC7-B08C449F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9A75F-D458-45BB-878B-180992BA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28EE9-B415-4C5B-A181-83F9163A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719CF-0378-48E7-ACDA-4F3BA73F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910E4-E579-4F38-85B6-4C8773F3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35153-7C8F-4069-B6D3-470713C9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F43E-FF2C-4FFC-A6AE-C28C2885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BF06D-FEE0-4538-AC5D-B647AF5E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1E461-3A4A-483B-8636-88635484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4C98E-3741-47A4-B3B2-8172EC02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F3324-2EAE-4E9F-B5E2-69B8593F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7EBBE-920E-435D-8D94-E17FF77D50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69B4-7392-44E2-8CDC-8948FF3E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7603-7B26-4365-A001-24252B7D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A57F-4940-4FD8-9AD9-596CCDCB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1BE9-58D6-48A7-A0D0-BE31AA31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B823-1567-4DAD-8280-E459F0CD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DA66-B983-4C69-A8AA-B73A31AC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4DE4-08DC-4943-AE80-A41834E5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1/27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266BC-0172-400E-9F29-0B90E5C3ED0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1/27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F97F1-EC63-480D-A352-2399CBBF51C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920" y="3597120"/>
            <a:ext cx="5834160" cy="16239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Times New Roman"/>
              </a:rPr>
              <a:t>Святое дело Родине служит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1640" y="404640"/>
            <a:ext cx="763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«Письма опаленные Войно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408720" cy="44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71640" y="476280"/>
            <a:ext cx="763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Изготовление открыток для п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816360" cy="267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3889080" cy="3143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4032360" cy="26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fevral.jpg"/>
          <p:cNvPicPr/>
          <p:nvPr/>
        </p:nvPicPr>
        <p:blipFill>
          <a:blip r:embed="rId1"/>
          <a:stretch/>
        </p:blipFill>
        <p:spPr>
          <a:xfrm>
            <a:off x="108000" y="380880"/>
            <a:ext cx="892980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333360"/>
            <a:ext cx="7775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«Святое дело Родине служить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(23 января – 25 февраля 2019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484280"/>
            <a:ext cx="381636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 мероприятий предусматривал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ирование эмоционально-волевых качеств гражданина - патриота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условий для духовного и физического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ие стремления к сохранению и приумножению военного, исторического и культурного наслед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хранение и передача героического наследия от старшего поколения к младшему, осознание глубинных связей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2249280" cy="1500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2124360" cy="1679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084720" y="4581360"/>
            <a:ext cx="2376720" cy="18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404640"/>
            <a:ext cx="7561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росмотр видеофиль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«Дни воинской Славы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613320" cy="4178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135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333360"/>
            <a:ext cx="756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Оформление стенгазеты «Такая разная Вой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618080" cy="307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11640" y="2924280"/>
            <a:ext cx="432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211640" y="3357720"/>
            <a:ext cx="417672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333360"/>
            <a:ext cx="756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Оформление стенгазеты «Такая разная Вой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2924280"/>
            <a:ext cx="432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1261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333360"/>
            <a:ext cx="75614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оисковая информация и изготовление стенда в группе продленного дня «Никто не забыт, ничто не забыт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2924280"/>
            <a:ext cx="432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71824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333360"/>
            <a:ext cx="756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резентация «75-летие блокады Ленингр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2924280"/>
            <a:ext cx="432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g6"/>
          <p:cNvPicPr/>
          <p:nvPr/>
        </p:nvPicPr>
        <p:blipFill>
          <a:blip r:embed="rId1"/>
          <a:stretch/>
        </p:blipFill>
        <p:spPr>
          <a:xfrm>
            <a:off x="539640" y="1052640"/>
            <a:ext cx="3457800" cy="2689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7"/>
          <p:cNvPicPr/>
          <p:nvPr/>
        </p:nvPicPr>
        <p:blipFill>
          <a:blip r:embed="rId2"/>
          <a:stretch/>
        </p:blipFill>
        <p:spPr>
          <a:xfrm>
            <a:off x="3708360" y="1197000"/>
            <a:ext cx="4176720" cy="216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908000" y="2997360"/>
            <a:ext cx="51008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404640"/>
            <a:ext cx="763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«Письма опаленные Войно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4270320" cy="284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3457800" cy="250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3846600" cy="275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356000" y="3500280"/>
            <a:ext cx="4032360" cy="26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1640" y="404640"/>
            <a:ext cx="763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«Письма опаленные Войно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45600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4067280" cy="2711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39610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29:51Z</dcterms:created>
  <dc:creator>Admin</dc:creator>
  <dc:description/>
  <dc:language>en-US</dc:language>
  <cp:lastModifiedBy>Admin</cp:lastModifiedBy>
  <dcterms:modified xsi:type="dcterms:W3CDTF">2019-05-25T12:32:45Z</dcterms:modified>
  <cp:revision>133</cp:revision>
  <dc:subject/>
  <dc:title>Письма опаленные войн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