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8D4B-34D2-426E-A3EC-5E5F18CDD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7E6E-0144-4A8B-87F5-A38E5E7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B492-9E51-4176-9D74-2F1F1C0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DD74-816A-466B-852E-73F51DAA2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48972-3506-4458-B8CB-4E4495BC4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9DE45-65E2-4FA7-8F93-BA9D3B5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8730C-25D9-44B9-A021-0208F96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515A1-235A-45B3-973E-5288F93A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D9098-196A-4A5A-A025-BE786171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90D67-B9F9-4445-BFDF-6B68223F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68829-C404-4705-8762-144AF4A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5A0D-90FD-4509-A26E-0ADE1E0E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3B3E5-D5AF-4E15-A03C-5636E04D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69BB0-F97E-49E9-8DB7-672D201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E776A-FB04-426D-883D-862E6A9A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59693-8685-4DAE-8559-93DDF4B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CB34-BFA7-421A-B96F-03222FED3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4E04-6BD8-4CF6-9B93-D5EE9205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F7D5-47A6-4581-950E-FF4E161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9D8C-693F-4EF5-9FF6-75E2E30E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77EA-E228-4159-942F-262908B2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8B75-02B6-4982-AC09-655C611C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38AC-9060-49CD-83C6-8D4B9FA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233C-F4FC-43A8-9398-F70BBD04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9E098-81AA-4E41-BF7B-EA4FADB2F3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/27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03482-5DA8-49D2-AF7B-02B9A407AE3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26920" y="3597120"/>
            <a:ext cx="5834160" cy="16239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Святое дело Родине служит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40464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Письма опаленные Войн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4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47628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Изготовление открыток для п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267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1341360"/>
            <a:ext cx="3889080" cy="3143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4032360" cy="26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fevral.jpg"/>
          <p:cNvPicPr/>
          <p:nvPr/>
        </p:nvPicPr>
        <p:blipFill>
          <a:blip r:embed="rId1"/>
          <a:stretch/>
        </p:blipFill>
        <p:spPr>
          <a:xfrm>
            <a:off x="108000" y="380880"/>
            <a:ext cx="892980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333360"/>
            <a:ext cx="7775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Святое дело Родине служить!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(23 января – 25 февраля 2019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484280"/>
            <a:ext cx="38163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 мероприятий предусматривал решение следующи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ирование эмоционально-волевых качеств гражданина - патриота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ние условий для духовного и физического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ие стремления к сохранению и приумножению военного, исторического и культурного наслед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хранение и передача героического наследия от старшего поколения к младшему, осознание глубинных связей поко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2249280" cy="150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2124360" cy="1679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376720" cy="18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404640"/>
            <a:ext cx="75614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росмотр видеофи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Дни воинской Славы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613320" cy="417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135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333360"/>
            <a:ext cx="756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Оформление стенгазеты «Такая разная Вой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618080" cy="307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33360"/>
            <a:ext cx="756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Оформление стенгазеты «Такая разная Вой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261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333360"/>
            <a:ext cx="75614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оисковая информация и изготовление стенда в группе продленного дня «Никто не забыт, ничто не забыт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7182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333360"/>
            <a:ext cx="7561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резентация «75-летие блокады Ленингр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2924280"/>
            <a:ext cx="432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g6"/>
          <p:cNvPicPr/>
          <p:nvPr/>
        </p:nvPicPr>
        <p:blipFill>
          <a:blip r:embed="rId1"/>
          <a:stretch/>
        </p:blipFill>
        <p:spPr>
          <a:xfrm>
            <a:off x="539640" y="1052640"/>
            <a:ext cx="3457800" cy="2689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7"/>
          <p:cNvPicPr/>
          <p:nvPr/>
        </p:nvPicPr>
        <p:blipFill>
          <a:blip r:embed="rId2"/>
          <a:stretch/>
        </p:blipFill>
        <p:spPr>
          <a:xfrm>
            <a:off x="3708360" y="1197000"/>
            <a:ext cx="4176720" cy="216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51008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40464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Письма опаленные Войн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270320" cy="284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457800" cy="250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3846600" cy="2757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356000" y="3500280"/>
            <a:ext cx="403236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404640"/>
            <a:ext cx="763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«Письма опаленные Войн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067280" cy="2711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39610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29:51Z</dcterms:created>
  <dc:creator>Admin</dc:creator>
  <dc:description/>
  <dc:language>en-US</dc:language>
  <cp:lastModifiedBy>Admin</cp:lastModifiedBy>
  <dcterms:modified xsi:type="dcterms:W3CDTF">2019-05-25T12:32:45Z</dcterms:modified>
  <cp:revision>133</cp:revision>
  <dc:subject/>
  <dc:title>Письма опаленные войн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