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F538-459A-4E77-85F6-CA105194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D1FA-53E5-4774-B4D6-1EE5B834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044C8-4931-40A0-ADED-243A6D07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D4EBB-89C0-40FA-8E63-BB7AAF78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2D462-CC5A-4D37-8F08-5974E90A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E6F3C-1B49-4496-9931-800E29DE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6E96A-579F-4798-8DE3-265AEC95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20297-AC9E-4DC3-ACB0-431D9CB9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E001D-A811-478B-822D-9BF8829F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DB43C-193E-4A5C-9D20-D4D31E1D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C1D4B-2FE0-47EB-939B-8237A89D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9496-32C6-4791-81B0-953B603F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7579-8B06-4BE0-9455-00B857C6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AF2F-BD0D-4E1F-9A24-3858F192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4681-55FC-40B8-A588-D5C915DD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3137-4154-4429-8A78-B96D4050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DB54-F264-4D26-8D7A-726236D7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08CD-A1E6-4BB8-9B0B-250399BE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ACB5-7E9B-4893-9F41-58AFEBBC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3DE3-5E3A-400F-B7B4-1A1C02AA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0992-BBBC-4C81-82E7-97483CA0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D292-B371-45C1-B1BC-810D8E84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7CEE-C004-421C-9302-9036E617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D178-9AA4-4EB8-BAD7-7A4C93E7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0C8B-8A2E-48ED-9950-FD0D3762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400A-81E1-44E8-A197-7B0B951E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E4D47-CD0B-494C-95EE-C8783106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E8BAF-F7D3-46D4-A038-03528E0E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29E7E-24EB-4F50-A91A-906005BF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4719F-626E-4915-AE60-8C5A000C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BD84C-B099-4817-9420-8C70E345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29D-39D3-4151-89C1-BAB68783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AB2F3-3670-4FE9-A7BF-F9BEC11F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B8D0C-7892-48C0-A017-848BE901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9F5A7-EA0F-42D8-B8FF-3646F6B0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A05FB-7ED1-4C6D-9DBA-5F1F9772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A2A1A-0B15-4946-9044-2B8BD7DB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C9DCE-4A92-496D-84FF-AA2F7579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C06C4-6243-45EF-8D99-BE31395E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D139A-25FB-493E-B6ED-6870AC9A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59000-DA19-4607-835D-29AB401D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4509B-78D9-40B2-A316-43EBC9D2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4B4B-1FC8-4552-A68C-73F18E84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C66CC-9913-4423-B86C-566D8115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B6AFA-E061-4695-89E0-E00F0A67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B12D5-92D1-406D-A11C-0DF20F20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8339E-69E2-46E3-9D3E-91AC0861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C117D-3981-4143-8B56-EA40D732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1AB4C-464A-4617-9C77-A883E9FC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9C14C-6CA7-4FA9-8F89-48C09991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CCEFE-6AB3-451C-A11A-2CDF96B3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65A1A-942A-4D52-886A-95DCDB1D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B97BD-B1BA-4127-8F7D-796C3603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B51F-4D01-48F8-AF1F-FBF7758F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8F29F-5DF7-43D4-9C82-67A71CD7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208B9-9870-4857-89D5-DC5BD483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7F66A-5DB8-4562-8563-B136F515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21E92-C864-46D3-937C-3F312DB9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3BEF0-D621-4EFD-B828-192B3CF5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6308D-5597-4CE5-8D63-74C5F162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9F2AA-6694-4F2C-B59F-45D71DDE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F61AC-65F0-4920-BE69-F573B62D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73428-1D40-4C38-9D3A-6AEE8B40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6E350-B8F2-4F30-9F1B-EB328BE9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82F6-A9C8-4789-8A14-811E3303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42B23-548F-48FB-B2EC-852A27DC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9DB3A-DC6D-422D-9824-2147CADD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6A325-E2D6-41F5-ADA7-21F48B2E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B5738-97C3-4092-A18B-47139C6D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2234D-A83B-42F2-8960-3AEB8418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D9B02-76E7-4DA8-8278-090FF360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79567-9F2F-4266-A6B6-D3A5F173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A87BF-BC2B-4FAA-A3F9-12AE98DF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E330F-220F-415B-A93C-CF322150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F59F3-8540-4F5E-9A8B-9A440D93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0FA5-BDEF-4771-AB33-FD52F764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C2264-CE7B-408C-9473-8A19E64E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1CD77-AF93-4F0E-9BF2-EC3ED8EB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D2966-6D5F-49E8-B148-931B70EF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7E5F9-6480-432D-8247-ACB24C64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B4C87-73BA-46D4-A099-92AAFED6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BBB43-6896-4467-8282-6BC107C4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6BC32-1D68-41EA-9635-550A64DD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D9F1F-26A3-475A-A455-2BFD8BC1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6C2C4-3C23-4FF3-951D-45876EEF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FD5B8-BCB2-4335-B4C4-28160E42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80A5-1116-4162-ACCD-A315C571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D4B51-34BD-4E8D-9D83-5FEA73C4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764B5-B16C-4EF0-BCC2-4D9C53AA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FD425-3336-416E-8CA7-A7A358C0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40397-D302-498A-8E1F-4B1AD380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04D87-55DE-4E1A-AB8E-1FFA903A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E4557-FC7F-4427-B744-AA00FF33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00399-524C-4E14-821E-2CBEF7D9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43A45-AD2B-4553-AF4F-71B46DD0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805C7-5B4B-4F0B-858F-BB912100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67930-BA15-48F6-85B4-22695D99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93E1-411D-40D2-A6D4-46C2B6B6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B8915-2B3B-42D3-8802-EFC1D9F4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DB0E3-933B-4D01-8E64-01DF1721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F8B5C-05E1-44D8-A034-C7D9B568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AD074-7428-45B6-B9E5-C4160C23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0699F-06B8-4711-AD36-92EEC683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42304-6B6A-4FEA-ADAA-FF163191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E77F1-EE71-4287-B374-FBB9A8C8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C7321-F8F4-4D6D-B87B-0786142C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6C5B9-F818-4386-9AB9-76632523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FE3B2-B30D-4458-9A78-B2B550B6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251F-E0DA-45DB-BD2A-F4AF4977E6E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3F98-540A-4CE6-9CD7-D2CCF17D943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C37B-3443-4D3D-882D-48AD0452D67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CE6D-7E04-4282-9656-8D1A234BAFB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25D5-5D48-40E1-9C69-85283A349A3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0B70-78E7-430F-AF8A-06E07BAACC5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8CAC-34C2-4E28-A436-4710C8D045F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1776-84F0-4C51-8872-837DDA0B020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AE2B-35C9-4B8D-A86F-7E3B654A4E2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706840" y="609480"/>
            <a:ext cx="6205320" cy="54738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499920"/>
            <a:ext cx="8458200" cy="29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3329"/>
                </a:solidFill>
                <a:latin typeface="Franklin Gothic Book"/>
              </a:rPr>
              <a:t>По материалам вебинаров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1" i="1" lang="ru-RU" sz="2400" spc="-1" strike="noStrike">
                <a:solidFill>
                  <a:srgbClr val="443329"/>
                </a:solidFill>
                <a:latin typeface="Franklin Gothic Book"/>
              </a:rPr>
              <a:t>Дробышевой Елены Александровны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3329"/>
                </a:solidFill>
                <a:latin typeface="Franklin Gothic Book"/>
              </a:rPr>
              <a:t>Подготовила : учитель-дефектолог Котина Н.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2" descr="http://gsinsure.co.za/images/2014/business/business-life-insurance/paper_family.jpg"/>
          <p:cNvPicPr/>
          <p:nvPr/>
        </p:nvPicPr>
        <p:blipFill>
          <a:blip r:embed="rId2"/>
          <a:stretch/>
        </p:blipFill>
        <p:spPr>
          <a:xfrm>
            <a:off x="155520" y="152280"/>
            <a:ext cx="27399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98440" y="23760"/>
            <a:ext cx="8699400" cy="19764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Гиперопека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Противоречивое воспитание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оспитание по типу повышенной моральной ответственности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Авторитарная гиперсоциализация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оспитание в «культе» болезни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имбиотический тип воспитания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Тип воспитания «маленький неудачник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Гипоопека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Отвержение ребенка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Franklin Gothic Medium"/>
              </a:rPr>
              <a:t>ОСНОВНЫЕ ФАЗЫ ПСИХОЛОГИЧЕСКОГО СОСТОЯНИЯ РОДИТЕЛЕЙ, КОГДА В СЕМЬЕ ПОЯВЛЯЕТСЯ «ОСОБЫЙ» РЕБЁНОК: </a:t>
            </a:r>
            <a:endParaRPr b="0" lang="en-US" sz="25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0" y="119664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Franklin Gothic Book"/>
              </a:rPr>
              <a:t>1-я фаза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– шок, растерянность, беспомощность, страх, возникновение чувства собственной неполноценности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Franklin Gothic Book"/>
              </a:rPr>
              <a:t>2-я фаза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– «неадекватное» отношение к дефекту ребёнка, характеризующееся негативизмом и отрицанием поставленного диагноза, что является своеобразной защитной реакцией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Franklin Gothic Book"/>
              </a:rPr>
              <a:t>3-я фаза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– «частичное осознание дефекта ребёнка», сопровождаемое чувством хронической печали; депрессивное состояние вследствие постоянной зависимости родителей от потребностей ребёнка, отсутствием у него положительных изменений в развитии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Franklin Gothic Book"/>
              </a:rPr>
              <a:t>4-я фаза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– начало социально-психологической адаптации всех членов семьи, вызванного принятием дефекта; установление адекватных отношений со специалистами и выполнение их рекомендаций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Franklin Gothic Medium"/>
              </a:rPr>
              <a:t>ЦЕЛИ СОПРОВОЖДЕНИЯ СЕМЬИ РЕБЕНКА С ОВЗ  В ОБРАЗОВАТЕЛЬНОЙ ОРГАНИЗАЦИИ: 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1000" y="764640"/>
            <a:ext cx="903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пособствовать установлению и развитию отношений партнерства и сотрудничества родителя с ребенком, созданию оптимальных условий для гармоничного развития ребенка с ВОЗ в семье, профилактике дезадаптации его в социуме, через: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решение личных проблем родителей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актуализацию ресурсов семьи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изменение отношения к своему ребёнку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оррекцию детско-родительских коррекцию детско-родительских отношений и неконструктивных форм отношений и неконструктивных форм поведения родителя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ведения родителя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бучение родителей правильным способам взаимодействия с детьми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ооружение родителей психологическими знаниями и повышение уровня родительской компетент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РАБОТА С РОДИТЕЛЯМИ ПРОВОДИТСЯ ПО ЧЕТЫРЕМ НАПРАВЛЕНИЯМ 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огнитивно-информационный блок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отивационно-смысловой блок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моционально-энергетический блок (работа с чувствами, переживаниями)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перационный блок.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3635280" y="2911320"/>
            <a:ext cx="549756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37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Medium"/>
              </a:rPr>
              <a:t>ВИДЫ ПСИХОЛОГО-ПЕДАГОГИЧЕСКОЙ ПОМОЩИ СЕМЬЕ, ВОСПИТЫВАЮЩЕЙ РЕБЁНКА-ИНВАЛИДА: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240" y="1197000"/>
            <a:ext cx="911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информирование: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пециалисты предоставляют семье информацию о закономерностях и особенностях развития ребёнка, о его возможностях и ресурсах, о сущности самого расстройства, которым страдает их ребёнок, о вопросах воспитания и обучения такого ребёнка и т.д.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индивидуальное консультирование: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актическая помощь родителям в поиске решений в проблемных ситуациях, в налаживании конструктивных отношений со своим ребёнком, а также как процесс информирования родителей о нормативно-правовых аспектах будущего семьи, вытаскивание их из «информационного вакуума», прогнозирование возможностей развития и обучения ребёнка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37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Medium"/>
              </a:rPr>
              <a:t>ВИДЫ ПСИХОЛОГО-ПЕДАГОГИЧЕСКОЙ ПОМОЩИ СЕМЬЕ, ВОСПИТЫВАЮЩЕЙ РЕБЁНКА-ИНВАЛИДА: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240" y="1197000"/>
            <a:ext cx="911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семейное консультирование :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пециалист оказывает поддержку в преодолении эмоциональных нарушений в семье, вызываемых появлением «особого» ребёнка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индивидуальные занятия с ребенком в присутствии матери: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одбираются эффективные методы воспитательно-педагогического воздействия на ход психического развития самого ребёнка и результативные способы обучения родителей коррекционно-развивающим технологиям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групповая работа: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рганизация работы родительских и детско-родительских групп, в которых участникам предоставляется возможность поделиться собственным опытом и узнать об опыте других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36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Franklin Gothic Medium"/>
              </a:rPr>
              <a:t>ТИПОЛОГИЯ РОДИТЕЛЕЙ, ВОСПИТЫВАЮЩИХ «ОСОБОГО» РЕБЁНКА </a:t>
            </a:r>
            <a:endParaRPr b="0" lang="en-US" sz="23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0" y="620280"/>
            <a:ext cx="91440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Franklin Gothic Book"/>
              </a:rPr>
              <a:t>I группа – родители авторитарного типа: </a:t>
            </a: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Родители с активной жизненной позицией, импульсивные, отличающиеся нетерпимостью, склонностью к риску, с высоким уровнем притязаний. Отказываются принимать ситуацию, связанную с появлением на свет больного ребенка как трагическую; принимают дефект ребёнка и стремятся преодолевать проблемы. Направляют свои усилия на поиски лучших специалистов, знаменитых экстрасенсов и народных целителей. Они обладают умением не видеть преграды на своём пути и уверены в том, что когда-либо с их ребёнком может произойти чудо. В стрессовых ситуациях ведут себя активно, в их высказываниях звучит активный протест против неразрешимости самой ситуации. С течением времени их силы не иссякают. Склонны к участию в ссорах и скандалах, в противопоставлении себя социальной среде («Пусть общество приспосабливается к нам и нашим детям, а не мы к ним» ) Их могут раздражать недостатки ребёнка, в результате чего к больным детям может проявляться необоснованная жестокость (окрик, физическое наказание)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-103320" y="6480"/>
            <a:ext cx="9137880" cy="7855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0" y="764640"/>
            <a:ext cx="90360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Franklin Gothic Book"/>
              </a:rPr>
              <a:t>II группа – родители невротичного типа: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войственна пассивная личностная позиция («Уж что есть, то и есть. Ничего не переделаешь. Каким ребенок родился, таким и будет!») У них не формируется способность к принятию проблемы ребёнка и не развивается стремление к её преодолению. В плане воспитания эти родители часто проявляют несостоятельность. В личности невротичных родителей чаще доминируют истерические, тревожно-мнительные и депрессивные черты. Это проявляется в стремлении избегать трудных жизненных ситуаций, а в отдельных случаях и в отказе от решения проблем. Родители невротичного типа недостаточно критично оценивают возможности своего ребенка, подсознательно стремятся скрыть его дефект и выдать желаемые результаты развития за действительные. Прожитая жизнь воспринимается ими как несложившаяся, несчастливая, загубленная рождением в семье «особого» малыша, а будущее ребёнка рисуется ими как бесперспективное и малоинтересно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-96840" y="109440"/>
            <a:ext cx="9247320" cy="7192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Franklin Gothic Book"/>
              </a:rPr>
              <a:t>III группа – родители психосоматического типа : 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Самая многочисленная категория родителей. Им свойственны более частые смены полярных настроений (то радость, то депрессия). Проблема ребёнка, чаще скрываемая от посторонних взглядов, переживается ими изнутри. У них отсутствует аффективная форма реагирования на проблему стресса, как у первых и вторых. Они не устраивают скандалов и ссор, в большинстве случаев ведут себя корректно, сдержанно, а иногда замкнуто. В поведении, как правило, проявляется нормативность. Для этих родителей характерно стремление «положить собственное здоровье на алтарь жизни своего ребёнка». Все усилия направляются на оказание ему помощи. Психосоматичные родители активно включаются в жизнь своего ребёнка: участвуют в деятельности детских образовательных учреждений, повышают свой образовательный уровень, меняют профессию в соответствии с нуждами и проблемами больного ребёнк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6T07:53:37Z</dcterms:created>
  <dc:creator>atto</dc:creator>
  <dc:description/>
  <dc:language>en-US</dc:language>
  <cp:lastModifiedBy>НАТА</cp:lastModifiedBy>
  <cp:lastPrinted>2015-06-08T19:45:14Z</cp:lastPrinted>
  <dcterms:modified xsi:type="dcterms:W3CDTF">2019-05-25T11:10:28Z</dcterms:modified>
  <cp:revision>24</cp:revision>
  <dc:subject/>
  <dc:title>Презентация PowerPoint</dc:title>
</cp:coreProperties>
</file>