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2C1-95AD-4237-B67B-AD17D6AF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E71-5341-416B-B3DE-ED15C9DA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84148-EB65-48EB-A2D8-EA1B3BE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F4936-7E93-408C-B76B-440D8ED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7465-C9ED-4C8D-950A-3A1E21C1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B410F-8FCE-4148-A38A-C7AA6C6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CA39D-F262-4C96-8B54-262E4526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D987A-0ECE-41F5-92A9-0CE49E2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54404-7945-41B1-B6F0-BE0775E3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CED1A-BCB1-40A1-9FD7-F8DD1CA4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2CE57-614C-455A-B57B-F8C6D1C8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596-2BE3-467A-99CE-A49D9C53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7CB-D7A2-44A1-BE1D-1A2DE3E2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1892-DE33-4592-9232-9FA264AB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ABB5-9A20-474E-8EE1-095F39CF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C8FF-9E50-4074-8CFC-021202C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FF3-4228-400D-A32C-11548300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3D4F-36B5-4447-B4D0-817B7C9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8C94-9E69-44EC-B9F0-4DDDB808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6702-CE35-4603-AE87-3DC6713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FC0-4FC7-401C-9A9F-49D4391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2019-4350-4617-9E31-B6949DED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4E4F-B3C3-403D-96D4-4051590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32C-EF97-425A-8D87-FA3BC123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A5B-1DFA-4969-AF1E-95872C80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F77-A8D4-43C7-B7D7-97FE6180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7B4F-AAF4-417D-B7B6-D2F3C4E2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AFD1-4534-4CD7-9452-8BCB536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B285-7870-4BB7-BEEB-186DD87D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1911-D78D-464B-A13E-68B61949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2234-DBFA-4A34-B2E8-8214247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85B-25FE-4D66-8816-8E4551CA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8B25-156C-4C80-938D-F02E0A82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1306-E828-4AC9-8D85-DA1B6CB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26BC-2D6D-425D-BD56-C966F5D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ACD3-77E4-4A10-A90A-8EE242B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F301-52BF-46B4-86B3-7CE595F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F5115-7482-4F84-98A9-D06901A8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5AC5-4D00-4732-8B01-D6DD1C20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3E494-5626-4AD1-B086-B419C61B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8A64-819A-4544-8CB7-AD5C06B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5D08-CB04-43D5-BD81-DADB830D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E00-2F91-4695-BD8E-9C028A09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AB3E-BE16-478E-89CE-9D5ED7BA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86BD-73B7-481C-BC21-FFB0F896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5AE7-183F-4508-8C95-E1051EBC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46FA-9BD0-4F5D-9930-124B4B6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9546A-3685-4A9E-83F1-24958661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0770-E4A7-43FF-A197-183FC7E5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29D10-E7D2-457A-9251-9F276EBE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7CD1-5F7D-4706-9C3B-7DC9AB96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BB0C-A618-44D9-9994-C814E201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8A1D-6A81-4CF5-9423-53290364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254-B840-47C6-839E-08D51399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7619-D56C-4EFE-96AD-79EC9BAE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61B3-B746-4433-888B-00479FD0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0F5DC-558F-4ED1-91B1-642F205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EB9D-892C-4DE2-8AEC-6E7482BA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DAA7-1D37-4929-9909-A9D50FD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AFA16-0EB5-4481-98F5-2F931721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41AA-8F9E-4FDF-B626-15D0115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4AD3-AB02-4167-ABEB-22CA196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3F68-6247-48F3-8C5B-0A5164EA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7B333-C6D1-4B99-96D1-C173FD35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95A-2DC8-437E-A6EF-63E4E75B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B73F-FA72-4F52-8AEB-0CDF581D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EC13-0F85-4860-BA44-05779002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A63B-3EBE-4E43-84DA-935DC397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C31D-A72F-4CB7-ABFB-FE189550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50F9-3043-4DE7-B72D-5769848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910B5-1B25-43CA-B389-9C03D32C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3FD5-603E-4595-81AF-687CA29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AC97-44C4-4F59-AD65-D75F3BC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74B1-C333-4FD8-8DA4-8D99B9D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4FC3-53C7-4E3F-92C8-5404F68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05E-1533-40DD-8B82-65C89054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8CE7-36FF-4726-ABEA-3F42BD7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6AEA7-4708-4F39-B366-8DE12A2D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D887F-4E92-4961-BB9B-D953A932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83A38-073C-499A-B771-A0209954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0C4D0-DD03-45C3-8591-74105251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ABCF1-3860-4C48-A7A0-880CA7C0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61FB0-326C-47F6-A896-70974E0F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D8CE1-AB1B-4CB9-84CC-4113FD0F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1E409-162A-4FA2-89BC-948A0B42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A8050-6817-4916-8091-B00AEC2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B4D-FEC6-40D8-B4D4-31697C0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F803-3CB6-4811-B47D-B9A7344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0CE4-2D25-412F-9D3E-95C4413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E69E-CCEA-4451-96E2-A4DCDED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19CED-F9B0-4A66-A733-AC24F75E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C7C0-704C-43B1-B5E7-070955DB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7F5F-6244-4027-AF80-63B06C5C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2AB86-0C3B-4B33-A10E-1163344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46DD-FD96-4980-BC43-2590D74C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7892B-69B9-46D1-91B0-8331609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B7625-5FC5-4BA4-A567-B603B56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31F-A46D-4F7E-B825-A2C9E1F1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B1515-DFCD-4465-B5BF-F4BE352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0199C-3286-4FE9-83CE-080CD512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1C910-9510-484D-AF6A-DF2B46CF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1709-5A1D-48CB-8E40-9AD8258E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D963E-FECE-4C6C-A7C7-EF58E374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BA6E1-B081-4500-BD07-5B339436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298B-D31D-4253-8278-B74EFAD2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9139B-49CD-475B-B443-0406C62D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9B915-F979-4EEF-AE3E-06F7B028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71A0D-FB57-4738-9A9D-AE352731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1CC2-DDB2-4E37-8AA8-B12E0301FF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ACD-886F-48B3-B800-E00AD747EC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EC75-F16A-48F8-A004-0C36C84AD0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14D8-8F75-47B0-88A2-7D5EBE7558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7391-0366-4E7D-B033-580208CFFE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0DFF-AD2A-4852-9187-1F02B50BD1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5BB1-EF54-4667-ACC7-20D4ADF94F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DD7D-C75E-47D6-83BC-40E17AC7B7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E40A-C23C-41EA-BA39-43B793A937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706840" y="609480"/>
            <a:ext cx="6205320" cy="5473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499920"/>
            <a:ext cx="8458200" cy="29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По материалам вебинар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Дробышевой Елены Александровн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3329"/>
                </a:solidFill>
                <a:latin typeface="Franklin Gothic Book"/>
              </a:rPr>
              <a:t>Подготовила : учитель-дефектолог Котина Н.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http://gsinsure.co.za/images/2014/business/business-life-insurance/paper_family.jpg"/>
          <p:cNvPicPr/>
          <p:nvPr/>
        </p:nvPicPr>
        <p:blipFill>
          <a:blip r:embed="rId2"/>
          <a:stretch/>
        </p:blipFill>
        <p:spPr>
          <a:xfrm>
            <a:off x="155520" y="152280"/>
            <a:ext cx="2739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976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иперопе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ротиворечивое воспитан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оспитание по типу повышенной моральной ответственност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вторитарная гиперсоциализац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оспитание в «культе» болезн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имбиотический тип воспитания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Тип воспитания «маленький неудачн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ипоопе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твержение ребен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Franklin Gothic Medium"/>
              </a:rPr>
              <a:t>ОСНОВНЫЕ ФАЗЫ ПСИХОЛОГИЧЕСКОГО СОСТОЯНИЯ РОДИТЕЛЕЙ, КОГДА В СЕМЬЕ ПОЯВЛЯЕТСЯ «ОСОБЫЙ» РЕБЁНОК: </a:t>
            </a:r>
            <a:endParaRPr b="0" lang="en-US" sz="2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119664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1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шок, растерянность, беспомощность, страх, возникновение чувства собственной неполноценност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2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«неадекватное» отношение к дефекту ребёнка, характеризующееся негативизмом и отрицанием поставленного диагноза, что является своеобразной защитной реакцией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3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«частичное осознание дефекта ребёнка», сопровождаемое чувством хронической печали; депрессивное состояние вследствие постоянной зависимости родителей от потребностей ребёнка, отсутствием у него положительных изменений в развити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4-я фаза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– начало социально-психологической адаптации всех членов семьи, вызванного принятием дефекта; установление адекватных отношений со специалистами и выполнение их рекомендаций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Franklin Gothic Medium"/>
              </a:rPr>
              <a:t>ЦЕЛИ СОПРОВОЖДЕНИЯ СЕМЬИ РЕБЕНКА С ОВЗ  В ОБРАЗОВАТЕЛЬНОЙ ОРГАНИЗАЦИИ: 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1000" y="764640"/>
            <a:ext cx="903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пособствовать установлению и развитию отношений партнерства и сотрудничества родителя с ребенком, созданию оптимальных условий для гармоничного развития ребенка с ВОЗ в семье, профилактике дезадаптации его в социуме, через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решение личных проблем родителе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ктуализацию ресурсов семь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менение отношения к своему ребёнку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оррекцию детско-родительских коррекцию детско-родительских отношений и неконструктивных форм отношений и неконструктивных форм поведения родител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ведения родител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учение родителей правильным способам взаимодействия с детьм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оружение родителей психологическими знаниями и повышение уровня родительской компетен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Medium"/>
              </a:rPr>
              <a:t>РАБОТА С РОДИТЕЛЯМИ ПРОВОДИТСЯ ПО ЧЕТЫРЕМ НАПРАВЛЕНИЯМ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гнитивно-информационный блок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отивационно-смысловой блок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моционально-энергетический блок (работа с чувствами, переживаниями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ерационный блок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635280" y="2911320"/>
            <a:ext cx="549756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ВИДЫ ПСИХОЛОГО-ПЕДАГОГИЧЕСКОЙ ПОМОЩИ СЕМЬЕ, ВОСПИТЫВАЮЩЕЙ РЕБЁНКА-ИНВАЛИДА: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240" y="1197000"/>
            <a:ext cx="91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информирование: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исты предоставляют семье информацию о закономерностях и особенностях развития ребёнка, о его возможностях и ресурсах, о сущности самого расстройства, которым страдает их ребёнок, о вопросах воспитания и обучения такого ребёнка и т.д.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индивидуальное консультирование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актическая помощь родителям в поиске решений в проблемных ситуациях, в налаживании конструктивных отношений со своим ребёнком, а также как процесс информирования родителей о нормативно-правовых аспектах будущего семьи, вытаскивание их из «информационного вакуума», прогнозирование возможностей развития и обучения ребёнка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Medium"/>
              </a:rPr>
              <a:t>ВИДЫ ПСИХОЛОГО-ПЕДАГОГИЧЕСКОЙ ПОМОЩИ СЕМЬЕ, ВОСПИТЫВАЮЩЕЙ РЕБЁНКА-ИНВАЛИДА: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240" y="1197000"/>
            <a:ext cx="91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емейное консультирование 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ист оказывает поддержку в преодолении эмоциональных нарушений в семье, вызываемых появлением «особого» ребёнка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индивидуальные занятия с ребенком в присутствии матери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бираются эффективные методы воспитательно-педагогического воздействия на ход психического развития самого ребёнка и результативные способы обучения родителей коррекционно-развивающим технологиям;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групповая работа: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рганизация работы родительских и детско-родительских групп, в которых участникам предоставляется возможность поделиться собственным опытом и узнать об опыте други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Franklin Gothic Medium"/>
              </a:rPr>
              <a:t>ТИПОЛОГИЯ РОДИТЕЛЕЙ, ВОСПИТЫВАЮЩИХ «ОСОБОГО» РЕБЁНКА </a:t>
            </a:r>
            <a:endParaRPr b="0" lang="en-US" sz="23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620280"/>
            <a:ext cx="91440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Franklin Gothic Book"/>
              </a:rPr>
              <a:t>I группа – родители авторитарного типа: </a:t>
            </a:r>
            <a:r>
              <a:rPr b="0" lang="ru-RU" sz="2100" spc="-1" strike="noStrike">
                <a:solidFill>
                  <a:srgbClr val="4e3b30"/>
                </a:solidFill>
                <a:latin typeface="Franklin Gothic Book"/>
              </a:rPr>
              <a:t>Родители с активной жизненной позицией, импульсивные, отличающиеся нетерпимостью, склонностью к риску, с высоким уровнем притязаний. Отказываются принимать ситуацию, связанную с появлением на свет больного ребенка как трагическую; принимают дефект ребёнка и стремятся преодолевать проблемы. Направляют свои усилия на поиски лучших специалистов, знаменитых экстрасенсов и народных целителей. Они обладают умением не видеть преграды на своём пути и уверены в том, что когда-либо с их ребёнком может произойти чудо. В стрессовых ситуациях ведут себя активно, в их высказываниях звучит активный протест против неразрешимости самой ситуации. С течением времени их силы не иссякают. Склонны к участию в ссорах и скандалах, в противопоставлении себя социальной среде («Пусть общество приспосабливается к нам и нашим детям, а не мы к ним» ) Их могут раздражать недостатки ребёнка, в результате чего к больным детям может проявляться необоснованная жестокость (окрик, физическое наказание)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103320" y="6480"/>
            <a:ext cx="9137880" cy="785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764640"/>
            <a:ext cx="9036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II группа – родители невротичного типа: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войственна пассивная личностная позиция («Уж что есть, то и есть. Ничего не переделаешь. Каким ребенок родился, таким и будет!») У них не формируется способность к принятию проблемы ребёнка и не развивается стремление к её преодолению. В плане воспитания эти родители часто проявляют несостоятельность. В личности невротичных родителей чаще доминируют истерические, тревожно-мнительные и депрессивные черты. Это проявляется в стремлении избегать трудных жизненных ситуаций, а в отдельных случаях и в отказе от решения проблем. Родители невротичного типа недостаточно критично оценивают возможности своего ребенка, подсознательно стремятся скрыть его дефект и выдать желаемые результаты развития за действительные. Прожитая жизнь воспринимается ими как несложившаяся, несчастливая, загубленная рождением в семье «особого» малыша, а будущее ребёнка рисуется ими как бесперспективное и малоинтересно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-96840" y="109440"/>
            <a:ext cx="9247320" cy="719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III группа – родители психосоматического типа :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амая многочисленная категория родителей. Им свойственны более частые смены полярных настроений (то радость, то депрессия). Проблема ребёнка, чаще скрываемая от посторонних взглядов, переживается ими изнутри. У них отсутствует аффективная форма реагирования на проблему стресса, как у первых и вторых. Они не устраивают скандалов и ссор, в большинстве случаев ведут себя корректно, сдержанно, а иногда замкнуто. В поведении, как правило, проявляется нормативность. Для этих родителей характерно стремление «положить собственное здоровье на алтарь жизни своего ребёнка». Все усилия направляются на оказание ему помощи. Психосоматичные родители активно включаются в жизнь своего ребёнка: участвуют в деятельности детских образовательных учреждений, повышают свой образовательный уровень, меняют профессию в соответствии с нуждами и проблемами больного ребён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6T07:53:37Z</dcterms:created>
  <dc:creator>atto</dc:creator>
  <dc:description/>
  <dc:language>en-US</dc:language>
  <cp:lastModifiedBy>НАТА</cp:lastModifiedBy>
  <cp:lastPrinted>2015-06-08T19:45:14Z</cp:lastPrinted>
  <dcterms:modified xsi:type="dcterms:W3CDTF">2019-05-25T11:10:28Z</dcterms:modified>
  <cp:revision>24</cp:revision>
  <dc:subject/>
  <dc:title>Презентация PowerPoint</dc:title>
</cp:coreProperties>
</file>