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43C-7A47-41A9-8746-10D9AFF1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88A-7751-447C-8C6D-D4098966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89F-A87A-4E06-8C6E-01A662B7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FD9-F84C-41DC-9EC1-D47CB361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38C2-8FC8-45F0-B723-C1EADE37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CD40-89E5-4BDC-A752-EAAE39FA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7B0C-F276-4B79-8C58-4DEB9C86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48FF-93A5-4166-9438-05540455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45C7-6D1D-4C0A-809C-2D2EFBF6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C319-D363-4ABF-9CBA-07129572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65DF-FE1D-4D79-A8E3-CC025824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DB0-D9BC-49F8-9503-C278AFE5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42B5-4B92-42F8-8528-FFE102A6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DD5B-75A1-4150-B84A-3CA6A3D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FCE6-55A6-4807-BEEB-0996D9F1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9DD2-01AB-432C-9B64-DADEAA3D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1882-3474-48C2-9AA8-F95E81FC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21D-FC60-464F-B30F-681CED3E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386-9EFF-46AE-BA36-E120729D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68C-DC7E-442A-B800-673D8CD5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6D1-2206-4AD0-A46F-110212FA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2FC-CC3A-4901-96AE-EB5675B5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FB7-D3D6-4E88-8208-AC22DB08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B90-FD7F-475D-9030-E45368A7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AE12-0029-463A-8867-D7099F7DD54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AEDD-F13A-40E2-9A7E-2C5CF8D793A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534520" cy="13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ДОРОВЬЕСБЕРЕГАЮЩИЕ ТЕХНОЛОГИИ НА УРОКАХ ФИЗИЧЕСКОЙ КУЛЬТУРЫ</a:t>
            </a:r>
            <a:endParaRPr b="1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95640" y="4941360"/>
            <a:ext cx="481032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Выполнил студент: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39</a:t>
            </a: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 группы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Динмухаметов Камиль Уралович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ЬНОСТЬ ТЕМЫ:</a:t>
            </a:r>
            <a:endParaRPr b="1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9e5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здоровье школьников относится к приоритетным направлениям в сфере образования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9e5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увеличение числа учеников, имеющих различные функциональные отклонения в состоянии здоровья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9e5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снижение двигательной активности школьников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9e5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физическая культура может компенсировать отрицательные явления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СОХРАНЕНИЕ И УКРЕПЛЕНИЕ ЗДОРОВЬЯ 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6760" y="1500120"/>
            <a:ext cx="8448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Формировать необходимые знания, умения, навыки по ведению здорового образа жизни, осознанного отношения к своему психическому и физическому здоровью;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Использовать знания в повседневной жизни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Разработать  комплексы упражнений, физкультминуток , подвижные игры;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Активизировать самостоятельность детей в процессе игровой деятельности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108000" y="1469880"/>
            <a:ext cx="475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сить  успеваемость по предмету, развивать двигательную активность обучаю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Мотивировать детей к   ведению здорового образа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овысить  динамику состояния здоровья учащих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ЬТАТИВНОСТЬ</a:t>
            </a:r>
            <a:endParaRPr b="1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92" name="Picture 1" descr="C:\Users\дамир\Desktop\sport-clipart-practicar-3.jpg"/>
          <p:cNvPicPr/>
          <p:nvPr/>
        </p:nvPicPr>
        <p:blipFill>
          <a:blip r:embed="rId1"/>
          <a:stretch/>
        </p:blipFill>
        <p:spPr>
          <a:xfrm>
            <a:off x="4824360" y="1717560"/>
            <a:ext cx="4094280" cy="32544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ДОРОВЬЕ СБЕРЕГАЮЩИЕ ТЕХНОЛОГИИ НА УРОКЕ ФИЗИЧЕСКОЙ КУЛЬТУРЫ</a:t>
            </a:r>
            <a:endParaRPr b="1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7640" y="1844640"/>
            <a:ext cx="86979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дование видов деятельности. Разнообразие форм организации урока, чередование умственной и физической нагрузки;  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ировка заданий. Главное при выполнении упражнений - не допускать перегрузки учащихся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ировка заданий. Главное при выполнении упражнений - не допускать перегрузки учащихся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й подход к каждому ребенку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я на свежем воздухе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ная направленность занятия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приятная дружеская обстановка на уроке. Урок должен быть развивающим, интересным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810b8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cc00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cc00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4" descr=""/>
          <p:cNvPicPr/>
          <p:nvPr/>
        </p:nvPicPr>
        <p:blipFill>
          <a:blip r:embed="rId1"/>
          <a:stretch/>
        </p:blipFill>
        <p:spPr>
          <a:xfrm>
            <a:off x="249120" y="1773360"/>
            <a:ext cx="84981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6:01:41Z</dcterms:created>
  <dc:creator>User</dc:creator>
  <dc:description/>
  <dc:language>en-US</dc:language>
  <cp:lastModifiedBy>Windows User</cp:lastModifiedBy>
  <dcterms:modified xsi:type="dcterms:W3CDTF">2019-05-04T19:08:28Z</dcterms:modified>
  <cp:revision>35</cp:revision>
  <dc:subject/>
  <dc:title>Здоровьесберегающие технологии</dc:title>
</cp:coreProperties>
</file>