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3F30-0D55-4FA9-840A-DB8275B7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B576-B3CD-48D8-8168-61CF9CB2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E5FC-61EA-44A9-921A-83D56A3D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1C14-0FE7-45C2-A308-6EF6B7735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B755-7715-4558-84FC-DB6E0722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D1E6-7874-42C6-A772-37EFB17A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B50A-EE0B-42D6-B29E-37D1E8A3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C294-AC9F-4DE1-8F38-00418007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5476-AD3A-428E-B652-B64E30A0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17BF-5EA8-4360-80E8-BFF6CB06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1D6B-0A2B-4987-8DF9-34A040C5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4C2E-53E0-4897-8B7C-4ECFED81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372A-4DBB-4D9F-B973-2BC6A5F7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3E3E-9042-467A-B897-D75CC82D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6954-716E-4720-AFF0-1880F484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8F38-ACF3-4F69-83AF-E6B97CEB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B8DB-BE96-44F2-BE6E-09AF21B7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661A-AFDA-4891-83FE-5C65D889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5A48-FE26-41BD-A52F-7CEED07C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199B-01C3-440A-86E2-2111C0C4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0050-E5A4-43D1-9E7F-632247D6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D39E-0C13-493F-B908-EE0AD64D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ECE7-7C07-4D57-A8C1-6B409796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A839-6031-4E12-80D6-68EF1E99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2DA8-3BA2-41EB-B012-A851655D167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504720" y="6415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7947000" y="307332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2BE7-D514-4BFE-85D1-39A2A442578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4920" y="2060640"/>
            <a:ext cx="8534520" cy="13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ДОРОВЬЕСБЕРЕГАЮЩИЕ ТЕХНОЛОГИИ НА УРОКАХ ФИЗИЧЕСКОЙ КУЛЬТУРЫ</a:t>
            </a:r>
            <a:endParaRPr b="1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995640" y="4941360"/>
            <a:ext cx="4810320" cy="11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Выполнил студент: 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39</a:t>
            </a: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 группы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72880" indent="-2728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Динмухаметов Камиль Уралович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КТУАЛЬНОСТЬ ТЕМЫ:</a:t>
            </a:r>
            <a:endParaRPr b="1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9e5d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5da"/>
                </a:solidFill>
                <a:latin typeface="Times New Roman"/>
                <a:ea typeface="Times New Roman"/>
              </a:rPr>
              <a:t>здоровье школьников относится к приоритетным направлениям в сфере образования;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9e5d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5da"/>
                </a:solidFill>
                <a:latin typeface="Times New Roman"/>
                <a:ea typeface="Times New Roman"/>
              </a:rPr>
              <a:t>увеличение числа учеников, имеющих различные функциональные отклонения в состоянии здоровья;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9e5d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5da"/>
                </a:solidFill>
                <a:latin typeface="Times New Roman"/>
                <a:ea typeface="Times New Roman"/>
              </a:rPr>
              <a:t>снижение двигательной активности школьников;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9e5d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5da"/>
                </a:solidFill>
                <a:latin typeface="Times New Roman"/>
                <a:ea typeface="Times New Roman"/>
              </a:rPr>
              <a:t>физическая культура может компенсировать отрицательные явления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9e5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 СОХРАНЕНИЕ И УКРЕПЛЕНИЕ ЗДОРОВЬЯ </a:t>
            </a:r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56760" y="1500120"/>
            <a:ext cx="84488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9e5da"/>
                </a:solidFill>
                <a:latin typeface="Times New Roman"/>
                <a:ea typeface="Times New Roman"/>
              </a:rPr>
              <a:t>Задачи: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9e5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9e5da"/>
                </a:solidFill>
                <a:latin typeface="Times New Roman"/>
                <a:ea typeface="Times New Roman"/>
              </a:rPr>
              <a:t>Формировать необходимые знания, умения, навыки по ведению здорового образа жизни, осознанного отношения к своему психическому и физическому здоровью;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9e5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9e5da"/>
                </a:solidFill>
                <a:latin typeface="Times New Roman"/>
                <a:ea typeface="Times New Roman"/>
              </a:rPr>
              <a:t>Использовать знания в повседневной жизни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9e5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9e5da"/>
                </a:solidFill>
                <a:latin typeface="Times New Roman"/>
                <a:ea typeface="Times New Roman"/>
              </a:rPr>
              <a:t>Разработать  комплексы упражнений, физкультминуток , подвижные игры;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9e5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9e5da"/>
                </a:solidFill>
                <a:latin typeface="Times New Roman"/>
                <a:ea typeface="Times New Roman"/>
              </a:rPr>
              <a:t>Активизировать самостоятельность детей в процессе игровой деятельности.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9e5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108000" y="1469880"/>
            <a:ext cx="475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сить  успеваемость по предмету, развивать двигательную активность обучающих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Мотивировать детей к   ведению здорового образа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Повысить  динамику состояния здоровья учащих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ЗУЛЬТАТИВНОСТЬ</a:t>
            </a:r>
            <a:endParaRPr b="1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92" name="Picture 1" descr="C:\Users\дамир\Desktop\sport-clipart-practicar-3.jpg"/>
          <p:cNvPicPr/>
          <p:nvPr/>
        </p:nvPicPr>
        <p:blipFill>
          <a:blip r:embed="rId1"/>
          <a:stretch/>
        </p:blipFill>
        <p:spPr>
          <a:xfrm>
            <a:off x="4824360" y="1717560"/>
            <a:ext cx="4094280" cy="325440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ДОРОВЬЕ СБЕРЕГАЮЩИЕ ТЕХНОЛОГИИ НА УРОКЕ ФИЗИЧЕСКОЙ КУЛЬТУРЫ</a:t>
            </a:r>
            <a:endParaRPr b="1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7640" y="1844640"/>
            <a:ext cx="869796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редование видов деятельности. Разнообразие форм организации урока, чередование умственной и физической нагрузки;   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зировка заданий. Главное при выполнении упражнений - не допускать перегрузки учащихся. 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зировка заданий. Главное при выполнении упражнений - не допускать перегрузки учащихся. 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ивидуальный подход к каждому ребенку.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нятия на свежем воздухе.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тельная направленность занятия.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агоприятная дружеская обстановка на уроке. Урок должен быть развивающим, интересным. 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810b8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cc00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cc00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Прямоугольник 4" descr=""/>
          <p:cNvPicPr/>
          <p:nvPr/>
        </p:nvPicPr>
        <p:blipFill>
          <a:blip r:embed="rId1"/>
          <a:stretch/>
        </p:blipFill>
        <p:spPr>
          <a:xfrm>
            <a:off x="249120" y="1773360"/>
            <a:ext cx="84981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6T06:01:41Z</dcterms:created>
  <dc:creator>User</dc:creator>
  <dc:description/>
  <dc:language>en-US</dc:language>
  <cp:lastModifiedBy>Windows User</cp:lastModifiedBy>
  <dcterms:modified xsi:type="dcterms:W3CDTF">2019-05-04T19:08:28Z</dcterms:modified>
  <cp:revision>35</cp:revision>
  <dc:subject/>
  <dc:title>Здоровьесберегающие технологии</dc:title>
</cp:coreProperties>
</file>