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ADD-26F6-44F4-80ED-D8D026BD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A44-93CD-437F-89DE-0FAC13F0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4F1-52A2-4ADF-810B-A93D0378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C7D-4FBE-4D3E-A2E0-BDB41112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694B-F7B2-4B01-9BDE-9F864B15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502E-8C1F-4968-876B-9204AA6E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4E17-A632-459D-B44E-B3C35469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4B3F-409D-4433-B3AE-4B979617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188F-231C-4ACD-BA36-A3155664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F146-B8D9-45B3-9AAE-3E96B861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D25B-971B-46B9-BECB-64B63709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4D8-993A-40A3-95B0-249DDBE3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58E2-AC59-40AF-B233-8E0B4164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553D-39E7-4E9E-A422-3578784E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2298-B60F-422F-93C4-1D3A8BBF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0EB2-AD11-40C2-AE5B-4998E1A3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9C42-FA12-4815-8ACF-CAC7FF55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649-9FB7-4B6F-925E-C16A8A16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3FB-100A-4C80-96B8-4545F69C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043-9FBE-4E08-B876-ED533F01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1BF-3C59-458E-A883-02B10CF8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A20-35E0-4575-8E83-36D179A6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ADC-1E14-4859-B5A1-22BC5EC8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950-359C-418C-BE97-EBCFD6AF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CD32-FD5C-426E-A272-FA0FB5248A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2575-30C8-4670-93F3-7086FDBF6D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00"/>
                </a:solidFill>
                <a:uFillTx/>
                <a:latin typeface="Monotype Corsiva"/>
              </a:rPr>
              <a:t>Adriano Celentan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Verfasser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Alexandra Medwedtschikowa, 11.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Monotype Corsiva"/>
              </a:rPr>
              <a:t>Hobby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de-DE" sz="4000" spc="-1" strike="noStrike">
                <a:solidFill>
                  <a:srgbClr val="000000"/>
                </a:solidFill>
                <a:latin typeface="Monotype Corsiv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Fan von Mailand "Inter„</a:t>
            </a: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Lieblingsbeschäftigung - Uhr Reparatu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Celentano genießt auch Tennis, Billard, Fotografie, Schach und liebt es zu koch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4861080" cy="36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6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geboren am 6. Januar 1938, Mailand, Itali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für seine Art zu bewegen den Spitznamen „auf Federn“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Russische Zuschauer mochten Komödie "Der Widerspenstigen Zähmung„ "Bluff„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     „</a:t>
            </a: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Madly in Love" un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"Bingo Bongo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11640" y="404640"/>
            <a:ext cx="4932360" cy="473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4033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</a:rPr>
              <a:t>Im Jahr 2007 leitete er die Liste der "100 brillantesten Filmstars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</a:rPr>
              <a:t>Zu Ehren von Adriano namens Asteroid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84720" y="260280"/>
            <a:ext cx="4564080" cy="630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 весь инстинкт, одарённость, исступление. В течение многих лет он создаёт образ «рубахи-парня» и верен ему по сей день»,  — Дарио Ф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здаваемый им образ сродни персонажам народной комедии — он простоват и лукав, наивен и мудр одновременно», — Пьетро Джерми</a:t>
            </a: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79640" y="1989000"/>
            <a:ext cx="5186160" cy="286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6360" y="1125360"/>
            <a:ext cx="359892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Adriano wurde am Tag der Befana (Festival Witze und Streiche) geboren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im Alter von 12 verließ die Schu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von der Kindheit gern Rock and Roll</a:t>
            </a:r>
            <a:r>
              <a:rPr b="0" lang="de-DE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680000" cy="35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Ещё в детстве, мальчиком, я всегда представлял себе Россию как сказочную страну. Мне казалось, что в каждом доме топится печка, а вокруг собираются обитатели этого дома, чтобы поговорить о том, о сём. А за окном снег. В доме потрескивают поленья в печи и незримо присутствует мудрость. Вот так я всегда представлял себе Россию — край, находящийся в самом центре Земли, где даже войны не смогли убить мысль мудрецов. И очень рад тому, что приехал сюда и могу здесь зажечь свой огонь, потому что, видимо, именно отсюда начнётся тот великий огонь, в котором сгорит всё зло» - Адриано Челента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359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"Der Widerspenstigen Zähmung</a:t>
            </a:r>
            <a:r>
              <a:rPr b="1" lang="de-DE" sz="4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(1980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471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Adriano spielte gewalttätigen Frauenfeind. Schöne Lisa (Ornella Muti), durch den Charakter des Mannes fasziniert. Sie bekommt zu seinem Haus, und bald gewann sein Her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eine Parodie auf Shakespeares Stück "Der Widerspenstigen Zähmung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rot="369600">
            <a:off x="4868640" y="758520"/>
            <a:ext cx="3703680" cy="57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Bingo-Bongo (1982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Monotype Corsiva"/>
              </a:rPr>
              <a:t>Hauptrolle als Affenmenschen, eine neue Tarz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6983280" cy="399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Privatleben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35280" y="691920"/>
            <a:ext cx="3708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Frau – Claud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ry, die Schauspieler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3 Kinder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Rosit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Rosalinda – die Schauspieler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Giacomo – der Sin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r Enkel – Samu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5148000" cy="38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20:54:52Z</dcterms:created>
  <dc:creator>Александра</dc:creator>
  <dc:description/>
  <dc:language>en-US</dc:language>
  <cp:lastModifiedBy>Александра</cp:lastModifiedBy>
  <dcterms:modified xsi:type="dcterms:W3CDTF">2012-12-20T21:20:10Z</dcterms:modified>
  <cp:revision>10</cp:revision>
  <dc:subject/>
  <dc:title>Adriano Celentano</dc:title>
</cp:coreProperties>
</file>