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106-5F0B-4366-A88C-53193B65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6B2-6944-4D79-A8E6-EDAC4CE9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341-1F5F-4D17-80E0-6939BC33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7ED-4B28-4718-A00F-BAB09806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B44-6C51-4E73-B21A-2E3534DF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AE4C-489A-4766-897F-F28B63DF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CDF4-0B13-4C51-890F-DFBE80E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839F-73B5-441B-8449-3EA3614F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C142-871A-4B9A-97E5-0D39E9D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FDDC-1929-42D1-BC52-DD10D9F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A2EA-1A40-4031-A6BB-68CE1703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0F7-56BF-4D7F-B9D3-4F0D297F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6FF-7A10-4897-A4EE-FA34D61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67EA-33F8-4472-9464-DACED2A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74DC-4C9B-4AC4-9100-97CFDF27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BB4-0776-492A-90AE-B93ADA8C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45B0-D114-4128-8071-ABDBC5B6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BFA-FEDB-40F2-A668-FC9D4456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AE4-6C7D-4448-BA0D-CB1315B2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4C4-9D47-4446-867B-B500C500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428-F158-4F2D-A1DB-FB57287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149-D85A-4F3B-8881-289D0CB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670-8B83-4359-8D58-328FA34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8F4-4525-440B-A03B-0E4AFCF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18D4-3318-4066-94EC-ADD05638CE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FEAE-6BEF-4439-AA3F-F0CDB46E77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Monotype Corsiva"/>
              </a:rPr>
              <a:t>Adriano Celentan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Verfasser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Alexandra Medwedtschikowa, 11.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Monotype Corsiva"/>
              </a:rPr>
              <a:t>Hobby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de-DE" sz="4000" spc="-1" strike="noStrike">
                <a:solidFill>
                  <a:srgbClr val="000000"/>
                </a:solidFill>
                <a:latin typeface="Monotype Corsiv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Fan von Mailand "Inter„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Lieblingsbeschäftigung - Uhr Reparatu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Celentano genießt auch Tennis, Billard, Fotografie, Schach und liebt es zu koch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4861080" cy="36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6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geboren am 6. Januar 1938, Mailand, Itali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für seine Art zu bewegen den Spitznamen „auf Federn“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Russische Zuschauer mochten Komödie "Der Widerspenstigen Zähmung„ "Bluff„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     „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Madly in Love" un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"Bingo Bongo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11640" y="404640"/>
            <a:ext cx="4932360" cy="47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03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</a:rPr>
              <a:t>Im Jahr 2007 leitete er die Liste der "100 brillantesten Filmstars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</a:rPr>
              <a:t>Zu Ehren von Adriano namens Asteroi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564080" cy="630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весь инстинкт, одарённость, исступление. В течение многих лет он создаёт образ «рубахи-парня» и верен ему по сей день»,  — Дарио Ф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здаваемый им образ сродни персонажам народной комедии — он простоват и лукав, наивен и мудр одновременно», — Пьетро Джерми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5186160" cy="28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6360" y="1125360"/>
            <a:ext cx="359892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Adriano wurde am Tag der Befana (Festival Witze und Streiche) gebore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im Alter von 12 verließ die Schu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von der Kindheit gern Rock and Roll</a:t>
            </a:r>
            <a:r>
              <a:rPr b="0" lang="de-DE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680000" cy="35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щё в детстве, мальчиком, я всегда представлял себе Россию как сказочную страну. Мне казалось, что в каждом доме топится печка, а вокруг собираются обитатели этого дома, чтобы поговорить о том, о сём. А за окном снег. В доме потрескивают поленья в печи и незримо присутствует мудрость. Вот так я всегда представлял себе Россию — край, находящийся в самом центре Земли, где даже войны не смогли убить мысль мудрецов. И очень рад тому, что приехал сюда и могу здесь зажечь свой огонь, потому что, видимо, именно отсюда начнётся тот великий огонь, в котором сгорит всё зло» - Адриано Челента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35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"Der Widerspenstigen Zähmung</a:t>
            </a:r>
            <a:r>
              <a:rPr b="1" lang="de-DE" sz="4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(1980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471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Adriano spielte gewalttätigen Frauenfeind. Schöne Lisa (Ornella Muti), durch den Charakter des Mannes fasziniert. Sie bekommt zu seinem Haus, und bald gewann sein Her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eine Parodie auf Shakespeares Stück "Der Widerspenstigen Zähmung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369600">
            <a:off x="4868640" y="758520"/>
            <a:ext cx="3703680" cy="57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Bingo-Bongo (1982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Hauptrolle als Affenmenschen, eine neue Tarz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6983280" cy="39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Privatleben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35280" y="691920"/>
            <a:ext cx="370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Frau – Claud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ry, die Schauspieler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3 Kinder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Rosit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Rosalinda – die Schauspieler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Giacomo – der Si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r Enkel – Samu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148000" cy="38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20:54:52Z</dcterms:created>
  <dc:creator>Александра</dc:creator>
  <dc:description/>
  <dc:language>en-US</dc:language>
  <cp:lastModifiedBy>Александра</cp:lastModifiedBy>
  <dcterms:modified xsi:type="dcterms:W3CDTF">2012-12-20T21:20:10Z</dcterms:modified>
  <cp:revision>10</cp:revision>
  <dc:subject/>
  <dc:title>Adriano Celentano</dc:title>
</cp:coreProperties>
</file>