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F01-835A-493A-A519-F6F7D543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24C-2438-4C4A-A5D4-E3900FA8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230-E47F-4275-A467-E95749C3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D12-261D-47DB-8709-FD7AFE21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233C-0A31-43DC-85F3-76A13C0D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1242-A652-497F-AEE0-396536EA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4B4B-0080-4BD5-8E76-5191D63B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F07B-5466-4FAD-8C23-7A8C9A7D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009F-3924-4363-9DC9-C148559D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9F1D-5794-4BA6-BF68-98A1750A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F281-055A-48D5-8FFE-45A30F7E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51F-496B-4D27-90B5-7C2F79B7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6F63-C516-44B9-9889-0475F1E3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F2FB-3D50-4BA8-87BB-0CDD9265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C0A5-0C48-4C70-99DE-D808A17C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879B-A9B8-4BAF-82A7-50ED628E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2F50-75FC-417A-A9A6-54053487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4FB-EC34-4D96-9823-66433D7C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261-ADE4-4B78-82FB-30DC0C10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9A4-0EA9-4CE0-B3E7-569860D8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E23-B402-48BD-9D97-B11D10C7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1F4-DCF8-4A15-9B61-54C1931A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BAC-4E08-45EB-ADBB-74023B8A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F96-504F-4CF7-99BB-F9F0DF83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3EC8-4DCD-409D-95BF-B3434C5FD5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BC92-842F-4066-A96D-1563AEDCCC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Гимнастик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хника описания различн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имнастических движ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Упражнения в равновес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600200"/>
            <a:ext cx="2971800" cy="10666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ражнения на мес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1600200"/>
            <a:ext cx="2971800" cy="10666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ражнения в движ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057040" y="114300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114300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429000"/>
            <a:ext cx="1752480" cy="17524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йки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ятка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носка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4114800"/>
            <a:ext cx="1752840" cy="17524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виж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руками, ногам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туловище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ри уменьшен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по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066320" y="2666880"/>
            <a:ext cx="3812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2666880"/>
            <a:ext cx="60948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3657600"/>
            <a:ext cx="1752480" cy="17524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новид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одь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4648320"/>
            <a:ext cx="1905120" cy="190476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ередвиж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егом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танцевальны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шаг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866920" y="2666880"/>
            <a:ext cx="2286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666880"/>
            <a:ext cx="685800" cy="198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Упражнения в лазань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2362320"/>
            <a:ext cx="1676520" cy="167616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азан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смешанн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ис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уп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2362320"/>
            <a:ext cx="1676520" cy="167616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азан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висе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их ру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4648320"/>
            <a:ext cx="1904760" cy="190476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азан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мнастиче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ен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286000" y="1143000"/>
            <a:ext cx="1752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1066680"/>
            <a:ext cx="15238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12952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Лазанье  по   канату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занье в три при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занье в простом вис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занье с остановкам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упповое лазань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лез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047760" cy="1676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15040" y="1609560"/>
            <a:ext cx="3746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азанье в два прием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019920" y="2133720"/>
            <a:ext cx="1523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пражнения в поднимании и переноске груз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981080"/>
            <a:ext cx="1676520" cy="1676520"/>
          </a:xfrm>
          <a:prstGeom prst="octagon">
            <a:avLst>
              <a:gd name="adj" fmla="val 2928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бив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яч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2133720"/>
            <a:ext cx="1676160" cy="1676160"/>
          </a:xfrm>
          <a:prstGeom prst="octagon">
            <a:avLst>
              <a:gd name="adj" fmla="val 2928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но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бив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яч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419720"/>
            <a:ext cx="2133720" cy="2133360"/>
          </a:xfrm>
          <a:prstGeom prst="octagon">
            <a:avLst>
              <a:gd name="adj" fmla="val 2928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но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мнаст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тов вдво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вчетве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4495680"/>
            <a:ext cx="2133720" cy="2133720"/>
          </a:xfrm>
          <a:prstGeom prst="octagon">
            <a:avLst>
              <a:gd name="adj" fmla="val 2928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но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мнаст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аме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4419720"/>
            <a:ext cx="2133360" cy="2133360"/>
          </a:xfrm>
          <a:prstGeom prst="octagon">
            <a:avLst>
              <a:gd name="adj" fmla="val 2928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но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имнастиче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зла вдво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одн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828800" y="1447920"/>
            <a:ext cx="22096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133720" y="1523880"/>
            <a:ext cx="2209680" cy="312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15238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1523880"/>
            <a:ext cx="213372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447920"/>
            <a:ext cx="19051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однимание и переноска товарища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одного двум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идящего на руках с опорой спи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 поддержкой под руки и коле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идящего на взаимно сцепленных рук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 поддержкой под ноги и спин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идящего верхом на спи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на плеч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 поддержкой двумя ру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с поддержкой одной ру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носка лежащего на одном плеч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ыжки (подскоки) со скакалкой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2666880"/>
            <a:ext cx="2133360" cy="21337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ыж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подскоки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дли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акал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2895480"/>
            <a:ext cx="2133720" cy="21337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ыж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подскоки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 корот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акал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285640" y="1143000"/>
            <a:ext cx="160020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1066680"/>
            <a:ext cx="1523880" cy="198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сновные упражнения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209680"/>
            <a:ext cx="1981080" cy="1981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той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4419720"/>
            <a:ext cx="1981080" cy="19810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еворо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4572000"/>
            <a:ext cx="1981440" cy="19810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ека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увыр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2209680"/>
            <a:ext cx="1981080" cy="1981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Мост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ло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еж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057400" y="1143000"/>
            <a:ext cx="175248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1219320"/>
            <a:ext cx="175284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00400" y="1295280"/>
            <a:ext cx="83808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295280"/>
            <a:ext cx="762120" cy="312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тойки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37160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1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449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541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594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8280" y="2894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471960"/>
            <a:ext cx="353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ойка на лопатка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4038480" cy="1295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04920" y="4434480"/>
            <a:ext cx="31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ойка на голов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620120" y="4724280"/>
            <a:ext cx="990360" cy="1886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12120" y="251388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ойки на рука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876920" y="2819520"/>
            <a:ext cx="4038480" cy="1447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80880" y="10054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2193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Из положения лежа на спине, сгибая ноги, поднять таз, опираясь на лопатки, затылок, плечи и руки (ладони согнутых рук упираются в поясницу), выпрямить тело в вертикальное положен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04812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хом одной и толчком другой ногой стойка на руках с помощью партнера, который стоит сбоку и поддерживает занимающегося от падения в направлении спи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5181480"/>
            <a:ext cx="70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 упора присев передать тяжесть тела на ру­ки, опереться о мат лбом несколько впереди рук (места опоры ру­ками и головой составляют равносторонний треугольник) и, оттолк­нувшись двумя ногами, перейти в стойку на голове в группиров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увыр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19920" y="1905120"/>
            <a:ext cx="895320" cy="1352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934320" y="1905120"/>
            <a:ext cx="895320" cy="1361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848720" y="1905120"/>
            <a:ext cx="1000080" cy="13618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00240" y="990000"/>
            <a:ext cx="31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вырок впере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2560" y="358056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вырок назад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952880" y="4191120"/>
            <a:ext cx="990720" cy="14475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5943600" y="47242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7543800" y="4191120"/>
            <a:ext cx="1143000" cy="1447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160020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 упора присев кувырок вперед в присед в группировке и затем в упор присев. Руки ставить возможно дальше от ног, но без фазы пол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4119480"/>
            <a:ext cx="4191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упора присев перекат назад до опоры ладо­нями о мат у плеч. В упоре присев передать тяжесть тела на руки, оттолкнуться руками, сесть как можно ближе к пяткам, в группи­ровке перекатиться назад, опереться ладонями о мат у плеч. Предплечья параллельны, пальцы обращены к плечам. Оттолкнуться ру­ками и сделать перекат вперед в упор прис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«Мост» из положения лежа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858000" cy="2438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28600" y="10508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положения лежа на спине согнуть ноги, по­ставить их врозь, опереться руками о пол за плечами (пальцы к плечам), выпрямляя руки и ноги,— «мост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3341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блок – Возникновение и эволюция гимнасти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 блок – Гимнастика в дореволюционной Росс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 блок - Основные этапы развития гимнастики в ССС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 блок – Предупреждение травм на занятиях по гимнастик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5 блок - Перестроения и передвижения, размыкания и смык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6 блок - Упражнения в равновесии, в лазан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7 блок - Лазанье  по   кана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8 блок - Упражнения в поднимании и переноске груз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9 блок - Прыжки (подскоки) со скакал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0 блок - Основные упражн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) стой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б) перекаты и кувыр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) «мост» из положения леж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г) переворо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9908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еревороты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5943600" cy="2743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57200" y="1218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ворот колесом выполняется влево (вправо) в лицевой плоскости. Конечное положение — стойка ноги врозь, руки в стор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Возникновение и эволюция гимнастики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первые термин «гимнастика» появился у древних греков в период расцвета древнегреческой (эллинской) культуры — в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III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. до н. э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мыми передовыми были взгляды на физическое воспитани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нецианского врача Меркуриалиса (вторая половина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.). В шеститомном труде «Об искусстве гимнастики» он первым классифицировал виды гимнастики на врачебную, военную и атлетическу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вестный французский акробат того времени Тюкарро написал первое руководство по акробатике — «Три диалога об упражнениях в прыжках и вольтижировке в воздухе» — и издал его в Париже в 1599 г. В этой книге были систематизированы все известные к тому времени акробатические упражн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 началу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. в развитии гимнастики наметились три направления: гигиеническое, атлетическое, прикладно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881 г. образовалась Международная федерация гимнасти­ки (ФИЖ). Позже стал претендовать на это и Между­народный олимпийский комитет (организованный в 1894 г.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имнастика уже на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лимпийских играх в 1896г. вошла в программу соревновани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1952 г. 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V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лимпийские игры) у мужчин и с 1958 г. (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IV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рвенство мира) у женщин окончательно сло­жилось классическое многоборье: 6 видов у мужчин (вольные упражнения, опорный прыжок, упражнения на коне с ручками, кольцах, брусьях и перекладине) и 4 вида у женщин (вольные упражнения, опорный прыжок, упражнения на брусьях разной высоты и бревне)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мнастика в дореволюционной России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ечественная система военно-полевой гимнастики ведет свое начало от времен Петр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.). Петр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едрял военные упражнения типа преодоления различных препятствий и были заложены основы системы физической подготовки войск. Он же дал указание о введении гимнастики в военно-морских учебных заведен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й вклад в дело развития системы физической подготовки русской армии внес великий русский полководец А. В. Суворов. Особое внимание он уделял воспитанию выносливости, обучению штыковому бою и умению быстро преодолевать препятств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учебных заведениях с начал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. и вплоть до Великой Октябрьской социалистической революции преподавалась гимнастика, заимствованная из различных зарубежных систе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вестный ученый, анатом и педагог П. Ф. Лесгафт (1838— 1909 гг.) является первым создателем отечественной системы гим­настики. Он опубликовал первое научно обоснованное руководство по физическому воспитанию детей — «Руководство по физическому образованию детей школьного возраст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1885 г. в России начали проводить соревнования по гимнасти­к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00 г. в России появились первые организации общества «Сокол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сновные этапы развития гимнастики в СССР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1-й эта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с 1918 по 1930 г. В это время гимнастика выступает как средство разностороннего физического развит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2-й эта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с 1931 по 1940 г. В этот период гимнастика выступает как одно из основных средств советской системы физического вос­пита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3-й эта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с 1941 по 1945 г. Гимнастика в эти трудные для страны годы Великой Отечественной войны сыграла огромную роль, являясь средством допризывной подготовки и лечебным средством для скорейшего возвращения в строй раненых и больных воин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4-й эта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с 1945 по 1951 г. Характерной чертой этого этапа яв­ляется окончательное восстановление довоенных масштабов совет­ской гимнастики и выход ее на международную спортивную арену, а в связи с этим и изменение содержания женской спортивной гим­наст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5-й эта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с 1952 по 1959 г. В эти годы широко использовали все виды гимнастики, а спортивная гимнастика завоевала передо­вые позиции на международной спортивной аре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6-й эта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— с 1960 г. по настоящее время — характерен резким ростом соперничества на международной спортивной арене между советскими и зарубежными спортсменами. Следует, однако, отме­тить, что спортивная борьба у гимнастов и у гимнасток протекала по - разно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едупреждение травм на занятиях по гимнастике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траховка и помощь на занятиях гимнастикой позволяют не только успешно решать задачи овладения техникой гимнастических упражнений, но и избегать трав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К основным причинам травматизма относя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Несоблюдение правил организации зан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Невыполнение педагогических и методических требований, предъявляемых к проведению зан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Несоответствие костюма и обу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Несвоевременная и недостаточно внимательная проверка оборудования и инвентаря, несоблюдение санитарно-гигиенических условий, не использование технических средств, обеспечиваю­щих безопасность зан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. Отсутствие или несистематическое проведение врачебного контроля и самоконтрол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. Недостаточная воспитательная работа, проводимая с занимающими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ерестроения и передвижения.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730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строение колонны по одному в колонны по 2 дроблением и свед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91520" y="1600200"/>
            <a:ext cx="1133280" cy="1257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62120" y="337320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строение колонны по одному в колонны по 4, 8  дроблением и свед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91520" y="3581280"/>
            <a:ext cx="1057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ередвижения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роевой ша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ходный (обычный) ша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ижение на мест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ход с движения на месте к передвиже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кращение движения по команде: «Группа — СТОЙ!»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менение ширины шага и скорости движ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ижение бег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мена направления фронта захождения плечом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ижение по диагонал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150800" y="3352680"/>
            <a:ext cx="2609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ижение в обх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800600" y="43434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47400" y="6019920"/>
            <a:ext cx="3398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ижение противоход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391520" y="2286000"/>
            <a:ext cx="1447560" cy="1523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408360" y="4038480"/>
            <a:ext cx="2656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ижение змейкой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Размыкания и смыкан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981080"/>
            <a:ext cx="2438640" cy="2438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мык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ставны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аг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4191120"/>
            <a:ext cx="2438280" cy="2438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мык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споряжен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1905120"/>
            <a:ext cx="2438280" cy="2438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мык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 направляющ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колонн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438280" y="1219320"/>
            <a:ext cx="1828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2952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1219320"/>
            <a:ext cx="16002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2-20T16:42:4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