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C20-00BF-4BDC-8E12-A1908E28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7E2-08E1-446B-B52B-3EF2AA63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0E4-BC76-4912-94AD-5AA7E841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B04-3DBD-4056-8CD7-4213F8DE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E606-D7C6-4BA1-B859-B7C5EEDC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742C-9F32-4DD1-9586-BAF16D9E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6C86-C690-4C0A-9FDD-53049402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3B04-0B8D-4B15-8F6F-A15F9CD6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57A1-DDEB-4C35-AD0A-35312B4D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01CC-A9B6-43D0-9AA8-361CC609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0A2A-5B0B-40E3-B373-DAC6DE7D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865-4D4B-49F1-9AE0-D77BDFB6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AD08-B81D-4CDB-A1AF-8391686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509D-85E2-4DA7-9ED4-30F140B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F64B-6BE8-409B-8AA5-CE349345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8356-4FEA-4B19-822B-37772FFA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47AC-31CF-40C7-9F70-B03A31DC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144-0A59-437D-AB45-4D5022E6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85B-3C8F-4D9D-966D-E0B64E55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588-564E-49B1-9403-15C7D932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92A-1DC1-4A35-992A-8FF52F58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FA6-6610-4104-9586-42A2897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C18-E297-4ADA-BB81-C69A8A63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C25-170C-4643-A7C0-0EAB27B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51EC-92F9-4231-B495-5CE04D2938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121A-58C3-4BA1-A0FE-7AFD4A7932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Гимнасти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ика описания различн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имнастических движ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пражнения в равновес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600200"/>
            <a:ext cx="2971800" cy="10666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жнения на мес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1600200"/>
            <a:ext cx="2971800" cy="10666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жнения в движ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057040" y="114300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114300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429000"/>
            <a:ext cx="1752480" cy="17524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йки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ятка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носк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4114800"/>
            <a:ext cx="1752840" cy="17524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виж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руками, ногам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уловище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ри уменьшен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по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066320" y="2666880"/>
            <a:ext cx="3812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2666880"/>
            <a:ext cx="60948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3657600"/>
            <a:ext cx="1752480" cy="17524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новид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одь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4648320"/>
            <a:ext cx="1905120" cy="190476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ередвиж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егом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анцевальны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шаг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866920" y="26668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666880"/>
            <a:ext cx="685800" cy="198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пражнения в лазань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362320"/>
            <a:ext cx="1676520" cy="167616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азан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смешан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ис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уп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2362320"/>
            <a:ext cx="1676520" cy="167616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азан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висе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их ру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4648320"/>
            <a:ext cx="1904760" cy="190476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азан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мнаст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е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286000" y="1143000"/>
            <a:ext cx="1752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066680"/>
            <a:ext cx="15238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12952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Лазанье  по   канату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занье в три при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занье в простом вис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занье с остановкам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упповое лазан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лез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047760" cy="1676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15040" y="1609560"/>
            <a:ext cx="374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азанье в два прием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019920" y="213372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пражнения в поднимании и переноске груз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981080"/>
            <a:ext cx="1676520" cy="1676520"/>
          </a:xfrm>
          <a:prstGeom prst="octagon">
            <a:avLst>
              <a:gd name="adj" fmla="val 2928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бив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яч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2133720"/>
            <a:ext cx="1676160" cy="1676160"/>
          </a:xfrm>
          <a:prstGeom prst="octagon">
            <a:avLst>
              <a:gd name="adj" fmla="val 2928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но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бив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яч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419720"/>
            <a:ext cx="2133720" cy="2133360"/>
          </a:xfrm>
          <a:prstGeom prst="octagon">
            <a:avLst>
              <a:gd name="adj" fmla="val 2928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но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мнас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тов вдво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вчетв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4495680"/>
            <a:ext cx="2133720" cy="2133720"/>
          </a:xfrm>
          <a:prstGeom prst="octagon">
            <a:avLst>
              <a:gd name="adj" fmla="val 2928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но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мнас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ме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4419720"/>
            <a:ext cx="2133360" cy="2133360"/>
          </a:xfrm>
          <a:prstGeom prst="octagon">
            <a:avLst>
              <a:gd name="adj" fmla="val 2928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но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мнастиче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зла вдво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одн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828800" y="1447920"/>
            <a:ext cx="22096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133720" y="1523880"/>
            <a:ext cx="220968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15238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1523880"/>
            <a:ext cx="21337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447920"/>
            <a:ext cx="19051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однимание и переноска товарища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одного двум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идящего на руках с опорой спи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 поддержкой под руки и кол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идящего на взаимно сцепленных ру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 поддержкой под ноги и спи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идящего верхом на спи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на плеч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 поддержкой двумя ру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 поддержкой одной ру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лежащего на одном плеч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ыжки (подскоки) со скакалкой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666880"/>
            <a:ext cx="2133360" cy="2133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ыж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подскоки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дли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кал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2895480"/>
            <a:ext cx="2133720" cy="2133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ыж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подскоки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корот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кал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285640" y="1143000"/>
            <a:ext cx="160020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1066680"/>
            <a:ext cx="1523880" cy="198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сновные упражнения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209680"/>
            <a:ext cx="1981080" cy="1981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той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4419720"/>
            <a:ext cx="1981080" cy="19810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воро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4572000"/>
            <a:ext cx="1981440" cy="19810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ка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увыр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2209680"/>
            <a:ext cx="1981080" cy="1981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Мост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ло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еж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057400" y="1143000"/>
            <a:ext cx="175248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1219320"/>
            <a:ext cx="175284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00400" y="1295280"/>
            <a:ext cx="83808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295280"/>
            <a:ext cx="76212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ойки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37160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1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449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94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8280" y="2894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471960"/>
            <a:ext cx="353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ойка на лопатка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4038480" cy="1295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04920" y="4434480"/>
            <a:ext cx="31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ойка на голов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620120" y="4724280"/>
            <a:ext cx="990360" cy="1886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12120" y="251388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ойки на рука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876920" y="2819520"/>
            <a:ext cx="4038480" cy="1447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80880" y="10054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193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Из положения лежа на спине, сгибая ноги, поднять таз, опираясь на лопатки, затылок, плечи и руки (ладони согнутых рук упираются в поясницу), выпрямить тело в вертикальное полож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04812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хом одной и толчком другой ногой стойка на руках с помощью партнера, который стоит сбоку и поддерживает занимающегося от падения в направлении сп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518148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 упора присев передать тяжесть тела на ру­ки, опереться о мат лбом несколько впереди рук (места опоры ру­ками и головой составляют равносторонний треугольник) и, оттолк­нувшись двумя ногами, перейти в стойку на голове в группиров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увыр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895320" cy="1352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934320" y="1905120"/>
            <a:ext cx="895320" cy="1361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848720" y="1905120"/>
            <a:ext cx="1000080" cy="1361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00240" y="990000"/>
            <a:ext cx="31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вырок впере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2560" y="358056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вырок наза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952880" y="41911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5943600" y="4724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7543800" y="4191120"/>
            <a:ext cx="1143000" cy="1447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16002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 упора присев кувырок вперед в присед в группировке и затем в упор присев. Руки ставить возможно дальше от ног, но без фазы пол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4119480"/>
            <a:ext cx="4191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упора присев перекат назад до опоры ладо­нями о мат у плеч. В упоре присев передать тяжесть тела на руки, оттолкнуться руками, сесть как можно ближе к пяткам, в группи­ровке перекатиться назад, опереться ладонями о мат у плеч. Предплечья параллельны, пальцы обращены к плечам. Оттолкнуться ру­ками и сделать перекат вперед в упор прис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«Мост» из положения лежа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858000" cy="2438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28600" y="10508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положения лежа на спине согнуть ноги, по­ставить их врозь, опереться руками о пол за плечами (пальцы к плечам), выпрямляя руки и ноги,— «мост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3341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блок – Возникновение и эволюция гимнасти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 блок – Гимнастика в дореволюционной Росс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 блок - Основные этапы развития гимнастики в ССС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 блок – Предупреждение травм на занятиях по гимнасти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5 блок - Перестроения и передвижения, размыкания и смык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6 блок - Упражнения в равновесии, в лазан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7 блок - Лазанье  по   кана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8 блок - Упражнения в поднимании и переноске груз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9 блок - Прыжки (подскоки) со скакал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0 блок - Основные упражн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стой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перекаты и кувыр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«мост» из положения леж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переворо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908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ревороты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5943600" cy="2743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57200" y="1218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ворот колесом выполняется влево (вправо) в лицевой плоскости. Конечное положение — стойка ноги врозь, руки в стор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Возникновение и эволюция гимнастик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первые термин «гимнастика» появился у древних греков в период расцвета древнегреческой (эллинской) культуры — в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III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 до н. э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мыми передовыми были взгляды на физическое воспита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нецианского врача Меркуриалиса (вторая половин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). В шеститомном труде «Об искусстве гимнастики» он первым классифицировал виды гимнастики на врачебную, военную и атлетическу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вестный французский акробат того времени Тюкарро написал первое руководство по акробатике — «Три диалога об упражнениях в прыжках и вольтижировке в воздухе» — и издал его в Париже в 1599 г. В этой книге были систематизированы все известные к тому времени акробатические упражн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началу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. в развитии гимнастики наметились три направления: гигиеническое, атлетическое, прикладно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881 г. образовалась Международная федерация гимнасти­ки (ФИЖ). Позже стал претендовать на это и Между­народный олимпийский комитет (организованный в 1894 г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имнастика уже н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лимпийских играх в 1896г. вошла в программу соревновани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52 г.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лимпийские игры) у мужчин и с 1958 г.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IV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рвенство мира) у женщин окончательно сло­жилось классическое многоборье: 6 видов у мужчин (вольные упражнения, опорный прыжок, упражнения на коне с ручками, кольцах, брусьях и перекладине) и 4 вида у женщин (вольные упражнения, опорный прыжок, упражнения на брусьях разной высоты и бревне)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мнастика в дореволюционной Росси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ечественная система военно-полевой гимнастики ведет свое начало от времен Петр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.). Петр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едрял военные упражнения типа преодоления различных препятствий и были заложены основы системы физической подготовки войск. Он же дал указание о введении гимнастики в военно-морских учебных заведен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й вклад в дело развития системы физической подготовки русской армии внес великий русский полководец А. В. Суворов. Особое внимание он уделял воспитанию выносливости, обучению штыковому бою и умению быстро преодолевать препят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учебных заведениях с начал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. и вплоть до Великой Октябрьской социалистической революции преподавалась гимнастика, заимствованная из различных зарубежных систе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вестный ученый, анатом и педагог П. Ф. Лесгафт (1838— 1909 гг.) является первым создателем отечественной системы гим­настики. Он опубликовал первое научно обоснованное руководство по физическому воспитанию детей — «Руководство по физическому образованию детей школьного возраст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1885 г. в России начали проводить соревнования по гимнасти­к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00 г. в России появились первые организации общества «Соко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сновные этапы развития гимнастики в СССР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1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18 по 1930 г. В это время гимнастика выступает как средство разностороннего физического разви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2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31 по 1940 г. В этот период гимнастика выступает как одно из основных средств советской системы физического вос­пит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3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41 по 1945 г. Гимнастика в эти трудные для страны годы Великой Отечественной войны сыграла огромную роль, являясь средством допризывной подготовки и лечебным средством для скорейшего возвращения в строй раненых и больных воин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4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45 по 1951 г. Характерной чертой этого этапа яв­ляется окончательное восстановление довоенных масштабов совет­ской гимнастики и выход ее на международную спортивную арену, а в связи с этим и изменение содержания женской спортивной гим­наст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5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52 по 1959 г. В эти годы широко использовали все виды гимнастики, а спортивная гимнастика завоевала передо­вые позиции на международной спортивной аре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6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60 г. по настоящее время — характерен резким ростом соперничества на международной спортивной арене между советскими и зарубежными спортсменами. Следует, однако, отме­тить, что спортивная борьба у гимнастов и у гимнасток протекала по - разно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едупреждение травм на занятиях по гимнастик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раховка и помощь на занятиях гимнастикой позволяют не только успешно решать задачи овладения техникой гимнастических упражнений, но и избегать трав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К основным причинам травматизма относя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Несоблюдение правил организации зан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Невыполнение педагогических и методических требований, предъявляемых к проведению зан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Несоответствие костюма и обу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Несвоевременная и недостаточно внимательная проверка оборудования и инвентаря, несоблюдение санитарно-гигиенических условий, не использование технических средств, обеспечиваю­щих безопасность зан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. Отсутствие или несистематическое проведение врачебного контроля и самоконтрол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. Недостаточная воспитательная работа, проводимая с занимающими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ерестроения и передвижения.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730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строение колонны по одному в колонны по 2 дроблением и свед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91520" y="1600200"/>
            <a:ext cx="1133280" cy="1257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62120" y="33732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строение колонны по одному в колонны по 4, 8  дроблением и свед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91520" y="3581280"/>
            <a:ext cx="105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редвижения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оевой ша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ходный (обычный) ша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жение на мес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ход с движения на месте к передвиже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кращение движения по команде: «Группа — СТОЙ!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менение ширины шага и скорости дви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жение бег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мена направления фронта захождения плечом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жение по диагонал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50800" y="3352680"/>
            <a:ext cx="2609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жение в обх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800600" y="43434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47400" y="6019920"/>
            <a:ext cx="3398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ижение противоход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391520" y="2286000"/>
            <a:ext cx="1447560" cy="1523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408360" y="4038480"/>
            <a:ext cx="2656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жение змейкой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змыкания и смыка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981080"/>
            <a:ext cx="2438640" cy="2438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мык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ставны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191120"/>
            <a:ext cx="2438280" cy="2438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мык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споряж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1905120"/>
            <a:ext cx="2438280" cy="2438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мык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 направляющ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колонн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438280" y="1219320"/>
            <a:ext cx="1828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2952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21932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2-20T16:42:4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