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0D6-A58B-4132-989D-65B2028C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30A-5E0E-4F32-9342-0EED812F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760-AEAB-4070-BA57-4116D132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652-C597-4E64-8932-050EF184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242-83BE-4E71-B70C-135A537B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3B4-0600-49B2-8D14-E420A2E7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609-FBE9-40E9-A02E-881BF772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B8F-9BF7-431C-8123-D7D45C8D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9AE-FE56-4641-9EC4-AEA50292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1EA-A7E5-4028-ADC4-007C9C34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77D-5897-4756-B88F-8B796594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091-6833-4228-8073-C911D289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7951-97AC-4074-A7A9-2F881363A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8459640" cy="654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12640" y="404640"/>
            <a:ext cx="66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утешествие по Солнечной сис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2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0508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8508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980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744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105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Проверьт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070160" y="6021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68360" y="189000"/>
            <a:ext cx="6551640" cy="907920"/>
          </a:xfrm>
          <a:prstGeom prst="cloudCallout">
            <a:avLst>
              <a:gd name="adj1" fmla="val -56810"/>
              <a:gd name="adj2" fmla="val 114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4360" y="1268280"/>
            <a:ext cx="64818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(35 + у) – 15 = 3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1484280"/>
            <a:ext cx="647640" cy="62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4208400" y="1632960"/>
            <a:ext cx="368280" cy="1800360"/>
          </a:xfrm>
          <a:custGeom>
            <a:avLst/>
            <a:gdLst>
              <a:gd name="textAreaLeft" fmla="*/ 235440 w 368280"/>
              <a:gd name="textAreaRight" fmla="*/ 368640 w 368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57720"/>
            <a:ext cx="331308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меньш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30640" y="2852640"/>
            <a:ext cx="1054080" cy="576360"/>
          </a:xfrm>
          <a:custGeom>
            <a:avLst/>
            <a:gdLst/>
            <a:ahLst/>
            <a:rect l="l" t="t" r="r" b="b"/>
            <a:pathLst>
              <a:path w="664" h="363">
                <a:moveTo>
                  <a:pt x="664" y="0"/>
                </a:moveTo>
                <a:lnTo>
                  <a:pt x="0" y="363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3357720"/>
            <a:ext cx="331308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ычит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61080" y="2133720"/>
            <a:ext cx="426960" cy="1311120"/>
          </a:xfrm>
          <a:custGeom>
            <a:avLst/>
            <a:gdLst/>
            <a:ahLst/>
            <a:rect l="l" t="t" r="r" b="b"/>
            <a:pathLst>
              <a:path w="269" h="826">
                <a:moveTo>
                  <a:pt x="269" y="0"/>
                </a:moveTo>
                <a:lnTo>
                  <a:pt x="0" y="826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03640" y="3933720"/>
            <a:ext cx="33134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88160" y="2133720"/>
            <a:ext cx="84240" cy="2041560"/>
          </a:xfrm>
          <a:custGeom>
            <a:avLst/>
            <a:gdLst/>
            <a:ahLst/>
            <a:rect l="l" t="t" r="r" b="b"/>
            <a:pathLst>
              <a:path w="53" h="1286">
                <a:moveTo>
                  <a:pt x="0" y="0"/>
                </a:moveTo>
                <a:lnTo>
                  <a:pt x="53" y="1286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65300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35 + 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43280" y="5013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465300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867280" y="4869000"/>
            <a:ext cx="432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653000"/>
            <a:ext cx="201636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85080" y="0"/>
            <a:ext cx="1513080" cy="2016000"/>
          </a:xfrm>
          <a:prstGeom prst="irregularSeal1">
            <a:avLst/>
          </a:prstGeom>
          <a:gradFill rotWithShape="0">
            <a:gsLst>
              <a:gs pos="0">
                <a:srgbClr val="e4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573408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35 + 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843280" y="5950080"/>
            <a:ext cx="431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573408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588000" y="5805360"/>
            <a:ext cx="2016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y = 11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68360" y="189000"/>
            <a:ext cx="6551640" cy="907920"/>
          </a:xfrm>
          <a:prstGeom prst="cloudCallout">
            <a:avLst>
              <a:gd name="adj1" fmla="val -56810"/>
              <a:gd name="adj2" fmla="val 114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1268280"/>
            <a:ext cx="64818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(35 + у) – 15 = 3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3573360"/>
            <a:ext cx="345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у + 35 -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3280" y="386064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357336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85080" y="0"/>
            <a:ext cx="1513080" cy="2016000"/>
          </a:xfrm>
          <a:prstGeom prst="irregularSeal1">
            <a:avLst/>
          </a:prstGeom>
          <a:gradFill rotWithShape="0">
            <a:gsLst>
              <a:gs pos="0">
                <a:srgbClr val="e4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4653000"/>
            <a:ext cx="201636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у +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16360" y="501336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465300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24360" y="5805360"/>
            <a:ext cx="2016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y = 11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2781360"/>
            <a:ext cx="648036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простим вы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928400" y="912960"/>
            <a:ext cx="368280" cy="3240360"/>
          </a:xfrm>
          <a:custGeom>
            <a:avLst/>
            <a:gdLst>
              <a:gd name="textAreaLeft" fmla="*/ 235440 w 368280"/>
              <a:gd name="textAreaRight" fmla="*/ 368640 w 36828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68360" y="189000"/>
            <a:ext cx="6551640" cy="907920"/>
          </a:xfrm>
          <a:prstGeom prst="cloudCallout">
            <a:avLst>
              <a:gd name="adj1" fmla="val -56810"/>
              <a:gd name="adj2" fmla="val 114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268280"/>
            <a:ext cx="64818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12 + (х + 34) = 8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1484280"/>
            <a:ext cx="647640" cy="62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503680" y="1632960"/>
            <a:ext cx="368280" cy="1800000"/>
          </a:xfrm>
          <a:custGeom>
            <a:avLst/>
            <a:gdLst>
              <a:gd name="textAreaLeft" fmla="*/ 235440 w 368280"/>
              <a:gd name="textAreaRight" fmla="*/ 368640 w 368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357720"/>
            <a:ext cx="259236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лаг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0800" y="2103480"/>
            <a:ext cx="1082880" cy="1295280"/>
          </a:xfrm>
          <a:custGeom>
            <a:avLst/>
            <a:gdLst/>
            <a:ahLst/>
            <a:rect l="l" t="t" r="r" b="b"/>
            <a:pathLst>
              <a:path w="682" h="816">
                <a:moveTo>
                  <a:pt x="682" y="0"/>
                </a:moveTo>
                <a:lnTo>
                  <a:pt x="0" y="816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3357720"/>
            <a:ext cx="58338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еизвестное слаг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2849400"/>
            <a:ext cx="244440" cy="625680"/>
          </a:xfrm>
          <a:custGeom>
            <a:avLst/>
            <a:gdLst/>
            <a:ahLst/>
            <a:rect l="l" t="t" r="r" b="b"/>
            <a:pathLst>
              <a:path w="154" h="394">
                <a:moveTo>
                  <a:pt x="154" y="0"/>
                </a:moveTo>
                <a:lnTo>
                  <a:pt x="0" y="394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3933720"/>
            <a:ext cx="331344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у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88160" y="2133720"/>
            <a:ext cx="84240" cy="2041560"/>
          </a:xfrm>
          <a:custGeom>
            <a:avLst/>
            <a:gdLst/>
            <a:ahLst/>
            <a:rect l="l" t="t" r="r" b="b"/>
            <a:pathLst>
              <a:path w="53" h="1286">
                <a:moveTo>
                  <a:pt x="0" y="0"/>
                </a:moveTo>
                <a:lnTo>
                  <a:pt x="53" y="1286"/>
                </a:ln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65300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х +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43280" y="5013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465300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867280" y="5084640"/>
            <a:ext cx="43200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_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4653000"/>
            <a:ext cx="201636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0"/>
            <a:ext cx="1513080" cy="2016000"/>
          </a:xfrm>
          <a:prstGeom prst="irregularSeal1">
            <a:avLst/>
          </a:prstGeom>
          <a:gradFill rotWithShape="0">
            <a:gsLst>
              <a:gs pos="0">
                <a:srgbClr val="e4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573408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34 +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43280" y="5950080"/>
            <a:ext cx="431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573408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72360" y="580536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 = 37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68360" y="189000"/>
            <a:ext cx="6551640" cy="907920"/>
          </a:xfrm>
          <a:prstGeom prst="cloudCallout">
            <a:avLst>
              <a:gd name="adj1" fmla="val -56810"/>
              <a:gd name="adj2" fmla="val 114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1268280"/>
            <a:ext cx="64818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12 + (х + 34) = 8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3573360"/>
            <a:ext cx="345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х + 12 +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3280" y="386064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357336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85080" y="0"/>
            <a:ext cx="1513080" cy="2016000"/>
          </a:xfrm>
          <a:prstGeom prst="irregularSeal1">
            <a:avLst/>
          </a:prstGeom>
          <a:gradFill rotWithShape="0">
            <a:gsLst>
              <a:gs pos="0">
                <a:srgbClr val="e4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4653000"/>
            <a:ext cx="201636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х +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3280" y="501336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i="1" lang="en-US" sz="32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4653000"/>
            <a:ext cx="2016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95640" y="5805360"/>
            <a:ext cx="216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 = 37</a:t>
            </a:r>
            <a:endParaRPr b="1" i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2781360"/>
            <a:ext cx="648036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простим вы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4928400" y="912960"/>
            <a:ext cx="368280" cy="3240360"/>
          </a:xfrm>
          <a:custGeom>
            <a:avLst/>
            <a:gdLst>
              <a:gd name="textAreaLeft" fmla="*/ 235440 w 368280"/>
              <a:gd name="textAreaRight" fmla="*/ 368640 w 36828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396880" y="488520"/>
            <a:ext cx="40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340640"/>
            <a:ext cx="61927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Times New Roman"/>
              </a:rPr>
              <a:t>1)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138 + х + 57 = 218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Times New Roman"/>
              </a:rPr>
              <a:t>2)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248 – (у + 123) = 24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Times New Roman"/>
              </a:rPr>
              <a:t>3)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(24 – х) + 37 = 49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Times New Roman"/>
              </a:rPr>
              <a:t>4)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(у + 263) – 97 = 538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66ff"/>
                </a:solidFill>
                <a:latin typeface="Times New Roman"/>
              </a:rPr>
              <a:t>5)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169 + (87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) = 30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5724360" y="1628640"/>
          <a:ext cx="2159280" cy="4536720"/>
        </p:xfrm>
        <a:graphic>
          <a:graphicData uri="http://schemas.openxmlformats.org/drawingml/2006/table">
            <a:tbl>
              <a:tblPr/>
              <a:tblGrid>
                <a:gridCol w="2159280"/>
              </a:tblGrid>
              <a:tr h="151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Проверьт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628640"/>
          <a:ext cx="2386080" cy="4525560"/>
        </p:xfrm>
        <a:graphic>
          <a:graphicData uri="http://schemas.openxmlformats.org/drawingml/2006/table">
            <a:tbl>
              <a:tblPr/>
              <a:tblGrid>
                <a:gridCol w="238608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492360" y="1628640"/>
          <a:ext cx="2232000" cy="452556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5740200" cy="5740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27600" y="602136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37080" y="7650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1367280"/>
            <a:ext cx="8137440" cy="4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Скорость вращения Марса –        24 км/с, скорость вращения Меркурия – 48 км/с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Сравните скорости вращения Меркурия и Марса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5640" y="1052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84320" y="602136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27240" y="602136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37080" y="7650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558800"/>
            <a:ext cx="78483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ран и Нептун, почти одинаковые по размерам, их называют планетами близнецами. Если число спутников Нептуна увеличить на 12, и от этой суммы отнять 2, то получите число спутников Урана, которое равно 18. Найдите число спутников Непту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140360" y="18900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24360" y="6021360"/>
            <a:ext cx="13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-0.01042 C 0.16007 -0.01042 0.30208 0.1787 0.30208 0.41134 C 0.30208 0.64398 0.16007 0.83333 -0.01441 0.83333 C -0.18889 0.83333 -0.33073 0.64398 -0.33073 0.41134 C -0.33073 0.1787 -0.18889 -0.01042 -0.01441 -0.01042 Z">
                                      <p:cBhvr>
                                        <p:cTn id="596" dur="5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2608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987640" y="105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Проверьт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2565360"/>
            <a:ext cx="1079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1989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3357720"/>
            <a:ext cx="1079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24000" y="4149720"/>
            <a:ext cx="1079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0" y="1989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2565360"/>
            <a:ext cx="1079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6000" y="3357720"/>
            <a:ext cx="1079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000" y="4149720"/>
            <a:ext cx="1079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4941720"/>
            <a:ext cx="1079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4941720"/>
            <a:ext cx="1079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45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56000" y="105264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92360" y="2349360"/>
            <a:ext cx="633564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№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395 (г, д, е),  № 398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835280" y="1125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885080" y="2205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00720" y="1052640"/>
            <a:ext cx="862200" cy="861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6227640" y="2349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5940360" y="37162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3635280" y="213372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1042920" y="3068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25092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324000" y="472428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7020000" y="0"/>
            <a:ext cx="2198520" cy="1517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6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7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80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9000"/>
                            </p:stCondLst>
                            <p:childTnLst>
                              <p:par>
                                <p:cTn id="6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2" dur="12608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124000" y="256536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5 = 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 + а = 3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– 135 = 20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З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– а = 8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Ж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– 63 = 7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+ 72 = 1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18840" y="48852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03280" y="1773360"/>
          <a:ext cx="6337080" cy="3814920"/>
        </p:xfrm>
        <a:graphic>
          <a:graphicData uri="http://schemas.openxmlformats.org/drawingml/2006/table">
            <a:tbl>
              <a:tblPr/>
              <a:tblGrid>
                <a:gridCol w="2112120"/>
                <a:gridCol w="2112840"/>
                <a:gridCol w="2112120"/>
              </a:tblGrid>
              <a:tr h="1272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 –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= 1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5T15:43:46Z</dcterms:created>
  <dc:creator>ирина</dc:creator>
  <dc:description/>
  <dc:language>en-US</dc:language>
  <cp:lastModifiedBy>dim</cp:lastModifiedBy>
  <dcterms:modified xsi:type="dcterms:W3CDTF">2019-05-26T06:14:44Z</dcterms:modified>
  <cp:revision>13</cp:revision>
  <dc:subject/>
  <dc:title>Слайд 1</dc:title>
</cp:coreProperties>
</file>