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4DD-A462-4A9B-B2BD-E8BECA6E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903-3A85-4C24-A2E2-A6FA32C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EA8-0E01-4847-BE2D-07941CAB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BA5-B276-4F53-8F42-0E58A3CB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A95-21A6-4D13-A298-7256A40A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368-D7C3-4175-9747-E43E054C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36D-0784-4B8B-AF1D-EB40B80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4F8-E85B-4209-A51C-E987858E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1A9-5C77-4EEC-8E55-55E3EEB0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A7B-CD79-4DC0-B6D0-4837AB7F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ECE-40D1-438D-8D80-B59979C2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447-076B-4694-BA4B-66E097A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914E-20EE-4AE4-8175-A59B33B58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8459640" cy="654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2640" y="40464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утешествие по Солнечн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2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8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980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744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05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70160" y="6021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(35 + у) – 15 = 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484280"/>
            <a:ext cx="647640" cy="62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208400" y="1632960"/>
            <a:ext cx="368280" cy="1800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57720"/>
            <a:ext cx="331308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меньш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30640" y="2852640"/>
            <a:ext cx="1054080" cy="576360"/>
          </a:xfrm>
          <a:custGeom>
            <a:avLst/>
            <a:gdLst/>
            <a:ahLst/>
            <a:rect l="l" t="t" r="r" b="b"/>
            <a:pathLst>
              <a:path w="664" h="363">
                <a:moveTo>
                  <a:pt x="664" y="0"/>
                </a:moveTo>
                <a:lnTo>
                  <a:pt x="0" y="363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3357720"/>
            <a:ext cx="331308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ычит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61080" y="2133720"/>
            <a:ext cx="426960" cy="1311120"/>
          </a:xfrm>
          <a:custGeom>
            <a:avLst/>
            <a:gdLst/>
            <a:ahLst/>
            <a:rect l="l" t="t" r="r" b="b"/>
            <a:pathLst>
              <a:path w="269" h="826">
                <a:moveTo>
                  <a:pt x="269" y="0"/>
                </a:moveTo>
                <a:lnTo>
                  <a:pt x="0" y="82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3933720"/>
            <a:ext cx="33134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88160" y="2133720"/>
            <a:ext cx="84240" cy="2041560"/>
          </a:xfrm>
          <a:custGeom>
            <a:avLst/>
            <a:gdLst/>
            <a:ahLst/>
            <a:rect l="l" t="t" r="r" b="b"/>
            <a:pathLst>
              <a:path w="53" h="1286">
                <a:moveTo>
                  <a:pt x="0" y="0"/>
                </a:moveTo>
                <a:lnTo>
                  <a:pt x="53" y="128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5 + 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43280" y="5013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67280" y="4869000"/>
            <a:ext cx="432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5 + 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43280" y="5950080"/>
            <a:ext cx="431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588000" y="5805360"/>
            <a:ext cx="201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 = 11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(35 + у) – 15 = 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3573360"/>
            <a:ext cx="345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у + 35 -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3280" y="386064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357336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у +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16360" y="5013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24360" y="5805360"/>
            <a:ext cx="2016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 = 11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2781360"/>
            <a:ext cx="6480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простим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928400" y="912960"/>
            <a:ext cx="368280" cy="3240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2 + (х + 34) = 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1484280"/>
            <a:ext cx="647640" cy="62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503680" y="1632960"/>
            <a:ext cx="368280" cy="1800000"/>
          </a:xfrm>
          <a:custGeom>
            <a:avLst/>
            <a:gdLst>
              <a:gd name="textAreaLeft" fmla="*/ 235440 w 368280"/>
              <a:gd name="textAreaRight" fmla="*/ 368640 w 368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357720"/>
            <a:ext cx="2592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0800" y="2103480"/>
            <a:ext cx="1082880" cy="1295280"/>
          </a:xfrm>
          <a:custGeom>
            <a:avLst/>
            <a:gdLst/>
            <a:ahLst/>
            <a:rect l="l" t="t" r="r" b="b"/>
            <a:pathLst>
              <a:path w="682" h="816">
                <a:moveTo>
                  <a:pt x="682" y="0"/>
                </a:moveTo>
                <a:lnTo>
                  <a:pt x="0" y="81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3357720"/>
            <a:ext cx="58338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известное слаг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2849400"/>
            <a:ext cx="244440" cy="625680"/>
          </a:xfrm>
          <a:custGeom>
            <a:avLst/>
            <a:gdLst/>
            <a:ahLst/>
            <a:rect l="l" t="t" r="r" b="b"/>
            <a:pathLst>
              <a:path w="154" h="394">
                <a:moveTo>
                  <a:pt x="154" y="0"/>
                </a:moveTo>
                <a:lnTo>
                  <a:pt x="0" y="394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933720"/>
            <a:ext cx="33134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88160" y="2133720"/>
            <a:ext cx="84240" cy="2041560"/>
          </a:xfrm>
          <a:custGeom>
            <a:avLst/>
            <a:gdLst/>
            <a:ahLst/>
            <a:rect l="l" t="t" r="r" b="b"/>
            <a:pathLst>
              <a:path w="53" h="1286">
                <a:moveTo>
                  <a:pt x="0" y="0"/>
                </a:moveTo>
                <a:lnTo>
                  <a:pt x="53" y="128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х +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43280" y="5013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867280" y="5084640"/>
            <a:ext cx="43200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4 +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43280" y="5950080"/>
            <a:ext cx="431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72360" y="580536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= 37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2 + (х + 34) = 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573360"/>
            <a:ext cx="345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х + 12 +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3280" y="386064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357336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х +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3280" y="5013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95640" y="5805360"/>
            <a:ext cx="21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= 37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2781360"/>
            <a:ext cx="6480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простим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4928400" y="912960"/>
            <a:ext cx="368280" cy="3240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96880" y="488520"/>
            <a:ext cx="40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340640"/>
            <a:ext cx="6192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1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138 + х + 57 = 218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2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248 – (у + 123) = 24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3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(24 – х) + 37 = 49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4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(у + 263) – 97 = 538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5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169 + (87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) = 30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5724360" y="1628640"/>
          <a:ext cx="2159280" cy="4536720"/>
        </p:xfrm>
        <a:graphic>
          <a:graphicData uri="http://schemas.openxmlformats.org/drawingml/2006/table">
            <a:tbl>
              <a:tblPr/>
              <a:tblGrid>
                <a:gridCol w="2159280"/>
              </a:tblGrid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628640"/>
          <a:ext cx="2386080" cy="4525560"/>
        </p:xfrm>
        <a:graphic>
          <a:graphicData uri="http://schemas.openxmlformats.org/drawingml/2006/table">
            <a:tbl>
              <a:tblPr/>
              <a:tblGrid>
                <a:gridCol w="238608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492360" y="1628640"/>
          <a:ext cx="2232000" cy="45255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740200" cy="5740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27600" y="60213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7080" y="7650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367280"/>
            <a:ext cx="813744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Скорость вращения Марса –        24 км/с, скорость вращения Меркурия – 48 км/с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Сравните скорости вращения Меркурия и Марса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1052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84320" y="60213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27240" y="602136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37080" y="7650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558800"/>
            <a:ext cx="7848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ран и Нептун, почти одинаковые по размерам, их называют планетами близнецами. Если число спутников Нептуна увеличить на 12, и от этой суммы отнять 2, то получите число спутников Урана, которое равно 18. Найдите число спутников Непту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24360" y="602136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1042 C 0.16007 -0.01042 0.30208 0.1787 0.30208 0.41134 C 0.30208 0.64398 0.16007 0.83333 -0.01441 0.83333 C -0.18889 0.83333 -0.33073 0.64398 -0.33073 0.41134 C -0.33073 0.1787 -0.18889 -0.01042 -0.01441 -0.01042 Z">
                                      <p:cBhvr>
                                        <p:cTn id="596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2608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987640" y="105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198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3357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4149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198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256536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3357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4149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941720"/>
            <a:ext cx="1079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941720"/>
            <a:ext cx="1079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56000" y="1052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349360"/>
            <a:ext cx="633564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95 (г, д, е),  № 398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885080" y="220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00720" y="1052640"/>
            <a:ext cx="862200" cy="861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227640" y="2349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940360" y="37162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3635280" y="2133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1042920" y="3068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25092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324000" y="47242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7020000" y="0"/>
            <a:ext cx="2198520" cy="151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7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9000"/>
                            </p:stCondLst>
                            <p:childTnLst>
                              <p:par>
                                <p:cTn id="6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12608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24000" y="2565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5 = 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 + а = 3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– 135 = 20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– а = 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– 63 = 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+ 72 = 1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 –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= 1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5:43:46Z</dcterms:created>
  <dc:creator>ирина</dc:creator>
  <dc:description/>
  <dc:language>en-US</dc:language>
  <cp:lastModifiedBy>dim</cp:lastModifiedBy>
  <dcterms:modified xsi:type="dcterms:W3CDTF">2019-05-26T06:14:44Z</dcterms:modified>
  <cp:revision>13</cp:revision>
  <dc:subject/>
  <dc:title>Слайд 1</dc:title>
</cp:coreProperties>
</file>