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D9C7-07BF-4192-BBB5-390BE764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8545-DD2C-4D54-BE05-40C09CE6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7E15-32E1-431C-8880-A2392670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726E-CF29-4126-86F3-9555DDD1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7CF7-B85E-45FD-B272-513935A6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3E2A-2204-420B-8C52-202F56A5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12C0-2EF6-4654-A670-D8585D7A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F66F-89BB-4427-AB67-EB9A831D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826E-1D34-4A7F-88FF-49C4F699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AA42-0DB9-46B8-932F-A229B3A1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A01C-B757-4910-A42B-63C6BA4A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C8EE-ACAF-4CC2-98E2-D2BE5975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7188-A729-4B08-891B-93D925CB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817E-EEB8-4DF5-87B0-7FC36507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8F2C-76DA-497C-A025-7BF16A13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94A5-D6C4-42EA-97B0-B19E507C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4BA1-AA80-463A-A69E-6F81460D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1025-4117-4D63-9C32-EE918848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942A-93C9-4C4D-9995-D1DD229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51DF-6248-494A-BC97-114158E1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202C-8A4E-47CB-9102-6C2566C0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BDC4-6374-4F12-9BFD-845FF8F4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9AFF-BEC1-406B-9AA4-6509D6E1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6785-B5E6-4761-B825-769161CA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F3B1-83E0-4FBE-BFAB-A871EC7A87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EBA8-ECF5-4186-B28D-CAA99B5B70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 rot="10800000">
            <a:off x="1332000" y="5949360"/>
            <a:ext cx="6764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ризнаки одаренности у дошкольников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2376720" cy="1730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39640" y="981000"/>
            <a:ext cx="46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аренность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640" y="429264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дошкольном возраст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1620720" cy="2563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По критерию </a:t>
            </a:r>
            <a:br>
              <a:rPr sz="4000"/>
            </a:br>
            <a:r>
              <a:rPr b="0" lang="en-US" sz="4000" spc="-1" strike="noStrike">
                <a:solidFill>
                  <a:srgbClr val="e5e5ff"/>
                </a:solidFill>
                <a:latin typeface="Times New Roman"/>
              </a:rPr>
              <a:t>"форма проявления"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64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Явная одаренность обнаруживает себя в деятельности ребенка достаточно ярко и отчетливо (как бы "сама по себе"); в том числе и при неблагоприятных условиях. Достижения ребенка столь очевидны, что его одаренность не вызывает сомнен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393372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ытая одаренность проявляется в атипичной, замаскированной форме, она не замечается окружающими. Нередко в "гадком утенке" никто не видит будущего "прекрас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00000" y="4797360"/>
            <a:ext cx="16322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Times New Roman"/>
              </a:rPr>
              <a:t>По критерию "широта проявлений в различных видах деятельности"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щая одаренность проявляется по отношению к различным видам деятельности и выступает как основа их продуктивности. Важнейшие аспекты общей одаренности – умственная активность и ее саморегуляц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292428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ециальная одаренность обнаруживает себя в конкретных видах деятельности и обычно определяется в отношении отдельных областей (поэзия, математика, спорт, общение и т.д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184464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По критерию "особенности возрастного развития"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нняя ода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здняя ода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95640" y="2852640"/>
            <a:ext cx="4537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Особенности личности одаренного ребе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обая система ценностей, т. е. система личностных приоритетов, важнейшее место в которой занимает деятельность, соответствующая содержанию одарен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фекционизм (стремление добиться совершенства в выполнении деятельности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утренний локус контроля, то есть принятие на себя ответственности за результаты своей деятельности (а в дальнейшем и за все происходящее с ним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ышенная чувствительность и связанная с ней особая эмоциональная нестабильность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езависимость (автономность, невозможность действовать, думать и поступать так, как большинство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61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даренность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это системное, развивающееся в течение жизни качество психики, которое определяет возможность достижения человеком более высоких (необычных, незаурядных) результатов в одном или нескольких видах деятельности по сравнению с другими людь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даренный ребенок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Специфика одаренности в детском возраст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Детская одаренность часто выступает как проявление закономерностей возрастного развития. Каждый детский возраст имеет свои предпосылки развития способностей. Например, дошкольники характери­зуются особой предрасположенностью к усвоению языков, высоким уровнем любознательности, чрезвычайной яркостью фантазии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Под влиянием смены возраста, образования, освоения норм культурного поведения, типа семейного воспитания и т.д. может происходить "угасание" признаков детской одаренности. Вследствие этого крайне сложно оценить меру устойчивости одаренности, проявляемой данным ребенком на определенном отрезке времени. Кроме того, возникают трудности относительно прогноза превращения одаренного ребенка в одаренного взрослог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3500280"/>
            <a:ext cx="8362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4. Проявления детской одаренности зачастую трудно отличить от обученности (или шире — степени социализации), являющейся результатом более благоприятных условий жизни данного ребенка. Ясно, что при равных способностях ребенок из семьи с высоким социально-экономическим статусом (в тех случаях, когда семья прилагает усилия по его развитию) будет показывать более высокие достижения в определенных видах деятельности по сравнению с ребенком, для которого не были созданы аналогичные условия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76280"/>
            <a:ext cx="88408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3. Своеобразие динамики формирования детской одаренности нередко проявляется в виде неравномерности (рассогласованности) психического развития. Так, наряду с высоким уровнем развития тех или иных способностей  наблюдается отставание в развитии письменной и устной речи; высокий уровень специальных способностей может сочетаться с недостаточным развитием общего интеллекта и т.д. В итоге по одним признакам ребенок может идентифицироваться как одаренный, по другим — как отстающий в психическом развит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42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imes New Roman"/>
              </a:rPr>
              <a:t>Признаки одаренности –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о те особенности ребенка, которые проявляются в реальной деятельности ребенка и могут быть выявлены на уровне наблюдения за характером его действий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42136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знаки явной (проявленной) одаренности зафиксированы в ее определении и связаны с высоким уровнем выполнения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месте с тем, об одаренности ребенка следует судить в единстве категорий "могу" и "хочу, поэтому признаки одаренности охватывают два аспекта поведения одаренного ребенка: инструментальный и мотивационный. Инструментальный характеризует способы его деятельности, а мотивационный - отношение ребенка к той или иной стороне действительности, а также к сво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04000" y="5002200"/>
            <a:ext cx="14079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Times New Roman"/>
              </a:rPr>
              <a:t>Инструментальный аспект поведения одаренного ребенка может быть описан следующими признаками: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 Наличие специфических стратегий деятельност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205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205000"/>
            <a:ext cx="77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. Сформированность качественно своеобразного индивидуального стиля деятельности, выражающегося в склонности "все делать по-своему" и связанного с присущей одаренному ребенку самодостаточной системой саморегуляции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3213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573360"/>
            <a:ext cx="80643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 Особый тип организации знаний одаренного ребенка: высокая структурированность; способность видеть изучаемый предмет в системе разнообразных связей; свернутость знаний в соответствующей предметной области при одновременной их готовности развернуться в качестве контекста поиска решения в нужный момент времени; категориальный характер (увлеченность общими идеями, склонность отыскивать и формулировать общие закономерности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551664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Своеобразный тип обучаемости. Он может проявляться как в высокой скорости и легкости обучения, так и в замедленном темпе обучения, но с последующим резким изменением структуры знаний, представлений и ум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Мотивационный аспект поведения одаренного ребенка может быть описан следующими признаками: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748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 Повышенная избирательная чувствительность к определенным сторонам предметной действительности (знакам, звукам, цвету, техническим устройствам, растениям и т.д.) либо определенным формам собственной активности (физической, познавательной, художественно-выразительной и т.д.) сопровождающаяся, как правило, переживанием чувства  удовольств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205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56536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 Повышенная познавательная потребность, которая проявляется в ненасытной любознательности, а также готовности по собственной инициативе выходить за пределы исходных требований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213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64500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 Ярко выраженный интерес к тем или иным занятиям или сферам деятельности, чрезвычайно высокая увлеченность каким-либо предметом, погруженность в то или иное дело. Наличие столь интенсивной склонности к определенному виду деятель­ности имеет своим следствием поразитель­ное упорство и трудолюб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86900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. Предпочтение парадоксальной, противоречивой и неопределенной информации, неприятие стандартных, типичных заданий и готовых отве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580536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Высокая требовательность к результатам собственного труда, склонность ставить сверхтрудные цели и настойчивость в их достижении, стремление к совершен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иды одарен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о  критерию "вид деятельности и обеспечивающие ее сферы психики"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91628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 Практическая деятельность: одаренность в ремеслах, спортивную и организационную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86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 В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художественно - эстетической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еятельности — хореографическая, сценическая, литературно-поэтическая, изобразительная и музыкальная одарен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70828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 В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познавательной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деятельности — интеллектуальная одаренность различных видов в зависимости от предметного содержания деятельности (одаренность в области естественных и гуманитарных наук, интеллектуальных игр и др.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49417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В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оммуникативной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деятельности - лидерская и аттрактивная одарен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551664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. В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духовно-ценностной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еятельности — одаренность, которая проявляется в создании новых духовных ценностей и служении людя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Times New Roman"/>
              </a:rPr>
              <a:t>По критерию "степень сформированности одаренности"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ктуальная одаренность - это психологическая характеристика ребенка с такими наличными (уже достигнутыми) показателями психического развития, которые проявляются в более высоком уровне выполнения деятельности в конкретной предметной области по сравнению с возрастной и социальной нормой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716280"/>
            <a:ext cx="4319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тенциальная одаренность - это психологическая характеристика ребенка, который имеет лишь определенные психические возможности (потенциал) для высоких достижений в том или ином виде деятельности, но не может реализовать свои возможности в данный момент времени в силу их функциональной недостато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37911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3:33:21Z</dcterms:created>
  <dc:creator>Иван</dc:creator>
  <dc:description/>
  <dc:language>en-US</dc:language>
  <cp:lastModifiedBy>Иван</cp:lastModifiedBy>
  <dcterms:modified xsi:type="dcterms:W3CDTF">2012-01-23T01:26:47Z</dcterms:modified>
  <cp:revision>10</cp:revision>
  <dc:subject/>
  <dc:title>Признаки одаренности у дошкольников </dc:title>
</cp:coreProperties>
</file>