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6.wmf" ContentType="image/x-wmf"/>
  <Override PartName="/ppt/media/image8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814024-42A3-43D2-934F-1C71EBFF8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C19911-6E31-4003-A472-16FC2579D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76FB17-394F-4688-863B-97371CEAF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141D4C-883C-445E-B4E9-CC71F1877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1022D-0A18-4D8B-958B-FE7F3FB76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28902-5DBA-48F9-9ABA-467266272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72E96-0A71-4C11-96C4-F65A0513F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8B0C9-48FC-4748-A739-591773DF0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48B47-D393-4317-A409-54808DD30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6C06D-425C-4316-A40F-B4BEDAE78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4459C-AF36-4D9A-8BB4-ED34CFB27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962ED6-ED2A-4884-AA5E-A14EE157A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13CD7-AF5B-4FFE-B0D9-F3BB25E5C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01B94-B2D7-4D5C-BD65-F28DFC345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BC67C-E238-4D46-854B-A62CB3F74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32B95-085D-462D-90FF-C2491BF91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D62F7-2710-429F-9330-5D931E8A2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7D732E-6F92-480F-9273-6462BE854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743F62-D51A-44DD-B8CB-0F8B5A1F1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0EA987-1205-4968-9E2D-C386630ED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52F9CD-D36E-4EE3-8CA2-185241112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1595BE-CC3A-475F-93A7-6DB263AE1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52FFAA-662F-4F74-9828-456010F6B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3F20A7-3A8E-4DD1-B7BB-B2E4F093D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7AAA8-FFFC-4E7F-964D-A98765AC33A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E604C-98F2-4702-A619-4701983925E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 rot="10800000">
            <a:off x="1332000" y="5949360"/>
            <a:ext cx="6764400" cy="457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Признаки одаренности у дошкольников</a:t>
            </a:r>
            <a:br>
              <a:rPr sz="6000"/>
            </a:b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076720" y="1916280"/>
            <a:ext cx="2376720" cy="173016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 txBox="1"/>
          <p:nvPr/>
        </p:nvSpPr>
        <p:spPr>
          <a:xfrm>
            <a:off x="539640" y="981000"/>
            <a:ext cx="468000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Одаренность </a:t>
            </a:r>
            <a:endParaRPr b="1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971640" y="4292640"/>
            <a:ext cx="777708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 дошкольном возрасте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7236000" y="1413000"/>
            <a:ext cx="1620720" cy="256356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e5ff"/>
                </a:solidFill>
                <a:latin typeface="Times New Roman"/>
              </a:rPr>
              <a:t>По критерию </a:t>
            </a:r>
            <a:br>
              <a:rPr sz="4000"/>
            </a:br>
            <a:r>
              <a:rPr b="0" lang="en-US" sz="4000" spc="-1" strike="noStrike">
                <a:solidFill>
                  <a:srgbClr val="e5e5ff"/>
                </a:solidFill>
                <a:latin typeface="Times New Roman"/>
              </a:rPr>
              <a:t>"форма проявления"</a:t>
            </a:r>
            <a:r>
              <a:rPr b="0" lang="en-US" sz="40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64296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Явная одаренность обнаруживает себя в деятельности ребенка достаточно ярко и отчетливо (как бы "сама по себе"); в том числе и при неблагоприятных условиях. Достижения ребенка столь очевидны, что его одаренность не вызывает сомнения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1" name=""/>
          <p:cNvSpPr/>
          <p:nvPr/>
        </p:nvSpPr>
        <p:spPr>
          <a:xfrm>
            <a:off x="468360" y="3933720"/>
            <a:ext cx="8229600" cy="10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Скрытая одаренность проявляется в атипичной, замаскированной форме, она не замечается окружающими. Нередко в "гадком утенке" никто не видит будущего "прекрасног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900000" y="4797360"/>
            <a:ext cx="1632240" cy="185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5e5ff"/>
                </a:solidFill>
                <a:latin typeface="Times New Roman"/>
              </a:rPr>
              <a:t>По критерию "широта проявлений в различных видах деятельности"</a:t>
            </a: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Общая одаренность проявляется по отношению к различным видам деятельности и выступает как основа их продуктивности. Важнейшие аспекты общей одаренности – умственная активность и ее саморегуляция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5" name=""/>
          <p:cNvSpPr/>
          <p:nvPr/>
        </p:nvSpPr>
        <p:spPr>
          <a:xfrm>
            <a:off x="611280" y="2924280"/>
            <a:ext cx="8229600" cy="9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Специальная одаренность обнаруживает себя в конкретных видах деятельности и обычно определяется в отношении отдельных областей (поэзия, математика, спорт, общение и т.д.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5651640" y="4076640"/>
            <a:ext cx="1844640" cy="183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e5ff"/>
                </a:solidFill>
                <a:latin typeface="Garamond"/>
              </a:rPr>
              <a:t>По критерию "особенности возрастного развития"</a:t>
            </a: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ранняя одаренность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  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поздняя одаренность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3995640" y="2852640"/>
            <a:ext cx="4537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e5ff"/>
                </a:solidFill>
                <a:latin typeface="Garamond"/>
              </a:rPr>
              <a:t>Особенности личности одаренного ребенка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62800" cy="45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 algn="just">
              <a:lnSpc>
                <a:spcPct val="10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особая система ценностей, т. е. система личностных приоритетов, важнейшее место в которой занимает деятельность, соответствующая содержанию одаренности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 algn="just">
              <a:lnSpc>
                <a:spcPct val="10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перфекционизм (стремление добиться совершенства в выполнении деятельности)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 algn="just">
              <a:lnSpc>
                <a:spcPct val="10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внутренний локус контроля, то есть принятие на себя ответственности за результаты своей деятельности (а в дальнейшем и за все происходящее с ним).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 algn="just">
              <a:lnSpc>
                <a:spcPct val="10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повышенная чувствительность и связанная с ней особая эмоциональная нестабильность.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 algn="just">
              <a:lnSpc>
                <a:spcPct val="10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независимость (автономность, невозможность действовать, думать и поступать так, как большинство).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457200" y="5013000"/>
            <a:ext cx="82296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Спасибо за внимание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1692360" y="907920"/>
            <a:ext cx="561636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Одаренность -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это системное, развивающееся в течение жизни качество психики, которое определяет возможность достижения человеком более высоких (необычных, незаурядных) результатов в одном или нескольких видах деятельности по сравнению с другими людьми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 algn="just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Одаренный ребенок -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это ребенок, который выделяется яркими, очевидными, иногда выдающимися достижениями (или имеет внутренние предпосылки для таких достижений) в том или ином виде деятельности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964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Garamond"/>
              </a:rPr>
              <a:t>Специфика одаренности в детском возрасте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79280" y="1267920"/>
            <a:ext cx="896472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. Детская одаренность часто выступает как проявление закономерностей возрастного развития. Каждый детский возраст имеет свои предпосылки развития способностей. Например, дошкольники характери­зуются особой предрасположенностью к усвоению языков, высоким уровнем любознательности, чрезвычайной яркостью фантазии;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. Под влиянием смены возраста, образования, освоения норм культурного поведения, типа семейного воспитания и т.д. может происходить "угасание" признаков детской одаренности. Вследствие этого крайне сложно оценить меру устойчивости одаренности, проявляемой данным ребенком на определенном отрезке времени. Кроме того, возникают трудности относительно прогноза превращения одаренного ребенка в одаренного взрослого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0" y="3500280"/>
            <a:ext cx="8362800" cy="30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Times New Roman"/>
              </a:rPr>
              <a:t>4. Проявления детской одаренности зачастую трудно отличить от обученности (или шире — степени социализации), являющейся результатом более благоприятных условий жизни данного ребенка. Ясно, что при равных способностях ребенок из семьи с высоким социально-экономическим статусом (в тех случаях, когда семья прилагает усилия по его развитию) будет показывать более высокие достижения в определенных видах деятельности по сравнению с ребенком, для которого не были созданы аналогичные условия.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476280"/>
            <a:ext cx="8840880" cy="25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just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3. Своеобразие динамики формирования детской одаренности нередко проявляется в виде неравномерности (рассогласованности) психического развития. Так, наряду с высоким уровнем развития тех или иных способностей  наблюдается отставание в развитии письменной и устной речи; высокий уровень специальных способностей может сочетаться с недостаточным развитием общего интеллекта и т.д. В итоге по одним признакам ребенок может идентифицироваться как одаренный, по другим — как отстающий в психическом развитии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9280" y="476280"/>
            <a:ext cx="84250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5e5ff"/>
                </a:solidFill>
                <a:latin typeface="Times New Roman"/>
              </a:rPr>
              <a:t>Признаки одаренности –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это те особенности ребенка, которые проявляются в реальной деятельности ребенка и могут быть выявлены на уровне наблюдения за характером его действий.</a:t>
            </a:r>
            <a:endParaRPr b="1" lang="en-US" sz="2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" name=""/>
          <p:cNvSpPr/>
          <p:nvPr/>
        </p:nvSpPr>
        <p:spPr>
          <a:xfrm>
            <a:off x="468360" y="2421360"/>
            <a:ext cx="8207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ризнаки явной (проявленной) одаренности зафиксированы в ее определении и связаны с высоким уровнем выполнения деятельност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месте с тем, об одаренности ребенка следует судить в единстве категорий "могу" и "хочу, поэтому признаки одаренности охватывают два аспекта поведения одаренного ребенка: инструментальный и мотивационный. Инструментальный характеризует способы его деятельности, а мотивационный - отношение ребенка к той или иной стороне действительности, а также к своей деятельност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6804000" y="5002200"/>
            <a:ext cx="1407960" cy="185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5e5ff"/>
                </a:solidFill>
                <a:latin typeface="Times New Roman"/>
              </a:rPr>
              <a:t>Инструментальный аспект поведения одаренного ребенка может быть описан следующими признаками:</a:t>
            </a:r>
            <a:endParaRPr b="1" lang="en-US" sz="2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24000" y="1628280"/>
            <a:ext cx="82296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1. Наличие специфических стратегий деятельности.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4" name=""/>
          <p:cNvSpPr/>
          <p:nvPr/>
        </p:nvSpPr>
        <p:spPr>
          <a:xfrm>
            <a:off x="611280" y="2205000"/>
            <a:ext cx="82296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11280" y="2205000"/>
            <a:ext cx="777708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2. Сформированность качественно своеобразного индивидуального стиля деятельности, выражающегося в склонности "все делать по-своему" и связанного с присущей одаренному ребенку самодостаточной системой саморегуляции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84360" y="3213000"/>
            <a:ext cx="7416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11280" y="3573360"/>
            <a:ext cx="8064360" cy="15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3. Особый тип организации знаний одаренного ребенка: высокая структурированность; способность видеть изучаемый предмет в системе разнообразных связей; свернутость знаний в соответствующей предметной области при одновременной их готовности развернуться в качестве контекста поиска решения в нужный момент времени; категориальный характер (увлеченность общими идеями, склонность отыскивать и формулировать общие закономерности)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4360" y="5516640"/>
            <a:ext cx="7920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4. Своеобразный тип обучаемости. Он может проявляться как в высокой скорости и легкости обучения, так и в замедленном темпе обучения, но с последующим резким изменением структуры знаний, представлений и умений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5e5ff"/>
                </a:solidFill>
                <a:latin typeface="Times New Roman"/>
              </a:rPr>
              <a:t>Мотивационный аспект поведения одаренного ребенка может быть описан следующими признаками:</a:t>
            </a:r>
            <a:endParaRPr b="1" lang="en-US" sz="1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95280" y="981000"/>
            <a:ext cx="87487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1. Повышенная избирательная чувствительность к определенным сторонам предметной действительности (знакам, звукам, цвету, техническим устройствам, растениям и т.д.) либо определенным формам собственной активности (физической, познавательной, художественно-выразительной и т.д.) сопровождающаяся, как правило, переживанием чувства  удовольствия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" name=""/>
          <p:cNvSpPr/>
          <p:nvPr/>
        </p:nvSpPr>
        <p:spPr>
          <a:xfrm>
            <a:off x="611280" y="2205000"/>
            <a:ext cx="82296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55640" y="2565360"/>
            <a:ext cx="7777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2. Повышенная познавательная потребность, которая проявляется в ненасытной любознательности, а также готовности по собственной инициативе выходить за пределы исходных требований деятельности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84360" y="3213000"/>
            <a:ext cx="7416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84360" y="3645000"/>
            <a:ext cx="8064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3. Ярко выраженный интерес к тем или иным занятиям или сферам деятельности, чрезвычайно высокая увлеченность каким-либо предметом, погруженность в то или иное дело. Наличие столь интенсивной склонности к определенному виду деятель­ности имеет своим следствием поразитель­ное упорство и трудолюбие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84360" y="4869000"/>
            <a:ext cx="7920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4. Предпочтение парадоксальной, противоречивой и неопределенной информации, неприятие стандартных, типичных заданий и готовых ответов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55640" y="5805360"/>
            <a:ext cx="7920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5. Высокая требовательность к результатам собственного труда, склонность ставить сверхтрудные цели и настойчивость в их достижении, стремление к совершенству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Виды одаренности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По  критерию "вид деятельности и обеспечивающие ее сферы психики"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9" name=""/>
          <p:cNvSpPr/>
          <p:nvPr/>
        </p:nvSpPr>
        <p:spPr>
          <a:xfrm>
            <a:off x="971640" y="1916280"/>
            <a:ext cx="7777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1. Практическая деятельность: одаренность в ремеслах, спортивную и организационную.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042920" y="3860640"/>
            <a:ext cx="7848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3. В </a:t>
            </a: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художественно - эстетической 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деятельности — хореографическая, сценическая, литературно-поэтическая, изобразительная и музыкальная одаренность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971640" y="2708280"/>
            <a:ext cx="7848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2. В </a:t>
            </a: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познавательной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 деятельности — интеллектуальная одаренность различных видов в зависимости от предметного содержания деятельности (одаренность в области естественных и гуманитарных наук, интеллектуальных игр и др.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042920" y="4941720"/>
            <a:ext cx="784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4. В </a:t>
            </a:r>
            <a:r>
              <a:rPr b="1" i="1" lang="ru-RU" sz="1600" spc="-1" strike="noStrike">
                <a:solidFill>
                  <a:srgbClr val="ffffff"/>
                </a:solidFill>
                <a:latin typeface="Times New Roman"/>
              </a:rPr>
              <a:t>коммуникативной</a:t>
            </a: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 деятельности - лидерская и аттрактивная одаренность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042920" y="5516640"/>
            <a:ext cx="7848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5. В </a:t>
            </a: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духовно-ценностной 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деятельности — одаренность, которая проявляется в создании новых духовных ценностей и служении людям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e5ff"/>
                </a:solidFill>
                <a:latin typeface="Times New Roman"/>
              </a:rPr>
              <a:t>По критерию "степень сформированности одаренности"</a:t>
            </a: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39640" y="220500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Актуальная одаренность - это психологическая характеристика ребенка с такими наличными (уже достигнутыми) показателями психического развития, которые проявляются в более высоком уровне выполнения деятельности в конкретной предметной области по сравнению с возрастной и социальной нормой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6" name=""/>
          <p:cNvSpPr/>
          <p:nvPr/>
        </p:nvSpPr>
        <p:spPr>
          <a:xfrm>
            <a:off x="539640" y="3716280"/>
            <a:ext cx="431964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Потенциальная одаренность - это психологическая характеристика ребенка, который имеет лишь определенные психические возможности (потенциал) для высоких достижений в том или ином виде деятельности, но не может реализовать свои возможности в данный момент времени в силу их функциональной недостаточност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5003640" y="3573360"/>
            <a:ext cx="3791160" cy="30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8T03:33:21Z</dcterms:created>
  <dc:creator>Иван</dc:creator>
  <dc:description/>
  <dc:language>en-US</dc:language>
  <cp:lastModifiedBy>Иван</cp:lastModifiedBy>
  <dcterms:modified xsi:type="dcterms:W3CDTF">2012-01-23T01:26:47Z</dcterms:modified>
  <cp:revision>10</cp:revision>
  <dc:subject/>
  <dc:title>Признаки одаренности у дошкольников </dc:title>
</cp:coreProperties>
</file>