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30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dt" idx="3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1804A25-F019-49C6-873D-E46473F6E3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0FA5599-466E-4971-8F22-1C2F93F432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ED3141F-4E44-4554-A2A6-D60775AB04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ED4-D798-4826-BF9B-F84A366A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68A-D757-4881-88CF-0498175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40197-9409-4BC1-B825-A26B595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F0DA0-3CFC-4E6C-A260-72714AA8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476DA-28C9-400F-9114-4EDFC267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F190A-5109-4231-B8CC-8C6C961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B41DF-E924-4DD4-882B-E3539AD1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9557D-DD56-4ADD-A18C-4858F62F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FC3A9-6EDA-496B-9F70-8080C3B8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CDEED-E628-4EE0-88C2-5E9ED32D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C57AC-9517-44F3-89C2-ECBA4010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41F9B-B737-414B-A7DC-1E6DCB9B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A49-AEAA-445C-9318-45725D91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8D313-899E-4049-9EE5-3BFABBF6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36471-9E62-428C-B667-4457C6A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8FC48-B0E6-4091-B83A-7D14638B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14E3A-9CE4-4CA5-8DE0-A5BE7B2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DD1A8-2ADF-4F34-8C5E-09AA7F2B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C3C9D-6A0E-427F-8F31-F76C35B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C0E3C-8246-43AF-B430-8C02B8BC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6BD30-D902-48B6-BCAD-279124B6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23AA1-2F72-4EC4-B5CA-EA9C270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CD681-E7A6-4052-9B51-4A28FF39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F63-0A48-4232-B753-F218449E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C0498-ABFA-4301-B449-80424557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66A07-C2EA-4FE9-BF08-E2B0C059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0CC8-6AAC-4009-804B-C2297232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87EC4-188D-4D8C-BAA6-CE53832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3D4D4-DCB6-4CE7-A57B-B0B4208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9544F-2D2C-40D7-BD49-8B4B3A8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3BE36-10E9-4193-9C48-09E2A73A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227E3-C670-4A7A-A72A-D12A712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C55BD-EE04-4327-801C-7A2981A6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E352F-8B07-40F2-BB4C-16EA8521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2676-CF91-4A04-A448-B2DACA51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82C66-19F8-495A-803B-71D90A5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5B80F-ADE6-415F-BC42-B0B8B5B4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C1E33-3506-4F82-AB32-B932EAEA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557BA-760C-4C0F-A209-33A3AC72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DFE79-18E2-41F0-8599-F1F6CD4C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57D00-BC47-4A18-AFAF-158C403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91332-0C79-46BD-A19B-75BC5939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5103D-3417-445B-A498-399E708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670C9-9BC9-49BA-A3F8-615139D7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2F374-C81F-42F3-8880-4C24427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68AF-DE39-4D5C-B2FB-1F30AB46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20CEE-B997-40A4-B6DA-BA700D2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38EEF-9F7E-4A13-95CE-D8D90BEB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1C07E-6CE4-4DB5-AD58-35E8FF52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2A951-3F48-47F0-8E5E-EE4E654F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96B1A-689C-412B-892D-3D375286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AB6-3317-49FB-BE66-61C8D499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8DE-6F29-4F00-BCDE-0677EBA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46CC-9CB0-4D93-99E5-BEF6B7B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40A-C982-40EA-9EDE-6DCD4D6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30D6-77C7-4CF6-9739-585E0043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B64-0771-4C5C-AC19-A2DB49A0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FCDA-8091-478B-BF22-BFF778C3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D06D-BDC3-4632-BB28-CFA5A56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4C07-A0B5-40E7-8828-1DDF876F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E342-0754-4312-8736-54A1EA3E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69DE-6E3C-4146-915A-2476C08F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75A6-4D13-4117-BCC6-501C2DD7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F28A-65A3-4357-8C23-6765C4E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DEC3-F355-4ECD-AFAE-8EAE45F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1CF7-E8C9-4F86-9170-EE3D8234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67022-A6EA-43D0-81B0-8642531F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0D4-B054-46B2-A533-411DDFE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026A-BF56-46F7-805A-01E7D5FD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2E46-2C1A-4FDF-9763-CC4A799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53A1-134E-476E-98D6-E3C2E71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0598-7B4B-4980-B452-A935C4C9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17FA-FCAD-4049-B699-959B1257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0247-88B9-46A7-8D88-E41C7CFF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96F5-EA07-4D93-AB32-9766B774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8BBE-EF7B-46AE-BE29-3C86A95C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B84E-BA35-4FC8-B3D9-EF008350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A093-2F46-4550-B126-5A211D05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D09-E7F7-4FA6-8002-1DC0DA9D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0837-FD2C-498E-8F50-FB959954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ADD8-C2F2-452A-9083-48AB38F3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122D-CA93-4935-9393-6A4D0DFA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6CB3-8CEA-4A65-B710-F9816F5D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2B18-6041-4CBE-8B32-231CB73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D7B2-DADA-41AB-BAFC-E061CE36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A49D-21CF-45E3-A27C-D69BD8D3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62C6-1FEF-4609-B3A7-10C5E7B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7E73-B368-4BC7-88D4-4D064880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4100-E067-4FAA-8316-FEF8CB3C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877-1871-43C7-8051-F04EC7B2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1B1FE-2E7C-4ECC-A1B8-7D9D371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CC12-50D0-4A81-A080-3AA5865A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AB82-5D1E-4467-A852-4A57FA0B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6D25-22F1-4F69-91BF-C5DBCAC4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534C-9E76-48D6-A9A8-3EF187EF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885C-1B08-40B0-8386-16B423BA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0E291-B355-4806-ABA3-33FCDCF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515E-B7F1-44F3-8178-6A4760E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0653B-0DA0-4D78-B750-02EFF9A2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A8AE-B15B-4978-B209-4B450572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A51-E9F9-4540-9004-E52A7E07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1C4B-0996-41B1-9EAC-63A97026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7B05-0D01-4476-AED3-91C0DBCA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2AF9-DF59-4DE1-ABF9-7C037D9C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3B21-300C-4A83-9AE5-4DEE795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C8073-0B86-4FE7-A637-C323F86B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4472E-B53F-4CA2-BB9B-DB10FC44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DE7DE-E10E-4D99-9A66-62B320F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3B62-1EA1-4505-8104-6722EBD2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E53F-E879-4F97-84F1-3CE480F9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2DE47-80D1-4459-96D6-F45CF72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FB47-7E27-4336-9666-22067B76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6FE9-6F09-4C3E-83C0-5C8150C1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44CC-6C6F-491B-9E64-C03A7A8C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2B1DD-21C9-45DA-92E2-1105F9AC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ED538-1636-411B-807F-5CE5FADB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334A-EE64-4897-B871-18ED68C0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51FE3-6E67-4D8C-9280-3C991196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07417-A7CA-4B15-82F0-0E80D48E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F8966-63EB-4624-BE0A-B9AE0110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9FA04-1D53-47E2-8368-C5E2CCD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1A1C3-F99F-40F6-BC61-86EE29E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367-FABA-48FA-A877-6D91DC3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7E3E-6625-41E5-B936-DF6F53A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E2FB-C075-44E8-BFA6-3569447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09140-10F7-434C-B644-5473C73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FC845-C448-4167-A2F3-EC981C61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6B7A-A25C-4B36-9C54-3F3860D2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FBF05-5D09-47DA-AD70-48930FFA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421C1-450D-4B76-B890-755FF3AE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E71D4-A160-4C9E-9AA7-F985924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B6510-A730-4954-9468-5B3A61F7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EFBB8-1AC0-43C3-BA37-69B1BB9E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4B3-7D18-47C8-829A-2798A9C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33360" y="252360"/>
            <a:ext cx="940752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63E5A-1DC8-49EF-AB98-333D29AB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4DF7C-841D-4153-88A5-2F54ED1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1305D-C3A0-4715-8D8B-58D8B307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74B1-49CF-439E-B68A-AD21EE6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3360" y="4327560"/>
            <a:ext cx="94075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863DE-39A0-4495-8C8A-5D6FD97E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54120" y="167904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3336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154120" y="4327560"/>
            <a:ext cx="459072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8829-3718-435F-944E-0628D180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1432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95280" y="167904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3336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51432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695280" y="4327560"/>
            <a:ext cx="3029040" cy="2418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D891F-2799-4B73-B2D6-44FEC2FC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273FC-1B9B-4D3C-9FCE-7122A29E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BE52A-BF9F-45C5-B964-C4820DD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8C58B-5A3B-41A0-84D2-AF63D716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2DBCCE8-651E-4C6C-9688-293C2DC4428B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68120" y="168120"/>
            <a:ext cx="9738000" cy="331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EB88A65-C136-497F-946D-618D4655429E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638172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33360" y="7067520"/>
            <a:ext cx="395136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2EB20A1-CE7B-453B-8A25-E05B626EB503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728120" y="0"/>
            <a:ext cx="235260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875720" y="171360"/>
            <a:ext cx="0" cy="688500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7540560" y="32259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7643880" y="3328920"/>
            <a:ext cx="465120" cy="4636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7624800" y="331776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C995FBB-EACB-4CE3-B264-98D617D372FD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9912240" y="324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0080720" cy="27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71360" y="2666880"/>
            <a:ext cx="973764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D4A3A31-0C7C-4012-827E-05BDCFF2A4A0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808520" y="1131840"/>
            <a:ext cx="503280" cy="4860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56FE028-42ED-46FA-9152-64A825694CED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9912240" y="2052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68120" y="2519280"/>
            <a:ext cx="97380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71360" y="157320"/>
            <a:ext cx="9737640" cy="2358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68120" y="268776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703760" y="2332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808520" y="243540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788000" y="242388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8382BB5-850A-4DC6-AA14-6723A508F019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5030640" y="1736640"/>
            <a:ext cx="9720" cy="531360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384960" y="706608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788000" y="1146240"/>
            <a:ext cx="50472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6571499-6B76-4746-B233-A0C5D05F6975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5040360" y="2425680"/>
            <a:ext cx="0" cy="461664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0080720" cy="159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68120" y="1511280"/>
            <a:ext cx="9738000" cy="10080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60200" y="7045200"/>
            <a:ext cx="9738000" cy="3430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68120" y="141120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36240" y="7066080"/>
            <a:ext cx="39481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788000" y="1149120"/>
            <a:ext cx="50472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97FC4FD-B028-4AF6-9A00-3065732BA49A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0080720" cy="153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68120" y="17136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68120" y="1407960"/>
            <a:ext cx="973800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703760" y="1054080"/>
            <a:ext cx="6732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808520" y="1157400"/>
            <a:ext cx="463680" cy="4651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788000" y="1141200"/>
            <a:ext cx="504720" cy="4870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CB2E660-4449-4AA7-98F5-7C7558495A27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00807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62000" y="704520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68120" y="17460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6240" y="7067520"/>
            <a:ext cx="394812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703760" y="6972120"/>
            <a:ext cx="673200" cy="4856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F4F8709-1852-461B-A25F-043C2EBF8E58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68120" y="168120"/>
            <a:ext cx="9738000" cy="33516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7391520"/>
            <a:ext cx="10080720" cy="1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9912240" y="0"/>
            <a:ext cx="16848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008072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68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68120" y="671400"/>
            <a:ext cx="3024360" cy="646776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68120" y="168120"/>
            <a:ext cx="9738000" cy="721692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68120" y="587520"/>
            <a:ext cx="973800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428840" y="252360"/>
            <a:ext cx="671400" cy="671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531800" y="355680"/>
            <a:ext cx="463680" cy="46332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65240" y="7042320"/>
            <a:ext cx="9737640" cy="3412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3360" y="252360"/>
            <a:ext cx="9407520" cy="83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33360" y="1679040"/>
            <a:ext cx="9407520" cy="5070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03360" indent="-301680">
              <a:spcBef>
                <a:spcPts val="7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06480" indent="-250920">
              <a:spcBef>
                <a:spcPts val="75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08160" indent="-250920">
              <a:spcBef>
                <a:spcPts val="75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11280" indent="-250920">
              <a:spcBef>
                <a:spcPts val="75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11280" indent="-25092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512720" y="344520"/>
            <a:ext cx="503280" cy="48744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ru-RU" sz="18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AF647C4-19CD-4461-A67E-E51D8F59569B}" type="slidenum">
              <a:rPr b="0" lang="ru-RU" sz="18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6384960" y="7059600"/>
            <a:ext cx="3355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33360" y="7067520"/>
            <a:ext cx="37288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9.png"/><Relationship Id="rId16" Type="http://schemas.openxmlformats.org/officeDocument/2006/relationships/image" Target="../media/image29.jpeg"/><Relationship Id="rId17" Type="http://schemas.openxmlformats.org/officeDocument/2006/relationships/image" Target="../media/image30.wmf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20840" y="1008000"/>
            <a:ext cx="260352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4360" y="1581120"/>
            <a:ext cx="963720" cy="219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9000"/>
          </a:bodyPr>
          <a:p>
            <a:pPr indent="0">
              <a:lnSpc>
                <a:spcPct val="80000"/>
              </a:lnSpc>
              <a:spcBef>
                <a:spcPts val="638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___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38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eorgi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897200" y="1636560"/>
            <a:ext cx="7680240" cy="508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rmAutofit/>
          </a:bodyPr>
          <a:p>
            <a:pPr marL="301680" indent="-3016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Обыкновенная дробь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863640" y="684000"/>
            <a:ext cx="8982000" cy="6669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1.   Найдите  правильную дробь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2.   Найдите неправильную дробь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3.   Сократите дробь       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4.   Приведите дробь        к знаменателю 28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buClr>
                <a:srgbClr val="8cad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2a373d"/>
                </a:solidFill>
                <a:latin typeface="Calibri"/>
              </a:rPr>
              <a:t>5.   Выделите  целую  часть        :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608040" indent="-608040">
              <a:lnSpc>
                <a:spcPct val="100000"/>
              </a:lnSpc>
              <a:spcBef>
                <a:spcPts val="638"/>
              </a:spcBef>
              <a:buClr>
                <a:srgbClr val="8cad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5" descr=""/>
          <p:cNvPicPr/>
          <p:nvPr/>
        </p:nvPicPr>
        <p:blipFill>
          <a:blip r:embed="rId1"/>
          <a:stretch/>
        </p:blipFill>
        <p:spPr>
          <a:xfrm>
            <a:off x="1800360" y="2627280"/>
            <a:ext cx="4419360" cy="7048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"/>
          <p:cNvPicPr/>
          <p:nvPr/>
        </p:nvPicPr>
        <p:blipFill>
          <a:blip r:embed="rId2"/>
          <a:stretch/>
        </p:blipFill>
        <p:spPr>
          <a:xfrm>
            <a:off x="1871640" y="3995640"/>
            <a:ext cx="4267080" cy="685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"/>
          <p:cNvPicPr/>
          <p:nvPr/>
        </p:nvPicPr>
        <p:blipFill>
          <a:blip r:embed="rId3"/>
          <a:stretch/>
        </p:blipFill>
        <p:spPr>
          <a:xfrm>
            <a:off x="1800360" y="5292720"/>
            <a:ext cx="4352760" cy="752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"/>
          <p:cNvPicPr/>
          <p:nvPr/>
        </p:nvPicPr>
        <p:blipFill>
          <a:blip r:embed="rId4"/>
          <a:stretch/>
        </p:blipFill>
        <p:spPr>
          <a:xfrm>
            <a:off x="1655640" y="6516720"/>
            <a:ext cx="4552920" cy="723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0" descr=""/>
          <p:cNvPicPr/>
          <p:nvPr/>
        </p:nvPicPr>
        <p:blipFill>
          <a:blip r:embed="rId5"/>
          <a:stretch/>
        </p:blipFill>
        <p:spPr>
          <a:xfrm>
            <a:off x="5040360" y="4851360"/>
            <a:ext cx="361800" cy="8002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1" descr=""/>
          <p:cNvPicPr/>
          <p:nvPr/>
        </p:nvPicPr>
        <p:blipFill>
          <a:blip r:embed="rId6"/>
          <a:stretch/>
        </p:blipFill>
        <p:spPr>
          <a:xfrm>
            <a:off x="4754520" y="3137040"/>
            <a:ext cx="514440" cy="7333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2" descr="Шотландка"/>
          <p:cNvPicPr/>
          <p:nvPr/>
        </p:nvPicPr>
        <p:blipFill>
          <a:blip r:embed="rId7"/>
          <a:stretch/>
        </p:blipFill>
        <p:spPr>
          <a:xfrm>
            <a:off x="6192720" y="2916360"/>
            <a:ext cx="3743280" cy="16398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13"/>
          <p:cNvSpPr/>
          <p:nvPr/>
        </p:nvSpPr>
        <p:spPr>
          <a:xfrm>
            <a:off x="6264360" y="900000"/>
            <a:ext cx="3600360" cy="1584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5  «+»   отметка 5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4  «+»   отметка 4 ,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3  «+»   отметк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4" descr=""/>
          <p:cNvPicPr/>
          <p:nvPr/>
        </p:nvPicPr>
        <p:blipFill>
          <a:blip r:embed="rId9"/>
          <a:stretch/>
        </p:blipFill>
        <p:spPr>
          <a:xfrm>
            <a:off x="6183360" y="6066000"/>
            <a:ext cx="503280" cy="742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5" descr=""/>
          <p:cNvPicPr/>
          <p:nvPr/>
        </p:nvPicPr>
        <p:blipFill>
          <a:blip r:embed="rId10"/>
          <a:stretch/>
        </p:blipFill>
        <p:spPr>
          <a:xfrm>
            <a:off x="6335640" y="3780000"/>
            <a:ext cx="544680" cy="576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6" descr=""/>
          <p:cNvPicPr/>
          <p:nvPr/>
        </p:nvPicPr>
        <p:blipFill>
          <a:blip r:embed="rId11"/>
          <a:stretch/>
        </p:blipFill>
        <p:spPr>
          <a:xfrm>
            <a:off x="9217080" y="3780000"/>
            <a:ext cx="544320" cy="576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12"/>
          <a:stretch/>
        </p:blipFill>
        <p:spPr>
          <a:xfrm>
            <a:off x="7056360" y="3780000"/>
            <a:ext cx="488880" cy="5047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8" descr=""/>
          <p:cNvPicPr/>
          <p:nvPr/>
        </p:nvPicPr>
        <p:blipFill>
          <a:blip r:embed="rId13"/>
          <a:stretch/>
        </p:blipFill>
        <p:spPr>
          <a:xfrm>
            <a:off x="7777080" y="3780000"/>
            <a:ext cx="488880" cy="504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9" descr=""/>
          <p:cNvPicPr/>
          <p:nvPr/>
        </p:nvPicPr>
        <p:blipFill>
          <a:blip r:embed="rId14"/>
          <a:stretch/>
        </p:blipFill>
        <p:spPr>
          <a:xfrm>
            <a:off x="8569440" y="3851280"/>
            <a:ext cx="426960" cy="503280"/>
          </a:xfrm>
          <a:prstGeom prst="rect">
            <a:avLst/>
          </a:prstGeom>
          <a:ln w="0">
            <a:noFill/>
          </a:ln>
        </p:spPr>
      </p:pic>
      <p:sp>
        <p:nvSpPr>
          <p:cNvPr id="631" name="Oval 21"/>
          <p:cNvSpPr/>
          <p:nvPr/>
        </p:nvSpPr>
        <p:spPr>
          <a:xfrm>
            <a:off x="1800360" y="1116000"/>
            <a:ext cx="122400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2"/>
          <p:cNvSpPr/>
          <p:nvPr/>
        </p:nvSpPr>
        <p:spPr>
          <a:xfrm>
            <a:off x="3384720" y="2411280"/>
            <a:ext cx="122364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3"/>
          <p:cNvSpPr/>
          <p:nvPr/>
        </p:nvSpPr>
        <p:spPr>
          <a:xfrm>
            <a:off x="3384720" y="3780000"/>
            <a:ext cx="1223640" cy="1079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4"/>
          <p:cNvSpPr/>
          <p:nvPr/>
        </p:nvSpPr>
        <p:spPr>
          <a:xfrm>
            <a:off x="5040360" y="5075280"/>
            <a:ext cx="1224000" cy="1079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55640" y="6300720"/>
            <a:ext cx="122400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5"/>
          <a:stretch/>
        </p:blipFill>
        <p:spPr>
          <a:xfrm>
            <a:off x="1871640" y="1258920"/>
            <a:ext cx="4457880" cy="780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2520" y="-78120"/>
            <a:ext cx="971568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5064"/>
                </a:solidFill>
                <a:latin typeface="Times New Roman"/>
                <a:ea typeface="Times New Roman"/>
              </a:rPr>
              <a:t>Сложение и вычитание обыкновенных дробе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02920" y="1403280"/>
            <a:ext cx="9069480" cy="561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38"/>
              </a:spcBef>
              <a:buClr>
                <a:srgbClr val="8cad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2a373d"/>
                </a:solidFill>
                <a:latin typeface="Calibri"/>
              </a:rPr>
              <a:t>с одинаковыми                         с разны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01680" indent="-30168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373d"/>
                </a:solidFill>
                <a:latin typeface="Calibri"/>
              </a:rPr>
              <a:t>знаменателями                       знаменателя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Line 4"/>
          <p:cNvSpPr/>
          <p:nvPr/>
        </p:nvSpPr>
        <p:spPr>
          <a:xfrm flipH="1">
            <a:off x="2448000" y="1476360"/>
            <a:ext cx="122400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6553080" y="1403280"/>
            <a:ext cx="129564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0" y="3584520"/>
            <a:ext cx="184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2" descr=""/>
          <p:cNvPicPr/>
          <p:nvPr/>
        </p:nvPicPr>
        <p:blipFill>
          <a:blip r:embed="rId1"/>
          <a:stretch/>
        </p:blipFill>
        <p:spPr>
          <a:xfrm>
            <a:off x="360360" y="3203640"/>
            <a:ext cx="7751880" cy="38624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3" descr=""/>
          <p:cNvPicPr/>
          <p:nvPr/>
        </p:nvPicPr>
        <p:blipFill>
          <a:blip r:embed="rId2"/>
          <a:stretch/>
        </p:blipFill>
        <p:spPr>
          <a:xfrm>
            <a:off x="1727280" y="3348000"/>
            <a:ext cx="495360" cy="704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"/>
          <p:cNvPicPr/>
          <p:nvPr/>
        </p:nvPicPr>
        <p:blipFill>
          <a:blip r:embed="rId3"/>
          <a:stretch/>
        </p:blipFill>
        <p:spPr>
          <a:xfrm>
            <a:off x="2232000" y="3348000"/>
            <a:ext cx="600120" cy="7239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5" descr=""/>
          <p:cNvPicPr/>
          <p:nvPr/>
        </p:nvPicPr>
        <p:blipFill>
          <a:blip r:embed="rId4"/>
          <a:stretch/>
        </p:blipFill>
        <p:spPr>
          <a:xfrm>
            <a:off x="4968720" y="3348000"/>
            <a:ext cx="571680" cy="7430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" descr=""/>
          <p:cNvPicPr/>
          <p:nvPr/>
        </p:nvPicPr>
        <p:blipFill>
          <a:blip r:embed="rId5"/>
          <a:stretch/>
        </p:blipFill>
        <p:spPr>
          <a:xfrm>
            <a:off x="8064360" y="3419640"/>
            <a:ext cx="561960" cy="7236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"/>
          <p:cNvPicPr/>
          <p:nvPr/>
        </p:nvPicPr>
        <p:blipFill>
          <a:blip r:embed="rId6"/>
          <a:stretch/>
        </p:blipFill>
        <p:spPr>
          <a:xfrm>
            <a:off x="8640720" y="3419640"/>
            <a:ext cx="552600" cy="780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8" descr=""/>
          <p:cNvPicPr/>
          <p:nvPr/>
        </p:nvPicPr>
        <p:blipFill>
          <a:blip r:embed="rId7"/>
          <a:stretch/>
        </p:blipFill>
        <p:spPr>
          <a:xfrm>
            <a:off x="1944720" y="4788000"/>
            <a:ext cx="552240" cy="6858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"/>
          <p:cNvPicPr/>
          <p:nvPr/>
        </p:nvPicPr>
        <p:blipFill>
          <a:blip r:embed="rId8"/>
          <a:stretch/>
        </p:blipFill>
        <p:spPr>
          <a:xfrm>
            <a:off x="2519280" y="4716360"/>
            <a:ext cx="486000" cy="7430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0" descr=""/>
          <p:cNvPicPr/>
          <p:nvPr/>
        </p:nvPicPr>
        <p:blipFill>
          <a:blip r:embed="rId9"/>
          <a:stretch/>
        </p:blipFill>
        <p:spPr>
          <a:xfrm>
            <a:off x="4968720" y="4788000"/>
            <a:ext cx="590760" cy="7426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1" descr=""/>
          <p:cNvPicPr/>
          <p:nvPr/>
        </p:nvPicPr>
        <p:blipFill>
          <a:blip r:embed="rId10"/>
          <a:stretch/>
        </p:blipFill>
        <p:spPr>
          <a:xfrm>
            <a:off x="8064360" y="4788000"/>
            <a:ext cx="600120" cy="695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2" descr=""/>
          <p:cNvPicPr/>
          <p:nvPr/>
        </p:nvPicPr>
        <p:blipFill>
          <a:blip r:embed="rId11"/>
          <a:stretch/>
        </p:blipFill>
        <p:spPr>
          <a:xfrm>
            <a:off x="2087640" y="6156360"/>
            <a:ext cx="743040" cy="7239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3" descr=""/>
          <p:cNvPicPr/>
          <p:nvPr/>
        </p:nvPicPr>
        <p:blipFill>
          <a:blip r:embed="rId12"/>
          <a:stretch/>
        </p:blipFill>
        <p:spPr>
          <a:xfrm>
            <a:off x="2879640" y="6156360"/>
            <a:ext cx="486000" cy="723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4" descr=""/>
          <p:cNvPicPr/>
          <p:nvPr/>
        </p:nvPicPr>
        <p:blipFill>
          <a:blip r:embed="rId13"/>
          <a:stretch/>
        </p:blipFill>
        <p:spPr>
          <a:xfrm>
            <a:off x="5184720" y="6227640"/>
            <a:ext cx="714600" cy="7430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7" descr=""/>
          <p:cNvPicPr/>
          <p:nvPr/>
        </p:nvPicPr>
        <p:blipFill>
          <a:blip r:embed="rId14"/>
          <a:stretch/>
        </p:blipFill>
        <p:spPr>
          <a:xfrm>
            <a:off x="5616720" y="1403280"/>
            <a:ext cx="3814560" cy="1900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8"/>
          <p:cNvSpPr/>
          <p:nvPr/>
        </p:nvSpPr>
        <p:spPr>
          <a:xfrm>
            <a:off x="5904000" y="1547640"/>
            <a:ext cx="3600360" cy="1584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9-8  «+»   отметка 5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7-6  «+»   отметка 4 ,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5   «+»   отметк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5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6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2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4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5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7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8"/>
          <p:cNvSpPr/>
          <p:nvPr/>
        </p:nvSpPr>
        <p:spPr>
          <a:xfrm>
            <a:off x="0" y="107640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42" descr="C:\Users\User\Desktop\Безымянный.jpg"/>
          <p:cNvPicPr/>
          <p:nvPr/>
        </p:nvPicPr>
        <p:blipFill>
          <a:blip r:embed="rId16"/>
          <a:stretch/>
        </p:blipFill>
        <p:spPr>
          <a:xfrm>
            <a:off x="6397560" y="5994360"/>
            <a:ext cx="1739880" cy="978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1" descr=""/>
          <p:cNvPicPr/>
          <p:nvPr/>
        </p:nvPicPr>
        <p:blipFill>
          <a:blip r:embed="rId17"/>
          <a:srcRect l="40892" t="0" r="41074" b="0"/>
          <a:stretch/>
        </p:blipFill>
        <p:spPr>
          <a:xfrm>
            <a:off x="6897600" y="6137280"/>
            <a:ext cx="1285920" cy="1041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82520" y="-52560"/>
            <a:ext cx="971568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2a373d"/>
                </a:solidFill>
                <a:latin typeface="Times New Roman"/>
                <a:ea typeface="Times New Roman"/>
              </a:rPr>
              <a:t>Правила сложения и вычитания обыкновенных дробей с разными знаменателями</a:t>
            </a:r>
            <a:endParaRPr b="0" lang="en-US" sz="3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3280" y="1763280"/>
            <a:ext cx="9220320" cy="54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Для того чтобы выполнить сложение (вычитание) дробей с разными знаменателями, надо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674280" algn="just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вести их к общему знаменателю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674280" algn="just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ложить (вычесть) полученные дроби, используя правило сложения (вычитания) дробей с одинаковым знаменателем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674280" algn="just">
              <a:lnSpc>
                <a:spcPct val="7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полученном результате, если это возможно, выполнить сокращение дроби или выделить целую час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Число, которое надписывают над дробью, называют дополнительным множителем, на него умножают числитель и знаменатель дроби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4"/>
              <p:cNvSpPr txBox="1"/>
              <p:nvPr/>
            </p:nvSpPr>
            <p:spPr>
              <a:xfrm>
                <a:off x="1708200" y="4653000"/>
                <a:ext cx="650556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6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4"/>
          <p:cNvSpPr/>
          <p:nvPr/>
        </p:nvSpPr>
        <p:spPr>
          <a:xfrm>
            <a:off x="182520" y="19080"/>
            <a:ext cx="97156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000" spc="-1" strike="noStrike">
                <a:solidFill>
                  <a:srgbClr val="4b5064"/>
                </a:solidFill>
                <a:latin typeface="Times New Roman"/>
                <a:ea typeface="Times New Roman"/>
              </a:rPr>
              <a:t>Сложение и вычитание обыкновенных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025640" y="1689120"/>
                <a:ext cx="1728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3"/>
              <p:cNvSpPr txBox="1"/>
              <p:nvPr/>
            </p:nvSpPr>
            <p:spPr>
              <a:xfrm>
                <a:off x="968400" y="3568680"/>
                <a:ext cx="17287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4"/>
              <p:cNvSpPr txBox="1"/>
              <p:nvPr/>
            </p:nvSpPr>
            <p:spPr>
              <a:xfrm>
                <a:off x="1046160" y="5222880"/>
                <a:ext cx="1687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5"/>
              <p:cNvSpPr txBox="1"/>
              <p:nvPr/>
            </p:nvSpPr>
            <p:spPr>
              <a:xfrm>
                <a:off x="4005360" y="2106720"/>
                <a:ext cx="1892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6"/>
              <p:cNvSpPr txBox="1"/>
              <p:nvPr/>
            </p:nvSpPr>
            <p:spPr>
              <a:xfrm>
                <a:off x="4062240" y="3917880"/>
                <a:ext cx="17290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7"/>
              <p:cNvSpPr txBox="1"/>
              <p:nvPr/>
            </p:nvSpPr>
            <p:spPr>
              <a:xfrm>
                <a:off x="4083120" y="5649840"/>
                <a:ext cx="16873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Object 8"/>
              <p:cNvSpPr txBox="1"/>
              <p:nvPr/>
            </p:nvSpPr>
            <p:spPr>
              <a:xfrm>
                <a:off x="7224840" y="1455840"/>
                <a:ext cx="19335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ж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9"/>
              <p:cNvSpPr txBox="1"/>
              <p:nvPr/>
            </p:nvSpPr>
            <p:spPr>
              <a:xfrm>
                <a:off x="7324560" y="2793960"/>
                <a:ext cx="189072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з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7337520" y="4140360"/>
                <a:ext cx="1931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и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7304040" y="5865840"/>
                <a:ext cx="16858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l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6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1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8:09:20Z</dcterms:created>
  <dc:creator/>
  <dc:description/>
  <dc:language>en-US</dc:language>
  <cp:lastModifiedBy>User</cp:lastModifiedBy>
  <dcterms:modified xsi:type="dcterms:W3CDTF">2019-05-26T19:41:04Z</dcterms:modified>
  <cp:revision>29</cp:revision>
  <dc:subject/>
  <dc:title>Слайд 1</dc:title>
</cp:coreProperties>
</file>