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4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.png" ContentType="image/png"/>
  <Override PartName="/ppt/media/image25.png" ContentType="image/png"/>
  <Override PartName="/ppt/media/image27.png" ContentType="image/png"/>
  <Override PartName="/ppt/media/image30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dt" idx="3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263FC008-BFBD-4D9F-B644-6AEBCD4068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4489B711-D6A7-43DD-9BFC-2F02E8E8587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5334860F-6F1F-4223-8D62-0725D3783FF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018C-00EE-48DC-B17A-4FDE8183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3DA0-49A4-4542-9293-08A6ADE5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979C82-977E-46C5-ABEC-1673859B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30242C-4FFB-4169-B059-87C859AA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33360" y="252360"/>
            <a:ext cx="94075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74979A-6C1C-43B9-8D0C-CF01D0F6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A676F1-B114-414F-86DC-3676DE63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09FF94-12FB-4A5A-A0B2-707A3801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1FBFD8-EE3F-493B-8B89-816AED39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E2EB88-6745-4657-845C-28AF3885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323FF4-513F-41A8-8FFE-5CA4EC085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51432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69528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3336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51432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69528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5EF7F9-964E-4945-ACF6-1D4D020CE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89A6CA-824C-4440-AB06-BF29B21B3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0D42-D522-43A5-A6CA-B60D09675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83C71B-CEBE-4DAB-824C-36BCB48C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1FB638-56AE-40F5-A66C-2F2C9D49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735359-9C35-48A9-B509-712F0604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F3ED27-0F74-4FAA-917F-F98EBFAB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33360" y="252360"/>
            <a:ext cx="94075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286204-C3ED-435E-8CF8-851B520B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8531A1-D205-4F08-B840-EDDD4600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6C88E1-E851-4C16-B41A-BD966ADC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CB5217-5885-462D-8E73-D07F9D78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1F201A-31F8-4917-B9A0-8A474ADA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F2CF76-0A88-45E7-AA18-4A10A222D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1432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9528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3336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1432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9528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06B7-E62F-4269-94A2-AB5A6260D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51432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69528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3336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51432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69528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6058F4-9117-45B5-A816-39D432188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94511-DFB7-4075-8F30-560860B3C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FF6B4-3ACB-4DFD-B9C4-EBABA22A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4C3B6-2479-4AC4-9F47-97644CF9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3D4D5-4DC1-4FB2-AFA0-873ABE7F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6401D-8CAB-491A-BE65-1432982B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33360" y="252360"/>
            <a:ext cx="94075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9A851-9AC9-456C-ADAE-6C789811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D95E5-97A3-42C0-99DC-56107DD9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6E3BA-343F-465E-A49C-DB32864D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F627A-EAA0-494A-981E-AC9170A2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A663-2174-4D5C-89A3-BA632B832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5C654-DA00-405E-8749-8C530589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1C5BC-51A4-4C3B-8773-F5ECCCDB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51432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69528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3336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51432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69528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6B796-0C15-44A5-BD4B-187E1338F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32B824-3DC3-4128-821C-5C5AC7A25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D39E52-D047-440B-9A55-FFB83B90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F3674F-B604-41EA-A9C0-662E8D83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AD873F-1D6A-46ED-B410-8AC9AC10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947A87-7748-4A37-8BAC-EAAD5D80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33360" y="252360"/>
            <a:ext cx="94075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4A2D51-2B9C-458C-AD07-8E660380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64AC80-AAEF-4235-A743-6DF19749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D2BE-D140-4363-9E6F-287531E4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3401EB-B5B5-4D6A-BF26-1F73BCBF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F1FC4A-FCBD-417D-9A15-21751F90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C89568-887D-4011-A86E-85F54950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F20416-243F-4EA6-A721-4C5B9F507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51432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69528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3336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51432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69528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1160A5-2EB7-4EB1-9D82-0D905F6ED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4598-D38B-4C91-84EA-0837A016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A77C-F2CB-421A-A2E3-8A49537B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9F51-332D-4C26-83E4-4441B4EF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33360" y="252360"/>
            <a:ext cx="94075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8754-D5AE-4EC0-92B3-AA458145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A33B-DD00-4812-9974-A7CD0AC4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A389-8B89-4348-83DE-4E390246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6074-BF4C-4C1F-8C16-33209C8B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9E2F-D83B-4980-8467-7C19E09E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F333-0BCA-4BB0-8BF5-178D1201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1604-FFDF-4661-B7CB-ED40F9EA1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1432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9528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3336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1432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9528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3D4A-60BD-4064-9A33-8D966EBE2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C2E41-AF5B-4D9D-AA28-B231DDFE0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0B52E-170A-4588-915C-C838DBD6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8F55B-43E9-4664-B07D-15408076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A3D5F-A8B9-4AB3-88E4-4F380F7B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8F030-8571-473B-9BAF-8DDAC38F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04C6-DA18-4E82-BA40-31006890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33360" y="252360"/>
            <a:ext cx="94075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24E2F-DF3A-45B6-80F1-08955206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BB2FC-F0F2-41AE-8297-E820A449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D48C6-F484-4DE8-A223-44FA37EF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F3B82-BCD7-4431-86D8-8C76E178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4238E-9538-4CC5-B09D-D51867DF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238C7-35D3-466A-A2E1-70A489430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1432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69528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3336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1432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69528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D63C8-9DE7-482E-90FE-B4EBAD65B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EEFE3-B6C8-40F2-85AE-4DF38248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BCE6F-6630-4AED-B983-40666421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85A32-AAA1-4CE0-B9B1-F006EFCB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BBC5-FEF3-4BAA-84F9-F5DBCFE7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010E4-F6DF-4EFA-8BB4-055827DA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514A9-8E01-459B-BD8C-A1E57285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33360" y="252360"/>
            <a:ext cx="94075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A1CB4-FF49-46AA-9632-C329EBCA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C6B73-620A-4A63-8EE3-0BD094D7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0F8F9-23E7-43D5-A81A-E0CBFF0E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834B4-76F2-46D3-A83C-41CC22C6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DA74E-EF42-44E1-ADB7-D169FE3C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8FFC0-D887-4C0D-8F6B-300A20C9B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1432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69528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3336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51432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69528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AC6A8-CD9F-49F6-BB6C-19733CEE3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D359C-D043-41C5-AA9C-30F4D918F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D2A4-0315-49DC-A1C2-0DC1B98B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885BC-98E0-4DE3-81AC-85E78B0B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E6BEB-4781-4C4F-9812-F437DCEE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106AF-902D-486F-BB04-A9B470F7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60894-4C1D-4E67-926B-4F31FB0B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33360" y="252360"/>
            <a:ext cx="94075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1924D-4D92-44EB-9A60-ED730DD5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A7163-31C1-4FEB-9B30-618C4F24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D506C-58B9-4B66-BF00-8EA63147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D5372-FEDD-4689-9FF8-F47AC480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51318-ECDE-43C5-95D0-F033E774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A6247-1EE2-432E-8A50-2FA35FF0D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33360" y="252360"/>
            <a:ext cx="94075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0A32-88A6-4F78-B443-00D486C7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51432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69528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3336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51432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69528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03FCF-0CD9-4D53-93C1-09FBBE1C8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32051-E452-4FDD-A9B2-D7A2C57A8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FE1B6-0BEB-4764-9722-FB6FC534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CCE5D-BC4A-4B74-9575-D90C8A40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0EEED-0D15-4D6B-BEFD-142C195E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48BE8-960C-4136-9E69-6D75B49D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33360" y="252360"/>
            <a:ext cx="94075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F3AD5-4AC7-41B7-8704-5E7DA1D0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1B733-A27E-4B9C-AA3A-3239CD83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BDC55-ABF3-4790-9949-0718A85C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35A2A-1DD6-48B3-845D-7C7B0A4D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61E1-56B7-47CD-81DD-5E716ABB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A3702-16BA-4D8F-BCE9-8400B386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5370B-80B6-4C75-BC9B-AE9F31084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51432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69528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3336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51432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69528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E2E50-639F-49F2-8D34-222BAC84E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B1BDA-ACAF-4B48-A344-7D7EDA989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7B548-352A-4EF9-AE09-1B062EF5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BC581-1051-477C-A5F3-40AE9006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71058-AC51-4FA5-84BF-D8A27045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AEF29-3F92-4220-8BA5-C0E00989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33360" y="252360"/>
            <a:ext cx="94075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45D4C-7C4D-413F-90DB-71072031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A6086-F3DB-44EC-BF4B-7EF35E86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F4AE-1AA1-4BA2-A054-8BAFE359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26B51-F735-4992-A1E3-5CF05C92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AA043-A22A-4A3A-8F50-FBBCE53F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5E0BC-A894-4136-99D2-7F9E9FA0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3357D-0BC9-4651-9332-BD15101A1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51432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69528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3336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51432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69528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B82AC-2177-4C05-87C3-B9B2D6DBA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D60C1-2A95-4C62-A2F3-90DEABD16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66660-4BDD-4AEF-BA4A-A65B6481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F0595-17B9-448B-BD4E-1410CF38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068D3-8CF1-486D-B153-92F95EFE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2EF7F-2CE3-472D-A4AB-C554CF30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92A4-70F1-4236-BA74-33B53D29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33360" y="252360"/>
            <a:ext cx="94075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2E7AF-77CB-4B09-8252-59A2C725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221C1-7C55-408E-A66B-ABAFE42C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0392F-0267-4BDD-88E3-2CBB0714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EC093-BDB4-4415-99A1-95958A6B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7B45E-845F-4BC7-BFAC-81F81659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D1009-F6A9-4AB1-B538-AF619E8B1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51432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69528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3336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51432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69528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B9113-CEBD-4F99-B197-E7305BA3A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1AD5F3-DF18-4B96-B080-C3C10B9CE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4D2599-869C-408B-BC5F-4D72F755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7BD26F-4F9C-4039-857B-38B45D51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10080720" cy="153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9912240" y="0"/>
            <a:ext cx="16848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65240" y="7042320"/>
            <a:ext cx="9737640" cy="3412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6384960" y="7059600"/>
            <a:ext cx="3355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36240" y="7067520"/>
            <a:ext cx="39481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68120" y="171360"/>
            <a:ext cx="973800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68120" y="1407960"/>
            <a:ext cx="973800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703760" y="1054080"/>
            <a:ext cx="673200" cy="67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808520" y="1157400"/>
            <a:ext cx="463680" cy="4651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788000" y="1146240"/>
            <a:ext cx="504720" cy="48744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8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472766D7-922E-47BE-A9CB-930099B7E1BD}" type="slidenum">
              <a:rPr b="0" lang="ru-RU" sz="18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3360" indent="-30168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06480" indent="-2509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08160" indent="-25092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11280" indent="-25092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68120" y="587520"/>
            <a:ext cx="973800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9912240" y="0"/>
            <a:ext cx="16848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68120" y="168120"/>
            <a:ext cx="9738000" cy="331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68120" y="671400"/>
            <a:ext cx="3024360" cy="646776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68120" y="171360"/>
            <a:ext cx="973800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428840" y="252360"/>
            <a:ext cx="671400" cy="67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531800" y="355680"/>
            <a:ext cx="463680" cy="4633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65240" y="7042320"/>
            <a:ext cx="9737640" cy="3412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3360" indent="-30168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06480" indent="-2509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08160" indent="-25092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11280" indent="-25092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512720" y="344520"/>
            <a:ext cx="503280" cy="48744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8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98D547A4-4B81-4790-BCE0-9543398AD26A}" type="slidenum">
              <a:rPr b="0" lang="ru-RU" sz="18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6381720" y="7059600"/>
            <a:ext cx="3355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33360" y="7067520"/>
            <a:ext cx="395136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10080720" cy="153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9912240" y="0"/>
            <a:ext cx="16848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65240" y="7042320"/>
            <a:ext cx="9737640" cy="3412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68120" y="171360"/>
            <a:ext cx="973800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68120" y="1407960"/>
            <a:ext cx="973800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703760" y="1054080"/>
            <a:ext cx="673200" cy="67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808520" y="1157400"/>
            <a:ext cx="463680" cy="4651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3360" indent="-30168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06480" indent="-2509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08160" indent="-25092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11280" indent="-25092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6384960" y="7059600"/>
            <a:ext cx="3355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36240" y="7067520"/>
            <a:ext cx="39481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788000" y="1146240"/>
            <a:ext cx="504720" cy="48744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8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0BC5D815-EAC8-4483-B203-5909EC51DD6E}" type="slidenum">
              <a:rPr b="0" lang="ru-RU" sz="18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728120" y="0"/>
            <a:ext cx="235260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10080720" cy="1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62000" y="7045200"/>
            <a:ext cx="9737640" cy="3412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68120" y="171360"/>
            <a:ext cx="973800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875720" y="171360"/>
            <a:ext cx="0" cy="688500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7540560" y="3225960"/>
            <a:ext cx="671400" cy="67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7643880" y="3328920"/>
            <a:ext cx="465120" cy="46368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3360" indent="-30168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06480" indent="-2509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08160" indent="-25092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11280" indent="-25092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7624800" y="3317760"/>
            <a:ext cx="503280" cy="48600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8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CD82FA3A-2145-4006-9E3E-2D11A4322CD7}" type="slidenum">
              <a:rPr b="0" lang="ru-RU" sz="18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6384960" y="7059600"/>
            <a:ext cx="3355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36240" y="7067520"/>
            <a:ext cx="39481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9912240" y="3240"/>
            <a:ext cx="16848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10080720" cy="27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62000" y="7045200"/>
            <a:ext cx="9737640" cy="3412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71360" y="2666880"/>
            <a:ext cx="973764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68120" y="168120"/>
            <a:ext cx="973800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703760" y="2332080"/>
            <a:ext cx="673200" cy="67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808520" y="2435400"/>
            <a:ext cx="463680" cy="4633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3360" indent="-30168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06480" indent="-2509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08160" indent="-25092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11280" indent="-25092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384960" y="7059600"/>
            <a:ext cx="3355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36240" y="7067520"/>
            <a:ext cx="39481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788000" y="2423880"/>
            <a:ext cx="504720" cy="48708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8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B1E0FCD3-B70F-4AEA-BE47-AC207A7E9041}" type="slidenum">
              <a:rPr b="0" lang="ru-RU" sz="18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10080720" cy="153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9912240" y="0"/>
            <a:ext cx="16848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65240" y="7042320"/>
            <a:ext cx="9737640" cy="3412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68120" y="171360"/>
            <a:ext cx="973800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68120" y="1407960"/>
            <a:ext cx="973800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703760" y="1054080"/>
            <a:ext cx="673200" cy="67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808520" y="1157400"/>
            <a:ext cx="463680" cy="4651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3360" indent="-30168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06480" indent="-2509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08160" indent="-25092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11280" indent="-25092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6384960" y="7059600"/>
            <a:ext cx="3355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36240" y="7067520"/>
            <a:ext cx="39481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808520" y="1131840"/>
            <a:ext cx="503280" cy="48600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8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35D13268-5753-4E81-AFCE-AF66CC41C685}" type="slidenum">
              <a:rPr b="0" lang="ru-RU" sz="18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9912240" y="20520"/>
            <a:ext cx="16848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68120" y="2519280"/>
            <a:ext cx="9738000" cy="3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71360" y="157320"/>
            <a:ext cx="9737640" cy="235872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62000" y="7045200"/>
            <a:ext cx="9737640" cy="3412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68120" y="168120"/>
            <a:ext cx="973800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68120" y="2687760"/>
            <a:ext cx="973800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703760" y="2332080"/>
            <a:ext cx="673200" cy="67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808520" y="2435400"/>
            <a:ext cx="463680" cy="4633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3360" indent="-30168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06480" indent="-2509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08160" indent="-25092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11280" indent="-25092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36240" y="7067520"/>
            <a:ext cx="39481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6384960" y="7059600"/>
            <a:ext cx="3355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788000" y="2423880"/>
            <a:ext cx="504720" cy="48708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8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1CED6D58-7195-40C9-B48D-8E5C352D09FA}" type="slidenum">
              <a:rPr b="0" lang="ru-RU" sz="18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10080720" cy="153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9912240" y="0"/>
            <a:ext cx="16848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65240" y="7042320"/>
            <a:ext cx="9737640" cy="3412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68120" y="171360"/>
            <a:ext cx="973800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68120" y="1407960"/>
            <a:ext cx="973800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703760" y="1054080"/>
            <a:ext cx="673200" cy="67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808520" y="1157400"/>
            <a:ext cx="463680" cy="4651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5030640" y="1736640"/>
            <a:ext cx="9720" cy="531360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3360" indent="-30168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06480" indent="-2509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08160" indent="-25092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11280" indent="-25092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6384960" y="7066080"/>
            <a:ext cx="3355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36240" y="7067520"/>
            <a:ext cx="39481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788000" y="1146240"/>
            <a:ext cx="504720" cy="48744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8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A4246099-2B55-47EE-93CD-53009941801F}" type="slidenum">
              <a:rPr b="0" lang="ru-RU" sz="18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5040360" y="2425680"/>
            <a:ext cx="0" cy="461664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10080720" cy="159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9912240" y="0"/>
            <a:ext cx="16848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68120" y="1511280"/>
            <a:ext cx="9738000" cy="10080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60200" y="7045200"/>
            <a:ext cx="9738000" cy="3430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68120" y="1411200"/>
            <a:ext cx="973800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68120" y="171360"/>
            <a:ext cx="973800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703760" y="1054080"/>
            <a:ext cx="673200" cy="67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808520" y="1157400"/>
            <a:ext cx="463680" cy="4651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3360" indent="-30168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06480" indent="-2509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08160" indent="-25092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11280" indent="-25092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6384960" y="7059600"/>
            <a:ext cx="3355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36240" y="7066080"/>
            <a:ext cx="39481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788000" y="1149120"/>
            <a:ext cx="504720" cy="48564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8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419BDE67-37AC-41F7-B99A-068476D674F7}" type="slidenum">
              <a:rPr b="0" lang="ru-RU" sz="18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10080720" cy="153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9912240" y="0"/>
            <a:ext cx="16848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65240" y="7042320"/>
            <a:ext cx="9737640" cy="3412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68120" y="171360"/>
            <a:ext cx="973800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68120" y="1407960"/>
            <a:ext cx="973800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703760" y="1054080"/>
            <a:ext cx="673200" cy="67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808520" y="1157400"/>
            <a:ext cx="463680" cy="4651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3360" indent="-30168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06480" indent="-2509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08160" indent="-25092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11280" indent="-25092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6384960" y="7059600"/>
            <a:ext cx="3355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36240" y="7067520"/>
            <a:ext cx="39481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788000" y="1141200"/>
            <a:ext cx="504720" cy="48708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8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80A7990D-2EF3-40D1-8AFF-9C5E4F387486}" type="slidenum">
              <a:rPr b="0" lang="ru-RU" sz="18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10080720" cy="1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9912240" y="0"/>
            <a:ext cx="16848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62000" y="7045200"/>
            <a:ext cx="9737640" cy="3412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68120" y="174600"/>
            <a:ext cx="973800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3360" indent="-30168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06480" indent="-2509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08160" indent="-25092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11280" indent="-25092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6384960" y="7059600"/>
            <a:ext cx="3355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36240" y="7067520"/>
            <a:ext cx="39481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703760" y="6972120"/>
            <a:ext cx="673200" cy="48564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B322F8F4-18B2-4822-898C-69AACB0D77A6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68120" y="168120"/>
            <a:ext cx="9738000" cy="33516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9912240" y="0"/>
            <a:ext cx="16848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10080720" cy="13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68120" y="671400"/>
            <a:ext cx="3024360" cy="646776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68120" y="168120"/>
            <a:ext cx="973800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68120" y="587520"/>
            <a:ext cx="973800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428840" y="252360"/>
            <a:ext cx="671400" cy="67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531800" y="355680"/>
            <a:ext cx="463680" cy="4633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65240" y="7042320"/>
            <a:ext cx="9737640" cy="3412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3360" indent="-30168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06480" indent="-2509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08160" indent="-25092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11280" indent="-25092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512720" y="344520"/>
            <a:ext cx="503280" cy="48744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8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1A3DDA3B-105A-4C94-88C4-B911B5B5ED7E}" type="slidenum">
              <a:rPr b="0" lang="ru-RU" sz="18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6384960" y="7059600"/>
            <a:ext cx="3355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33360" y="7067520"/>
            <a:ext cx="37288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9.png"/><Relationship Id="rId16" Type="http://schemas.openxmlformats.org/officeDocument/2006/relationships/image" Target="../media/image29.jpeg"/><Relationship Id="rId17" Type="http://schemas.openxmlformats.org/officeDocument/2006/relationships/image" Target="../media/image30.wmf"/><Relationship Id="rId18" Type="http://schemas.openxmlformats.org/officeDocument/2006/relationships/slideLayout" Target="../slideLayouts/slideLayout25.xml"/><Relationship Id="rId1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20840" y="1008000"/>
            <a:ext cx="26035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04360" y="1581120"/>
            <a:ext cx="963720" cy="219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89000"/>
          </a:bodyPr>
          <a:p>
            <a:pPr indent="0">
              <a:lnSpc>
                <a:spcPct val="80000"/>
              </a:lnSpc>
              <a:spcBef>
                <a:spcPts val="638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Georgia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638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___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638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Georgia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1897200" y="1636560"/>
            <a:ext cx="7680240" cy="508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rmAutofit/>
          </a:bodyPr>
          <a:p>
            <a:pPr marL="301680" indent="-30168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Обыкновенная дробь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863640" y="684000"/>
            <a:ext cx="8982000" cy="6669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2a373d"/>
                </a:solidFill>
                <a:latin typeface="Calibri"/>
              </a:rPr>
              <a:t>1.   Найдите  правильную дробь.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2a373d"/>
                </a:solidFill>
                <a:latin typeface="Calibri"/>
              </a:rPr>
              <a:t>2.   Найдите неправильную дробь: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2a373d"/>
                </a:solidFill>
                <a:latin typeface="Calibri"/>
              </a:rPr>
              <a:t>3.   Сократите дробь       :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2a373d"/>
                </a:solidFill>
                <a:latin typeface="Calibri"/>
              </a:rPr>
              <a:t>4.   Приведите дробь        к знаменателю 28: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>
              <a:lnSpc>
                <a:spcPct val="100000"/>
              </a:lnSpc>
              <a:spcBef>
                <a:spcPts val="638"/>
              </a:spcBef>
              <a:buClr>
                <a:srgbClr val="8cada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2a373d"/>
                </a:solidFill>
                <a:latin typeface="Calibri"/>
              </a:rPr>
              <a:t>5.   Выделите  целую  часть        :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>
              <a:lnSpc>
                <a:spcPct val="100000"/>
              </a:lnSpc>
              <a:spcBef>
                <a:spcPts val="638"/>
              </a:spcBef>
              <a:buClr>
                <a:srgbClr val="8cada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5" descr=""/>
          <p:cNvPicPr/>
          <p:nvPr/>
        </p:nvPicPr>
        <p:blipFill>
          <a:blip r:embed="rId1"/>
          <a:stretch/>
        </p:blipFill>
        <p:spPr>
          <a:xfrm>
            <a:off x="1800360" y="2627280"/>
            <a:ext cx="4419360" cy="7048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6" descr=""/>
          <p:cNvPicPr/>
          <p:nvPr/>
        </p:nvPicPr>
        <p:blipFill>
          <a:blip r:embed="rId2"/>
          <a:stretch/>
        </p:blipFill>
        <p:spPr>
          <a:xfrm>
            <a:off x="1871640" y="3995640"/>
            <a:ext cx="4267080" cy="6858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7" descr=""/>
          <p:cNvPicPr/>
          <p:nvPr/>
        </p:nvPicPr>
        <p:blipFill>
          <a:blip r:embed="rId3"/>
          <a:stretch/>
        </p:blipFill>
        <p:spPr>
          <a:xfrm>
            <a:off x="1800360" y="5292720"/>
            <a:ext cx="4352760" cy="7524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8" descr=""/>
          <p:cNvPicPr/>
          <p:nvPr/>
        </p:nvPicPr>
        <p:blipFill>
          <a:blip r:embed="rId4"/>
          <a:stretch/>
        </p:blipFill>
        <p:spPr>
          <a:xfrm>
            <a:off x="1655640" y="6516720"/>
            <a:ext cx="4552920" cy="72396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0" descr=""/>
          <p:cNvPicPr/>
          <p:nvPr/>
        </p:nvPicPr>
        <p:blipFill>
          <a:blip r:embed="rId5"/>
          <a:stretch/>
        </p:blipFill>
        <p:spPr>
          <a:xfrm>
            <a:off x="5040360" y="4851360"/>
            <a:ext cx="361800" cy="80028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11" descr=""/>
          <p:cNvPicPr/>
          <p:nvPr/>
        </p:nvPicPr>
        <p:blipFill>
          <a:blip r:embed="rId6"/>
          <a:stretch/>
        </p:blipFill>
        <p:spPr>
          <a:xfrm>
            <a:off x="4754520" y="3137040"/>
            <a:ext cx="514440" cy="73332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12" descr="Шотландка"/>
          <p:cNvPicPr/>
          <p:nvPr/>
        </p:nvPicPr>
        <p:blipFill>
          <a:blip r:embed="rId7"/>
          <a:stretch/>
        </p:blipFill>
        <p:spPr>
          <a:xfrm>
            <a:off x="6192720" y="2916360"/>
            <a:ext cx="3743280" cy="1639800"/>
          </a:xfrm>
          <a:prstGeom prst="rect">
            <a:avLst/>
          </a:prstGeom>
          <a:ln w="0">
            <a:noFill/>
          </a:ln>
        </p:spPr>
      </p:pic>
      <p:sp>
        <p:nvSpPr>
          <p:cNvPr id="624" name="Rectangle 13"/>
          <p:cNvSpPr/>
          <p:nvPr/>
        </p:nvSpPr>
        <p:spPr>
          <a:xfrm>
            <a:off x="6264360" y="900000"/>
            <a:ext cx="3600360" cy="15843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5  «+»   отметка 5,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4  «+»   отметка 4 , 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3  «+»   отметка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14" descr=""/>
          <p:cNvPicPr/>
          <p:nvPr/>
        </p:nvPicPr>
        <p:blipFill>
          <a:blip r:embed="rId9"/>
          <a:stretch/>
        </p:blipFill>
        <p:spPr>
          <a:xfrm>
            <a:off x="6183360" y="6066000"/>
            <a:ext cx="503280" cy="7426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15" descr=""/>
          <p:cNvPicPr/>
          <p:nvPr/>
        </p:nvPicPr>
        <p:blipFill>
          <a:blip r:embed="rId10"/>
          <a:stretch/>
        </p:blipFill>
        <p:spPr>
          <a:xfrm>
            <a:off x="6335640" y="3780000"/>
            <a:ext cx="544680" cy="5760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6" descr=""/>
          <p:cNvPicPr/>
          <p:nvPr/>
        </p:nvPicPr>
        <p:blipFill>
          <a:blip r:embed="rId11"/>
          <a:stretch/>
        </p:blipFill>
        <p:spPr>
          <a:xfrm>
            <a:off x="9217080" y="3780000"/>
            <a:ext cx="544320" cy="5760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7" descr=""/>
          <p:cNvPicPr/>
          <p:nvPr/>
        </p:nvPicPr>
        <p:blipFill>
          <a:blip r:embed="rId12"/>
          <a:stretch/>
        </p:blipFill>
        <p:spPr>
          <a:xfrm>
            <a:off x="7056360" y="3780000"/>
            <a:ext cx="488880" cy="50472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18" descr=""/>
          <p:cNvPicPr/>
          <p:nvPr/>
        </p:nvPicPr>
        <p:blipFill>
          <a:blip r:embed="rId13"/>
          <a:stretch/>
        </p:blipFill>
        <p:spPr>
          <a:xfrm>
            <a:off x="7777080" y="3780000"/>
            <a:ext cx="488880" cy="50472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19" descr=""/>
          <p:cNvPicPr/>
          <p:nvPr/>
        </p:nvPicPr>
        <p:blipFill>
          <a:blip r:embed="rId14"/>
          <a:stretch/>
        </p:blipFill>
        <p:spPr>
          <a:xfrm>
            <a:off x="8569440" y="3851280"/>
            <a:ext cx="426960" cy="503280"/>
          </a:xfrm>
          <a:prstGeom prst="rect">
            <a:avLst/>
          </a:prstGeom>
          <a:ln w="0">
            <a:noFill/>
          </a:ln>
        </p:spPr>
      </p:pic>
      <p:sp>
        <p:nvSpPr>
          <p:cNvPr id="631" name="Oval 21"/>
          <p:cNvSpPr/>
          <p:nvPr/>
        </p:nvSpPr>
        <p:spPr>
          <a:xfrm>
            <a:off x="1800360" y="1116000"/>
            <a:ext cx="1224000" cy="1079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22"/>
          <p:cNvSpPr/>
          <p:nvPr/>
        </p:nvSpPr>
        <p:spPr>
          <a:xfrm>
            <a:off x="3384720" y="2411280"/>
            <a:ext cx="1223640" cy="1079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23"/>
          <p:cNvSpPr/>
          <p:nvPr/>
        </p:nvSpPr>
        <p:spPr>
          <a:xfrm>
            <a:off x="3384720" y="3780000"/>
            <a:ext cx="1223640" cy="10792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24"/>
          <p:cNvSpPr/>
          <p:nvPr/>
        </p:nvSpPr>
        <p:spPr>
          <a:xfrm>
            <a:off x="5040360" y="5075280"/>
            <a:ext cx="1224000" cy="10792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25"/>
          <p:cNvSpPr/>
          <p:nvPr/>
        </p:nvSpPr>
        <p:spPr>
          <a:xfrm>
            <a:off x="1655640" y="6300720"/>
            <a:ext cx="1224000" cy="1079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4" descr=""/>
          <p:cNvPicPr/>
          <p:nvPr/>
        </p:nvPicPr>
        <p:blipFill>
          <a:blip r:embed="rId15"/>
          <a:stretch/>
        </p:blipFill>
        <p:spPr>
          <a:xfrm>
            <a:off x="1871640" y="1258920"/>
            <a:ext cx="4457880" cy="7808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82520" y="-78120"/>
            <a:ext cx="971568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b5064"/>
                </a:solidFill>
                <a:latin typeface="Times New Roman"/>
                <a:ea typeface="Times New Roman"/>
              </a:rPr>
              <a:t>Сложение и вычитание обыкновенных дробей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502920" y="1403280"/>
            <a:ext cx="9069480" cy="5616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38"/>
              </a:spcBef>
              <a:buClr>
                <a:srgbClr val="8cada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3600" spc="-1" strike="noStrike">
                <a:solidFill>
                  <a:srgbClr val="2a373d"/>
                </a:solidFill>
                <a:latin typeface="Calibri"/>
              </a:rPr>
              <a:t>с одинаковыми                         с разными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a373d"/>
                </a:solidFill>
                <a:latin typeface="Calibri"/>
              </a:rPr>
              <a:t>знаменателями                       знаменателями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Line 4"/>
          <p:cNvSpPr/>
          <p:nvPr/>
        </p:nvSpPr>
        <p:spPr>
          <a:xfrm flipH="1">
            <a:off x="2448000" y="1476360"/>
            <a:ext cx="1224000" cy="57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5"/>
          <p:cNvSpPr/>
          <p:nvPr/>
        </p:nvSpPr>
        <p:spPr>
          <a:xfrm>
            <a:off x="6553080" y="1403280"/>
            <a:ext cx="129564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7"/>
          <p:cNvSpPr/>
          <p:nvPr/>
        </p:nvSpPr>
        <p:spPr>
          <a:xfrm>
            <a:off x="0" y="3584520"/>
            <a:ext cx="1843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12" descr=""/>
          <p:cNvPicPr/>
          <p:nvPr/>
        </p:nvPicPr>
        <p:blipFill>
          <a:blip r:embed="rId1"/>
          <a:stretch/>
        </p:blipFill>
        <p:spPr>
          <a:xfrm>
            <a:off x="360360" y="3203640"/>
            <a:ext cx="7751880" cy="38624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3" descr=""/>
          <p:cNvPicPr/>
          <p:nvPr/>
        </p:nvPicPr>
        <p:blipFill>
          <a:blip r:embed="rId2"/>
          <a:stretch/>
        </p:blipFill>
        <p:spPr>
          <a:xfrm>
            <a:off x="1727280" y="3348000"/>
            <a:ext cx="495360" cy="7048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4" descr=""/>
          <p:cNvPicPr/>
          <p:nvPr/>
        </p:nvPicPr>
        <p:blipFill>
          <a:blip r:embed="rId3"/>
          <a:stretch/>
        </p:blipFill>
        <p:spPr>
          <a:xfrm>
            <a:off x="2232000" y="3348000"/>
            <a:ext cx="600120" cy="7239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5" descr=""/>
          <p:cNvPicPr/>
          <p:nvPr/>
        </p:nvPicPr>
        <p:blipFill>
          <a:blip r:embed="rId4"/>
          <a:stretch/>
        </p:blipFill>
        <p:spPr>
          <a:xfrm>
            <a:off x="4968720" y="3348000"/>
            <a:ext cx="571680" cy="7430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6" descr=""/>
          <p:cNvPicPr/>
          <p:nvPr/>
        </p:nvPicPr>
        <p:blipFill>
          <a:blip r:embed="rId5"/>
          <a:stretch/>
        </p:blipFill>
        <p:spPr>
          <a:xfrm>
            <a:off x="8064360" y="3419640"/>
            <a:ext cx="561960" cy="7236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7" descr=""/>
          <p:cNvPicPr/>
          <p:nvPr/>
        </p:nvPicPr>
        <p:blipFill>
          <a:blip r:embed="rId6"/>
          <a:stretch/>
        </p:blipFill>
        <p:spPr>
          <a:xfrm>
            <a:off x="8640720" y="3419640"/>
            <a:ext cx="552600" cy="78084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8" descr=""/>
          <p:cNvPicPr/>
          <p:nvPr/>
        </p:nvPicPr>
        <p:blipFill>
          <a:blip r:embed="rId7"/>
          <a:stretch/>
        </p:blipFill>
        <p:spPr>
          <a:xfrm>
            <a:off x="1944720" y="4788000"/>
            <a:ext cx="552240" cy="6858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9" descr=""/>
          <p:cNvPicPr/>
          <p:nvPr/>
        </p:nvPicPr>
        <p:blipFill>
          <a:blip r:embed="rId8"/>
          <a:stretch/>
        </p:blipFill>
        <p:spPr>
          <a:xfrm>
            <a:off x="2519280" y="4716360"/>
            <a:ext cx="486000" cy="74304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20" descr=""/>
          <p:cNvPicPr/>
          <p:nvPr/>
        </p:nvPicPr>
        <p:blipFill>
          <a:blip r:embed="rId9"/>
          <a:stretch/>
        </p:blipFill>
        <p:spPr>
          <a:xfrm>
            <a:off x="4968720" y="4788000"/>
            <a:ext cx="590760" cy="7426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21" descr=""/>
          <p:cNvPicPr/>
          <p:nvPr/>
        </p:nvPicPr>
        <p:blipFill>
          <a:blip r:embed="rId10"/>
          <a:stretch/>
        </p:blipFill>
        <p:spPr>
          <a:xfrm>
            <a:off x="8064360" y="4788000"/>
            <a:ext cx="600120" cy="69516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22" descr=""/>
          <p:cNvPicPr/>
          <p:nvPr/>
        </p:nvPicPr>
        <p:blipFill>
          <a:blip r:embed="rId11"/>
          <a:stretch/>
        </p:blipFill>
        <p:spPr>
          <a:xfrm>
            <a:off x="2087640" y="6156360"/>
            <a:ext cx="743040" cy="7239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3" descr=""/>
          <p:cNvPicPr/>
          <p:nvPr/>
        </p:nvPicPr>
        <p:blipFill>
          <a:blip r:embed="rId12"/>
          <a:stretch/>
        </p:blipFill>
        <p:spPr>
          <a:xfrm>
            <a:off x="2879640" y="6156360"/>
            <a:ext cx="486000" cy="7239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4" descr=""/>
          <p:cNvPicPr/>
          <p:nvPr/>
        </p:nvPicPr>
        <p:blipFill>
          <a:blip r:embed="rId13"/>
          <a:stretch/>
        </p:blipFill>
        <p:spPr>
          <a:xfrm>
            <a:off x="5184720" y="6227640"/>
            <a:ext cx="714600" cy="74304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7" descr=""/>
          <p:cNvPicPr/>
          <p:nvPr/>
        </p:nvPicPr>
        <p:blipFill>
          <a:blip r:embed="rId14"/>
          <a:stretch/>
        </p:blipFill>
        <p:spPr>
          <a:xfrm>
            <a:off x="5616720" y="1403280"/>
            <a:ext cx="3814560" cy="190044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28"/>
          <p:cNvSpPr/>
          <p:nvPr/>
        </p:nvSpPr>
        <p:spPr>
          <a:xfrm>
            <a:off x="5904000" y="1547640"/>
            <a:ext cx="3600360" cy="15843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9-8  «+»   отметка 5,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7-6  «+»   отметка 4 , 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5   «+»   отметка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25"/>
          <p:cNvSpPr/>
          <p:nvPr/>
        </p:nvSpPr>
        <p:spPr>
          <a:xfrm>
            <a:off x="0" y="0"/>
            <a:ext cx="100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26"/>
          <p:cNvSpPr/>
          <p:nvPr/>
        </p:nvSpPr>
        <p:spPr>
          <a:xfrm>
            <a:off x="0" y="107640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31"/>
          <p:cNvSpPr/>
          <p:nvPr/>
        </p:nvSpPr>
        <p:spPr>
          <a:xfrm>
            <a:off x="0" y="0"/>
            <a:ext cx="100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32"/>
          <p:cNvSpPr/>
          <p:nvPr/>
        </p:nvSpPr>
        <p:spPr>
          <a:xfrm>
            <a:off x="0" y="107640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34"/>
          <p:cNvSpPr/>
          <p:nvPr/>
        </p:nvSpPr>
        <p:spPr>
          <a:xfrm>
            <a:off x="0" y="0"/>
            <a:ext cx="100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35"/>
          <p:cNvSpPr/>
          <p:nvPr/>
        </p:nvSpPr>
        <p:spPr>
          <a:xfrm>
            <a:off x="0" y="107640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37"/>
          <p:cNvSpPr/>
          <p:nvPr/>
        </p:nvSpPr>
        <p:spPr>
          <a:xfrm>
            <a:off x="0" y="0"/>
            <a:ext cx="100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8"/>
          <p:cNvSpPr/>
          <p:nvPr/>
        </p:nvSpPr>
        <p:spPr>
          <a:xfrm>
            <a:off x="0" y="107640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42" descr="C:\Users\User\Desktop\Безымянный.jpg"/>
          <p:cNvPicPr/>
          <p:nvPr/>
        </p:nvPicPr>
        <p:blipFill>
          <a:blip r:embed="rId16"/>
          <a:stretch/>
        </p:blipFill>
        <p:spPr>
          <a:xfrm>
            <a:off x="6397560" y="5994360"/>
            <a:ext cx="1739880" cy="97812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41" descr=""/>
          <p:cNvPicPr/>
          <p:nvPr/>
        </p:nvPicPr>
        <p:blipFill>
          <a:blip r:embed="rId17"/>
          <a:srcRect l="40892" t="0" r="41074" b="0"/>
          <a:stretch/>
        </p:blipFill>
        <p:spPr>
          <a:xfrm>
            <a:off x="6897600" y="6137280"/>
            <a:ext cx="1285920" cy="10414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82520" y="-52560"/>
            <a:ext cx="971568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2a373d"/>
                </a:solidFill>
                <a:latin typeface="Times New Roman"/>
                <a:ea typeface="Times New Roman"/>
              </a:rPr>
              <a:t>Правила сложения и вычитания обыкновенных дробей с разными знаменателями</a:t>
            </a:r>
            <a:endParaRPr b="0" lang="en-US" sz="35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03280" y="1763280"/>
            <a:ext cx="9220320" cy="5429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indent="0" algn="just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Для того чтобы выполнить сложение (вычитание) дробей с разными знаменателями, надо: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indent="674280" algn="just">
              <a:lnSpc>
                <a:spcPct val="7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ривести их к общему знаменателю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indent="674280" algn="just">
              <a:lnSpc>
                <a:spcPct val="7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ложить (вычесть) полученные дроби, используя правило сложения (вычитания) дробей с одинаковым знаменателем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indent="674280" algn="just">
              <a:lnSpc>
                <a:spcPct val="7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 полученном результате, если это возможно, выполнить сокращение дроби или выделить целую часть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Число, которое надписывают над дробью, называют дополнительным множителем, на него умножают числитель и знаменатель дроби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Object 4"/>
              <p:cNvSpPr txBox="1"/>
              <p:nvPr/>
            </p:nvSpPr>
            <p:spPr>
              <a:xfrm>
                <a:off x="1708200" y="4653000"/>
                <a:ext cx="650556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pull dir="lu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20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" dur="20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6" dur="20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9" dur="2000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9" dur="2000"/>
                                        <p:tgtEl>
                                          <p:spTgt spid="6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4"/>
          <p:cNvSpPr/>
          <p:nvPr/>
        </p:nvSpPr>
        <p:spPr>
          <a:xfrm>
            <a:off x="182520" y="19080"/>
            <a:ext cx="97156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000" spc="-1" strike="noStrike">
                <a:solidFill>
                  <a:srgbClr val="4b5064"/>
                </a:solidFill>
                <a:latin typeface="Times New Roman"/>
                <a:ea typeface="Times New Roman"/>
              </a:rPr>
              <a:t>Сложение и вычитание обыкновенных дроб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Object 2"/>
              <p:cNvSpPr txBox="1"/>
              <p:nvPr/>
            </p:nvSpPr>
            <p:spPr>
              <a:xfrm>
                <a:off x="1025640" y="1689120"/>
                <a:ext cx="172872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Object 3"/>
              <p:cNvSpPr txBox="1"/>
              <p:nvPr/>
            </p:nvSpPr>
            <p:spPr>
              <a:xfrm>
                <a:off x="968400" y="3568680"/>
                <a:ext cx="172872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Object 4"/>
              <p:cNvSpPr txBox="1"/>
              <p:nvPr/>
            </p:nvSpPr>
            <p:spPr>
              <a:xfrm>
                <a:off x="1046160" y="5222880"/>
                <a:ext cx="168768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Object 5"/>
              <p:cNvSpPr txBox="1"/>
              <p:nvPr/>
            </p:nvSpPr>
            <p:spPr>
              <a:xfrm>
                <a:off x="4005360" y="2106720"/>
                <a:ext cx="189216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Object 6"/>
              <p:cNvSpPr txBox="1"/>
              <p:nvPr/>
            </p:nvSpPr>
            <p:spPr>
              <a:xfrm>
                <a:off x="4062240" y="3917880"/>
                <a:ext cx="172908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д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Object 7"/>
              <p:cNvSpPr txBox="1"/>
              <p:nvPr/>
            </p:nvSpPr>
            <p:spPr>
              <a:xfrm>
                <a:off x="4083120" y="5649840"/>
                <a:ext cx="168732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Object 8"/>
              <p:cNvSpPr txBox="1"/>
              <p:nvPr/>
            </p:nvSpPr>
            <p:spPr>
              <a:xfrm>
                <a:off x="7224840" y="1455840"/>
                <a:ext cx="193356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ж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Object 9"/>
              <p:cNvSpPr txBox="1"/>
              <p:nvPr/>
            </p:nvSpPr>
            <p:spPr>
              <a:xfrm>
                <a:off x="7324560" y="2793960"/>
                <a:ext cx="189072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з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Object 10"/>
              <p:cNvSpPr txBox="1"/>
              <p:nvPr/>
            </p:nvSpPr>
            <p:spPr>
              <a:xfrm>
                <a:off x="7337520" y="4140360"/>
                <a:ext cx="193176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и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0,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Object 11"/>
              <p:cNvSpPr txBox="1"/>
              <p:nvPr/>
            </p:nvSpPr>
            <p:spPr>
              <a:xfrm>
                <a:off x="7304040" y="5865840"/>
                <a:ext cx="168588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к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pull dir="lu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41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46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51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56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61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66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71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76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81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86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18:09:20Z</dcterms:created>
  <dc:creator/>
  <dc:description/>
  <dc:language>en-US</dc:language>
  <cp:lastModifiedBy>User</cp:lastModifiedBy>
  <dcterms:modified xsi:type="dcterms:W3CDTF">2019-05-26T19:41:04Z</dcterms:modified>
  <cp:revision>29</cp:revision>
  <dc:subject/>
  <dc:title>Слайд 1</dc:title>
</cp:coreProperties>
</file>