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A1EF-9072-46CC-9867-9EF59BFEAD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5A32-C3CB-4678-AE16-4DEDAACBC9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FEC7-590C-45E0-BFF6-58E79B7AF6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092-F963-419F-87C8-B4F011CE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0E8-38AC-43BD-A46C-BCFA88E6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7CD-46E6-40C2-9F1E-E9AF1E73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4F1-B60D-4B33-9D3C-E2EDB124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14D5-8968-4A11-9FF4-3C56FA6F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2E5B-2C4F-4CCD-91BC-1EB1533D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DB34-6C05-479D-8461-B161AAD5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1D42-6C04-4BB3-86C0-2E42A7BA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21A3-3615-4E56-837F-09B070D4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6F78-F918-4596-BB5E-FD29171B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8A58-10E4-4ACE-A094-2359BB2F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58F-0A1C-449D-A00B-91530A6A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C4B8-DFC1-4280-A407-A76F5310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034B-5D67-413C-83F9-C67402CA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7A83-8635-468B-BD6B-AC45A720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7E49-8BCA-4117-A2E4-D72009C7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A03A-5F2D-4685-95CD-018F0267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86C3-27C2-4628-97B5-790A3A7C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D81A5-CBEC-4421-8178-CFE8B9FB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43A1-51E1-4D42-BCD4-02914D83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A4170-1BDE-4765-A8B6-C60A47E5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5145-E78F-49BC-A55A-5D93F766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401-6A3A-45BC-B11E-CF0C5455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2A4B-B081-43BD-96F0-6837C870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A7E7-F2AB-4831-A15A-B2C38090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49FA-DB9F-4859-A046-1823A5E6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1631-4EE6-428C-95BA-7A59586D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DA77-2AFD-4A69-BDF5-3DF37180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91DD-09D7-42A7-A659-4AA16B68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9C30-713C-4204-A5A0-8D5F9F3B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28625-9815-4BBB-B306-C2D005D5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BA85E-38AE-43C0-B39C-45B2744E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4509E-62CC-4A9B-BCD6-CA9F2DDE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438-F780-41ED-8429-FE788EB1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80AA6-8E2F-4D66-A7AD-B5E92CFE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152C8-9022-496F-97AA-A6078A82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CD178-B2EF-49B9-BB0E-9D6C404F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5A405-7BC6-470F-AC09-6DCF6A16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010B6-38BE-488A-9664-DB0DF009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1825-F798-4990-BA4B-47DFCACF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94ECA-319D-4D4F-96B3-D9F1963D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8629A-DAB2-446F-AFBC-703E88AA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F90D6-0404-4639-8CCF-E672E4AA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4AA2E-3134-47D5-8BD0-AE9EE5AD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11C-04B2-4FB4-81C5-28D612FC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AFAC4-CB8E-4469-B6F7-0F65AFFB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63D7C-FF54-4EFE-9A7F-ABFDB8A3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8AED3-C21B-4FD4-829E-F9755A15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EB1ED-95C6-451B-980C-DC14FC6A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D75EB-2971-4FCE-8E62-E3754419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D1E28-89A7-4305-A59B-87C3102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8D62F-2B6D-4980-95EE-EDBD5A22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5E097-C131-4CE2-9206-9FEEC481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E27D1-EBA7-4373-AE9A-8BFE7CE7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C143B-A855-4F7D-A935-9F07AD6C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175-5347-48DE-AC2C-578842D1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A68C7-A552-47EC-89AA-9B8472BB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72B-69A7-46C6-BA45-BFA00EC5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69E-6AA9-4310-921B-2E64EE11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9C7-77CF-46FB-91B0-A9184E88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28C4-47E6-4C93-A0B7-76498DDC767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0B9C-6DCD-48FC-9468-B12DB974841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1C16-5B5B-42FE-B7A8-F35B2818F26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8247-1E72-47F6-9512-1FC4D6F97C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5AEB-CE51-417E-958D-38DD6A2E24A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785680" y="4572000"/>
            <a:ext cx="6024600" cy="11714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9766f"/>
                </a:solidFill>
                <a:latin typeface="Verdana"/>
              </a:rPr>
              <a:t>Воспитатель МБДО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9766f"/>
                </a:solidFill>
                <a:latin typeface="Verdana"/>
              </a:rPr>
              <a:t>«Детский сад №15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9766f"/>
                </a:solidFill>
                <a:latin typeface="Verdana"/>
              </a:rPr>
              <a:t>Мелюкова Наталья Никола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Rectangle 1" descr=""/>
          <p:cNvPicPr/>
          <p:nvPr/>
        </p:nvPicPr>
        <p:blipFill>
          <a:blip r:embed="rId1"/>
          <a:stretch/>
        </p:blipFill>
        <p:spPr>
          <a:xfrm>
            <a:off x="2170080" y="639720"/>
            <a:ext cx="6461280" cy="36212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C:\Users\Natasha\Downloads\d3d90789-ed0c-43dc-83ce-dd6cc3d49d08-800x800.png"/>
          <p:cNvPicPr/>
          <p:nvPr/>
        </p:nvPicPr>
        <p:blipFill>
          <a:blip r:embed="rId2"/>
          <a:stretch/>
        </p:blipFill>
        <p:spPr>
          <a:xfrm>
            <a:off x="500040" y="785880"/>
            <a:ext cx="20001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8" descr="D:\фото 15 САД\IMG_20170526_085650.jpg"/>
          <p:cNvPicPr/>
          <p:nvPr/>
        </p:nvPicPr>
        <p:blipFill>
          <a:blip r:embed="rId1"/>
          <a:srcRect l="22002" t="0" r="0" b="0"/>
          <a:stretch/>
        </p:blipFill>
        <p:spPr>
          <a:xfrm>
            <a:off x="2786040" y="2286000"/>
            <a:ext cx="342900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1" name="Прямоугольник 3"/>
          <p:cNvSpPr/>
          <p:nvPr/>
        </p:nvSpPr>
        <p:spPr>
          <a:xfrm>
            <a:off x="928800" y="71424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Группа компенсирующей направленности для детей с недостатками в речевом развитии и ОВ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8"/>
          <p:cNvSpPr/>
          <p:nvPr/>
        </p:nvSpPr>
        <p:spPr>
          <a:xfrm>
            <a:off x="857160" y="1500120"/>
            <a:ext cx="528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Целью игр является развитие познавательных данных детей, интеллектуальных, умственных и математических способносте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6" descr="C:\Users\Natasha\Downloads\DSCN5909.JPG"/>
          <p:cNvPicPr/>
          <p:nvPr/>
        </p:nvPicPr>
        <p:blipFill>
          <a:blip r:embed="rId1"/>
          <a:stretch/>
        </p:blipFill>
        <p:spPr>
          <a:xfrm>
            <a:off x="1928880" y="3643200"/>
            <a:ext cx="242892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4" name="Picture 5" descr="C:\Users\Олег\Desktop\МЕЛЮКОВА Н.Н\20.02\P1040157.JPG"/>
          <p:cNvPicPr/>
          <p:nvPr/>
        </p:nvPicPr>
        <p:blipFill>
          <a:blip r:embed="rId2"/>
          <a:stretch/>
        </p:blipFill>
        <p:spPr>
          <a:xfrm>
            <a:off x="5286240" y="1982880"/>
            <a:ext cx="2428920" cy="182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5"/>
          <p:cNvSpPr/>
          <p:nvPr/>
        </p:nvSpPr>
        <p:spPr>
          <a:xfrm>
            <a:off x="857160" y="857160"/>
            <a:ext cx="7572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Актуальность</a:t>
            </a:r>
            <a:r>
              <a:rPr b="1" lang="ru-RU" sz="21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 состоит в том, что эти игры учат действовать в «уме» и «мыслить», а это в свою очередь раскрепощает воображение, развивает  творческие возможности и способности детей</a:t>
            </a:r>
            <a:r>
              <a:rPr b="1" lang="ru-RU" sz="22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C:\Users\Natasha\Downloads\DSCN5810.JPG"/>
          <p:cNvPicPr/>
          <p:nvPr/>
        </p:nvPicPr>
        <p:blipFill>
          <a:blip r:embed="rId1"/>
          <a:stretch/>
        </p:blipFill>
        <p:spPr>
          <a:xfrm>
            <a:off x="1285920" y="2857680"/>
            <a:ext cx="2251080" cy="159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7" name="Рисунок 9" descr="D:\фото ЧУДО КРЕСТИКИ\IMG_20170516_101239.jpg"/>
          <p:cNvPicPr/>
          <p:nvPr/>
        </p:nvPicPr>
        <p:blipFill>
          <a:blip r:embed="rId2"/>
          <a:stretch/>
        </p:blipFill>
        <p:spPr>
          <a:xfrm>
            <a:off x="5072040" y="3643200"/>
            <a:ext cx="200016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C:\Users\Natasha\Downloads\2914_img3.jpg"/>
          <p:cNvPicPr/>
          <p:nvPr/>
        </p:nvPicPr>
        <p:blipFill>
          <a:blip r:embed="rId1"/>
          <a:stretch/>
        </p:blipFill>
        <p:spPr>
          <a:xfrm>
            <a:off x="7029360" y="1401840"/>
            <a:ext cx="1103400" cy="1895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Natasha\Downloads\209050.jpg"/>
          <p:cNvPicPr/>
          <p:nvPr/>
        </p:nvPicPr>
        <p:blipFill>
          <a:blip r:embed="rId2"/>
          <a:stretch/>
        </p:blipFill>
        <p:spPr>
          <a:xfrm>
            <a:off x="3597120" y="1616040"/>
            <a:ext cx="2376720" cy="1749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:\Users\Natasha\Downloads\karablik-pluh-pluh.jpg"/>
          <p:cNvPicPr/>
          <p:nvPr/>
        </p:nvPicPr>
        <p:blipFill>
          <a:blip r:embed="rId3"/>
          <a:stretch/>
        </p:blipFill>
        <p:spPr>
          <a:xfrm>
            <a:off x="2743200" y="3670200"/>
            <a:ext cx="2657520" cy="154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C:\Users\Natasha\Downloads\729.970.jpg"/>
          <p:cNvPicPr/>
          <p:nvPr/>
        </p:nvPicPr>
        <p:blipFill>
          <a:blip r:embed="rId4"/>
          <a:stretch/>
        </p:blipFill>
        <p:spPr>
          <a:xfrm>
            <a:off x="5730840" y="3560760"/>
            <a:ext cx="2193840" cy="24130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9" descr="http://kar-puziki.ru/uploadedFiles/eshopimages/big/form.JPG"/>
          <p:cNvPicPr/>
          <p:nvPr/>
        </p:nvPicPr>
        <p:blipFill>
          <a:blip r:embed="rId5"/>
          <a:stretch/>
        </p:blipFill>
        <p:spPr>
          <a:xfrm>
            <a:off x="811080" y="3614760"/>
            <a:ext cx="1517760" cy="20606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0" descr="http://montessori-piter.ru/generic/cataloggal/all/201_image.jpg"/>
          <p:cNvPicPr/>
          <p:nvPr/>
        </p:nvPicPr>
        <p:blipFill>
          <a:blip r:embed="rId6"/>
          <a:stretch/>
        </p:blipFill>
        <p:spPr>
          <a:xfrm>
            <a:off x="1170000" y="1616040"/>
            <a:ext cx="1517760" cy="1803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1143000" y="35928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87952"/>
                </a:solidFill>
                <a:latin typeface="Times New Roman"/>
                <a:ea typeface="Calibri"/>
              </a:rPr>
              <a:t>Развивающие  игры В.В. Воскобовича  применяемые в работе с детьми по ФЭ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928800" y="318600"/>
            <a:ext cx="72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4" descr="D:\ФОТО МОИ Питер\С супертелефона\IMG_20171009_111040.jpg"/>
          <p:cNvPicPr/>
          <p:nvPr/>
        </p:nvPicPr>
        <p:blipFill>
          <a:blip r:embed="rId1"/>
          <a:srcRect l="0" t="3330" r="0" b="3330"/>
          <a:stretch/>
        </p:blipFill>
        <p:spPr>
          <a:xfrm>
            <a:off x="1000080" y="1500120"/>
            <a:ext cx="3143160" cy="250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7" name="Рисунок 6" descr="D:\фото 15 САД\IMG_20161014_094356.jpg"/>
          <p:cNvPicPr/>
          <p:nvPr/>
        </p:nvPicPr>
        <p:blipFill>
          <a:blip r:embed="rId2"/>
          <a:srcRect l="8486" t="4167" r="17415" b="4026"/>
          <a:stretch/>
        </p:blipFill>
        <p:spPr>
          <a:xfrm>
            <a:off x="5143680" y="2703600"/>
            <a:ext cx="2714400" cy="198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4"/>
          <p:cNvSpPr/>
          <p:nvPr/>
        </p:nvSpPr>
        <p:spPr>
          <a:xfrm>
            <a:off x="811800" y="714240"/>
            <a:ext cx="77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Педагогическая диагностика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образовательная область «Познавательное развитие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Диаграмма 31"/>
          <p:cNvGraphicFramePr/>
          <p:nvPr/>
        </p:nvGraphicFramePr>
        <p:xfrm>
          <a:off x="1785960" y="2286000"/>
          <a:ext cx="5572080" cy="28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Диаграмма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2286000"/>
                    <a:ext cx="557208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6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2714760" y="600084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365a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0" lang="ru-RU" sz="1800" spc="-1" strike="noStrike">
                <a:solidFill>
                  <a:srgbClr val="48365a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4" descr="http://www.zodiak-kniga.ru/pics/catalogtops/34image.gif"/>
          <p:cNvPicPr/>
          <p:nvPr/>
        </p:nvPicPr>
        <p:blipFill>
          <a:blip r:embed="rId3"/>
          <a:stretch/>
        </p:blipFill>
        <p:spPr>
          <a:xfrm>
            <a:off x="6929280" y="5056200"/>
            <a:ext cx="18576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16:29:51Z</dcterms:created>
  <dc:creator>Natasha</dc:creator>
  <dc:description/>
  <dc:language>en-US</dc:language>
  <cp:lastModifiedBy>Natasha</cp:lastModifiedBy>
  <dcterms:modified xsi:type="dcterms:W3CDTF">2019-05-27T17:00:53Z</dcterms:modified>
  <cp:revision>92</cp:revision>
  <dc:subject/>
  <dc:title>Слайд 1</dc:title>
</cp:coreProperties>
</file>