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87ED-C40A-4746-95C7-45DB90B33F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092-61CC-49B4-8EAF-920FCA3FE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B30C-6CE5-4DEB-9722-834B2D6A55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1EE-BD0A-4517-B540-46628FFE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876-8F36-4739-8EAE-3128FD9A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00B-B956-4ECB-8438-C00D9BBB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E1E-1E17-4854-B38C-D6B44CB7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C860-E4EC-43D7-BCBF-0BBD6FA1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98BB-0863-4B2B-B6EA-A5583E78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FC4C-290B-48E7-AAD6-A790D03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DA1B-A3FC-41C3-91CA-C02F915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C7B4-1C0A-4526-A950-3A85823D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2E43-B999-441C-893D-40835144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EC38-FA3A-4F7D-A281-912726E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FAC-582D-454D-A791-C5CFD3B1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CC11-E90A-4CA6-BD6D-F83684AA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0B15-8762-42AE-B512-83743819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7436-136E-4209-97B6-6A1ADAF7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B6AD-C49D-4904-A4E2-70957B13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967-F081-48B9-8FB1-3D210B09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4607-A00D-4218-AA6F-057B0487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2C27-9488-40FE-BB8F-BEA0441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480F-4048-4E9C-8037-6EEA0ED7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6613-9AB8-44CA-8132-D1FAD0FE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26ED-1189-4818-A620-B141966F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6B3-609A-438B-9B21-39580AFF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4EB9-AFCC-4843-A1E4-178DFAC4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8294-FA2F-45AA-8D09-E71C021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F9F1-325F-4FD2-BDAF-B9DE13A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AB0E-DAE7-4088-B891-A05F47D7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0313-EE5A-48EB-862C-8CA2408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C0C3-6686-49BC-B9B9-EDD2563D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D74F-A2C1-4938-8E31-C488016B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F840-3D65-4C82-A8A6-6359B184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4EBF-4EBE-4CB4-9C1A-108A74C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1BD0-AE5C-47E3-9C3A-24E930C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448-9155-4928-93F4-BEE8633C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1777-673D-4C78-913F-212F667C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6563-EE45-4E55-BD20-496FDED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219D-B424-4C22-ACCA-FC5F69AE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3A21-3D3B-4537-8F8B-E849B126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922D-934F-43AD-B2AC-94376A5C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B80D-04A2-42F1-B0D5-002347F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E539-003D-49F2-830C-0FFEBFAD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7331-C02D-416F-B924-C9283EA1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B3ED-2AFC-497D-8607-02985C10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164F-F21E-448A-B5E9-21FE8277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093-CE92-444D-94F6-BF132457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349BA-AEA4-4B99-BBAA-198CE142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2541D-8804-4C5F-AB3F-F8D21A40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7C21-F969-4511-AA4A-768A8B97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510E-7493-4345-B477-BFBAC9EC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9439F-2D0F-46D9-803E-BBDDA285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4430-A22D-4424-8D66-8A335D7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8868-863B-41C9-BF0B-64F85AE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D8ED-40C5-437E-8C02-2594C0F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D9FA4-D16E-4981-AD47-4218C5F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AC38-97D8-4AF5-93ED-066561D5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39C-62A7-41AE-A1FD-8240F158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5DCFA-DA83-4628-960D-F54AD8BC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23D-7D9A-41B0-A114-5481DB9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ABD-7DA8-40B0-A70A-F72F3A4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DE3-4E60-48D6-B113-B899AC5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D087-C358-4314-A867-7F2D76C2527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852-AE5D-44FF-9C7B-DE8B988006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4B8F-CD8A-4BF3-91AA-3443ED5E62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07E8-BC6F-45E6-B4AF-FD9A468A78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DAED-7C7D-49FC-8D6F-2A93547B32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785680" y="4572000"/>
            <a:ext cx="6024600" cy="11714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Воспитатель МБДО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«Детский сад №15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Мелюкова Наталья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Rectangle 1" descr=""/>
          <p:cNvPicPr/>
          <p:nvPr/>
        </p:nvPicPr>
        <p:blipFill>
          <a:blip r:embed="rId1"/>
          <a:stretch/>
        </p:blipFill>
        <p:spPr>
          <a:xfrm>
            <a:off x="2170080" y="639720"/>
            <a:ext cx="6461280" cy="36212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C:\Users\Natasha\Downloads\d3d90789-ed0c-43dc-83ce-dd6cc3d49d08-800x800.png"/>
          <p:cNvPicPr/>
          <p:nvPr/>
        </p:nvPicPr>
        <p:blipFill>
          <a:blip r:embed="rId2"/>
          <a:stretch/>
        </p:blipFill>
        <p:spPr>
          <a:xfrm>
            <a:off x="500040" y="785880"/>
            <a:ext cx="20001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8" descr="D:\фото 15 САД\IMG_20170526_085650.jpg"/>
          <p:cNvPicPr/>
          <p:nvPr/>
        </p:nvPicPr>
        <p:blipFill>
          <a:blip r:embed="rId1"/>
          <a:srcRect l="22002" t="0" r="0" b="0"/>
          <a:stretch/>
        </p:blipFill>
        <p:spPr>
          <a:xfrm>
            <a:off x="2786040" y="2286000"/>
            <a:ext cx="342900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Прямоугольник 3"/>
          <p:cNvSpPr/>
          <p:nvPr/>
        </p:nvSpPr>
        <p:spPr>
          <a:xfrm>
            <a:off x="928800" y="71424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Группа компенсирующей направленности для детей с недостатками в речевом развитии и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8"/>
          <p:cNvSpPr/>
          <p:nvPr/>
        </p:nvSpPr>
        <p:spPr>
          <a:xfrm>
            <a:off x="857160" y="1500120"/>
            <a:ext cx="52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Целью игр является развитие познавательных данных детей, интеллектуальных, умственных и математических способност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6" descr="C:\Users\Natasha\Downloads\DSCN5909.JPG"/>
          <p:cNvPicPr/>
          <p:nvPr/>
        </p:nvPicPr>
        <p:blipFill>
          <a:blip r:embed="rId1"/>
          <a:stretch/>
        </p:blipFill>
        <p:spPr>
          <a:xfrm>
            <a:off x="1928880" y="3643200"/>
            <a:ext cx="242892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4" name="Picture 5" descr="C:\Users\Олег\Desktop\МЕЛЮКОВА Н.Н\20.02\P1040157.JPG"/>
          <p:cNvPicPr/>
          <p:nvPr/>
        </p:nvPicPr>
        <p:blipFill>
          <a:blip r:embed="rId2"/>
          <a:stretch/>
        </p:blipFill>
        <p:spPr>
          <a:xfrm>
            <a:off x="5286240" y="1982880"/>
            <a:ext cx="2428920" cy="182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5"/>
          <p:cNvSpPr/>
          <p:nvPr/>
        </p:nvSpPr>
        <p:spPr>
          <a:xfrm>
            <a:off x="857160" y="857160"/>
            <a:ext cx="7572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21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 состоит в том, что эти игры учат действовать в «уме» и «мыслить», а это в свою очередь раскрепощает воображение, развивает  творческие возможности и способности детей</a:t>
            </a:r>
            <a:r>
              <a:rPr b="1" lang="ru-RU" sz="22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Users\Natasha\Downloads\DSCN5810.JPG"/>
          <p:cNvPicPr/>
          <p:nvPr/>
        </p:nvPicPr>
        <p:blipFill>
          <a:blip r:embed="rId1"/>
          <a:stretch/>
        </p:blipFill>
        <p:spPr>
          <a:xfrm>
            <a:off x="1285920" y="2857680"/>
            <a:ext cx="2251080" cy="159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7" name="Рисунок 9" descr="D:\фото ЧУДО КРЕСТИКИ\IMG_20170516_101239.jpg"/>
          <p:cNvPicPr/>
          <p:nvPr/>
        </p:nvPicPr>
        <p:blipFill>
          <a:blip r:embed="rId2"/>
          <a:stretch/>
        </p:blipFill>
        <p:spPr>
          <a:xfrm>
            <a:off x="5072040" y="3643200"/>
            <a:ext cx="200016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:\Users\Natasha\Downloads\2914_img3.jpg"/>
          <p:cNvPicPr/>
          <p:nvPr/>
        </p:nvPicPr>
        <p:blipFill>
          <a:blip r:embed="rId1"/>
          <a:stretch/>
        </p:blipFill>
        <p:spPr>
          <a:xfrm>
            <a:off x="7029360" y="1401840"/>
            <a:ext cx="1103400" cy="1895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Natasha\Downloads\209050.jpg"/>
          <p:cNvPicPr/>
          <p:nvPr/>
        </p:nvPicPr>
        <p:blipFill>
          <a:blip r:embed="rId2"/>
          <a:stretch/>
        </p:blipFill>
        <p:spPr>
          <a:xfrm>
            <a:off x="3597120" y="1616040"/>
            <a:ext cx="2376720" cy="1749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Natasha\Downloads\karablik-pluh-pluh.jpg"/>
          <p:cNvPicPr/>
          <p:nvPr/>
        </p:nvPicPr>
        <p:blipFill>
          <a:blip r:embed="rId3"/>
          <a:stretch/>
        </p:blipFill>
        <p:spPr>
          <a:xfrm>
            <a:off x="2743200" y="3670200"/>
            <a:ext cx="2657520" cy="154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Natasha\Downloads\729.970.jpg"/>
          <p:cNvPicPr/>
          <p:nvPr/>
        </p:nvPicPr>
        <p:blipFill>
          <a:blip r:embed="rId4"/>
          <a:stretch/>
        </p:blipFill>
        <p:spPr>
          <a:xfrm>
            <a:off x="5730840" y="3560760"/>
            <a:ext cx="2193840" cy="24130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9" descr="http://kar-puziki.ru/uploadedFiles/eshopimages/big/form.JPG"/>
          <p:cNvPicPr/>
          <p:nvPr/>
        </p:nvPicPr>
        <p:blipFill>
          <a:blip r:embed="rId5"/>
          <a:stretch/>
        </p:blipFill>
        <p:spPr>
          <a:xfrm>
            <a:off x="811080" y="3614760"/>
            <a:ext cx="1517760" cy="2060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0" descr="http://montessori-piter.ru/generic/cataloggal/all/201_image.jpg"/>
          <p:cNvPicPr/>
          <p:nvPr/>
        </p:nvPicPr>
        <p:blipFill>
          <a:blip r:embed="rId6"/>
          <a:stretch/>
        </p:blipFill>
        <p:spPr>
          <a:xfrm>
            <a:off x="1170000" y="1616040"/>
            <a:ext cx="1517760" cy="1803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1143000" y="35928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7952"/>
                </a:solidFill>
                <a:latin typeface="Times New Roman"/>
                <a:ea typeface="Calibri"/>
              </a:rPr>
              <a:t>Развивающие  игры В.В. Воскобовича  применяемые в работе с детьми по ФЭ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928800" y="318600"/>
            <a:ext cx="72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4" descr="D:\ФОТО МОИ Питер\С супертелефона\IMG_20171009_111040.jpg"/>
          <p:cNvPicPr/>
          <p:nvPr/>
        </p:nvPicPr>
        <p:blipFill>
          <a:blip r:embed="rId1"/>
          <a:srcRect l="0" t="3330" r="0" b="3330"/>
          <a:stretch/>
        </p:blipFill>
        <p:spPr>
          <a:xfrm>
            <a:off x="1000080" y="1500120"/>
            <a:ext cx="3143160" cy="250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Рисунок 6" descr="D:\фото 15 САД\IMG_20161014_094356.jpg"/>
          <p:cNvPicPr/>
          <p:nvPr/>
        </p:nvPicPr>
        <p:blipFill>
          <a:blip r:embed="rId2"/>
          <a:srcRect l="8486" t="4167" r="17415" b="4026"/>
          <a:stretch/>
        </p:blipFill>
        <p:spPr>
          <a:xfrm>
            <a:off x="5143680" y="2703600"/>
            <a:ext cx="2714400" cy="198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811800" y="71424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Педагогическая диагностика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образовательная область «Познавательное развитие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Диаграмма 31"/>
          <p:cNvGraphicFramePr/>
          <p:nvPr/>
        </p:nvGraphicFramePr>
        <p:xfrm>
          <a:off x="1785960" y="2286000"/>
          <a:ext cx="5572080" cy="28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Диаграмма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286000"/>
                    <a:ext cx="557208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2714760" y="600084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0" lang="ru-RU" sz="1800" spc="-1" strike="noStrike">
                <a:solidFill>
                  <a:srgbClr val="48365a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4" descr="http://www.zodiak-kniga.ru/pics/catalogtops/34image.gif"/>
          <p:cNvPicPr/>
          <p:nvPr/>
        </p:nvPicPr>
        <p:blipFill>
          <a:blip r:embed="rId3"/>
          <a:stretch/>
        </p:blipFill>
        <p:spPr>
          <a:xfrm>
            <a:off x="6929280" y="5056200"/>
            <a:ext cx="18576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6:29:51Z</dcterms:created>
  <dc:creator>Natasha</dc:creator>
  <dc:description/>
  <dc:language>en-US</dc:language>
  <cp:lastModifiedBy>Natasha</cp:lastModifiedBy>
  <dcterms:modified xsi:type="dcterms:W3CDTF">2019-05-27T17:00:53Z</dcterms:modified>
  <cp:revision>92</cp:revision>
  <dc:subject/>
  <dc:title>Слайд 1</dc:title>
</cp:coreProperties>
</file>