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6644-066E-4893-93F2-FF449165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7F9-93CF-47F4-A0BD-862ADFD3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3DE2-4985-4676-98E1-4960CA8B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03B0-CDF8-419E-8B91-2747B8B2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41D-6981-41C2-AF76-987B8F5A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C4A2-D2B0-415A-A30F-AF7A5FC4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CFB-D6CC-469A-881B-F6B85E5D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DBE-B4C2-4A85-950F-31399E0B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6D3-581D-4175-BF15-FB2343F7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DB99-160F-41BB-9AAD-67174210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5CB-E942-4ADC-9F2A-D81B56B9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6731-8151-4600-95C3-119192AC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C4CF-0C8D-41F8-A506-2066433992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003-005-Proekt-Puteshestvie-po-knigam-Gabdully-Tukaja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609480" y="2681280"/>
            <a:ext cx="8077320" cy="17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99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  </a:t>
            </a:r>
            <a:r>
              <a:rPr b="1" i="1" lang="en-US" sz="18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99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Как выращивают хлеб</a:t>
            </a:r>
            <a:endParaRPr b="1" i="1" lang="en-US" sz="18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50000">
                    <a:srgbClr val="99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0003-005-Proekt-Puteshestvie-po-knigam-Gabdully-Tukaja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Хлеб (1кус)_276_full"/>
          <p:cNvPicPr/>
          <p:nvPr/>
        </p:nvPicPr>
        <p:blipFill>
          <a:blip r:embed="rId2"/>
          <a:srcRect l="-1199" t="4814" r="0" b="0"/>
          <a:stretch/>
        </p:blipFill>
        <p:spPr>
          <a:xfrm>
            <a:off x="4114800" y="3352680"/>
            <a:ext cx="5029200" cy="3505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50783418"/>
          <p:cNvPicPr/>
          <p:nvPr/>
        </p:nvPicPr>
        <p:blipFill>
          <a:blip r:embed="rId3"/>
          <a:stretch/>
        </p:blipFill>
        <p:spPr>
          <a:xfrm>
            <a:off x="0" y="0"/>
            <a:ext cx="487692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0003-005-Proekt-Puteshestvie-po-knigam-Gabdully-Tukaja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0003-005-Proekt-Puteshestvie-po-knigam-Gabdully-Tukaja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705720" y="3809880"/>
            <a:ext cx="2209680" cy="188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07123946"/>
          <p:cNvPicPr/>
          <p:nvPr/>
        </p:nvPicPr>
        <p:blipFill>
          <a:blip r:embed="rId3"/>
          <a:stretch/>
        </p:blipFill>
        <p:spPr>
          <a:xfrm>
            <a:off x="1371600" y="2666880"/>
            <a:ext cx="2438280" cy="167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c7945ad77b"/>
          <p:cNvPicPr/>
          <p:nvPr/>
        </p:nvPicPr>
        <p:blipFill>
          <a:blip r:embed="rId4"/>
          <a:stretch/>
        </p:blipFill>
        <p:spPr>
          <a:xfrm>
            <a:off x="4267080" y="914400"/>
            <a:ext cx="2057400" cy="1674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4[1]"/>
          <p:cNvPicPr/>
          <p:nvPr/>
        </p:nvPicPr>
        <p:blipFill>
          <a:blip r:embed="rId5"/>
          <a:stretch/>
        </p:blipFill>
        <p:spPr>
          <a:xfrm>
            <a:off x="4038480" y="2895480"/>
            <a:ext cx="2286000" cy="1649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20823_0"/>
          <p:cNvPicPr/>
          <p:nvPr/>
        </p:nvPicPr>
        <p:blipFill>
          <a:blip r:embed="rId6"/>
          <a:stretch/>
        </p:blipFill>
        <p:spPr>
          <a:xfrm>
            <a:off x="6553080" y="1295280"/>
            <a:ext cx="2590920" cy="163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1278-bovine-600x400"/>
          <p:cNvPicPr/>
          <p:nvPr/>
        </p:nvPicPr>
        <p:blipFill>
          <a:blip r:embed="rId7"/>
          <a:stretch/>
        </p:blipFill>
        <p:spPr>
          <a:xfrm>
            <a:off x="685800" y="914400"/>
            <a:ext cx="2362320" cy="157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6626587"/>
          <p:cNvPicPr/>
          <p:nvPr/>
        </p:nvPicPr>
        <p:blipFill>
          <a:blip r:embed="rId8"/>
          <a:stretch/>
        </p:blipFill>
        <p:spPr>
          <a:xfrm>
            <a:off x="4495680" y="4929120"/>
            <a:ext cx="2286000" cy="156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1341584379_o1"/>
          <p:cNvPicPr/>
          <p:nvPr/>
        </p:nvPicPr>
        <p:blipFill>
          <a:blip r:embed="rId9"/>
          <a:stretch/>
        </p:blipFill>
        <p:spPr>
          <a:xfrm>
            <a:off x="152280" y="5029200"/>
            <a:ext cx="231156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12139E-006 L -0.69584 -0.48115 E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6763E-006 L 0.66667 0.57711 E">
                                      <p:cBhvr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4971E-006 L -0.175 -1.84971E-006 E">
                                      <p:cBhvr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9653E-006 L 0.34167 -0.277 E">
                                      <p:cBhvr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34104E-006 L 0.29167 -0.24416 E">
                                      <p:cBhvr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1017 L -0.45 0.50335 E">
                                      <p:cBhvr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0003-005-Proekt-Puteshestvie-po-knigam-Gabdully-Tukaja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0003-005-Proekt-Puteshestvie-po-knigam-Gabdully-Tukaja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364959373"/>
          <p:cNvPicPr/>
          <p:nvPr/>
        </p:nvPicPr>
        <p:blipFill>
          <a:blip r:embed="rId2"/>
          <a:stretch/>
        </p:blipFill>
        <p:spPr>
          <a:xfrm>
            <a:off x="4826160" y="3200400"/>
            <a:ext cx="4317840" cy="3238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701478984"/>
          <p:cNvPicPr/>
          <p:nvPr/>
        </p:nvPicPr>
        <p:blipFill>
          <a:blip r:embed="rId3"/>
          <a:stretch/>
        </p:blipFill>
        <p:spPr>
          <a:xfrm>
            <a:off x="380880" y="533520"/>
            <a:ext cx="4276800" cy="2774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4"/>
          <a:stretch/>
        </p:blipFill>
        <p:spPr>
          <a:xfrm>
            <a:off x="3581280" y="304920"/>
            <a:ext cx="173376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wheat_1"/>
          <p:cNvPicPr/>
          <p:nvPr/>
        </p:nvPicPr>
        <p:blipFill>
          <a:blip r:embed="rId5"/>
          <a:stretch/>
        </p:blipFill>
        <p:spPr>
          <a:xfrm>
            <a:off x="3124080" y="4114800"/>
            <a:ext cx="27432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0003-005-Proekt-Puteshestvie-po-knigam-Gabdully-Tukaja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mtz800435"/>
          <p:cNvPicPr/>
          <p:nvPr/>
        </p:nvPicPr>
        <p:blipFill>
          <a:blip r:embed="rId2"/>
          <a:stretch/>
        </p:blipFill>
        <p:spPr>
          <a:xfrm>
            <a:off x="3200400" y="2362320"/>
            <a:ext cx="5943600" cy="422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Varititan2"/>
          <p:cNvPicPr/>
          <p:nvPr/>
        </p:nvPicPr>
        <p:blipFill>
          <a:blip r:embed="rId3"/>
          <a:stretch/>
        </p:blipFill>
        <p:spPr>
          <a:xfrm>
            <a:off x="0" y="0"/>
            <a:ext cx="563868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0003-005-Proekt-Puteshestvie-po-knigam-Gabdully-Tukaja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13644569269gFlb7_0"/>
          <p:cNvPicPr/>
          <p:nvPr/>
        </p:nvPicPr>
        <p:blipFill>
          <a:blip r:embed="rId2"/>
          <a:stretch/>
        </p:blipFill>
        <p:spPr>
          <a:xfrm>
            <a:off x="1066680" y="762120"/>
            <a:ext cx="73915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Shishkin_Rye_XL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0003-005-Proekt-Puteshestvie-po-knigam-Gabdully-Tukaja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full"/>
          <p:cNvPicPr/>
          <p:nvPr/>
        </p:nvPicPr>
        <p:blipFill>
          <a:blip r:embed="rId2"/>
          <a:stretch/>
        </p:blipFill>
        <p:spPr>
          <a:xfrm>
            <a:off x="152280" y="1066680"/>
            <a:ext cx="883944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0003-005-Proekt-Puteshestvie-po-knigam-Gabdully-Tukaja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122673610178"/>
          <p:cNvPicPr/>
          <p:nvPr/>
        </p:nvPicPr>
        <p:blipFill>
          <a:blip r:embed="rId2"/>
          <a:stretch/>
        </p:blipFill>
        <p:spPr>
          <a:xfrm>
            <a:off x="0" y="0"/>
            <a:ext cx="5181480" cy="3368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113"/>
          <p:cNvPicPr/>
          <p:nvPr/>
        </p:nvPicPr>
        <p:blipFill>
          <a:blip r:embed="rId3"/>
          <a:stretch/>
        </p:blipFill>
        <p:spPr>
          <a:xfrm>
            <a:off x="4114800" y="3078000"/>
            <a:ext cx="472428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5T12:51:23Z</dcterms:created>
  <dc:creator>Лена</dc:creator>
  <dc:description/>
  <dc:language>en-US</dc:language>
  <cp:lastModifiedBy>Татьяна</cp:lastModifiedBy>
  <dcterms:modified xsi:type="dcterms:W3CDTF">2019-05-27T19:35:4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