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DC9-7E12-406B-92C4-609CF9E3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38C-2884-4D11-AC18-1B691A7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1DD-49ED-4E26-92D7-C84F06A4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402-EBDE-44B2-AF24-E7821E18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774-BAF2-4819-B4FE-E8618F9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419-932F-4317-A65A-73B801D3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DF1-04E7-45F1-8934-B561C45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1DD-52E9-4BCC-BC1F-26CB981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EEC-C640-4922-BC90-CF9ADEA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906-844C-4A66-A76A-B7DB064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CF2-5BFC-4F58-8B10-C0870FEF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52A-C81A-4FCA-AFC5-4A82F56A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9F32-73AD-4A55-BF50-5FF53A9D9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при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000" y="272520"/>
            <a:ext cx="8218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основные трудности, с которыми может встретиться человек в природных услов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местах на природе вам нравится отдых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человек должен беречь окружающую его природную сре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3212640"/>
            <a:ext cx="8578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.Сочинить стихотворение на тему экология, используя ключевые слова: </a:t>
            </a:r>
            <a:br>
              <a:rPr sz="1800"/>
            </a:br>
            <a:r>
              <a:rPr b="0" lang="en-US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«почки», «листочки», «цветочки», «дубочки», «птички», «синички», «леса», «поля», «пожар», «обвал», «муравейник», «репейник», «лето», «болото», «заводы», «отходы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ть проект участка на территории города (на острове у Финского залива), где бы гармонично соединялись потребности людей в отдыхе, познании природы, оздоровлении, любовании природой и условия для благоприятного развития прир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ложенном плане территории острова надо условно знаками нанести те объекты, которые вы желали бы видеть на острове, а отдельно написать пояснения к условным обозначениям: что это, для чего, из каких материалов сделано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71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Письмо зеленому другу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Представь, что где-то в глубине двора в центре города растет небольшое деревц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 ему темно и страшно). Иногда его поливает дождик, иногда покачивает ветер. Бывает, что на деревце прилетает стайка птиц - поют, суетятся, дерутся... и улетают. Это деревце сказало по секрету, что ему очень хочется иметь друга - человека, лучше школьника, чем взрослого. И что сначала ему хочется получить от него письмо...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пишите деревцу. Может быть, кто-то из вас окажется именно тем другом, которого оно ждет. Подумайте, о чем ему хотелось бы прочитать в вашем письме, на какие вопросы ответить, что вы могли бы предложить деревцу, чтобы оно с радостью согласилось дружить с вами? Письмо сопровождается рисун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900igr.net/datas/obschestvoznanie/Priroda-obschestvo-chelovek/0004-004-Priro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272520"/>
            <a:ext cx="8362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человек воздействует на прир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www.tulapressa.ru/wp-content/images/53f6e8cd54d866.07323534.jpg"/>
          <p:cNvPicPr/>
          <p:nvPr/>
        </p:nvPicPr>
        <p:blipFill>
          <a:blip r:embed="rId1"/>
          <a:stretch/>
        </p:blipFill>
        <p:spPr>
          <a:xfrm>
            <a:off x="1042920" y="1052640"/>
            <a:ext cx="7299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med.tetis.tmweb.ru/upload/iblock/4d1/21.jpg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mail.avtohata.net/images/resized/images/stories/articles/2013/auto/04-2013/02/0f8o4477_540_320.jpg"/>
          <p:cNvPicPr/>
          <p:nvPr/>
        </p:nvPicPr>
        <p:blipFill>
          <a:blip r:embed="rId1"/>
          <a:stretch/>
        </p:blipFill>
        <p:spPr>
          <a:xfrm>
            <a:off x="324000" y="981000"/>
            <a:ext cx="86677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vmurmanske.ru/serverdata/udata/news/foto1.jpg"/>
          <p:cNvPicPr/>
          <p:nvPr/>
        </p:nvPicPr>
        <p:blipFill>
          <a:blip r:embed="rId1"/>
          <a:stretch/>
        </p:blipFill>
        <p:spPr>
          <a:xfrm>
            <a:off x="468360" y="33336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dreempics.com/img/picture/Jul/08/3271921c1779b0960e46c7b9a3ec22b4/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272520"/>
            <a:ext cx="8218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аёт человеку общение с природ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духовных и физических с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ый лесной и горный возд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е водоёмы – укрепление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человеку формировать выдержку, уверенность в себе, умение управлять эмоциями, анализировать обстановку, самостоятельно принимать решения, развивает ловкость, силу, вынос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272520"/>
            <a:ext cx="8291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 отличается жизнь в городе от жизни на природе, в лес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а циви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тран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, электричество, газ, вода в д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, радио, телефон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0:03:59Z</dcterms:created>
  <dc:creator>User</dc:creator>
  <dc:description/>
  <dc:language>en-US</dc:language>
  <cp:lastModifiedBy>IKT</cp:lastModifiedBy>
  <dcterms:modified xsi:type="dcterms:W3CDTF">2019-05-27T11:13:38Z</dcterms:modified>
  <cp:revision>18</cp:revision>
  <dc:subject/>
  <dc:title>Слайд 1</dc:title>
</cp:coreProperties>
</file>