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6906-BEEE-443A-B086-16B205DD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B609-ABE1-4626-9783-FE187F25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910-22E0-4D0E-900B-46A6C73E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D81-A792-407C-BF22-F5143045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B994-7D62-42BE-8A87-8C70943A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508-F111-418B-ADFD-A45F85D2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DF36-6030-47DF-A628-A2EB4B94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CAF-128B-4361-963A-EB8C2676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CDC-488D-4C1C-B6F4-217B908E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665-AA05-4413-AC84-809EDB4F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79F-9F03-4396-8C72-C1A10D4D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8113-A01F-48D9-BCE6-747C0D5C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CDD0-20E4-4AEA-A191-2FFF2E082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Человек и прир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000" y="272520"/>
            <a:ext cx="82184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ы основные трудности, с которыми может встретиться человек в природных условия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местах на природе вам нравится отдых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человек должен беречь окружающую его природную сред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9280" y="3212640"/>
            <a:ext cx="85788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2.Сочинить стихотворение на тему экология, используя ключевые слова: </a:t>
            </a:r>
            <a:br>
              <a:rPr sz="1800"/>
            </a:br>
            <a:r>
              <a:rPr b="0" lang="en-US" sz="18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«почки», «листочки», «цветочки», «дубочки», «птички», «синички», «леса», «поля», «пожар», «обвал», «муравейник», «репейник», «лето», «болото», «заводы», «отходы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здать проект участка на территории города (на острове у Финского залива), где бы гармонично соединялись потребности людей в отдыхе, познании природы, оздоровлении, любовании природой и условия для благоприятного развития прир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едложенном плане территории острова надо условно знаками нанести те объекты, которые вы желали бы видеть на острове, а отдельно написать пояснения к условным обозначениям: что это, для чего, из каких материалов сделано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8000" y="259920"/>
            <a:ext cx="8712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Письмо зеленому другу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Представь, что где-то в глубине двора в центре города растет небольшое деревц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( ему темно и страшно). Иногда его поливает дождик, иногда покачивает ветер. Бывает, что на деревце прилетает стайка птиц - поют, суетятся, дерутся... и улетают. Это деревце сказало по секрету, что ему очень хочется иметь друга - человека, лучше школьника, чем взрослого. И что сначала ему хочется получить от него письмо...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пишите деревцу. Может быть, кто-то из вас окажется именно тем другом, которого оно ждет. Подумайте, о чем ему хотелось бы прочитать в вашем письме, на какие вопросы ответить, что вы могли бы предложить деревцу, чтобы оно с радостью согласилось дружить с вами? Письмо сопровождается рисун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900igr.net/datas/obschestvoznanie/Priroda-obschestvo-chelovek/0004-004-Prirod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24000" y="272520"/>
            <a:ext cx="8362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человек воздействует на природ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http://www.tulapressa.ru/wp-content/images/53f6e8cd54d866.07323534.jpg"/>
          <p:cNvPicPr/>
          <p:nvPr/>
        </p:nvPicPr>
        <p:blipFill>
          <a:blip r:embed="rId1"/>
          <a:stretch/>
        </p:blipFill>
        <p:spPr>
          <a:xfrm>
            <a:off x="1042920" y="1052640"/>
            <a:ext cx="7299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med.tetis.tmweb.ru/upload/iblock/4d1/21.jpg"/>
          <p:cNvPicPr/>
          <p:nvPr/>
        </p:nvPicPr>
        <p:blipFill>
          <a:blip r:embed="rId1"/>
          <a:stretch/>
        </p:blipFill>
        <p:spPr>
          <a:xfrm>
            <a:off x="250920" y="476280"/>
            <a:ext cx="85723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mail.avtohata.net/images/resized/images/stories/articles/2013/auto/04-2013/02/0f8o4477_540_320.jpg"/>
          <p:cNvPicPr/>
          <p:nvPr/>
        </p:nvPicPr>
        <p:blipFill>
          <a:blip r:embed="rId1"/>
          <a:stretch/>
        </p:blipFill>
        <p:spPr>
          <a:xfrm>
            <a:off x="324000" y="981000"/>
            <a:ext cx="86677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vmurmanske.ru/serverdata/udata/news/foto1.jpg"/>
          <p:cNvPicPr/>
          <p:nvPr/>
        </p:nvPicPr>
        <p:blipFill>
          <a:blip r:embed="rId1"/>
          <a:stretch/>
        </p:blipFill>
        <p:spPr>
          <a:xfrm>
            <a:off x="468360" y="333360"/>
            <a:ext cx="81230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dreempics.com/img/picture/Jul/08/3271921c1779b0960e46c7b9a3ec22b4/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000" y="272520"/>
            <a:ext cx="82184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аёт человеку общение с природ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е духовных и физических си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ый лесной и горный возду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ый с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ественные водоёмы – укрепление здоров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человеку формировать выдержку, уверенность в себе, умение управлять эмоциями, анализировать обстановку, самостоятельно принимать решения, развивает ловкость, силу, вынослив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95280" y="272520"/>
            <a:ext cx="8291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м отличается жизнь в городе от жизни на природе, в лес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а циви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ый транспо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, электричество, газ, вода в до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зор, радио, телефон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0:03:59Z</dcterms:created>
  <dc:creator>User</dc:creator>
  <dc:description/>
  <dc:language>en-US</dc:language>
  <cp:lastModifiedBy>IKT</cp:lastModifiedBy>
  <dcterms:modified xsi:type="dcterms:W3CDTF">2019-05-27T11:13:38Z</dcterms:modified>
  <cp:revision>18</cp:revision>
  <dc:subject/>
  <dc:title>Слайд 1</dc:title>
</cp:coreProperties>
</file>