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11.gif" ContentType="image/gi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16B-D852-442A-BBF2-765A7CF0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7DD-710C-4819-9FA3-12A7B6E5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1DF-2188-41C4-AC3C-55E60639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6BBD-71A8-44C1-96FF-99C76BFC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5DBE-01CD-4D9E-BD4E-224D2DAD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CEE1-4D07-4549-849F-31D2C11F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3E4B-A18A-49BE-84B4-393EE9BC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38DA-8C8E-4E72-BD7F-7483BE7A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F673-F7FE-4919-A69F-9595819B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9AF3-6A6E-4779-A21B-E65A5FC0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CAFE-18B6-485C-BC24-DB039B85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8CB-E803-4A1F-A7A0-22AD4EEA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1CEA-2401-475D-9EDE-52D3DD2E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C23E-14E9-4828-B2D7-CA6AC386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2FAC-7E2F-4F1C-9EC6-B79F1E61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97EB-1080-48A8-9722-3E0447EA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2BF6-C41A-448C-8F6B-ECCD0DD1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149A6-39BF-434C-831A-26D4E7B1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7E316-C933-4656-B7A8-4A87F366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1C8C5-AE56-42F1-BE0F-DEB31CD5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FF091-7F6F-4BDD-82D9-5C925D26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E8AA8-1F27-4D2E-A766-6AE94C8C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30D6-9123-4E60-9114-67AC5D04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A72F4-8AFF-4688-9F1E-234A23FC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44EE3-CBD5-41D8-9BA4-362FD206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8DD18-EED2-4AD9-BF02-2B9A32FD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A42D4-D071-4FDB-B367-FA7E3685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C0601-CDF1-4574-9096-AC001552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66CB4-2E12-4194-B14A-D238417F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349FC-F8D2-4BAA-A12D-09FABCAE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EFAC8-B756-4766-B951-1B67FE76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9B79F-D00D-414C-89B6-537DF2BD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1A846-FA13-4D2E-AF6A-3A4C524E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FA5-1235-4CA1-8BE0-8AF188F1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DD406-0145-4C7A-92B0-E39A4FFC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7F461-1A9A-4853-AAAF-889B6277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8BD04-60F6-41AA-8905-2DAA5F65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9DDF1-0640-479B-A5D5-B27F5A78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3B7AC-9F99-4E56-A410-5E68338F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749E2-93B2-4883-A260-ED91631A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66EDF-1821-44B3-B5AC-FFFED50D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9B4C3-D00F-4416-B271-425336EB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2D4CC-7DFA-4F26-8FFA-D7F60195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7C6EC-DC02-45E8-8E10-B42536A6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5DCA-2E52-4BDC-9C11-151E6582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36907-1695-4C61-95C0-D819132B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BE70B-C879-4AF6-AB47-02CB3137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C4935-0CDB-4A7E-A7B6-164F3355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5D5B7-15E4-40D5-9308-D136A33D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F25EE-16DA-4B33-9A7C-10024435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87EFF-89B3-4CBE-801F-5C3CF52C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8E60E-013A-41D7-A0BC-7B00F5AF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2CC54-D056-434C-8D4A-5A00953E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E86E4-DE6D-465E-B9D9-046A6FD1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CCE8C-2429-4210-A450-D679FD2D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CE9-A106-4DCF-97D6-5742389E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BD329-A998-4D16-B795-18FF08FE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7BCEE-87FB-4EB9-8C07-6106C450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2BCE9-C077-4A74-A2CA-A342F2C4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A8120-0A7E-4EAB-8BB4-59F4386B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62B43-BCDB-4E85-A1B0-4BDB17E1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A85C4-F999-4C9A-874F-2B7896BC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58A49-4CB2-428B-B6C2-AEB2482B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9A298-F4CA-47AC-8BDB-1FCD3A20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6BAA9-BF8F-4CB9-B0C4-20361D4B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78C3E-E55E-41D9-B73B-13C58D17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717-9947-4AE9-B8A6-1448F519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00A29-B0B7-4EE1-955E-9C3A9F57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BAE3B-4A5A-47C1-A399-28C98EA6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86BE5-9D2D-4725-A543-62B8284F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61A4D-B65C-4DC9-AE87-834301FF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F561C-B5D2-4943-9BD3-7CFD803D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BD947-F398-4ADB-982A-DF850BF3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2EC55-8D8A-46F5-9BE7-243D921A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7E611-6AB3-4FD5-8D09-F8412EDD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C0F46-D23F-4A66-802D-52BCF940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13C40-09F1-4E87-93EC-CD1784EB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6E02-10A4-4E8A-8ECF-95D61434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6A9C4-4D8E-4514-B1A2-22AAA3BC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33CA2-BBFF-4515-90C5-C0FA0EFB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259EF-056E-4794-A9CA-87DCE2A1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4DB82-9EDC-43AE-B86B-CFB6BE31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E52B3-69E6-413B-B42E-8BEA0B7B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C77E-93D0-44B2-AC36-5117F99C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33AE-3CDA-4FCB-91F4-565083B75233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FC6E-E312-4B97-BC8B-E8F180D630F2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6A4E-E106-4A97-A392-072ABCA579E8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BD0A-9B69-45F7-8975-5ED39B1F920F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3EEF-2C0D-493A-B4ED-FBA031752836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7AA6-CC06-4032-9423-B116E80F122F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C409-882D-43E4-AA96-D5E373A16D9F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" Target="slide18.xm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gif"/><Relationship Id="rId3" Type="http://schemas.openxmlformats.org/officeDocument/2006/relationships/slide" Target="slide17.xm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gif"/><Relationship Id="rId3" Type="http://schemas.openxmlformats.org/officeDocument/2006/relationships/slide" Target="slide19.xm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gif"/><Relationship Id="rId3" Type="http://schemas.openxmlformats.org/officeDocument/2006/relationships/slide" Target="slide21.xm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" Target="slide21.xml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71280" y="1989000"/>
            <a:ext cx="749772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Викторина</a:t>
            </a:r>
            <a:br>
              <a:rPr sz="5400"/>
            </a:br>
            <a:r>
              <a:rPr b="1" lang="ru-RU" sz="5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«Летние виды спорта»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95760" y="1700280"/>
            <a:ext cx="4103640" cy="410508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Правильно, молодцы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403280" y="333360"/>
            <a:ext cx="749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урнир идёт. Турнир в разгаре.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41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граем мы с Андреем в паре.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 корт выходим мы вдвоём.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кетками мы мячик бьём.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А против нас — Андрэ и Дэнис.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о что играем с ними? В …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Содержимое 3" descr="330026694634_86625_image00051.jpg"/>
          <p:cNvPicPr/>
          <p:nvPr/>
        </p:nvPicPr>
        <p:blipFill>
          <a:blip r:embed="rId1"/>
          <a:stretch/>
        </p:blipFill>
        <p:spPr>
          <a:xfrm>
            <a:off x="1835280" y="148428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ннис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95760" y="1700280"/>
            <a:ext cx="4103640" cy="41050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Правильно, молодцы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187280" y="691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ак только утром я проснусь,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исяду, встану и нагнусь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се упражненья по порядку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может вырасти …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Содержимое 3" descr="330026694634_86618_image00040_jpg.jpg"/>
          <p:cNvPicPr/>
          <p:nvPr/>
        </p:nvPicPr>
        <p:blipFill>
          <a:blip r:embed="rId1"/>
          <a:stretch/>
        </p:blipFill>
        <p:spPr>
          <a:xfrm>
            <a:off x="2274840" y="2674800"/>
            <a:ext cx="4602240" cy="34513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рядка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95760" y="1700280"/>
            <a:ext cx="4103640" cy="4105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Правильно, молодцы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Содержимое 3" descr="image.jpeg"/>
          <p:cNvPicPr/>
          <p:nvPr/>
        </p:nvPicPr>
        <p:blipFill>
          <a:blip r:embed="rId1"/>
          <a:stretch/>
        </p:blipFill>
        <p:spPr>
          <a:xfrm>
            <a:off x="1547640" y="1341360"/>
            <a:ext cx="3300480" cy="2475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твёртый лишн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8" name="Picture 2" descr="D:\картинки\летние виды спорта\1.2.jpg"/>
          <p:cNvPicPr/>
          <p:nvPr/>
        </p:nvPicPr>
        <p:blipFill>
          <a:blip r:embed="rId2"/>
          <a:stretch/>
        </p:blipFill>
        <p:spPr>
          <a:xfrm>
            <a:off x="5219640" y="1268280"/>
            <a:ext cx="3363840" cy="2521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D:\картинки\летние виды спорта\WST-2925Cb.JPG"/>
          <p:cNvPicPr/>
          <p:nvPr/>
        </p:nvPicPr>
        <p:blipFill>
          <a:blip r:embed="rId3"/>
          <a:stretch/>
        </p:blipFill>
        <p:spPr>
          <a:xfrm>
            <a:off x="1547640" y="3933720"/>
            <a:ext cx="3313440" cy="2637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D:\картинки\летние виды спорта\CCM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292720" y="3860640"/>
            <a:ext cx="331164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95760" y="1700280"/>
            <a:ext cx="4103640" cy="4105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Правильно, молодцы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3" name="Picture 47" descr="38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12000" y="573264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95760" y="1700280"/>
            <a:ext cx="4103640" cy="41050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Правильно, молодцы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6" name="Picture 47" descr="38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67640" y="566100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258560" y="2060640"/>
            <a:ext cx="7499160" cy="36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трусах и в тёплых варежках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ерутся два товарища.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b9a"/>
                </a:solidFill>
                <a:latin typeface="Candara"/>
              </a:rPr>
              <a:t>Отгадай загадку</a:t>
            </a:r>
            <a:endParaRPr b="0" lang="en-US" sz="7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95760" y="1700280"/>
            <a:ext cx="4103640" cy="41050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Правильно, молодцы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9" name="Picture 47" descr="38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566100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19" descr="Рисунок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53040" y="3905280"/>
            <a:ext cx="647640" cy="9907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умайте ещё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2" name="Picture 6" descr="1c1"/>
          <p:cNvPicPr/>
          <p:nvPr/>
        </p:nvPicPr>
        <p:blipFill>
          <a:blip r:embed="rId3"/>
          <a:stretch/>
        </p:blipFill>
        <p:spPr>
          <a:xfrm>
            <a:off x="1763640" y="3141720"/>
            <a:ext cx="1470240" cy="20574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7" descr="38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67640" y="530064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Содержимое 3" descr="49266.jpg"/>
          <p:cNvPicPr/>
          <p:nvPr/>
        </p:nvPicPr>
        <p:blipFill>
          <a:blip r:embed="rId1"/>
          <a:stretch/>
        </p:blipFill>
        <p:spPr>
          <a:xfrm>
            <a:off x="1116000" y="1268280"/>
            <a:ext cx="4083120" cy="252108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у принадлежит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6" name="Picture 2" descr="D:\картинки\летние виды спорта\sport_124-crop.jpg"/>
          <p:cNvPicPr/>
          <p:nvPr/>
        </p:nvPicPr>
        <p:blipFill>
          <a:blip r:embed="rId2"/>
          <a:stretch/>
        </p:blipFill>
        <p:spPr>
          <a:xfrm>
            <a:off x="5148360" y="3716280"/>
            <a:ext cx="38242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Содержимое 3" descr="r110701105659050.jpg"/>
          <p:cNvPicPr/>
          <p:nvPr/>
        </p:nvPicPr>
        <p:blipFill>
          <a:blip r:embed="rId1"/>
          <a:stretch/>
        </p:blipFill>
        <p:spPr>
          <a:xfrm>
            <a:off x="1042920" y="1268280"/>
            <a:ext cx="3841920" cy="255744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у принадлежит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9" name="Picture 2" descr="D:\картинки\летние виды спорта\3013.jpg"/>
          <p:cNvPicPr/>
          <p:nvPr/>
        </p:nvPicPr>
        <p:blipFill>
          <a:blip r:embed="rId2"/>
          <a:stretch/>
        </p:blipFill>
        <p:spPr>
          <a:xfrm>
            <a:off x="3967200" y="3284640"/>
            <a:ext cx="49910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Содержимое 3" descr="WST-2925Cb.JPG"/>
          <p:cNvPicPr/>
          <p:nvPr/>
        </p:nvPicPr>
        <p:blipFill>
          <a:blip r:embed="rId1"/>
          <a:stretch/>
        </p:blipFill>
        <p:spPr>
          <a:xfrm>
            <a:off x="1116000" y="1484280"/>
            <a:ext cx="3219480" cy="25653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у принадлежит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2" name="Picture 2" descr="D:\картинки\летние виды спорта\Down-House.ru_1271068190_bass1.jpg"/>
          <p:cNvPicPr/>
          <p:nvPr/>
        </p:nvPicPr>
        <p:blipFill>
          <a:blip r:embed="rId2"/>
          <a:stretch/>
        </p:blipFill>
        <p:spPr>
          <a:xfrm>
            <a:off x="4284720" y="3141720"/>
            <a:ext cx="45180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Содержимое 12" descr="75.jpg"/>
          <p:cNvPicPr/>
          <p:nvPr/>
        </p:nvPicPr>
        <p:blipFill>
          <a:blip r:embed="rId1"/>
          <a:stretch/>
        </p:blipFill>
        <p:spPr>
          <a:xfrm>
            <a:off x="2252520" y="2674800"/>
            <a:ext cx="4646880" cy="34513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Бокс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95760" y="1700280"/>
            <a:ext cx="4103640" cy="41050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Правильно, молодцы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187280" y="98064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этом спорте игроки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се ловки и высоки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Любят в мячик поиграть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 в кольцо его загнать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ячик звонко бьёт об пол,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начит, это…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90000"/>
              </a:lnSpc>
              <a:spcBef>
                <a:spcPts val="1199"/>
              </a:spcBef>
              <a:buClr>
                <a:srgbClr val="31b6f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b9a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Содержимое 3" descr="5ad627.jpg"/>
          <p:cNvPicPr/>
          <p:nvPr/>
        </p:nvPicPr>
        <p:blipFill>
          <a:blip r:embed="rId1"/>
          <a:stretch/>
        </p:blipFill>
        <p:spPr>
          <a:xfrm>
            <a:off x="2274840" y="2674800"/>
            <a:ext cx="4602240" cy="34513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Баскетбо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95760" y="1700280"/>
            <a:ext cx="4103640" cy="41050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Правильно, молодцы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258560" y="112500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берем команду в школе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 найдем большое поле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обиваем угловой -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биваем головой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 в воротах пятый гол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чень любим мы ..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b9a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Содержимое 3" descr="88421299_3330929_999best9.jpg"/>
          <p:cNvPicPr/>
          <p:nvPr/>
        </p:nvPicPr>
        <p:blipFill>
          <a:blip r:embed="rId1"/>
          <a:stretch/>
        </p:blipFill>
        <p:spPr>
          <a:xfrm>
            <a:off x="2274840" y="2674800"/>
            <a:ext cx="4602240" cy="34513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Футбол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09:20:20Z</dcterms:created>
  <dc:creator>Ольга</dc:creator>
  <dc:description/>
  <dc:language>en-US</dc:language>
  <cp:lastModifiedBy>Светлана</cp:lastModifiedBy>
  <dcterms:modified xsi:type="dcterms:W3CDTF">2019-05-27T18:39:30Z</dcterms:modified>
  <cp:revision>38</cp:revision>
  <dc:subject/>
  <dc:title>Викторина «Летние виды спорта»</dc:title>
</cp:coreProperties>
</file>