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C34-B511-4FA6-991F-E7649598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4A4-BFE7-4441-A648-5BE9020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CFF-AC07-4A48-9D75-701D945E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31B-B05A-408E-803B-8B370F9A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4F5-1462-491A-BE19-85A00E56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979-EC74-430A-B4EE-B06AA6BC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F6C-BF26-453C-93E6-E3B6221A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456C-F76B-4B39-B241-1DD67CBB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7B63-D6C4-40EA-8A3A-D06F186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BDC3-F8A5-46AF-9DB1-ED4B2C8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5D6E-0C8F-419B-9138-C98E67A8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F9C-28BE-43F6-814D-4464DDBA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2C9-330E-49EC-8476-00A06A7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7131-E282-4D2A-A1CA-0148B82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0902-E9D6-423C-B14B-74D2CA6B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F562-07B4-4A4D-85F8-3AD90A7D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A05A-A122-4084-A464-4FC1393E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D720-ADEA-45A1-9E3E-CF774C75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23E3-7D9D-4E00-A9ED-FE036ED1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648E-4ADB-4125-81A6-761C43FB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3E3F-9C26-4200-A1A9-1A3B1B23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25C9-5FE9-4A6D-88E9-9B9B0DBD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030-40D9-4C70-9C65-5F499D37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0361-B7E5-4B2B-A676-21661AC1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6646-5DA0-41E5-9338-746EC33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90CE-7829-4C2E-9656-D0BBA4E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9F67-25D0-4AA6-938F-AAE5132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63A5-75AA-41FE-BA20-B242A545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1D636-7873-473B-86AC-E258E25D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B512-CE42-4758-B214-27BEC62F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B4BA-408C-489F-A0FC-3F0A6C51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4286-C948-4DB2-8F48-ABA05EF7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954A-3CA7-418E-AE6E-E845D66F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286-9578-4179-A56C-B6518A41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8F19-FAF6-4E1F-8618-93BE1B8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AE6A-78CF-4D36-AE95-22BBA338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D1A7-8156-44C7-8457-C3B2907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43BBA-43F2-460F-B22E-915EABBB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6715-B1B9-480E-A912-8ADE0A5D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374D0-3898-46CE-9F61-0DDEC45C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2642B-2F6B-4A61-897F-62B32A9B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FFA6-0552-4A1F-AE1A-76FC3660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7923-7CEA-485B-852A-1FAC624B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AA6C-01CD-4007-AB69-48B28351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9AC-7296-4E25-A685-1B99F892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F11D8-0CDE-4C46-801C-BC45F0BB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1D31A-EB31-4B18-921D-869031F2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4198-4F9C-4DDF-8A60-5A7C8579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2FDB-1F74-463D-A88B-D93C7A9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A7905-854E-4320-BE48-2194CB5A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AA907-F190-4A40-8FED-39DC281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3255-3AEC-415D-B43D-2D0B858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738C-7CF9-41E7-9A3D-64B1EC66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53AE-7138-4A07-924C-D9D87D8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2F9E-2C91-4557-A921-A206D97A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9AC-8DC0-4D54-9274-27BEE21C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50B8-C93E-465C-A58E-E7E5A1A6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56FB0-30E7-4665-AD1F-11C1973A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AD87-6FF4-4EE5-B090-A8F45FF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D4625-B4A2-4534-8015-DAADA742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3CE3-3C7A-4238-94DA-9B6700A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3642E-7C9D-478D-B603-204773DA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FC85-1975-4F5D-BEF4-782068B0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5245B-8F0A-44DC-AF45-F2DBA4A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E822B-F6F5-4996-84AC-4436F476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F6C4-AD4F-437E-8CE9-0E04B49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FDB-D30C-49D4-A500-1FA20E19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3589-1803-4D63-8FD3-4900118A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FF66-54BC-47BD-8D59-83EE6EB2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2F27F-A163-429E-800E-D35F75A1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640C-C941-40EA-A30D-88BB71AB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D731-492E-4510-AF57-6759A25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D4B1D-6260-432B-82B8-427C5502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EF985-BC8E-47F6-8628-F67E78AA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4AA9-A2E0-4423-83C6-FB752514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3C10-A45A-427A-8CCA-DF0044E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600CE-6742-46D0-99EA-7B41EE2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E7-929B-4C87-87DE-33FBCD8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2C6F6-5681-4054-B7A4-8535E9F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1A7C-1F52-48BF-BD9C-58EA686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7E8C-6413-45E4-98E5-340F63AF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807A-7800-49DF-898D-92D06878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C6F8-BB19-4B8C-BB7B-48BE6FD2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F9D-338D-4034-8096-4FD62BA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BE0-0C7A-4047-B7E6-CDBEC9190B6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AFC-6AB3-45EB-B651-9EDBE85A4D6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711-8193-47C2-9274-16461E69FF0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2FB4-8CB7-4D4C-B691-30AA6C54C4C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8AEA-A27B-4EE6-AACD-F7B39F275F9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B8FC-1FAE-4BCC-A005-E67BC6EC21F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DD98-12DA-43FE-A02D-C191E4A6F67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18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" Target="slide17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" Target="slide19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" Target="slide21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" Target="slide21.xml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280" y="1989000"/>
            <a:ext cx="74977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Викторина</a:t>
            </a:r>
            <a:br>
              <a:rPr sz="5400"/>
            </a:br>
            <a:r>
              <a:rPr b="1" lang="ru-RU" sz="5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«Летние виды спорта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403280" y="33336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урнир идёт. Турнир в разгаре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граем мы с Андреем в паре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 корт выходим мы вдвоём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кетками мы мячик бьём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 против нас — Андрэ и Дэнис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 что играем с ними? В …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Содержимое 3" descr="330026694634_86625_image00051.jpg"/>
          <p:cNvPicPr/>
          <p:nvPr/>
        </p:nvPicPr>
        <p:blipFill>
          <a:blip r:embed="rId1"/>
          <a:stretch/>
        </p:blipFill>
        <p:spPr>
          <a:xfrm>
            <a:off x="1835280" y="1484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нис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187280" y="691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только утром я проснусь,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сяду, встану и нагнусь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упражненья по порядку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может вырасти …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одержимое 3" descr="330026694634_86618_image00040_jpg.jpg"/>
          <p:cNvPicPr/>
          <p:nvPr/>
        </p:nvPicPr>
        <p:blipFill>
          <a:blip r:embed="rId1"/>
          <a:stretch/>
        </p:blipFill>
        <p:spPr>
          <a:xfrm>
            <a:off x="2274840" y="267480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яд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Содержимое 3" descr="image.jpeg"/>
          <p:cNvPicPr/>
          <p:nvPr/>
        </p:nvPicPr>
        <p:blipFill>
          <a:blip r:embed="rId1"/>
          <a:stretch/>
        </p:blipFill>
        <p:spPr>
          <a:xfrm>
            <a:off x="1547640" y="1341360"/>
            <a:ext cx="3300480" cy="2475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твёртый лиш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D:\картинки\летние виды спорта\1.2.jpg"/>
          <p:cNvPicPr/>
          <p:nvPr/>
        </p:nvPicPr>
        <p:blipFill>
          <a:blip r:embed="rId2"/>
          <a:stretch/>
        </p:blipFill>
        <p:spPr>
          <a:xfrm>
            <a:off x="5219640" y="1268280"/>
            <a:ext cx="3363840" cy="2521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D:\картинки\летние виды спорта\WST-2925Cb.JPG"/>
          <p:cNvPicPr/>
          <p:nvPr/>
        </p:nvPicPr>
        <p:blipFill>
          <a:blip r:embed="rId3"/>
          <a:stretch/>
        </p:blipFill>
        <p:spPr>
          <a:xfrm>
            <a:off x="1547640" y="3933720"/>
            <a:ext cx="3313440" cy="2637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D:\картинки\летние виды спорта\CCM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92720" y="386064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3" name="Picture 47" descr="3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7326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47" descr="3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67640" y="56610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258560" y="2060640"/>
            <a:ext cx="7499160" cy="36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трусах и в тёплых варежках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рутся два товарища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b9a"/>
                </a:solidFill>
                <a:latin typeface="Candara"/>
              </a:rPr>
              <a:t>Отгадай загадку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47" descr="3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566100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9" descr="Рисунок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53040" y="3905280"/>
            <a:ext cx="647640" cy="990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умайте ещё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2" name="Picture 6" descr="1c1"/>
          <p:cNvPicPr/>
          <p:nvPr/>
        </p:nvPicPr>
        <p:blipFill>
          <a:blip r:embed="rId3"/>
          <a:stretch/>
        </p:blipFill>
        <p:spPr>
          <a:xfrm>
            <a:off x="1763640" y="3141720"/>
            <a:ext cx="1470240" cy="2057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7" descr="38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67640" y="53006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3" descr="49266.jpg"/>
          <p:cNvPicPr/>
          <p:nvPr/>
        </p:nvPicPr>
        <p:blipFill>
          <a:blip r:embed="rId1"/>
          <a:stretch/>
        </p:blipFill>
        <p:spPr>
          <a:xfrm>
            <a:off x="1116000" y="1268280"/>
            <a:ext cx="4083120" cy="2521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принадлежит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2" descr="D:\картинки\летние виды спорта\sport_124-crop.jpg"/>
          <p:cNvPicPr/>
          <p:nvPr/>
        </p:nvPicPr>
        <p:blipFill>
          <a:blip r:embed="rId2"/>
          <a:stretch/>
        </p:blipFill>
        <p:spPr>
          <a:xfrm>
            <a:off x="5148360" y="3716280"/>
            <a:ext cx="38242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одержимое 3" descr="r110701105659050.jpg"/>
          <p:cNvPicPr/>
          <p:nvPr/>
        </p:nvPicPr>
        <p:blipFill>
          <a:blip r:embed="rId1"/>
          <a:stretch/>
        </p:blipFill>
        <p:spPr>
          <a:xfrm>
            <a:off x="1042920" y="1268280"/>
            <a:ext cx="3841920" cy="2557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принадлежит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2" descr="D:\картинки\летние виды спорта\3013.jpg"/>
          <p:cNvPicPr/>
          <p:nvPr/>
        </p:nvPicPr>
        <p:blipFill>
          <a:blip r:embed="rId2"/>
          <a:stretch/>
        </p:blipFill>
        <p:spPr>
          <a:xfrm>
            <a:off x="3967200" y="3284640"/>
            <a:ext cx="49910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Содержимое 3" descr="WST-2925Cb.JPG"/>
          <p:cNvPicPr/>
          <p:nvPr/>
        </p:nvPicPr>
        <p:blipFill>
          <a:blip r:embed="rId1"/>
          <a:stretch/>
        </p:blipFill>
        <p:spPr>
          <a:xfrm>
            <a:off x="1116000" y="1484280"/>
            <a:ext cx="3219480" cy="2565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 принадлежит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2" name="Picture 2" descr="D:\картинки\летние виды спорта\Down-House.ru_1271068190_bass1.jpg"/>
          <p:cNvPicPr/>
          <p:nvPr/>
        </p:nvPicPr>
        <p:blipFill>
          <a:blip r:embed="rId2"/>
          <a:stretch/>
        </p:blipFill>
        <p:spPr>
          <a:xfrm>
            <a:off x="4284720" y="3141720"/>
            <a:ext cx="4518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Содержимое 12" descr="75.jpg"/>
          <p:cNvPicPr/>
          <p:nvPr/>
        </p:nvPicPr>
        <p:blipFill>
          <a:blip r:embed="rId1"/>
          <a:stretch/>
        </p:blipFill>
        <p:spPr>
          <a:xfrm>
            <a:off x="2252520" y="2674800"/>
            <a:ext cx="464688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Бокс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187280" y="9806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этом спорте игроки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ловки и высоки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юбят в мячик поиграть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в кольцо его загнать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ячик звонко бьёт об пол,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начит, это…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90000"/>
              </a:lnSpc>
              <a:spcBef>
                <a:spcPts val="119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b9a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Содержимое 3" descr="5ad627.jpg"/>
          <p:cNvPicPr/>
          <p:nvPr/>
        </p:nvPicPr>
        <p:blipFill>
          <a:blip r:embed="rId1"/>
          <a:stretch/>
        </p:blipFill>
        <p:spPr>
          <a:xfrm>
            <a:off x="2274840" y="267480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Баскетбо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95760" y="1700280"/>
            <a:ext cx="4103640" cy="41050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Правильно, молодцы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258560" y="1125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берем команду в школе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найдем большое поле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обиваем угловой -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биваем головой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 в воротах пятый гол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чень любим мы ..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365040" indent="-282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b9a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Содержимое 3" descr="88421299_3330929_999best9.jpg"/>
          <p:cNvPicPr/>
          <p:nvPr/>
        </p:nvPicPr>
        <p:blipFill>
          <a:blip r:embed="rId1"/>
          <a:stretch/>
        </p:blipFill>
        <p:spPr>
          <a:xfrm>
            <a:off x="2274840" y="2674800"/>
            <a:ext cx="4602240" cy="3451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9a"/>
                </a:solidFill>
                <a:latin typeface="Times New Roman"/>
                <a:ea typeface="Times New Roman"/>
              </a:rPr>
              <a:t>Футбол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9:20:20Z</dcterms:created>
  <dc:creator>Ольга</dc:creator>
  <dc:description/>
  <dc:language>en-US</dc:language>
  <cp:lastModifiedBy>Светлана</cp:lastModifiedBy>
  <dcterms:modified xsi:type="dcterms:W3CDTF">2019-05-27T18:39:30Z</dcterms:modified>
  <cp:revision>38</cp:revision>
  <dc:subject/>
  <dc:title>Викторина «Летние виды спорта»</dc:title>
</cp:coreProperties>
</file>