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0.wmf" ContentType="image/x-wmf"/>
  <Override PartName="/ppt/media/image4.jpeg" ContentType="image/jpeg"/>
  <Override PartName="/ppt/media/image2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7.gif" ContentType="image/gif"/>
  <Override PartName="/ppt/media/image6.jpeg" ContentType="image/jpeg"/>
  <Override PartName="/ppt/media/image13.gif" ContentType="image/gif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14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CE7-FDA1-4FAB-A2E5-6FD4160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BDB-7A0F-47D6-87FC-7B5C6471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F4A-A4D8-4096-8FDB-D76B215A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9EF-1052-4366-8FAB-ED9E14B7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547-634A-47DD-B6DE-A1C8B735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C431-F988-431C-8AE5-0154843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1AA-19A2-4BA6-A348-C4F2CFB9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DB64-859B-4B49-8F64-54219FE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947E-C2F6-4588-B95D-F4105E69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7260-FAFF-4738-A3AD-D6C4CDAE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771B-D54B-4292-8D10-6274880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144-F353-4591-8A39-6D451A2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B5F-97E0-43AB-BEBE-26B17F5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CD2-4852-40DB-97E8-498167D1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3632-BB15-4D5C-A9E5-FC1C087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6CCF-9263-4117-9FA3-0B8EC085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7DA-D89A-4187-B883-723C153D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E93A-A98A-489B-8E62-DAB30B89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19C3-C252-4856-9A04-8ED08031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43EE-F5BB-4EBD-86E0-735F3DD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5127-7330-47BB-B0C0-488FB5E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49D0-7A92-4CE0-A25B-65D82931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F64-D2FD-4681-B239-2F95100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C961-9A93-4E60-8D31-FF54AD85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2E09B-96EE-4B35-9B16-AFEF952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7F1F-2237-4370-8447-C7B2B8F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D1F1-690E-4078-82EE-99C2D2D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0391-CFD6-4E5B-98B3-E01D59D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DA4E-B930-436E-87CA-8E9A329E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5E0B-7822-4CDC-8D1F-63D54E7B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ABD0-75A0-4208-92C7-E8213F6F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E483-6B99-417D-A9D1-24959D8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58AA-07C3-4186-B07C-FA5A0FD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9C0-C44D-47A4-AFE6-97352D29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C874-0A15-4D84-81AA-4F62DB9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4B3E-64C2-49AD-A219-330223F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E477-11AD-4C27-BE9F-D06E30C8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5B1FC-28D1-4A4E-AB80-EF09143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5452-E808-46D2-9E9C-FB51F5C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A2AF-3E77-487F-92A3-C6C6A51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9536-837E-46BC-AB69-E330AEC3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07A9-50A0-4CFA-971D-AFE654E2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A6DF1-6BD3-4477-98C0-800D95C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E781C-AC1D-45A9-8BCA-7DADF792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683-D55C-4A48-86B8-A3990122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40F4-3B0B-413C-A8CB-214F1F9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20E1-BCAA-4B79-A100-DD0B2956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01FCA-2264-4E54-997D-B7E3B08D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3635-9391-4456-8A05-F32D19D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4990-C595-4B32-89B6-58006BB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3EA3C-08F0-42EC-B64C-E7B89C0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3D85-C9EC-4850-BF84-D70A5A9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AC5C-C9EC-4859-94D9-4EBFF0A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1C254-F950-43ED-8741-D7158CF8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8CCD-00DB-4361-B8FC-59A0D585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E04-B833-4E4A-99A6-27597CB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8272-901E-4433-A147-A6BA9C5F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75C-04D0-421A-B5A0-6EAE08A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175-AFB4-4E32-8F26-C40030D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27E-C884-4575-B15D-AD6D779C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C5F-51A8-4289-8A5A-B0A00F62A55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B73-6E45-4E26-AFCA-3F1B36E5315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D936-DBC5-45D1-9895-CC427966B5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C1CB-A527-486E-80FD-5439B62CC02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D65-C8EB-4CA4-9C95-16F815E04D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858960" y="1127160"/>
            <a:ext cx="7748640" cy="3090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43000" y="471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Учитель начальных классов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Фирсова Елена Владимиро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930400" y="57168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те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500040" y="1082520"/>
            <a:ext cx="364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S = а 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9 х 5 = 45 (см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а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(9 + 5) х 2 =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44061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428840" y="362376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груп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6 х 4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6+4) х 2 = 20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8 х 3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(8 + 3) х 2 = 2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= 24 х 1              Р = (24 + 1) х 2 = 50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285840" y="2143080"/>
            <a:ext cx="550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________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“       0________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________10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215640" y="28584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одим 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554040" y="1603440"/>
            <a:ext cx="8798040" cy="3706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pull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714240" y="3000240"/>
          <a:ext cx="5681880" cy="2874960"/>
        </p:xfrm>
        <a:graphic>
          <a:graphicData uri="http://schemas.openxmlformats.org/drawingml/2006/table">
            <a:tbl>
              <a:tblPr/>
              <a:tblGrid>
                <a:gridCol w="1420920"/>
                <a:gridCol w="1419120"/>
                <a:gridCol w="1420920"/>
                <a:gridCol w="14209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" descr="C:\Documents and Settings\Administrator\Рабочий стол\сова.jpg"/>
          <p:cNvPicPr/>
          <p:nvPr/>
        </p:nvPicPr>
        <p:blipFill>
          <a:blip r:embed="rId1"/>
          <a:stretch/>
        </p:blipFill>
        <p:spPr>
          <a:xfrm>
            <a:off x="6500880" y="571680"/>
            <a:ext cx="2428920" cy="2643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357120" y="369360"/>
            <a:ext cx="678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я, Арина и Валя заняли призовые места на математической олимпиаде. Известно, что место Вали нечётное, Таня заняла не первое место, а место Арины выше, чем у Вали. Распределите места между девочк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680200" y="4500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5466240" y="5214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1090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785880" y="6429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 54, 7, 9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571680" y="4287240"/>
            <a:ext cx="56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+5) : 9                             1*3+3*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+14) : 5                           10*2+6*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+6) : 6                           0*2+5*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500040" y="12859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 в виде суммы разрядных слагаемых дву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642960" y="22903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=30+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=50+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=30+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428760" y="35002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значение выра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C:\Documents and Settings\Administrator\Рабочий стол\27e23abd8d76f5386d67c9f57803b88c.gif"/>
          <p:cNvPicPr/>
          <p:nvPr/>
        </p:nvPicPr>
        <p:blipFill>
          <a:blip r:embed="rId1"/>
          <a:stretch/>
        </p:blipFill>
        <p:spPr>
          <a:xfrm>
            <a:off x="6715080" y="371484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664560" y="2000160"/>
            <a:ext cx="52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лишнее выра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500040" y="32162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х 4     25+44      5 х 7         8 х 9          8 х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928800" y="4357800"/>
            <a:ext cx="16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5786280" y="4286160"/>
            <a:ext cx="156240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2863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4" descr=""/>
          <p:cNvPicPr/>
          <p:nvPr/>
        </p:nvPicPr>
        <p:blipFill>
          <a:blip r:embed="rId2"/>
          <a:srcRect l="34840" t="32838" r="15665" b="7997"/>
          <a:stretch/>
        </p:blipFill>
        <p:spPr>
          <a:xfrm>
            <a:off x="357120" y="1571760"/>
            <a:ext cx="6215040" cy="37861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5866200" y="228600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Мне всё удало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734360" y="3357720"/>
            <a:ext cx="40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У меня были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3665880" y="4429080"/>
            <a:ext cx="50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6205"/>
                </a:solidFill>
                <a:latin typeface="Times New Roman"/>
                <a:ea typeface="Times New Roman"/>
              </a:rPr>
              <a:t>У меня ничего не получ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21760" y="1571760"/>
            <a:ext cx="39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9307"/>
                </a:solidFill>
                <a:latin typeface="Times New Roman"/>
                <a:ea typeface="Times New Roman"/>
              </a:rPr>
              <a:t>«Лесенка успеха»</a:t>
            </a:r>
            <a:r>
              <a:rPr b="0" lang="ru-RU" sz="3600" spc="-1" strike="noStrike">
                <a:solidFill>
                  <a:srgbClr val="df930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83d68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/>
            <a:ahLst/>
            <a:rect l="l" t="t" r="r" b="b"/>
            <a:pathLst>
              <a:path w="1795462" h="1603375">
                <a:moveTo>
                  <a:pt x="2" y="612433"/>
                </a:moveTo>
                <a:lnTo>
                  <a:pt x="685809" y="612438"/>
                </a:lnTo>
                <a:lnTo>
                  <a:pt x="897731" y="0"/>
                </a:lnTo>
                <a:lnTo>
                  <a:pt x="1109653" y="612438"/>
                </a:lnTo>
                <a:lnTo>
                  <a:pt x="1795460" y="612433"/>
                </a:lnTo>
                <a:lnTo>
                  <a:pt x="1240628" y="990936"/>
                </a:lnTo>
                <a:lnTo>
                  <a:pt x="1452558" y="1603371"/>
                </a:lnTo>
                <a:lnTo>
                  <a:pt x="897731" y="1224861"/>
                </a:lnTo>
                <a:lnTo>
                  <a:pt x="342904" y="1603371"/>
                </a:lnTo>
                <a:lnTo>
                  <a:pt x="554834" y="990936"/>
                </a:lnTo>
                <a:lnTo>
                  <a:pt x="2" y="6124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2"/>
                </a:lnTo>
                <a:lnTo>
                  <a:pt x="757745" y="863598"/>
                </a:lnTo>
                <a:lnTo>
                  <a:pt x="468313" y="659727"/>
                </a:lnTo>
                <a:lnTo>
                  <a:pt x="178880" y="863598"/>
                </a:lnTo>
                <a:lnTo>
                  <a:pt x="289436" y="533732"/>
                </a:lnTo>
                <a:lnTo>
                  <a:pt x="1" y="329865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/>
            <a:ahLst/>
            <a:rect l="l" t="t" r="r" b="b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3" y="667165"/>
                </a:lnTo>
                <a:lnTo>
                  <a:pt x="990206" y="1079497"/>
                </a:lnTo>
                <a:lnTo>
                  <a:pt x="611982" y="824659"/>
                </a:lnTo>
                <a:lnTo>
                  <a:pt x="233757" y="1079497"/>
                </a:lnTo>
                <a:lnTo>
                  <a:pt x="378230" y="667165"/>
                </a:lnTo>
                <a:lnTo>
                  <a:pt x="1" y="412331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/>
            <a:ahLst/>
            <a:rect l="l" t="t" r="r" b="b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3"/>
                </a:lnTo>
                <a:lnTo>
                  <a:pt x="1401186" y="1655758"/>
                </a:lnTo>
                <a:lnTo>
                  <a:pt x="865982" y="1264881"/>
                </a:lnTo>
                <a:lnTo>
                  <a:pt x="330777" y="1655758"/>
                </a:lnTo>
                <a:lnTo>
                  <a:pt x="535212" y="1023313"/>
                </a:lnTo>
                <a:lnTo>
                  <a:pt x="2" y="632443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/>
            <a:ahLst/>
            <a:rect l="l" t="t" r="r" b="b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1"/>
                </a:lnTo>
                <a:lnTo>
                  <a:pt x="1284313" y="1511296"/>
                </a:lnTo>
                <a:lnTo>
                  <a:pt x="793750" y="1154523"/>
                </a:lnTo>
                <a:lnTo>
                  <a:pt x="303187" y="1511296"/>
                </a:lnTo>
                <a:lnTo>
                  <a:pt x="490570" y="934031"/>
                </a:lnTo>
                <a:lnTo>
                  <a:pt x="2" y="577264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/>
            <a:ahLst/>
            <a:rect l="l" t="t" r="r" b="b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1"/>
                </a:lnTo>
                <a:lnTo>
                  <a:pt x="1515490" y="1736721"/>
                </a:lnTo>
                <a:lnTo>
                  <a:pt x="936625" y="1326731"/>
                </a:lnTo>
                <a:lnTo>
                  <a:pt x="357760" y="1736721"/>
                </a:lnTo>
                <a:lnTo>
                  <a:pt x="578872" y="1073351"/>
                </a:lnTo>
                <a:lnTo>
                  <a:pt x="2" y="663368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270" name="прин1370.wav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4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9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68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77" dur="3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98" dur="3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9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2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217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6500"/>
                            </p:stCondLst>
                            <p:childTnLst>
                              <p:par>
                                <p:cTn id="2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222" dur="3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3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95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1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25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3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285920" y="2428920"/>
            <a:ext cx="1071360" cy="85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2214720" y="2428920"/>
            <a:ext cx="1071360" cy="857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14316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4"/>
          <a:stretch/>
        </p:blipFill>
        <p:spPr>
          <a:xfrm>
            <a:off x="4143240" y="2357280"/>
            <a:ext cx="1071720" cy="857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5"/>
          <a:stretch/>
        </p:blipFill>
        <p:spPr>
          <a:xfrm>
            <a:off x="507204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6"/>
          <a:stretch/>
        </p:blipFill>
        <p:spPr>
          <a:xfrm>
            <a:off x="357120" y="242892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7"/>
          <a:stretch/>
        </p:blipFill>
        <p:spPr>
          <a:xfrm>
            <a:off x="500040" y="3357720"/>
            <a:ext cx="857160" cy="7855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5"/>
          <p:cNvSpPr/>
          <p:nvPr/>
        </p:nvSpPr>
        <p:spPr>
          <a:xfrm>
            <a:off x="428760" y="85716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класса сделали к празднику каждый по 6 масок зверей и по 4 масок птиц. Сколько всего масок они сдел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8"/>
          <a:stretch/>
        </p:blipFill>
        <p:spPr>
          <a:xfrm>
            <a:off x="1357200" y="3357720"/>
            <a:ext cx="857520" cy="78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9"/>
          <a:stretch/>
        </p:blipFill>
        <p:spPr>
          <a:xfrm>
            <a:off x="2143080" y="3357720"/>
            <a:ext cx="857160" cy="785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10"/>
          <a:stretch/>
        </p:blipFill>
        <p:spPr>
          <a:xfrm>
            <a:off x="3000240" y="3357720"/>
            <a:ext cx="857520" cy="78552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1"/>
          <p:cNvSpPr/>
          <p:nvPr/>
        </p:nvSpPr>
        <p:spPr>
          <a:xfrm>
            <a:off x="608400" y="4357800"/>
            <a:ext cx="64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6 + 4) * 3 = 10 * 3 = 30(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571680" y="512208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 * 3 + 4 * 3 = 18 + 12 = 30(м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1357200" y="428760"/>
            <a:ext cx="55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нье везде найдёт примене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авая фигурная скобка 3"/>
          <p:cNvSpPr/>
          <p:nvPr/>
        </p:nvSpPr>
        <p:spPr>
          <a:xfrm>
            <a:off x="4857840" y="1071720"/>
            <a:ext cx="155520" cy="13572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357200"/>
              <a:gd name="textAreaBottom" fmla="*/ 135324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57120" y="11480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3зала по 8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зала по10к.          ? кар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зала по 4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2214360" cy="16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3000240" y="2643120"/>
            <a:ext cx="1714680" cy="1857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3"/>
          <a:stretch/>
        </p:blipFill>
        <p:spPr>
          <a:xfrm>
            <a:off x="5072040" y="278604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9"/>
          <p:cNvSpPr/>
          <p:nvPr/>
        </p:nvSpPr>
        <p:spPr>
          <a:xfrm>
            <a:off x="357120" y="493128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8 * 3 + 10 * 3 + 4* 3 = 66(к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8"/>
          <p:cNvSpPr/>
          <p:nvPr/>
        </p:nvSpPr>
        <p:spPr>
          <a:xfrm>
            <a:off x="575640" y="5000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Administrator\Рабочий стол\фон матем.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"/>
          <p:cNvSpPr/>
          <p:nvPr/>
        </p:nvSpPr>
        <p:spPr>
          <a:xfrm>
            <a:off x="285840" y="1857240"/>
            <a:ext cx="30002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рямоугольника 9 см, ши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м. Найдите площадь и пери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357720" y="364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572160" y="357120"/>
            <a:ext cx="18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 = a x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=(a+b)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3714840" y="200016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ой клумбы 24м².  Каким может быть периметр этой клумбы, если длина и ширина клумбы – целое количество метров? (Попробуй найти все возможные решения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: 24 =        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8"/>
          <p:cNvSpPr/>
          <p:nvPr/>
        </p:nvSpPr>
        <p:spPr>
          <a:xfrm>
            <a:off x="6786720" y="6000840"/>
            <a:ext cx="556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9"/>
          <p:cNvSpPr/>
          <p:nvPr/>
        </p:nvSpPr>
        <p:spPr>
          <a:xfrm>
            <a:off x="6429240" y="5786280"/>
            <a:ext cx="486000" cy="486000"/>
          </a:xfrm>
          <a:prstGeom prst="rect">
            <a:avLst/>
          </a:prstGeom>
          <a:noFill/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0"/>
          <p:cNvSpPr/>
          <p:nvPr/>
        </p:nvSpPr>
        <p:spPr>
          <a:xfrm>
            <a:off x="7429680" y="5786280"/>
            <a:ext cx="485640" cy="486000"/>
          </a:xfrm>
          <a:prstGeom prst="rect">
            <a:avLst/>
          </a:prstGeom>
          <a:noFill/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тик;Афанасьева Галя</dc:creator>
  <dc:description/>
  <dc:language>en-US</dc:language>
  <cp:lastModifiedBy>Home</cp:lastModifiedBy>
  <dcterms:modified xsi:type="dcterms:W3CDTF">2019-05-27T10:20:13Z</dcterms:modified>
  <cp:revision>70</cp:revision>
  <dc:subject/>
  <dc:title>Урок математики по теме «Умножение двузначного числа на однозначное».</dc:title>
</cp:coreProperties>
</file>