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image10.wmf" ContentType="image/x-wmf"/>
  <Override PartName="/ppt/media/image4.jpeg" ContentType="image/jpeg"/>
  <Override PartName="/ppt/media/image2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7.gif" ContentType="image/gif"/>
  <Override PartName="/ppt/media/image6.jpeg" ContentType="image/jpeg"/>
  <Override PartName="/ppt/media/image13.gif" ContentType="image/gif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14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F8B-A23D-46BC-957D-86C87F0F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287-EB35-4010-A5F5-3B44DB70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2B0-30F2-4BB6-BC61-98851F87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D8F-3018-4C15-A413-0C23F6C2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7FF2-768C-4965-92D3-ACACD767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BDA2-DCDC-4E4E-A5B7-3203EA77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AB81-BFFD-475B-9A25-7903F5C5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D15-F261-4864-9284-490883FF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02EA-634D-4841-AC1B-39C0D40F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1EE4-8348-4182-851A-11D05497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63AE-CD02-4152-B11E-601A8676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BA4-526D-41D9-A0DA-3F0EA143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5766-CF82-4713-9EE9-0D1BFD91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008D-416A-45E4-AB02-15ABA1E6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62FB-ED1A-4571-9E2F-0C41FF07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2260-7E0B-4257-AE1E-DD57789A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AE00-8093-4E27-BDEA-516F06A6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DC93-091C-445F-9D99-3649CDDE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F3DC6-58A9-4D19-A585-83D0FFBB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C1C0-9514-4FF8-B9A4-46B3989A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9E48-1023-4BDA-82CC-D8235A3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0353-5776-4F49-AC93-44D521B1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F6E-D7E1-460F-82AC-B28CBF92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4379-AF78-437E-BCA7-FC33F916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8D3B-96EA-4F01-9984-5CF13ABA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8DB7-B3DA-4814-8081-30AB7BF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78A9A-9908-49B4-B6F0-AF158CC5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21C9F-A2D4-4D95-8522-AB3D1289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DC99-4563-4D4E-A86D-4E1ED304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EDF0D-A468-4B66-8DDA-5EA7A06C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B6858-C257-4F61-AAF8-81ABCCC4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F074C-A233-4F15-8872-7DE66243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6F3BD-F40B-4AA9-A1AB-3C8012AE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F3D-8E7D-4AA4-B330-F92A0D02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8FB37-1AE9-40F6-B28D-18929195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F44B-E4EC-4495-9DA3-FFC6EBA6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F478-FE87-4632-AEC5-1214E74E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F9DE-885D-48C5-A785-75EF422D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83B7-8DD6-4E13-87CA-5F9D90BA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8CC2-8523-4187-BC2B-E6F57131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82AAE-F964-4A76-BB27-F78415C5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ED03-1554-43BF-AE15-DEB16D7F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3CB6-8B1F-4605-B9E5-0A7E22C9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9350C-9D86-4421-9297-80CD3A1B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12F-F163-4651-940B-1A5C248C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26F94-6A2F-4E53-BDA9-81E99139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78DB-9098-48F6-A6BB-B5E5A3AE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4E102-F86C-4CEE-96A4-84567CA7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AFDA-A2D3-480F-B0AF-3E6A027E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87B2-4CBD-4393-B276-FB786E8F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880C5-3351-424D-B467-C45202E7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5C9F5-E4E6-401B-B8DA-9FC5A134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E459B-5693-43A8-8378-C5267BDD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8DCD-72BD-45B9-861F-635EFCF6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2D66-1A6A-48C1-99B9-46478C93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658-AD97-4F91-9222-212AE2CA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4192F-11CC-4B1E-B7A8-BE3A0479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A15-DC58-4B2D-B79A-A18E55A4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3C1-D8CC-4F18-97F6-07FCE920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811-0A37-45FA-9D7B-83656B2D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A23E-AB11-4C00-8A39-64A8D99D630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574E-9ACA-4D67-B66D-4928B512EE9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7EB4-277E-40B9-A2B3-FF384527C68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5648-8626-4388-9ECE-A00516C4E9D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E859-7949-4D78-AE25-9980A7C8227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858960" y="1127160"/>
            <a:ext cx="7748640" cy="30909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43000" y="471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Учитель начальных классов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Фирсова Елена Владимиро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2930400" y="57168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те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500040" y="1082520"/>
            <a:ext cx="3643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S = а 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9 х 5 = 45 (см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(а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(9 + 5) х 2 =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44061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428840" y="362376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= 6 х 4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(6+4) х 2 = 20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= 8 х 3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(8 + 3) х 2 = 22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= 24 х 1              Р = (24 + 1) х 2 = 50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C:\Documents and Settings\Administrator\Рабочий стол\фон матем.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28632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2"/>
          <p:cNvSpPr/>
          <p:nvPr/>
        </p:nvSpPr>
        <p:spPr>
          <a:xfrm>
            <a:off x="285840" y="2143080"/>
            <a:ext cx="550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„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________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“       0________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________10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215640" y="285840"/>
            <a:ext cx="29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одим и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554040" y="1603440"/>
            <a:ext cx="8798040" cy="3706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pull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714240" y="3000240"/>
          <a:ext cx="5681880" cy="2874960"/>
        </p:xfrm>
        <a:graphic>
          <a:graphicData uri="http://schemas.openxmlformats.org/drawingml/2006/table">
            <a:tbl>
              <a:tblPr/>
              <a:tblGrid>
                <a:gridCol w="1420920"/>
                <a:gridCol w="1419120"/>
                <a:gridCol w="1420920"/>
                <a:gridCol w="142092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" descr="C:\Documents and Settings\Administrator\Рабочий стол\сова.jpg"/>
          <p:cNvPicPr/>
          <p:nvPr/>
        </p:nvPicPr>
        <p:blipFill>
          <a:blip r:embed="rId1"/>
          <a:stretch/>
        </p:blipFill>
        <p:spPr>
          <a:xfrm>
            <a:off x="6500880" y="571680"/>
            <a:ext cx="2428920" cy="2643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357120" y="369360"/>
            <a:ext cx="678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я, Арина и Валя заняли призовые места на математической олимпиаде. Известно, что место Вали нечётное, Таня заняла не первое место, а место Арины выше, чем у Вали. Распределите места между девочка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2680200" y="4500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5466240" y="521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109040" y="385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785880" y="64296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 54, 7, 9,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571680" y="4287240"/>
            <a:ext cx="56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0+5) : 9                             1*3+3*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+14) : 5                           10*2+6*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0+6) : 6                           0*2+5*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500040" y="12859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ьте в виде суммы разрядных слагаемых двузнач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642960" y="22903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=30+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=50+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=30+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1"/>
          <p:cNvSpPr/>
          <p:nvPr/>
        </p:nvSpPr>
        <p:spPr>
          <a:xfrm>
            <a:off x="428760" y="350028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значение выра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C:\Documents and Settings\Administrator\Рабочий стол\27e23abd8d76f5386d67c9f57803b88c.gif"/>
          <p:cNvPicPr/>
          <p:nvPr/>
        </p:nvPicPr>
        <p:blipFill>
          <a:blip r:embed="rId1"/>
          <a:stretch/>
        </p:blipFill>
        <p:spPr>
          <a:xfrm>
            <a:off x="6715080" y="3714840"/>
            <a:ext cx="20001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Administrator\Рабочий стол\фон матем.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863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664560" y="2000160"/>
            <a:ext cx="52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 выра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500040" y="32162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х 4     25+44      5 х 7         8 х 9          8 х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928800" y="4357800"/>
            <a:ext cx="16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+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5786280" y="4286160"/>
            <a:ext cx="156240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Administrator\Рабочий стол\фон матем.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2863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4" descr=""/>
          <p:cNvPicPr/>
          <p:nvPr/>
        </p:nvPicPr>
        <p:blipFill>
          <a:blip r:embed="rId2"/>
          <a:srcRect l="34840" t="32838" r="15665" b="7997"/>
          <a:stretch/>
        </p:blipFill>
        <p:spPr>
          <a:xfrm>
            <a:off x="357120" y="1571760"/>
            <a:ext cx="6215040" cy="37861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5866200" y="2286000"/>
            <a:ext cx="29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6205"/>
                </a:solidFill>
                <a:latin typeface="Times New Roman"/>
                <a:ea typeface="Times New Roman"/>
              </a:rPr>
              <a:t>Мне всё удало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734360" y="3357720"/>
            <a:ext cx="40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6205"/>
                </a:solidFill>
                <a:latin typeface="Times New Roman"/>
                <a:ea typeface="Times New Roman"/>
              </a:rPr>
              <a:t>У меня были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3665880" y="4429080"/>
            <a:ext cx="50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6205"/>
                </a:solidFill>
                <a:latin typeface="Times New Roman"/>
                <a:ea typeface="Times New Roman"/>
              </a:rPr>
              <a:t>У меня ничего не получи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221760" y="1571760"/>
            <a:ext cx="39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9307"/>
                </a:solidFill>
                <a:latin typeface="Times New Roman"/>
                <a:ea typeface="Times New Roman"/>
              </a:rPr>
              <a:t>«Лесенка успеха»</a:t>
            </a:r>
            <a:r>
              <a:rPr b="0" lang="ru-RU" sz="3600" spc="-1" strike="noStrike">
                <a:solidFill>
                  <a:srgbClr val="df930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83d68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/>
            <a:ahLst/>
            <a:rect l="l" t="t" r="r" b="b"/>
            <a:pathLst>
              <a:path w="1795462" h="1603375">
                <a:moveTo>
                  <a:pt x="2" y="612433"/>
                </a:moveTo>
                <a:lnTo>
                  <a:pt x="685809" y="612438"/>
                </a:lnTo>
                <a:lnTo>
                  <a:pt x="897731" y="0"/>
                </a:lnTo>
                <a:lnTo>
                  <a:pt x="1109653" y="612438"/>
                </a:lnTo>
                <a:lnTo>
                  <a:pt x="1795460" y="612433"/>
                </a:lnTo>
                <a:lnTo>
                  <a:pt x="1240628" y="990936"/>
                </a:lnTo>
                <a:lnTo>
                  <a:pt x="1452558" y="1603371"/>
                </a:lnTo>
                <a:lnTo>
                  <a:pt x="897731" y="1224861"/>
                </a:lnTo>
                <a:lnTo>
                  <a:pt x="342904" y="1603371"/>
                </a:lnTo>
                <a:lnTo>
                  <a:pt x="554834" y="990936"/>
                </a:lnTo>
                <a:lnTo>
                  <a:pt x="2" y="6124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/>
            <a:ahLst/>
            <a:rect l="l" t="t" r="r" b="b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3" y="667165"/>
                </a:lnTo>
                <a:lnTo>
                  <a:pt x="990206" y="1079497"/>
                </a:lnTo>
                <a:lnTo>
                  <a:pt x="611982" y="824659"/>
                </a:lnTo>
                <a:lnTo>
                  <a:pt x="233757" y="1079497"/>
                </a:lnTo>
                <a:lnTo>
                  <a:pt x="378230" y="667165"/>
                </a:lnTo>
                <a:lnTo>
                  <a:pt x="1" y="412331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/>
            <a:ahLst/>
            <a:rect l="l" t="t" r="r" b="b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3"/>
                </a:lnTo>
                <a:lnTo>
                  <a:pt x="1401186" y="1655758"/>
                </a:lnTo>
                <a:lnTo>
                  <a:pt x="865982" y="1264881"/>
                </a:lnTo>
                <a:lnTo>
                  <a:pt x="330777" y="1655758"/>
                </a:lnTo>
                <a:lnTo>
                  <a:pt x="535212" y="1023313"/>
                </a:lnTo>
                <a:lnTo>
                  <a:pt x="2" y="632443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/>
            <a:ahLst/>
            <a:rect l="l" t="t" r="r" b="b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1"/>
                </a:lnTo>
                <a:lnTo>
                  <a:pt x="1284313" y="1511296"/>
                </a:lnTo>
                <a:lnTo>
                  <a:pt x="793750" y="1154523"/>
                </a:lnTo>
                <a:lnTo>
                  <a:pt x="303187" y="1511296"/>
                </a:lnTo>
                <a:lnTo>
                  <a:pt x="490570" y="934031"/>
                </a:lnTo>
                <a:lnTo>
                  <a:pt x="2" y="577264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/>
            <a:ahLst/>
            <a:rect l="l" t="t" r="r" b="b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1"/>
                </a:lnTo>
                <a:lnTo>
                  <a:pt x="1515490" y="1736721"/>
                </a:lnTo>
                <a:lnTo>
                  <a:pt x="936625" y="1326731"/>
                </a:lnTo>
                <a:lnTo>
                  <a:pt x="357760" y="1736721"/>
                </a:lnTo>
                <a:lnTo>
                  <a:pt x="578872" y="1073351"/>
                </a:lnTo>
                <a:lnTo>
                  <a:pt x="2" y="663368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270" name="прин1370.wav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4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68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77" dur="3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3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98" dur="3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2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21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2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22" dur="3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3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9500"/>
                            </p:stCondLst>
                            <p:childTnLst>
                              <p:par>
                                <p:cTn id="2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285920" y="2428920"/>
            <a:ext cx="1071360" cy="857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2214720" y="2428920"/>
            <a:ext cx="1071360" cy="857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143160" y="242892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4"/>
          <a:stretch/>
        </p:blipFill>
        <p:spPr>
          <a:xfrm>
            <a:off x="4143240" y="2357280"/>
            <a:ext cx="1071720" cy="857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5"/>
          <a:stretch/>
        </p:blipFill>
        <p:spPr>
          <a:xfrm>
            <a:off x="5072040" y="242892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6"/>
          <a:stretch/>
        </p:blipFill>
        <p:spPr>
          <a:xfrm>
            <a:off x="357120" y="242892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7"/>
          <a:stretch/>
        </p:blipFill>
        <p:spPr>
          <a:xfrm>
            <a:off x="500040" y="3357720"/>
            <a:ext cx="857160" cy="7855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5"/>
          <p:cNvSpPr/>
          <p:nvPr/>
        </p:nvSpPr>
        <p:spPr>
          <a:xfrm>
            <a:off x="428760" y="85716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класса сделали к празднику каждый по 6 масок зверей и по 4 масок птиц. Сколько всего масок они сдела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"/>
          <p:cNvPicPr/>
          <p:nvPr/>
        </p:nvPicPr>
        <p:blipFill>
          <a:blip r:embed="rId8"/>
          <a:stretch/>
        </p:blipFill>
        <p:spPr>
          <a:xfrm>
            <a:off x="1357200" y="3357720"/>
            <a:ext cx="857520" cy="785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9"/>
          <a:stretch/>
        </p:blipFill>
        <p:spPr>
          <a:xfrm>
            <a:off x="2143080" y="3357720"/>
            <a:ext cx="857160" cy="785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10"/>
          <a:stretch/>
        </p:blipFill>
        <p:spPr>
          <a:xfrm>
            <a:off x="3000240" y="3357720"/>
            <a:ext cx="857520" cy="78552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1"/>
          <p:cNvSpPr/>
          <p:nvPr/>
        </p:nvSpPr>
        <p:spPr>
          <a:xfrm>
            <a:off x="608400" y="4357800"/>
            <a:ext cx="64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6 + 4) * 3 = 10 * 3 = 30(м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571680" y="5122080"/>
            <a:ext cx="742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6 * 3 + 4 * 3 = 18 + 12 = 30(м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1357200" y="428760"/>
            <a:ext cx="55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ье везде найдёт применень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авая фигурная скобка 3"/>
          <p:cNvSpPr/>
          <p:nvPr/>
        </p:nvSpPr>
        <p:spPr>
          <a:xfrm>
            <a:off x="4857840" y="1071720"/>
            <a:ext cx="155520" cy="13572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357200"/>
              <a:gd name="textAreaBottom" fmla="*/ 135324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"/>
                  <a:pt x="10800" y="206"/>
                </a:cubicBezTo>
                <a:lnTo>
                  <a:pt x="10800" y="10594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3"/>
                  <a:pt x="10800" y="11006"/>
                </a:cubicBezTo>
                <a:lnTo>
                  <a:pt x="10800" y="21394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57120" y="114804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заж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3зала по 8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зала по10к.          ? кар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юрморт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зала по 4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2214360" cy="16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tretch/>
        </p:blipFill>
        <p:spPr>
          <a:xfrm>
            <a:off x="3000240" y="2643120"/>
            <a:ext cx="1714680" cy="1857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"/>
          <p:cNvPicPr/>
          <p:nvPr/>
        </p:nvPicPr>
        <p:blipFill>
          <a:blip r:embed="rId3"/>
          <a:stretch/>
        </p:blipFill>
        <p:spPr>
          <a:xfrm>
            <a:off x="5072040" y="278604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9"/>
          <p:cNvSpPr/>
          <p:nvPr/>
        </p:nvSpPr>
        <p:spPr>
          <a:xfrm>
            <a:off x="357120" y="4931280"/>
            <a:ext cx="75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8 * 3 + 10 * 3 + 4* 3 = 66(к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8"/>
          <p:cNvSpPr/>
          <p:nvPr/>
        </p:nvSpPr>
        <p:spPr>
          <a:xfrm>
            <a:off x="575640" y="5000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Administrator\Рабочий стол\фон матем.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28632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1"/>
          <p:cNvSpPr/>
          <p:nvPr/>
        </p:nvSpPr>
        <p:spPr>
          <a:xfrm>
            <a:off x="285840" y="1857240"/>
            <a:ext cx="30002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прямоугольника 9 см, шир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м. Найдите площадь и периме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357720" y="3643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6572160" y="357120"/>
            <a:ext cx="18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 = a x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 =(a+b)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3714840" y="200016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рямоугольной клумбы 24м².  Каким может быть периметр этой клумбы, если длина и ширина клумбы – целое количество метров? (Попробуй найти все возможные решения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: 24 =        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8"/>
          <p:cNvSpPr/>
          <p:nvPr/>
        </p:nvSpPr>
        <p:spPr>
          <a:xfrm>
            <a:off x="6786720" y="6000840"/>
            <a:ext cx="556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9"/>
          <p:cNvSpPr/>
          <p:nvPr/>
        </p:nvSpPr>
        <p:spPr>
          <a:xfrm>
            <a:off x="6429240" y="5786280"/>
            <a:ext cx="486000" cy="486000"/>
          </a:xfrm>
          <a:prstGeom prst="rect">
            <a:avLst/>
          </a:prstGeom>
          <a:noFill/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0"/>
          <p:cNvSpPr/>
          <p:nvPr/>
        </p:nvSpPr>
        <p:spPr>
          <a:xfrm>
            <a:off x="7429680" y="5786280"/>
            <a:ext cx="485640" cy="486000"/>
          </a:xfrm>
          <a:prstGeom prst="rect">
            <a:avLst/>
          </a:prstGeom>
          <a:noFill/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тик;Афанасьева Галя</dc:creator>
  <dc:description/>
  <dc:language>en-US</dc:language>
  <cp:lastModifiedBy>Home</cp:lastModifiedBy>
  <dcterms:modified xsi:type="dcterms:W3CDTF">2019-05-27T10:20:13Z</dcterms:modified>
  <cp:revision>70</cp:revision>
  <dc:subject/>
  <dc:title>Урок математики по теме «Умножение двузначного числа на однозначное».</dc:title>
</cp:coreProperties>
</file>