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D8C9-5C2F-42DC-B883-CD01597E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F147-8594-486D-ADB2-BB3FABF4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826D-5439-4BFD-8EBE-3C1F634E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9B9-B978-47C3-B0B9-034322B8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EA01-2B3F-4876-A7B7-2AA40A96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B332-63B4-4499-A537-71BBB479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9060-5FF6-4259-8960-0B0050AD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CAD0-C767-4BD6-AD7A-24B19CC2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32DC-A37D-4872-A122-7A4743A5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F89B-4FA0-4286-9CA0-D8ED2BD0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FCD4-753B-4A2E-86C9-AA4DC754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C44-699E-483A-B234-D3700051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E2E3-0843-4DD8-9B6F-3623C7F2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C30F-5FED-49F0-AA00-4EAA6A0D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961B-1023-425D-8B65-075C600F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2283-D930-4B70-A611-5C4854F1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CEEB-7E4E-4D63-8DC3-3DCC3481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B9C6-8A27-4AD0-A954-BB178447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9938-AD40-4F7F-ADF5-1DD12FA1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F68-D5B6-40BD-A8F9-1F1FE7F5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B038-53C8-4D10-B3B0-3AE85344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5820-0F51-4529-BF2D-10EFCD6D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AF8-035A-48B5-84DA-3B24DF88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E3B-D167-4CE3-A7C4-E5A94DCE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6479-D159-4413-BDFD-7BBA6976AEF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BDD6-4D8A-4ECF-B876-1BCA2A98CBB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" Target="slide3.xml"/><Relationship Id="rId8" Type="http://schemas.openxmlformats.org/officeDocument/2006/relationships/slide" Target="slide5.xml"/><Relationship Id="rId9" Type="http://schemas.openxmlformats.org/officeDocument/2006/relationships/image" Target="../media/image8.png"/><Relationship Id="rId10" Type="http://schemas.openxmlformats.org/officeDocument/2006/relationships/slide" Target="slide5.xml"/><Relationship Id="rId11" Type="http://schemas.openxmlformats.org/officeDocument/2006/relationships/slide" Target="slide7.xml"/><Relationship Id="rId12" Type="http://schemas.openxmlformats.org/officeDocument/2006/relationships/image" Target="../media/image9.png"/><Relationship Id="rId13" Type="http://schemas.openxmlformats.org/officeDocument/2006/relationships/slide" Target="slide7.xml"/><Relationship Id="rId14" Type="http://schemas.openxmlformats.org/officeDocument/2006/relationships/slide" Target="slide9.xml"/><Relationship Id="rId15" Type="http://schemas.openxmlformats.org/officeDocument/2006/relationships/image" Target="../media/image10.png"/><Relationship Id="rId16" Type="http://schemas.openxmlformats.org/officeDocument/2006/relationships/slide" Target="slide9.xml"/><Relationship Id="rId17" Type="http://schemas.openxmlformats.org/officeDocument/2006/relationships/slide" Target="slide11.xml"/><Relationship Id="rId18" Type="http://schemas.openxmlformats.org/officeDocument/2006/relationships/image" Target="../media/image11.png"/><Relationship Id="rId19" Type="http://schemas.openxmlformats.org/officeDocument/2006/relationships/slide" Target="slide11.xml"/><Relationship Id="rId20" Type="http://schemas.openxmlformats.org/officeDocument/2006/relationships/slide" Target="slide13.xml"/><Relationship Id="rId21" Type="http://schemas.openxmlformats.org/officeDocument/2006/relationships/image" Target="../media/image12.png"/><Relationship Id="rId22" Type="http://schemas.openxmlformats.org/officeDocument/2006/relationships/slide" Target="slide13.xml"/><Relationship Id="rId23" Type="http://schemas.openxmlformats.org/officeDocument/2006/relationships/slide" Target="slide15.xml"/><Relationship Id="rId24" Type="http://schemas.openxmlformats.org/officeDocument/2006/relationships/image" Target="../media/image13.png"/><Relationship Id="rId25" Type="http://schemas.openxmlformats.org/officeDocument/2006/relationships/slide" Target="slide15.xml"/><Relationship Id="rId26" Type="http://schemas.openxmlformats.org/officeDocument/2006/relationships/slide" Target="slide17.xml"/><Relationship Id="rId27" Type="http://schemas.openxmlformats.org/officeDocument/2006/relationships/image" Target="../media/image14.png"/><Relationship Id="rId28" Type="http://schemas.openxmlformats.org/officeDocument/2006/relationships/slide" Target="slide17.xml"/><Relationship Id="rId29" Type="http://schemas.openxmlformats.org/officeDocument/2006/relationships/slide" Target="slide19.xml"/><Relationship Id="rId30" Type="http://schemas.openxmlformats.org/officeDocument/2006/relationships/image" Target="../media/image15.png"/><Relationship Id="rId31" Type="http://schemas.openxmlformats.org/officeDocument/2006/relationships/slide" Target="slide19.xml"/><Relationship Id="rId32" Type="http://schemas.openxmlformats.org/officeDocument/2006/relationships/slide" Target="slide21.xml"/><Relationship Id="rId33" Type="http://schemas.openxmlformats.org/officeDocument/2006/relationships/image" Target="../media/image16.png"/><Relationship Id="rId34" Type="http://schemas.openxmlformats.org/officeDocument/2006/relationships/slide" Target="slide21.xml"/><Relationship Id="rId35" Type="http://schemas.openxmlformats.org/officeDocument/2006/relationships/slide" Target="slide23.xml"/><Relationship Id="rId36" Type="http://schemas.openxmlformats.org/officeDocument/2006/relationships/image" Target="../media/image17.png"/><Relationship Id="rId37" Type="http://schemas.openxmlformats.org/officeDocument/2006/relationships/slide" Target="slide23.xml"/><Relationship Id="rId38" Type="http://schemas.openxmlformats.org/officeDocument/2006/relationships/slide" Target="slide25.xml"/><Relationship Id="rId39" Type="http://schemas.openxmlformats.org/officeDocument/2006/relationships/image" Target="../media/image18.png"/><Relationship Id="rId40" Type="http://schemas.openxmlformats.org/officeDocument/2006/relationships/slide" Target="slide25.xml"/><Relationship Id="rId41" Type="http://schemas.openxmlformats.org/officeDocument/2006/relationships/slide" Target="slide27.xml"/><Relationship Id="rId42" Type="http://schemas.openxmlformats.org/officeDocument/2006/relationships/image" Target="../media/image19.png"/><Relationship Id="rId43" Type="http://schemas.openxmlformats.org/officeDocument/2006/relationships/slide" Target="slide27.xml"/><Relationship Id="rId44" Type="http://schemas.openxmlformats.org/officeDocument/2006/relationships/slide" Target="slide29.xml"/><Relationship Id="rId45" Type="http://schemas.openxmlformats.org/officeDocument/2006/relationships/image" Target="../media/image20.png"/><Relationship Id="rId46" Type="http://schemas.openxmlformats.org/officeDocument/2006/relationships/slide" Target="slide29.xml"/><Relationship Id="rId47" Type="http://schemas.openxmlformats.org/officeDocument/2006/relationships/slide" Target="slide31.xml"/><Relationship Id="rId48" Type="http://schemas.openxmlformats.org/officeDocument/2006/relationships/image" Target="../media/image21.png"/><Relationship Id="rId49" Type="http://schemas.openxmlformats.org/officeDocument/2006/relationships/slide" Target="slide31.xml"/><Relationship Id="rId50" Type="http://schemas.openxmlformats.org/officeDocument/2006/relationships/slide" Target="slide33.xml"/><Relationship Id="rId51" Type="http://schemas.openxmlformats.org/officeDocument/2006/relationships/image" Target="../media/image22.png"/><Relationship Id="rId52" Type="http://schemas.openxmlformats.org/officeDocument/2006/relationships/slide" Target="slide33.xml"/><Relationship Id="rId53" Type="http://schemas.openxmlformats.org/officeDocument/2006/relationships/slide" Target="slide35.xml"/><Relationship Id="rId54" Type="http://schemas.openxmlformats.org/officeDocument/2006/relationships/image" Target="../media/image23.png"/><Relationship Id="rId55" Type="http://schemas.openxmlformats.org/officeDocument/2006/relationships/slide" Target="slide35.xml"/><Relationship Id="rId56" Type="http://schemas.openxmlformats.org/officeDocument/2006/relationships/slide" Target="slide37.xml"/><Relationship Id="rId57" Type="http://schemas.openxmlformats.org/officeDocument/2006/relationships/image" Target="../media/image24.png"/><Relationship Id="rId58" Type="http://schemas.openxmlformats.org/officeDocument/2006/relationships/slide" Target="slide37.xml"/><Relationship Id="rId59" Type="http://schemas.openxmlformats.org/officeDocument/2006/relationships/slide" Target="slide39.xml"/><Relationship Id="rId60" Type="http://schemas.openxmlformats.org/officeDocument/2006/relationships/image" Target="../media/image25.png"/><Relationship Id="rId61" Type="http://schemas.openxmlformats.org/officeDocument/2006/relationships/slide" Target="slide39.xml"/><Relationship Id="rId62" Type="http://schemas.openxmlformats.org/officeDocument/2006/relationships/slide" Target="slide41.xml"/><Relationship Id="rId63" Type="http://schemas.openxmlformats.org/officeDocument/2006/relationships/image" Target="../media/image26.png"/><Relationship Id="rId64" Type="http://schemas.openxmlformats.org/officeDocument/2006/relationships/slide" Target="slide41.xml"/><Relationship Id="rId6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-146160" y="1670040"/>
            <a:ext cx="92966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87716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все пешеходы обязаны двигаться только прямо, так как движение наискосок дороги, удлиняет путь и следовательно делает его более опасны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4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9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13840" y="999720"/>
            <a:ext cx="8643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й цвет светофора пешеходы должны переходить улицу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9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4000" y="1915920"/>
            <a:ext cx="7877160" cy="19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зеленый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5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0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07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Содержимое 5" descr="780_sotrudniki_politsii_provodya.gif"/>
          <p:cNvPicPr/>
          <p:nvPr/>
        </p:nvPicPr>
        <p:blipFill>
          <a:blip r:embed="rId2"/>
          <a:stretch/>
        </p:blipFill>
        <p:spPr>
          <a:xfrm>
            <a:off x="2771640" y="1125360"/>
            <a:ext cx="3389400" cy="33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1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1559160" y="1916280"/>
            <a:ext cx="483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ЕШЕХОД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ЕРЕХ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1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071360"/>
            <a:ext cx="84121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1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Рисунок 6" descr="viktorina-dlia-dietiei-podghotovitiel-noi-k-shkolie-ghruppy-po-pravilam-biezopasnogho-dvizhieniia-na-ulitsie-pravila-dorozhnyie-vazhny-pravila-dorozhnyie-nuzhny_21.png"/>
          <p:cNvPicPr/>
          <p:nvPr/>
        </p:nvPicPr>
        <p:blipFill>
          <a:blip r:embed="rId2"/>
          <a:stretch/>
        </p:blipFill>
        <p:spPr>
          <a:xfrm>
            <a:off x="2627280" y="1125360"/>
            <a:ext cx="360540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2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1066680" y="2298600"/>
            <a:ext cx="744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ДЗЕМНЫЙ ПЕРЕХ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24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Содержимое 6" descr="830831c82ed88ff64583420dcc946781.jpg"/>
          <p:cNvPicPr/>
          <p:nvPr/>
        </p:nvPicPr>
        <p:blipFill>
          <a:blip r:embed="rId1"/>
          <a:stretch/>
        </p:blipFill>
        <p:spPr>
          <a:xfrm>
            <a:off x="2484360" y="1484280"/>
            <a:ext cx="3164040" cy="316548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4"/>
          <p:cNvSpPr/>
          <p:nvPr/>
        </p:nvSpPr>
        <p:spPr>
          <a:xfrm>
            <a:off x="2717280" y="307188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30" name="AutoShape 6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3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4"/>
          <p:cNvSpPr/>
          <p:nvPr/>
        </p:nvSpPr>
        <p:spPr>
          <a:xfrm>
            <a:off x="0" y="2781360"/>
            <a:ext cx="87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ЕЛОСИПЕДНАЯ ДОРОЖ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35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56760" y="1071360"/>
            <a:ext cx="84121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40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9" descr="http://www.clipart.net.ua/images/clip7246.jpg"/>
          <p:cNvPicPr/>
          <p:nvPr/>
        </p:nvPicPr>
        <p:blipFill>
          <a:blip r:embed="rId2"/>
          <a:stretch/>
        </p:blipFill>
        <p:spPr>
          <a:xfrm>
            <a:off x="2987640" y="1484280"/>
            <a:ext cx="332424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AutoShape 39"/>
          <p:cNvGrpSpPr/>
          <p:nvPr/>
        </p:nvGrpSpPr>
        <p:grpSpPr>
          <a:xfrm>
            <a:off x="152280" y="969840"/>
            <a:ext cx="3035520" cy="1224000"/>
            <a:chOff x="152280" y="969840"/>
            <a:chExt cx="3035520" cy="1224000"/>
          </a:xfrm>
        </p:grpSpPr>
        <p:pic>
          <p:nvPicPr>
            <p:cNvPr id="84" name="AutoShape 39" descr=""/>
            <p:cNvPicPr/>
            <p:nvPr/>
          </p:nvPicPr>
          <p:blipFill>
            <a:blip r:embed="rId1"/>
            <a:stretch/>
          </p:blipFill>
          <p:spPr>
            <a:xfrm>
              <a:off x="152280" y="969840"/>
              <a:ext cx="30355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15960" y="117000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ВОПРО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AutoShape 40"/>
          <p:cNvGrpSpPr/>
          <p:nvPr/>
        </p:nvGrpSpPr>
        <p:grpSpPr>
          <a:xfrm>
            <a:off x="49320" y="2193840"/>
            <a:ext cx="3138480" cy="1219320"/>
            <a:chOff x="49320" y="2193840"/>
            <a:chExt cx="3138480" cy="1219320"/>
          </a:xfrm>
        </p:grpSpPr>
        <p:pic>
          <p:nvPicPr>
            <p:cNvPr id="87" name="AutoShape 40" descr=""/>
            <p:cNvPicPr/>
            <p:nvPr/>
          </p:nvPicPr>
          <p:blipFill>
            <a:blip r:embed="rId2"/>
            <a:stretch/>
          </p:blipFill>
          <p:spPr>
            <a:xfrm>
              <a:off x="49320" y="2193840"/>
              <a:ext cx="31384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15960" y="239400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ДОРОЖНЫЕ ЗНА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AutoShape 41"/>
          <p:cNvGrpSpPr/>
          <p:nvPr/>
        </p:nvGrpSpPr>
        <p:grpSpPr>
          <a:xfrm>
            <a:off x="152280" y="3633840"/>
            <a:ext cx="3035520" cy="1224000"/>
            <a:chOff x="152280" y="3633840"/>
            <a:chExt cx="3035520" cy="1224000"/>
          </a:xfrm>
        </p:grpSpPr>
        <p:pic>
          <p:nvPicPr>
            <p:cNvPr id="90" name="AutoShape 41" descr=""/>
            <p:cNvPicPr/>
            <p:nvPr/>
          </p:nvPicPr>
          <p:blipFill>
            <a:blip r:embed="rId3"/>
            <a:stretch/>
          </p:blipFill>
          <p:spPr>
            <a:xfrm>
              <a:off x="152280" y="3633840"/>
              <a:ext cx="30355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15960" y="383364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ПРАВИ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AutoShape 42"/>
          <p:cNvGrpSpPr/>
          <p:nvPr/>
        </p:nvGrpSpPr>
        <p:grpSpPr>
          <a:xfrm>
            <a:off x="152280" y="4932360"/>
            <a:ext cx="3035520" cy="1219320"/>
            <a:chOff x="152280" y="4932360"/>
            <a:chExt cx="3035520" cy="1219320"/>
          </a:xfrm>
        </p:grpSpPr>
        <p:pic>
          <p:nvPicPr>
            <p:cNvPr id="93" name="AutoShape 42" descr=""/>
            <p:cNvPicPr/>
            <p:nvPr/>
          </p:nvPicPr>
          <p:blipFill>
            <a:blip r:embed="rId4"/>
            <a:stretch/>
          </p:blipFill>
          <p:spPr>
            <a:xfrm>
              <a:off x="152280" y="4932360"/>
              <a:ext cx="3035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15960" y="512928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ЗАГАД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AutoShape 46"/>
          <p:cNvGrpSpPr/>
          <p:nvPr/>
        </p:nvGrpSpPr>
        <p:grpSpPr>
          <a:xfrm>
            <a:off x="2865600" y="731880"/>
            <a:ext cx="1614240" cy="1523880"/>
            <a:chOff x="2865600" y="731880"/>
            <a:chExt cx="1614240" cy="1523880"/>
          </a:xfrm>
        </p:grpSpPr>
        <p:pic>
          <p:nvPicPr>
            <p:cNvPr id="96" name="AutoShape 4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65600" y="731880"/>
              <a:ext cx="161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30192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7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AutoShape 47"/>
          <p:cNvGrpSpPr/>
          <p:nvPr/>
        </p:nvGrpSpPr>
        <p:grpSpPr>
          <a:xfrm>
            <a:off x="4022640" y="731880"/>
            <a:ext cx="1609920" cy="1523880"/>
            <a:chOff x="4022640" y="731880"/>
            <a:chExt cx="1609920" cy="1523880"/>
          </a:xfrm>
        </p:grpSpPr>
        <p:pic>
          <p:nvPicPr>
            <p:cNvPr id="99" name="AutoShape 47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4022640" y="731880"/>
              <a:ext cx="16099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45464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0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AutoShape 48"/>
          <p:cNvGrpSpPr/>
          <p:nvPr/>
        </p:nvGrpSpPr>
        <p:grpSpPr>
          <a:xfrm>
            <a:off x="5175360" y="731880"/>
            <a:ext cx="1609560" cy="1523880"/>
            <a:chOff x="5175360" y="731880"/>
            <a:chExt cx="1609560" cy="1523880"/>
          </a:xfrm>
        </p:grpSpPr>
        <p:pic>
          <p:nvPicPr>
            <p:cNvPr id="102" name="AutoShape 48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175360" y="731880"/>
              <a:ext cx="16095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60700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3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AutoShape 49"/>
          <p:cNvGrpSpPr/>
          <p:nvPr/>
        </p:nvGrpSpPr>
        <p:grpSpPr>
          <a:xfrm>
            <a:off x="6321600" y="731880"/>
            <a:ext cx="1616040" cy="1523880"/>
            <a:chOff x="6321600" y="731880"/>
            <a:chExt cx="1616040" cy="1523880"/>
          </a:xfrm>
        </p:grpSpPr>
        <p:pic>
          <p:nvPicPr>
            <p:cNvPr id="105" name="AutoShape 49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6321600" y="73188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75792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6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AutoShape 50"/>
          <p:cNvGrpSpPr/>
          <p:nvPr/>
        </p:nvGrpSpPr>
        <p:grpSpPr>
          <a:xfrm>
            <a:off x="7583400" y="731880"/>
            <a:ext cx="1616040" cy="1523880"/>
            <a:chOff x="7583400" y="731880"/>
            <a:chExt cx="1616040" cy="1523880"/>
          </a:xfrm>
        </p:grpSpPr>
        <p:pic>
          <p:nvPicPr>
            <p:cNvPr id="108" name="AutoShape 50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583400" y="73188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018640" y="1185840"/>
              <a:ext cx="6426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9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AutoShape 51"/>
          <p:cNvGrpSpPr/>
          <p:nvPr/>
        </p:nvGrpSpPr>
        <p:grpSpPr>
          <a:xfrm>
            <a:off x="2865600" y="1809720"/>
            <a:ext cx="1614240" cy="1530360"/>
            <a:chOff x="2865600" y="1809720"/>
            <a:chExt cx="1614240" cy="1530360"/>
          </a:xfrm>
        </p:grpSpPr>
        <p:pic>
          <p:nvPicPr>
            <p:cNvPr id="111" name="AutoShape 51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2865600" y="1809720"/>
              <a:ext cx="16142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30192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22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utoShape 52"/>
          <p:cNvGrpSpPr/>
          <p:nvPr/>
        </p:nvGrpSpPr>
        <p:grpSpPr>
          <a:xfrm>
            <a:off x="4022640" y="1809720"/>
            <a:ext cx="1609920" cy="1530360"/>
            <a:chOff x="4022640" y="1809720"/>
            <a:chExt cx="1609920" cy="1530360"/>
          </a:xfrm>
        </p:grpSpPr>
        <p:pic>
          <p:nvPicPr>
            <p:cNvPr id="114" name="AutoShape 52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4022640" y="1809720"/>
              <a:ext cx="16099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45464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25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AutoShape 53"/>
          <p:cNvGrpSpPr/>
          <p:nvPr/>
        </p:nvGrpSpPr>
        <p:grpSpPr>
          <a:xfrm>
            <a:off x="5175360" y="1809720"/>
            <a:ext cx="1609560" cy="1530360"/>
            <a:chOff x="5175360" y="1809720"/>
            <a:chExt cx="1609560" cy="1530360"/>
          </a:xfrm>
        </p:grpSpPr>
        <p:pic>
          <p:nvPicPr>
            <p:cNvPr id="117" name="AutoShape 53" descr="">
              <a:hlinkClick r:id="rId26" action="ppaction://hlinksldjump"/>
            </p:cNvPr>
            <p:cNvPicPr/>
            <p:nvPr/>
          </p:nvPicPr>
          <p:blipFill>
            <a:blip r:embed="rId27"/>
            <a:stretch/>
          </p:blipFill>
          <p:spPr>
            <a:xfrm>
              <a:off x="5175360" y="1809720"/>
              <a:ext cx="160956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60700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28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AutoShape 54"/>
          <p:cNvGrpSpPr/>
          <p:nvPr/>
        </p:nvGrpSpPr>
        <p:grpSpPr>
          <a:xfrm>
            <a:off x="6321600" y="1809720"/>
            <a:ext cx="1616040" cy="1530360"/>
            <a:chOff x="6321600" y="1809720"/>
            <a:chExt cx="1616040" cy="1530360"/>
          </a:xfrm>
        </p:grpSpPr>
        <p:pic>
          <p:nvPicPr>
            <p:cNvPr id="120" name="AutoShape 54" descr="">
              <a:hlinkClick r:id="rId29" action="ppaction://hlinksldjump"/>
            </p:cNvPr>
            <p:cNvPicPr/>
            <p:nvPr/>
          </p:nvPicPr>
          <p:blipFill>
            <a:blip r:embed="rId30"/>
            <a:stretch/>
          </p:blipFill>
          <p:spPr>
            <a:xfrm>
              <a:off x="6321600" y="1809720"/>
              <a:ext cx="16160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75792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31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AutoShape 55"/>
          <p:cNvGrpSpPr/>
          <p:nvPr/>
        </p:nvGrpSpPr>
        <p:grpSpPr>
          <a:xfrm>
            <a:off x="7583400" y="1822320"/>
            <a:ext cx="1616040" cy="1524240"/>
            <a:chOff x="7583400" y="1822320"/>
            <a:chExt cx="1616040" cy="1524240"/>
          </a:xfrm>
        </p:grpSpPr>
        <p:pic>
          <p:nvPicPr>
            <p:cNvPr id="123" name="AutoShape 55" descr="">
              <a:hlinkClick r:id="rId32" action="ppaction://hlinksldjump"/>
            </p:cNvPr>
            <p:cNvPicPr/>
            <p:nvPr/>
          </p:nvPicPr>
          <p:blipFill>
            <a:blip r:embed="rId33"/>
            <a:stretch/>
          </p:blipFill>
          <p:spPr>
            <a:xfrm>
              <a:off x="7583400" y="1822320"/>
              <a:ext cx="16160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8018640" y="2276640"/>
              <a:ext cx="6426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34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56"/>
          <p:cNvGrpSpPr/>
          <p:nvPr/>
        </p:nvGrpSpPr>
        <p:grpSpPr>
          <a:xfrm>
            <a:off x="2865600" y="3108240"/>
            <a:ext cx="1614240" cy="1524240"/>
            <a:chOff x="2865600" y="3108240"/>
            <a:chExt cx="1614240" cy="1524240"/>
          </a:xfrm>
        </p:grpSpPr>
        <p:pic>
          <p:nvPicPr>
            <p:cNvPr id="126" name="AutoShape 56" descr="">
              <a:hlinkClick r:id="rId35" action="ppaction://hlinksldjump"/>
            </p:cNvPr>
            <p:cNvPicPr/>
            <p:nvPr/>
          </p:nvPicPr>
          <p:blipFill>
            <a:blip r:embed="rId36"/>
            <a:stretch/>
          </p:blipFill>
          <p:spPr>
            <a:xfrm>
              <a:off x="2865600" y="3108240"/>
              <a:ext cx="1614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301920" y="356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37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AutoShape 57"/>
          <p:cNvGrpSpPr/>
          <p:nvPr/>
        </p:nvGrpSpPr>
        <p:grpSpPr>
          <a:xfrm>
            <a:off x="4022640" y="3108240"/>
            <a:ext cx="1609920" cy="1524240"/>
            <a:chOff x="4022640" y="3108240"/>
            <a:chExt cx="1609920" cy="1524240"/>
          </a:xfrm>
        </p:grpSpPr>
        <p:pic>
          <p:nvPicPr>
            <p:cNvPr id="129" name="AutoShape 57" descr="">
              <a:hlinkClick r:id="rId38" action="ppaction://hlinksldjump"/>
            </p:cNvPr>
            <p:cNvPicPr/>
            <p:nvPr/>
          </p:nvPicPr>
          <p:blipFill>
            <a:blip r:embed="rId39"/>
            <a:stretch/>
          </p:blipFill>
          <p:spPr>
            <a:xfrm>
              <a:off x="4022640" y="3108240"/>
              <a:ext cx="160992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454640" y="356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0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AutoShape 58"/>
          <p:cNvGrpSpPr/>
          <p:nvPr/>
        </p:nvGrpSpPr>
        <p:grpSpPr>
          <a:xfrm>
            <a:off x="5175360" y="3108240"/>
            <a:ext cx="1609560" cy="1524240"/>
            <a:chOff x="5175360" y="3108240"/>
            <a:chExt cx="1609560" cy="1524240"/>
          </a:xfrm>
        </p:grpSpPr>
        <p:pic>
          <p:nvPicPr>
            <p:cNvPr id="132" name="AutoShape 58" descr="">
              <a:hlinkClick r:id="rId41" action="ppaction://hlinksldjump"/>
            </p:cNvPr>
            <p:cNvPicPr/>
            <p:nvPr/>
          </p:nvPicPr>
          <p:blipFill>
            <a:blip r:embed="rId42"/>
            <a:stretch/>
          </p:blipFill>
          <p:spPr>
            <a:xfrm>
              <a:off x="5175360" y="3108240"/>
              <a:ext cx="16095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07000" y="356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3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AutoShape 59"/>
          <p:cNvGrpSpPr/>
          <p:nvPr/>
        </p:nvGrpSpPr>
        <p:grpSpPr>
          <a:xfrm>
            <a:off x="6394320" y="3035160"/>
            <a:ext cx="1616040" cy="1524240"/>
            <a:chOff x="6394320" y="3035160"/>
            <a:chExt cx="1616040" cy="1524240"/>
          </a:xfrm>
        </p:grpSpPr>
        <p:pic>
          <p:nvPicPr>
            <p:cNvPr id="135" name="AutoShape 59" descr="">
              <a:hlinkClick r:id="rId44" action="ppaction://hlinksldjump"/>
            </p:cNvPr>
            <p:cNvPicPr/>
            <p:nvPr/>
          </p:nvPicPr>
          <p:blipFill>
            <a:blip r:embed="rId45"/>
            <a:stretch/>
          </p:blipFill>
          <p:spPr>
            <a:xfrm>
              <a:off x="6394320" y="3035160"/>
              <a:ext cx="16160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831000" y="3490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6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AutoShape 60"/>
          <p:cNvGrpSpPr/>
          <p:nvPr/>
        </p:nvGrpSpPr>
        <p:grpSpPr>
          <a:xfrm>
            <a:off x="7583400" y="3108240"/>
            <a:ext cx="1616040" cy="1524240"/>
            <a:chOff x="7583400" y="3108240"/>
            <a:chExt cx="1616040" cy="1524240"/>
          </a:xfrm>
        </p:grpSpPr>
        <p:pic>
          <p:nvPicPr>
            <p:cNvPr id="138" name="AutoShape 60" descr="">
              <a:hlinkClick r:id="rId47" action="ppaction://hlinksldjump"/>
            </p:cNvPr>
            <p:cNvPicPr/>
            <p:nvPr/>
          </p:nvPicPr>
          <p:blipFill>
            <a:blip r:embed="rId48"/>
            <a:stretch/>
          </p:blipFill>
          <p:spPr>
            <a:xfrm>
              <a:off x="7583400" y="3108240"/>
              <a:ext cx="16160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018640" y="3562200"/>
              <a:ext cx="6426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9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AutoShape 61"/>
          <p:cNvGrpSpPr/>
          <p:nvPr/>
        </p:nvGrpSpPr>
        <p:grpSpPr>
          <a:xfrm>
            <a:off x="2865600" y="4548240"/>
            <a:ext cx="1614240" cy="1523880"/>
            <a:chOff x="2865600" y="4548240"/>
            <a:chExt cx="1614240" cy="1523880"/>
          </a:xfrm>
        </p:grpSpPr>
        <p:pic>
          <p:nvPicPr>
            <p:cNvPr id="141" name="AutoShape 61" descr="">
              <a:hlinkClick r:id="rId50" action="ppaction://hlinksldjump"/>
            </p:cNvPr>
            <p:cNvPicPr/>
            <p:nvPr/>
          </p:nvPicPr>
          <p:blipFill>
            <a:blip r:embed="rId51"/>
            <a:stretch/>
          </p:blipFill>
          <p:spPr>
            <a:xfrm>
              <a:off x="2865600" y="4548240"/>
              <a:ext cx="161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30192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52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62"/>
          <p:cNvGrpSpPr/>
          <p:nvPr/>
        </p:nvGrpSpPr>
        <p:grpSpPr>
          <a:xfrm>
            <a:off x="4022640" y="4548240"/>
            <a:ext cx="1609920" cy="1523880"/>
            <a:chOff x="4022640" y="4548240"/>
            <a:chExt cx="1609920" cy="1523880"/>
          </a:xfrm>
        </p:grpSpPr>
        <p:pic>
          <p:nvPicPr>
            <p:cNvPr id="144" name="AutoShape 62" descr="">
              <a:hlinkClick r:id="rId53" action="ppaction://hlinksldjump"/>
            </p:cNvPr>
            <p:cNvPicPr/>
            <p:nvPr/>
          </p:nvPicPr>
          <p:blipFill>
            <a:blip r:embed="rId54"/>
            <a:stretch/>
          </p:blipFill>
          <p:spPr>
            <a:xfrm>
              <a:off x="4022640" y="4548240"/>
              <a:ext cx="16099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45464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55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AutoShape 63"/>
          <p:cNvGrpSpPr/>
          <p:nvPr/>
        </p:nvGrpSpPr>
        <p:grpSpPr>
          <a:xfrm>
            <a:off x="5175360" y="4548240"/>
            <a:ext cx="1609560" cy="1523880"/>
            <a:chOff x="5175360" y="4548240"/>
            <a:chExt cx="1609560" cy="1523880"/>
          </a:xfrm>
        </p:grpSpPr>
        <p:pic>
          <p:nvPicPr>
            <p:cNvPr id="147" name="AutoShape 63" descr="">
              <a:hlinkClick r:id="rId56" action="ppaction://hlinksldjump"/>
            </p:cNvPr>
            <p:cNvPicPr/>
            <p:nvPr/>
          </p:nvPicPr>
          <p:blipFill>
            <a:blip r:embed="rId57"/>
            <a:stretch/>
          </p:blipFill>
          <p:spPr>
            <a:xfrm>
              <a:off x="5175360" y="4548240"/>
              <a:ext cx="16095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60700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58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AutoShape 64"/>
          <p:cNvGrpSpPr/>
          <p:nvPr/>
        </p:nvGrpSpPr>
        <p:grpSpPr>
          <a:xfrm>
            <a:off x="6321600" y="4548240"/>
            <a:ext cx="1616040" cy="1523880"/>
            <a:chOff x="6321600" y="4548240"/>
            <a:chExt cx="1616040" cy="1523880"/>
          </a:xfrm>
        </p:grpSpPr>
        <p:pic>
          <p:nvPicPr>
            <p:cNvPr id="150" name="AutoShape 64" descr="">
              <a:hlinkClick r:id="rId59" action="ppaction://hlinksldjump"/>
            </p:cNvPr>
            <p:cNvPicPr/>
            <p:nvPr/>
          </p:nvPicPr>
          <p:blipFill>
            <a:blip r:embed="rId60"/>
            <a:stretch/>
          </p:blipFill>
          <p:spPr>
            <a:xfrm>
              <a:off x="6321600" y="454824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75792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61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AutoShape 65"/>
          <p:cNvGrpSpPr/>
          <p:nvPr/>
        </p:nvGrpSpPr>
        <p:grpSpPr>
          <a:xfrm>
            <a:off x="7583400" y="4548240"/>
            <a:ext cx="1616040" cy="1523880"/>
            <a:chOff x="7583400" y="4548240"/>
            <a:chExt cx="1616040" cy="1523880"/>
          </a:xfrm>
        </p:grpSpPr>
        <p:pic>
          <p:nvPicPr>
            <p:cNvPr id="153" name="AutoShape 65" descr="">
              <a:hlinkClick r:id="rId62" action="ppaction://hlinksldjump"/>
            </p:cNvPr>
            <p:cNvPicPr/>
            <p:nvPr/>
          </p:nvPicPr>
          <p:blipFill>
            <a:blip r:embed="rId63"/>
            <a:stretch/>
          </p:blipFill>
          <p:spPr>
            <a:xfrm>
              <a:off x="7583400" y="454824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8018640" y="5002200"/>
              <a:ext cx="6426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64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4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2153520" y="1484280"/>
            <a:ext cx="6325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 ВЕЛОСИПЕДА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ПРЕЩЕ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46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560" y="1125360"/>
            <a:ext cx="841212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51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Picture 9" descr="http://plan-evaco.ru/d/599603/d/data-roadsign-3-3-10-700x700.png"/>
          <p:cNvPicPr/>
          <p:nvPr/>
        </p:nvPicPr>
        <p:blipFill>
          <a:blip r:embed="rId2"/>
          <a:stretch/>
        </p:blipFill>
        <p:spPr>
          <a:xfrm>
            <a:off x="2124000" y="1052640"/>
            <a:ext cx="3932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5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2500200" y="2714760"/>
            <a:ext cx="184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57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Box 4"/>
          <p:cNvSpPr/>
          <p:nvPr/>
        </p:nvSpPr>
        <p:spPr>
          <a:xfrm>
            <a:off x="2852280" y="1413000"/>
            <a:ext cx="3507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ешеход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преще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13840" y="1071360"/>
            <a:ext cx="84121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дорожного движения должны знать и выполнят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     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лько пешех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лько водит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дители и пешех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63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1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4"/>
          <p:cNvSpPr/>
          <p:nvPr/>
        </p:nvSpPr>
        <p:spPr>
          <a:xfrm>
            <a:off x="1041480" y="1989000"/>
            <a:ext cx="64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одители и пешех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6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55640" y="980640"/>
            <a:ext cx="81439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ая часть улицы предназначена для пешеходов?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  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лосипедная дорож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езжая ча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отуа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 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7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2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4"/>
          <p:cNvSpPr/>
          <p:nvPr/>
        </p:nvSpPr>
        <p:spPr>
          <a:xfrm>
            <a:off x="2496240" y="2133720"/>
            <a:ext cx="280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тротуар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7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71360" y="1142640"/>
            <a:ext cx="77151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 сколько лет можно выезжать на велосипеде на проезжую часть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 л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4 ле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8 л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8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3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2627280" y="2730600"/>
            <a:ext cx="44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4 лет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    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8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00000" y="404640"/>
            <a:ext cx="77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           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ки дорожного движения нужны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красоты проезжей ча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установления порядка движения пешеходов и транспорта на доро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пешеход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9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560" y="1268280"/>
            <a:ext cx="8412120" cy="20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огут ли машины двигаться с места, если горит желты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5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4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755640" y="907920"/>
            <a:ext cx="757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для устано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рядка движ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ешеходов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ранспорта на дороге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9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8000" y="1197000"/>
            <a:ext cx="8412120" cy="30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правильно переходить дорогу?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пешеходному перех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зеленый сигнал светоф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установленном мес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0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5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07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Прямоугольник 4"/>
          <p:cNvSpPr/>
          <p:nvPr/>
        </p:nvSpPr>
        <p:spPr>
          <a:xfrm>
            <a:off x="900000" y="2133720"/>
            <a:ext cx="74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ешеходному перех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леный сигнал светоф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становленном ме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33300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500040" y="1071720"/>
            <a:ext cx="80010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езд есть впереди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мози и подожди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опущен - ход сбавля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днимут - проезжай. 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AutoShape 65"/>
          <p:cNvGrpSpPr/>
          <p:nvPr/>
        </p:nvGrpSpPr>
        <p:grpSpPr>
          <a:xfrm>
            <a:off x="5224320" y="4608360"/>
            <a:ext cx="3975120" cy="2109960"/>
            <a:chOff x="5224320" y="4608360"/>
            <a:chExt cx="3975120" cy="2109960"/>
          </a:xfrm>
        </p:grpSpPr>
        <p:pic>
          <p:nvPicPr>
            <p:cNvPr id="31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5224320" y="4608360"/>
              <a:ext cx="397512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245280" y="5234040"/>
              <a:ext cx="165564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1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Прямоугольник 4"/>
          <p:cNvSpPr/>
          <p:nvPr/>
        </p:nvSpPr>
        <p:spPr>
          <a:xfrm>
            <a:off x="3003480" y="2714760"/>
            <a:ext cx="306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Шлагбау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1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Прямоугольник 5"/>
          <p:cNvSpPr/>
          <p:nvPr/>
        </p:nvSpPr>
        <p:spPr>
          <a:xfrm>
            <a:off x="500040" y="1071720"/>
            <a:ext cx="864396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уя жезлом, он всех направляет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м перекрёстком один управляет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  словно  волшебник, машин дрессировщик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мя ему -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2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2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4"/>
          <p:cNvSpPr/>
          <p:nvPr/>
        </p:nvSpPr>
        <p:spPr>
          <a:xfrm>
            <a:off x="3007440" y="2714760"/>
            <a:ext cx="459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егулировщик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28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Прямоугольник 5"/>
          <p:cNvSpPr/>
          <p:nvPr/>
        </p:nvSpPr>
        <p:spPr>
          <a:xfrm>
            <a:off x="539640" y="1071720"/>
            <a:ext cx="748836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остился над дорогой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оргает очень много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я каждый раз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своих округлых глаз.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3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3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411280" y="1989000"/>
            <a:ext cx="43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ф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38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324000" y="907920"/>
            <a:ext cx="705636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не катится автобус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трамваи не пройдут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спокойно пешеходы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ль по улице идут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ашин и для трамвая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ь-дорога есть другая.</a:t>
            </a:r>
            <a:br>
              <a:rPr sz="40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4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7720" y="907920"/>
            <a:ext cx="7877160" cy="29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желтый цвет светофора означает всего лишь необходимость приготовиться к движению, но не само движ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1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6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4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6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47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Прямоугольник 4"/>
          <p:cNvSpPr/>
          <p:nvPr/>
        </p:nvSpPr>
        <p:spPr>
          <a:xfrm>
            <a:off x="3245760" y="1557360"/>
            <a:ext cx="25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туа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Прямоугольник 5"/>
          <p:cNvSpPr/>
          <p:nvPr/>
        </p:nvSpPr>
        <p:spPr>
          <a:xfrm>
            <a:off x="500040" y="1071720"/>
            <a:ext cx="80010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лошадь, вся в полоску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е загорает?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едут и  идут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на – не убегает.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5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5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оугольник 4"/>
          <p:cNvSpPr/>
          <p:nvPr/>
        </p:nvSpPr>
        <p:spPr>
          <a:xfrm>
            <a:off x="3000240" y="2714760"/>
            <a:ext cx="236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ЕБ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58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1412640"/>
            <a:ext cx="841212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дорожка, по которой пешеход переходит дорогу, не нарушая правил дорожного движ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6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8771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Б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2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7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785600"/>
            <a:ext cx="8412120" cy="20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ли обходить припаркованное транспортное средство сзад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7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8771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любой транспорт, вне зависимости от его положения необходимо обходить спереди, так, чтобы водитель мог увидеть пешехо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3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8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785600"/>
            <a:ext cx="8412120" cy="20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ено ли переходить дорогу наискосок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8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20:49:54Z</dcterms:created>
  <dc:creator>student</dc:creator>
  <dc:description/>
  <dc:language>en-US</dc:language>
  <cp:lastModifiedBy>Zver</cp:lastModifiedBy>
  <dcterms:modified xsi:type="dcterms:W3CDTF">2016-10-13T17:48:00Z</dcterms:modified>
  <cp:revision>94</cp:revision>
  <dc:subject/>
  <dc:title>Слайд 1</dc:title>
</cp:coreProperties>
</file>