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34C-B2C9-491B-AA28-78B14EA6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16E-39CD-4B28-97DF-29C7E5D3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739-B917-4F27-94F0-BF70CD4B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5A8-BF22-476C-B0E9-24F339BA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DDB7-A5F9-4B23-95FA-7D7E9884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0B34-0934-4A43-8859-1CF6C9AD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B8C3-AC2D-4DBC-9903-336C41CD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151E-3C2E-44CA-9CA4-2E199482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849E-6CCC-498A-A593-98DFE230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9F6C-2676-4F5F-99D4-46F36570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7011-ABBF-47E5-8038-B1978B88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B21-6A16-4197-B7AE-DA23624E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AE2D-11D9-4A42-97F7-4F408EE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91D6-6354-4F93-B6D1-F843742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1CC8-A7AA-40A1-A93F-4D9C697A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1652-E9A4-427C-B38F-04843EC9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E603-1F8F-4D0E-BC09-81B484E0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133-2F69-4E70-A1F7-AFB92A98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B51-72DE-48E5-90A1-22946B44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638-F3A3-42DC-97CA-0FF1AB5F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2E7-D126-47A1-BFD0-6BE8CC71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891-D57B-41E7-B0FB-739EEC18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A70-D3C2-43FD-9482-F2E6CBBE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EED-ED40-4C7E-9F4D-D6AF5D46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6CCC-E21F-4307-B389-95317448E2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AB7B-7828-4E53-BAA2-3E6893D882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image" Target="../media/image8.png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" Target="slide7.xml"/><Relationship Id="rId14" Type="http://schemas.openxmlformats.org/officeDocument/2006/relationships/slide" Target="slide9.xml"/><Relationship Id="rId15" Type="http://schemas.openxmlformats.org/officeDocument/2006/relationships/image" Target="../media/image10.png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image" Target="../media/image11.png"/><Relationship Id="rId19" Type="http://schemas.openxmlformats.org/officeDocument/2006/relationships/slide" Target="slide11.xml"/><Relationship Id="rId20" Type="http://schemas.openxmlformats.org/officeDocument/2006/relationships/slide" Target="slide13.xml"/><Relationship Id="rId21" Type="http://schemas.openxmlformats.org/officeDocument/2006/relationships/image" Target="../media/image12.png"/><Relationship Id="rId22" Type="http://schemas.openxmlformats.org/officeDocument/2006/relationships/slide" Target="slide13.xml"/><Relationship Id="rId23" Type="http://schemas.openxmlformats.org/officeDocument/2006/relationships/slide" Target="slide15.xml"/><Relationship Id="rId24" Type="http://schemas.openxmlformats.org/officeDocument/2006/relationships/image" Target="../media/image13.png"/><Relationship Id="rId25" Type="http://schemas.openxmlformats.org/officeDocument/2006/relationships/slide" Target="slide15.xml"/><Relationship Id="rId26" Type="http://schemas.openxmlformats.org/officeDocument/2006/relationships/slide" Target="slide17.xml"/><Relationship Id="rId27" Type="http://schemas.openxmlformats.org/officeDocument/2006/relationships/image" Target="../media/image14.png"/><Relationship Id="rId28" Type="http://schemas.openxmlformats.org/officeDocument/2006/relationships/slide" Target="slide17.xml"/><Relationship Id="rId29" Type="http://schemas.openxmlformats.org/officeDocument/2006/relationships/slide" Target="slide19.xml"/><Relationship Id="rId30" Type="http://schemas.openxmlformats.org/officeDocument/2006/relationships/image" Target="../media/image15.png"/><Relationship Id="rId31" Type="http://schemas.openxmlformats.org/officeDocument/2006/relationships/slide" Target="slide19.xml"/><Relationship Id="rId32" Type="http://schemas.openxmlformats.org/officeDocument/2006/relationships/slide" Target="slide21.xml"/><Relationship Id="rId33" Type="http://schemas.openxmlformats.org/officeDocument/2006/relationships/image" Target="../media/image16.png"/><Relationship Id="rId34" Type="http://schemas.openxmlformats.org/officeDocument/2006/relationships/slide" Target="slide21.xml"/><Relationship Id="rId35" Type="http://schemas.openxmlformats.org/officeDocument/2006/relationships/slide" Target="slide23.xml"/><Relationship Id="rId36" Type="http://schemas.openxmlformats.org/officeDocument/2006/relationships/image" Target="../media/image17.png"/><Relationship Id="rId37" Type="http://schemas.openxmlformats.org/officeDocument/2006/relationships/slide" Target="slide23.xml"/><Relationship Id="rId38" Type="http://schemas.openxmlformats.org/officeDocument/2006/relationships/slide" Target="slide25.xml"/><Relationship Id="rId39" Type="http://schemas.openxmlformats.org/officeDocument/2006/relationships/image" Target="../media/image18.png"/><Relationship Id="rId40" Type="http://schemas.openxmlformats.org/officeDocument/2006/relationships/slide" Target="slide25.xml"/><Relationship Id="rId41" Type="http://schemas.openxmlformats.org/officeDocument/2006/relationships/slide" Target="slide27.xml"/><Relationship Id="rId42" Type="http://schemas.openxmlformats.org/officeDocument/2006/relationships/image" Target="../media/image19.png"/><Relationship Id="rId43" Type="http://schemas.openxmlformats.org/officeDocument/2006/relationships/slide" Target="slide27.xml"/><Relationship Id="rId44" Type="http://schemas.openxmlformats.org/officeDocument/2006/relationships/slide" Target="slide29.xml"/><Relationship Id="rId45" Type="http://schemas.openxmlformats.org/officeDocument/2006/relationships/image" Target="../media/image20.png"/><Relationship Id="rId46" Type="http://schemas.openxmlformats.org/officeDocument/2006/relationships/slide" Target="slide29.xml"/><Relationship Id="rId47" Type="http://schemas.openxmlformats.org/officeDocument/2006/relationships/slide" Target="slide31.xml"/><Relationship Id="rId48" Type="http://schemas.openxmlformats.org/officeDocument/2006/relationships/image" Target="../media/image21.png"/><Relationship Id="rId49" Type="http://schemas.openxmlformats.org/officeDocument/2006/relationships/slide" Target="slide31.xml"/><Relationship Id="rId50" Type="http://schemas.openxmlformats.org/officeDocument/2006/relationships/slide" Target="slide33.xml"/><Relationship Id="rId51" Type="http://schemas.openxmlformats.org/officeDocument/2006/relationships/image" Target="../media/image22.png"/><Relationship Id="rId52" Type="http://schemas.openxmlformats.org/officeDocument/2006/relationships/slide" Target="slide33.xml"/><Relationship Id="rId53" Type="http://schemas.openxmlformats.org/officeDocument/2006/relationships/slide" Target="slide35.xml"/><Relationship Id="rId54" Type="http://schemas.openxmlformats.org/officeDocument/2006/relationships/image" Target="../media/image23.png"/><Relationship Id="rId55" Type="http://schemas.openxmlformats.org/officeDocument/2006/relationships/slide" Target="slide35.xml"/><Relationship Id="rId56" Type="http://schemas.openxmlformats.org/officeDocument/2006/relationships/slide" Target="slide37.xml"/><Relationship Id="rId57" Type="http://schemas.openxmlformats.org/officeDocument/2006/relationships/image" Target="../media/image24.png"/><Relationship Id="rId58" Type="http://schemas.openxmlformats.org/officeDocument/2006/relationships/slide" Target="slide37.xml"/><Relationship Id="rId59" Type="http://schemas.openxmlformats.org/officeDocument/2006/relationships/slide" Target="slide39.xml"/><Relationship Id="rId60" Type="http://schemas.openxmlformats.org/officeDocument/2006/relationships/image" Target="../media/image25.png"/><Relationship Id="rId61" Type="http://schemas.openxmlformats.org/officeDocument/2006/relationships/slide" Target="slide39.xml"/><Relationship Id="rId62" Type="http://schemas.openxmlformats.org/officeDocument/2006/relationships/slide" Target="slide41.xml"/><Relationship Id="rId63" Type="http://schemas.openxmlformats.org/officeDocument/2006/relationships/image" Target="../media/image26.png"/><Relationship Id="rId64" Type="http://schemas.openxmlformats.org/officeDocument/2006/relationships/slide" Target="slide41.xml"/><Relationship Id="rId6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-146160" y="1670040"/>
            <a:ext cx="92966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87716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все пешеходы обязаны двигаться только прямо, так как движение наискосок дороги, удлиняет путь и следовательно делает его более опасны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3840" y="99972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й цвет светофора пешеходы должны переходить улицу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9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77160" cy="19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зеленый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07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Содержимое 5" descr="780_sotrudniki_politsii_provodya.gif"/>
          <p:cNvPicPr/>
          <p:nvPr/>
        </p:nvPicPr>
        <p:blipFill>
          <a:blip r:embed="rId2"/>
          <a:stretch/>
        </p:blipFill>
        <p:spPr>
          <a:xfrm>
            <a:off x="2771640" y="1125360"/>
            <a:ext cx="338940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1559160" y="1916280"/>
            <a:ext cx="483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ШЕХО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1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Рисунок 6" descr="viktorina-dlia-dietiei-podghotovitiel-noi-k-shkolie-ghruppy-po-pravilam-biezopasnogho-dvizhieniia-na-ulitsie-pravila-dorozhnyie-vazhny-pravila-dorozhnyie-nuzhny_21.png"/>
          <p:cNvPicPr/>
          <p:nvPr/>
        </p:nvPicPr>
        <p:blipFill>
          <a:blip r:embed="rId2"/>
          <a:stretch/>
        </p:blipFill>
        <p:spPr>
          <a:xfrm>
            <a:off x="2627280" y="1125360"/>
            <a:ext cx="360540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066680" y="2298600"/>
            <a:ext cx="744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ЗЕМНЫЙ ПЕР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24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Содержимое 6" descr="830831c82ed88ff64583420dcc946781.jpg"/>
          <p:cNvPicPr/>
          <p:nvPr/>
        </p:nvPicPr>
        <p:blipFill>
          <a:blip r:embed="rId1"/>
          <a:stretch/>
        </p:blipFill>
        <p:spPr>
          <a:xfrm>
            <a:off x="2484360" y="1484280"/>
            <a:ext cx="3164040" cy="31654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2717280" y="3071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0" name="AutoShape 6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0" y="2781360"/>
            <a:ext cx="87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35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56760" y="1071360"/>
            <a:ext cx="8412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0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9" descr="http://www.clipart.net.ua/images/clip7246.jpg"/>
          <p:cNvPicPr/>
          <p:nvPr/>
        </p:nvPicPr>
        <p:blipFill>
          <a:blip r:embed="rId2"/>
          <a:stretch/>
        </p:blipFill>
        <p:spPr>
          <a:xfrm>
            <a:off x="2987640" y="1484280"/>
            <a:ext cx="33242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AutoShape 39"/>
          <p:cNvGrpSpPr/>
          <p:nvPr/>
        </p:nvGrpSpPr>
        <p:grpSpPr>
          <a:xfrm>
            <a:off x="152280" y="969840"/>
            <a:ext cx="3035520" cy="1224000"/>
            <a:chOff x="152280" y="969840"/>
            <a:chExt cx="3035520" cy="1224000"/>
          </a:xfrm>
        </p:grpSpPr>
        <p:pic>
          <p:nvPicPr>
            <p:cNvPr id="84" name="AutoShape 39" descr=""/>
            <p:cNvPicPr/>
            <p:nvPr/>
          </p:nvPicPr>
          <p:blipFill>
            <a:blip r:embed="rId1"/>
            <a:stretch/>
          </p:blipFill>
          <p:spPr>
            <a:xfrm>
              <a:off x="152280" y="969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15960" y="1170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ОПРО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AutoShape 40"/>
          <p:cNvGrpSpPr/>
          <p:nvPr/>
        </p:nvGrpSpPr>
        <p:grpSpPr>
          <a:xfrm>
            <a:off x="49320" y="2193840"/>
            <a:ext cx="3138480" cy="1219320"/>
            <a:chOff x="49320" y="2193840"/>
            <a:chExt cx="3138480" cy="1219320"/>
          </a:xfrm>
        </p:grpSpPr>
        <p:pic>
          <p:nvPicPr>
            <p:cNvPr id="87" name="AutoShape 40" descr=""/>
            <p:cNvPicPr/>
            <p:nvPr/>
          </p:nvPicPr>
          <p:blipFill>
            <a:blip r:embed="rId2"/>
            <a:stretch/>
          </p:blipFill>
          <p:spPr>
            <a:xfrm>
              <a:off x="49320" y="2193840"/>
              <a:ext cx="31384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5960" y="239400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ДОРОЖНЫЕ ЗНА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AutoShape 41"/>
          <p:cNvGrpSpPr/>
          <p:nvPr/>
        </p:nvGrpSpPr>
        <p:grpSpPr>
          <a:xfrm>
            <a:off x="152280" y="3633840"/>
            <a:ext cx="3035520" cy="1224000"/>
            <a:chOff x="152280" y="3633840"/>
            <a:chExt cx="3035520" cy="1224000"/>
          </a:xfrm>
        </p:grpSpPr>
        <p:pic>
          <p:nvPicPr>
            <p:cNvPr id="90" name="AutoShape 41" descr=""/>
            <p:cNvPicPr/>
            <p:nvPr/>
          </p:nvPicPr>
          <p:blipFill>
            <a:blip r:embed="rId3"/>
            <a:stretch/>
          </p:blipFill>
          <p:spPr>
            <a:xfrm>
              <a:off x="152280" y="3633840"/>
              <a:ext cx="3035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15960" y="383364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ПРАВИ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AutoShape 42"/>
          <p:cNvGrpSpPr/>
          <p:nvPr/>
        </p:nvGrpSpPr>
        <p:grpSpPr>
          <a:xfrm>
            <a:off x="152280" y="4932360"/>
            <a:ext cx="3035520" cy="1219320"/>
            <a:chOff x="152280" y="4932360"/>
            <a:chExt cx="3035520" cy="1219320"/>
          </a:xfrm>
        </p:grpSpPr>
        <p:pic>
          <p:nvPicPr>
            <p:cNvPr id="93" name="AutoShape 42" descr=""/>
            <p:cNvPicPr/>
            <p:nvPr/>
          </p:nvPicPr>
          <p:blipFill>
            <a:blip r:embed="rId4"/>
            <a:stretch/>
          </p:blipFill>
          <p:spPr>
            <a:xfrm>
              <a:off x="152280" y="4932360"/>
              <a:ext cx="3035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15960" y="5129280"/>
              <a:ext cx="1906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ЗАГАД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AutoShape 46"/>
          <p:cNvGrpSpPr/>
          <p:nvPr/>
        </p:nvGrpSpPr>
        <p:grpSpPr>
          <a:xfrm>
            <a:off x="2865600" y="731880"/>
            <a:ext cx="1614240" cy="1523880"/>
            <a:chOff x="2865600" y="731880"/>
            <a:chExt cx="1614240" cy="1523880"/>
          </a:xfrm>
        </p:grpSpPr>
        <p:pic>
          <p:nvPicPr>
            <p:cNvPr id="96" name="AutoShape 4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2865600" y="73188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01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AutoShape 47"/>
          <p:cNvGrpSpPr/>
          <p:nvPr/>
        </p:nvGrpSpPr>
        <p:grpSpPr>
          <a:xfrm>
            <a:off x="4022640" y="731880"/>
            <a:ext cx="1609920" cy="1523880"/>
            <a:chOff x="4022640" y="731880"/>
            <a:chExt cx="1609920" cy="1523880"/>
          </a:xfrm>
        </p:grpSpPr>
        <p:pic>
          <p:nvPicPr>
            <p:cNvPr id="99" name="AutoShape 47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4022640" y="73188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45464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AutoShape 48"/>
          <p:cNvGrpSpPr/>
          <p:nvPr/>
        </p:nvGrpSpPr>
        <p:grpSpPr>
          <a:xfrm>
            <a:off x="5175360" y="731880"/>
            <a:ext cx="1609560" cy="1523880"/>
            <a:chOff x="5175360" y="731880"/>
            <a:chExt cx="1609560" cy="1523880"/>
          </a:xfrm>
        </p:grpSpPr>
        <p:pic>
          <p:nvPicPr>
            <p:cNvPr id="102" name="AutoShape 4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175360" y="73188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60700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AutoShape 49"/>
          <p:cNvGrpSpPr/>
          <p:nvPr/>
        </p:nvGrpSpPr>
        <p:grpSpPr>
          <a:xfrm>
            <a:off x="6321600" y="731880"/>
            <a:ext cx="1616040" cy="1523880"/>
            <a:chOff x="6321600" y="731880"/>
            <a:chExt cx="1616040" cy="1523880"/>
          </a:xfrm>
        </p:grpSpPr>
        <p:pic>
          <p:nvPicPr>
            <p:cNvPr id="105" name="AutoShape 49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63216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757920" y="118584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50"/>
          <p:cNvGrpSpPr/>
          <p:nvPr/>
        </p:nvGrpSpPr>
        <p:grpSpPr>
          <a:xfrm>
            <a:off x="7583400" y="731880"/>
            <a:ext cx="1616040" cy="1523880"/>
            <a:chOff x="7583400" y="731880"/>
            <a:chExt cx="1616040" cy="1523880"/>
          </a:xfrm>
        </p:grpSpPr>
        <p:pic>
          <p:nvPicPr>
            <p:cNvPr id="108" name="AutoShape 50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583400" y="73188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018640" y="118584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1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1"/>
          <p:cNvGrpSpPr/>
          <p:nvPr/>
        </p:nvGrpSpPr>
        <p:grpSpPr>
          <a:xfrm>
            <a:off x="2865600" y="1809720"/>
            <a:ext cx="1614240" cy="1530360"/>
            <a:chOff x="2865600" y="1809720"/>
            <a:chExt cx="1614240" cy="1530360"/>
          </a:xfrm>
        </p:grpSpPr>
        <p:pic>
          <p:nvPicPr>
            <p:cNvPr id="111" name="AutoShape 51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2865600" y="1809720"/>
              <a:ext cx="16142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301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52"/>
          <p:cNvGrpSpPr/>
          <p:nvPr/>
        </p:nvGrpSpPr>
        <p:grpSpPr>
          <a:xfrm>
            <a:off x="4022640" y="1809720"/>
            <a:ext cx="1609920" cy="1530360"/>
            <a:chOff x="4022640" y="1809720"/>
            <a:chExt cx="1609920" cy="1530360"/>
          </a:xfrm>
        </p:grpSpPr>
        <p:pic>
          <p:nvPicPr>
            <p:cNvPr id="114" name="AutoShape 52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4022640" y="1809720"/>
              <a:ext cx="16099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45464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53"/>
          <p:cNvGrpSpPr/>
          <p:nvPr/>
        </p:nvGrpSpPr>
        <p:grpSpPr>
          <a:xfrm>
            <a:off x="5175360" y="1809720"/>
            <a:ext cx="1609560" cy="1530360"/>
            <a:chOff x="5175360" y="1809720"/>
            <a:chExt cx="1609560" cy="1530360"/>
          </a:xfrm>
        </p:grpSpPr>
        <p:pic>
          <p:nvPicPr>
            <p:cNvPr id="117" name="AutoShape 53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5175360" y="1809720"/>
              <a:ext cx="16095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60700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2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54"/>
          <p:cNvGrpSpPr/>
          <p:nvPr/>
        </p:nvGrpSpPr>
        <p:grpSpPr>
          <a:xfrm>
            <a:off x="6321600" y="1809720"/>
            <a:ext cx="1616040" cy="1530360"/>
            <a:chOff x="6321600" y="1809720"/>
            <a:chExt cx="1616040" cy="1530360"/>
          </a:xfrm>
        </p:grpSpPr>
        <p:pic>
          <p:nvPicPr>
            <p:cNvPr id="120" name="AutoShape 54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6321600" y="1809720"/>
              <a:ext cx="16160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757920" y="2266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55"/>
          <p:cNvGrpSpPr/>
          <p:nvPr/>
        </p:nvGrpSpPr>
        <p:grpSpPr>
          <a:xfrm>
            <a:off x="7583400" y="1822320"/>
            <a:ext cx="1616040" cy="1524240"/>
            <a:chOff x="7583400" y="1822320"/>
            <a:chExt cx="1616040" cy="1524240"/>
          </a:xfrm>
        </p:grpSpPr>
        <p:pic>
          <p:nvPicPr>
            <p:cNvPr id="123" name="AutoShape 55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7583400" y="182232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018640" y="2276640"/>
              <a:ext cx="6426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56"/>
          <p:cNvGrpSpPr/>
          <p:nvPr/>
        </p:nvGrpSpPr>
        <p:grpSpPr>
          <a:xfrm>
            <a:off x="2865600" y="3108240"/>
            <a:ext cx="1614240" cy="1524240"/>
            <a:chOff x="2865600" y="3108240"/>
            <a:chExt cx="1614240" cy="1524240"/>
          </a:xfrm>
        </p:grpSpPr>
        <p:pic>
          <p:nvPicPr>
            <p:cNvPr id="126" name="AutoShape 56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2865600" y="3108240"/>
              <a:ext cx="161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30192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3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AutoShape 57"/>
          <p:cNvGrpSpPr/>
          <p:nvPr/>
        </p:nvGrpSpPr>
        <p:grpSpPr>
          <a:xfrm>
            <a:off x="4022640" y="3108240"/>
            <a:ext cx="1609920" cy="1524240"/>
            <a:chOff x="4022640" y="3108240"/>
            <a:chExt cx="1609920" cy="1524240"/>
          </a:xfrm>
        </p:grpSpPr>
        <p:pic>
          <p:nvPicPr>
            <p:cNvPr id="129" name="AutoShape 57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4022640" y="3108240"/>
              <a:ext cx="16099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45464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0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AutoShape 58"/>
          <p:cNvGrpSpPr/>
          <p:nvPr/>
        </p:nvGrpSpPr>
        <p:grpSpPr>
          <a:xfrm>
            <a:off x="5175360" y="3108240"/>
            <a:ext cx="1609560" cy="1524240"/>
            <a:chOff x="5175360" y="3108240"/>
            <a:chExt cx="1609560" cy="1524240"/>
          </a:xfrm>
        </p:grpSpPr>
        <p:pic>
          <p:nvPicPr>
            <p:cNvPr id="132" name="AutoShape 58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175360" y="3108240"/>
              <a:ext cx="16095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07000" y="356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3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AutoShape 59"/>
          <p:cNvGrpSpPr/>
          <p:nvPr/>
        </p:nvGrpSpPr>
        <p:grpSpPr>
          <a:xfrm>
            <a:off x="6394320" y="3035160"/>
            <a:ext cx="1616040" cy="1524240"/>
            <a:chOff x="6394320" y="3035160"/>
            <a:chExt cx="1616040" cy="1524240"/>
          </a:xfrm>
        </p:grpSpPr>
        <p:pic>
          <p:nvPicPr>
            <p:cNvPr id="135" name="AutoShape 5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6394320" y="303516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831000" y="349092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6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AutoShape 60"/>
          <p:cNvGrpSpPr/>
          <p:nvPr/>
        </p:nvGrpSpPr>
        <p:grpSpPr>
          <a:xfrm>
            <a:off x="7583400" y="3108240"/>
            <a:ext cx="1616040" cy="1524240"/>
            <a:chOff x="7583400" y="3108240"/>
            <a:chExt cx="1616040" cy="1524240"/>
          </a:xfrm>
        </p:grpSpPr>
        <p:pic>
          <p:nvPicPr>
            <p:cNvPr id="138" name="AutoShape 60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583400" y="3108240"/>
              <a:ext cx="16160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018640" y="356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49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AutoShape 61"/>
          <p:cNvGrpSpPr/>
          <p:nvPr/>
        </p:nvGrpSpPr>
        <p:grpSpPr>
          <a:xfrm>
            <a:off x="2865600" y="4548240"/>
            <a:ext cx="1614240" cy="1523880"/>
            <a:chOff x="2865600" y="4548240"/>
            <a:chExt cx="1614240" cy="1523880"/>
          </a:xfrm>
        </p:grpSpPr>
        <p:pic>
          <p:nvPicPr>
            <p:cNvPr id="141" name="AutoShape 61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2865600" y="4548240"/>
              <a:ext cx="161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301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62"/>
          <p:cNvGrpSpPr/>
          <p:nvPr/>
        </p:nvGrpSpPr>
        <p:grpSpPr>
          <a:xfrm>
            <a:off x="4022640" y="4548240"/>
            <a:ext cx="1609920" cy="1523880"/>
            <a:chOff x="4022640" y="4548240"/>
            <a:chExt cx="1609920" cy="1523880"/>
          </a:xfrm>
        </p:grpSpPr>
        <p:pic>
          <p:nvPicPr>
            <p:cNvPr id="144" name="AutoShape 62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4022640" y="4548240"/>
              <a:ext cx="16099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45464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5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63"/>
          <p:cNvGrpSpPr/>
          <p:nvPr/>
        </p:nvGrpSpPr>
        <p:grpSpPr>
          <a:xfrm>
            <a:off x="5175360" y="4548240"/>
            <a:ext cx="1609560" cy="1523880"/>
            <a:chOff x="5175360" y="4548240"/>
            <a:chExt cx="1609560" cy="1523880"/>
          </a:xfrm>
        </p:grpSpPr>
        <p:pic>
          <p:nvPicPr>
            <p:cNvPr id="147" name="AutoShape 63" descr="">
              <a:hlinkClick r:id="rId56" action="ppaction://hlinksldjump"/>
            </p:cNvPr>
            <p:cNvPicPr/>
            <p:nvPr/>
          </p:nvPicPr>
          <p:blipFill>
            <a:blip r:embed="rId57"/>
            <a:stretch/>
          </p:blipFill>
          <p:spPr>
            <a:xfrm>
              <a:off x="5175360" y="4548240"/>
              <a:ext cx="16095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60700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58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AutoShape 64"/>
          <p:cNvGrpSpPr/>
          <p:nvPr/>
        </p:nvGrpSpPr>
        <p:grpSpPr>
          <a:xfrm>
            <a:off x="6321600" y="4548240"/>
            <a:ext cx="1616040" cy="1523880"/>
            <a:chOff x="6321600" y="4548240"/>
            <a:chExt cx="1616040" cy="1523880"/>
          </a:xfrm>
        </p:grpSpPr>
        <p:pic>
          <p:nvPicPr>
            <p:cNvPr id="150" name="AutoShape 64" descr="">
              <a:hlinkClick r:id="rId59" action="ppaction://hlinksldjump"/>
            </p:cNvPr>
            <p:cNvPicPr/>
            <p:nvPr/>
          </p:nvPicPr>
          <p:blipFill>
            <a:blip r:embed="rId60"/>
            <a:stretch/>
          </p:blipFill>
          <p:spPr>
            <a:xfrm>
              <a:off x="63216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57920" y="5002200"/>
              <a:ext cx="642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65"/>
          <p:cNvGrpSpPr/>
          <p:nvPr/>
        </p:nvGrpSpPr>
        <p:grpSpPr>
          <a:xfrm>
            <a:off x="7583400" y="4548240"/>
            <a:ext cx="1616040" cy="1523880"/>
            <a:chOff x="7583400" y="4548240"/>
            <a:chExt cx="1616040" cy="1523880"/>
          </a:xfrm>
        </p:grpSpPr>
        <p:pic>
          <p:nvPicPr>
            <p:cNvPr id="153" name="AutoShape 65" descr="">
              <a:hlinkClick r:id="rId62" action="ppaction://hlinksldjump"/>
            </p:cNvPr>
            <p:cNvPicPr/>
            <p:nvPr/>
          </p:nvPicPr>
          <p:blipFill>
            <a:blip r:embed="rId63"/>
            <a:stretch/>
          </p:blipFill>
          <p:spPr>
            <a:xfrm>
              <a:off x="7583400" y="4548240"/>
              <a:ext cx="1616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018640" y="5002200"/>
              <a:ext cx="6426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ffffff"/>
                  </a:solidFill>
                  <a:uFillTx/>
                  <a:latin typeface="Calibri"/>
                  <a:hlinkClick r:id="rId6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53520" y="1484280"/>
            <a:ext cx="6325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ВЕЛОСИПЕДА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ПРЕЩ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46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560" y="1125360"/>
            <a:ext cx="84121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1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9" descr="http://plan-evaco.ru/d/599603/d/data-roadsign-3-3-10-700x700.png"/>
          <p:cNvPicPr/>
          <p:nvPr/>
        </p:nvPicPr>
        <p:blipFill>
          <a:blip r:embed="rId2"/>
          <a:stretch/>
        </p:blipFill>
        <p:spPr>
          <a:xfrm>
            <a:off x="2124000" y="1052640"/>
            <a:ext cx="3932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2500200" y="271476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5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2852280" y="1413000"/>
            <a:ext cx="350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шехо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прещ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13840" y="1071360"/>
            <a:ext cx="8412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дорожного движения должны знать и выполня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 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ько пешех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ько вод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дители и пешех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3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1041480" y="1989000"/>
            <a:ext cx="64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дители и пешех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6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55640" y="980640"/>
            <a:ext cx="81439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ая часть улицы предназначена для пешеходов?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  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осипедная доро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зжая ча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оту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2496240" y="2133720"/>
            <a:ext cx="280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тротуар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7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259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71360" y="1142640"/>
            <a:ext cx="7715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 сколько лет можно выезжать на велосипеде на проезжую часть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4 л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8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627280" y="273060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4 лет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8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00000" y="404640"/>
            <a:ext cx="77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    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и дорожного движения нужны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красоты проезжей ча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установления порядка движения пешеходов и транспорта на доро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пешех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560" y="1268280"/>
            <a:ext cx="841212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гут ли машины двигаться с места, если горит желт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5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755640" y="907920"/>
            <a:ext cx="757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для устан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рядка движ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шеходов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анспорта на дороге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29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: 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000" y="1197000"/>
            <a:ext cx="8412120" cy="30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равильно переходить дорогу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пешеходному перех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еленый сигнал светоф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установленном мес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07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Прямоугольник 4"/>
          <p:cNvSpPr/>
          <p:nvPr/>
        </p:nvSpPr>
        <p:spPr>
          <a:xfrm>
            <a:off x="900000" y="213372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шеходному пере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леный сигнал свето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становленном 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3330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500040" y="1071720"/>
            <a:ext cx="8001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езд есть впереди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зи и подожди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пущен - ход сбавля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днимут - проезжай. 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AutoShape 65"/>
          <p:cNvGrpSpPr/>
          <p:nvPr/>
        </p:nvGrpSpPr>
        <p:grpSpPr>
          <a:xfrm>
            <a:off x="5224320" y="4608360"/>
            <a:ext cx="3975120" cy="2109960"/>
            <a:chOff x="5224320" y="4608360"/>
            <a:chExt cx="3975120" cy="2109960"/>
          </a:xfrm>
        </p:grpSpPr>
        <p:pic>
          <p:nvPicPr>
            <p:cNvPr id="31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5224320" y="4608360"/>
              <a:ext cx="39751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245280" y="5234040"/>
              <a:ext cx="165564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4"/>
          <p:cNvSpPr/>
          <p:nvPr/>
        </p:nvSpPr>
        <p:spPr>
          <a:xfrm>
            <a:off x="3003480" y="2714760"/>
            <a:ext cx="30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лагбау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18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500040" y="1071720"/>
            <a:ext cx="86439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уя жезлом, он всех направля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м перекрёстком один управляет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  словно  волшебник, машин дрессировщи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мя ему -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3007440" y="2714760"/>
            <a:ext cx="459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гулировщик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2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5"/>
          <p:cNvSpPr/>
          <p:nvPr/>
        </p:nvSpPr>
        <p:spPr>
          <a:xfrm>
            <a:off x="539640" y="1071720"/>
            <a:ext cx="7488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стился над дорого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ргает очень много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я каждый раз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своих округлых глаз.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411280" y="198900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ф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3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324000" y="907920"/>
            <a:ext cx="7056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не катится автобус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трамваи не пройдут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спокойно пешеходы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ль по улице идут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ашин и для трамвая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-дорога есть другая.</a:t>
            </a:r>
            <a:br>
              <a:rPr sz="40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907920"/>
            <a:ext cx="7877160" cy="29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желтый цвет светофора означает всего лишь необходимость приготовиться к движению, но не само движ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1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47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Прямоугольник 4"/>
          <p:cNvSpPr/>
          <p:nvPr/>
        </p:nvSpPr>
        <p:spPr>
          <a:xfrm>
            <a:off x="3245760" y="155736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ту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5"/>
          <p:cNvSpPr/>
          <p:nvPr/>
        </p:nvSpPr>
        <p:spPr>
          <a:xfrm>
            <a:off x="500040" y="1071720"/>
            <a:ext cx="80010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лошадь, вся в полоску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 загорает?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едут и  идут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а – не убегает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3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5. 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3000240" y="2714760"/>
            <a:ext cx="23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358" name="AutoShape 65" descr=""/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412640"/>
            <a:ext cx="84121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дорожка, по которой пешеход переходит дорогу, не нарушая правил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6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Б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2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обходить припаркованное транспортное средство сзад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7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8771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любой транспорт, вне зависимости от его положения необходимо обходить спереди, так, чтобы водитель мог увидеть пешех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3. Отв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3" name="AutoShape 6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785600"/>
            <a:ext cx="8412120" cy="20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о ли переходить дорогу наискосок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AutoShape 65"/>
          <p:cNvGrpSpPr/>
          <p:nvPr/>
        </p:nvGrpSpPr>
        <p:grpSpPr>
          <a:xfrm>
            <a:off x="4797360" y="4395960"/>
            <a:ext cx="3975120" cy="2108160"/>
            <a:chOff x="4797360" y="4395960"/>
            <a:chExt cx="3975120" cy="2108160"/>
          </a:xfrm>
        </p:grpSpPr>
        <p:pic>
          <p:nvPicPr>
            <p:cNvPr id="188" name="AutoShape 6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7360" y="4395960"/>
              <a:ext cx="39751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16520" y="5019840"/>
              <a:ext cx="16560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ОТВЕ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49:54Z</dcterms:created>
  <dc:creator>student</dc:creator>
  <dc:description/>
  <dc:language>en-US</dc:language>
  <cp:lastModifiedBy>Zver</cp:lastModifiedBy>
  <dcterms:modified xsi:type="dcterms:W3CDTF">2016-10-13T17:48:00Z</dcterms:modified>
  <cp:revision>94</cp:revision>
  <dc:subject/>
  <dc:title>Слайд 1</dc:title>
</cp:coreProperties>
</file>