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4420-F09E-40E8-89E7-C40FB132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4178-1E8E-4DF7-88C4-4ED4EAEE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A2DE-A597-4327-80B6-CBC2A9C66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2558-2A79-412A-B951-8A716738E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4563-80EB-4059-A8D5-7F71B58F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A86C-A42D-47A9-8AEF-04A13AF8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3762-F87F-4061-9CB9-67A2C8DC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933A-E4BA-4B80-9DAC-A8A8CDD3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7FE6-5CAD-4675-9BBA-E6847D8E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0E03-A0C6-47F1-83EF-C21F2FA9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CA77-C013-4EC5-948D-67E810AA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0C84-BE19-4E5E-9180-08709824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0C7B-A88D-4AE0-8523-FCF80A954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ÐÐ°ÑÑÐ¸Ð½ÐºÐ¸ Ð¿Ð¾ Ð·Ð°Ð¿ÑÐ¾ÑÑ ÑÐ¾Ð½ Ð´Ð»Ñ Ð¿ÑÐµÐ·ÐµÐ½ÑÐ°ÑÐ¸Ð¸ Ð¶ÐµÐ»ÑÑÐ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Тема:</a:t>
            </a:r>
            <a:r>
              <a:rPr b="1" i="1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6000"/>
            </a:br>
            <a:br>
              <a:rPr sz="1200"/>
            </a:br>
            <a:r>
              <a:rPr b="1" i="1" lang="en-US" sz="6000" spc="-1" strike="noStrike">
                <a:solidFill>
                  <a:srgbClr val="333399"/>
                </a:solidFill>
                <a:latin typeface="Arial"/>
              </a:rPr>
              <a:t>КАК ПОМОЧЬ ДЕТЯМ ОБРЕСТИ УВЕРЕННОСТЬ В СЕБ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ÐÐ°ÑÑÐ¸Ð½ÐºÐ¸ Ð¿Ð¾ Ð·Ð°Ð¿ÑÐ¾ÑÑ ÑÐ¾Ð½ Ð´Ð»Ñ Ð¿ÑÐµÐ·ÐµÐ½ÑÐ°ÑÐ¸Ð¸ Ð¶ÐµÐ»ÑÑÐ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-380880" y="1905120"/>
            <a:ext cx="975348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ÐÐ°ÑÑÐ¸Ð½ÐºÐ¸ Ð¿Ð¾ Ð·Ð°Ð¿ÑÐ¾ÑÑ ÑÐ¾Ð½ Ð´Ð»Ñ Ð¿ÑÐµÐ·ÐµÐ½ÑÐ°ÑÐ¸Ð¸ Ð¶ÐµÐ»ÑÑÐ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1295280"/>
            <a:ext cx="8382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Уверенность в себе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- это вера в свои силы, вера в себя, знание своих возможностей, желаний, смелость следовать в нужном направлении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ÐÐ°ÑÑÐ¸Ð½ÐºÐ¸ Ð¿Ð¾ Ð·Ð°Ð¿ÑÐ¾ÑÑ ÑÐ¾Ð½ Ð´Ð»Ñ Ð¿ÑÐµÐ·ÐµÐ½ÑÐ°ÑÐ¸Ð¸ Ð¶ÐµÐ»ÑÑÐ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761040"/>
            <a:ext cx="82296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Игры для развития уверенно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«Дневник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«Разговор по телефону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«Неоконченный рассказ»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ÐÐ°ÑÑÐ¸Ð½ÐºÐ¸ Ð¿Ð¾ Ð·Ð°Ð¿ÑÐ¾ÑÑ ÑÐ¾Ð½ Ð´Ð»Ñ Ð¿ÑÐµÐ·ÐµÐ½ÑÐ°ÑÐ¸Ð¸ Ð¶ÐµÐ»ÑÑÐ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ÐÐ°ÑÑÐ¸Ð½ÐºÐ¸ Ð¿Ð¾ Ð·Ð°Ð¿ÑÐ¾ÑÑ ÐºÐ°Ðº ÑÐ°Ð·Ð²Ð¸ÑÑ ÑÐ²ÐµÑÐµÐ½Ð½Ð¾ÑÑÑ ÑÐµÐ±ÐµÐ½ÐºÐ° Ð² ÑÐµÐ±Ðµ ÐºÐ½Ð¸Ð³Ð°"/>
          <p:cNvPicPr/>
          <p:nvPr/>
        </p:nvPicPr>
        <p:blipFill>
          <a:blip r:embed="rId2"/>
          <a:stretch/>
        </p:blipFill>
        <p:spPr>
          <a:xfrm>
            <a:off x="6095880" y="1371600"/>
            <a:ext cx="2889360" cy="3762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ÐÐ°ÑÑÐ¸Ð½ÐºÐ¸ Ð¿Ð¾ Ð·Ð°Ð¿ÑÐ¾ÑÑ ÐºÐ°Ðº ÑÐ°Ð·Ð²Ð¸ÑÑ ÑÐ²ÐµÑÐµÐ½Ð½Ð¾ÑÑÑ ÑÐµÐ±ÐµÐ½ÐºÐ° Ð² ÑÐµÐ±Ðµ ÐºÐ½Ð¸Ð³Ð°"/>
          <p:cNvPicPr/>
          <p:nvPr/>
        </p:nvPicPr>
        <p:blipFill>
          <a:blip r:embed="rId3"/>
          <a:stretch/>
        </p:blipFill>
        <p:spPr>
          <a:xfrm>
            <a:off x="3048120" y="990720"/>
            <a:ext cx="2995560" cy="4829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28600" y="1523880"/>
            <a:ext cx="27464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0T19:02:10Z</dcterms:created>
  <dc:creator>Лариса</dc:creator>
  <dc:description/>
  <dc:language>en-US</dc:language>
  <cp:lastModifiedBy>Лариса</cp:lastModifiedBy>
  <dcterms:modified xsi:type="dcterms:W3CDTF">2019-05-20T19:13:37Z</dcterms:modified>
  <cp:revision>2</cp:revision>
  <dc:subject/>
  <dc:title>Тема:   КАК ПОМОЧЬ ДЕТЯМ ОБРЕСТИ УВЕРЕННОСТЬ В СЕБЕ </dc:title>
</cp:coreProperties>
</file>