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A14-5C8B-4FA4-B438-948011B7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2B4-2D1C-4715-A190-B7EFFD2F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EB4-79F4-4E84-A25E-3F4BE4F0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D4F-E4BB-4BC8-82D7-4469CA72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8A7-A9E9-46DF-A9C7-E8F7CEE7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29C-F76B-4456-A760-AA8A4F83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0B4-AB15-4A0C-8418-BD93A030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020-343E-49F3-AF8D-547E0D2C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62F-AEE1-48F5-B522-C31CD6A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EAC-CA03-4E2F-8DB5-B6E7F4B8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49E-A1F2-4B39-8CA6-34C8D085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7E5-C845-4152-84BE-DA5924C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770E-A29A-4AE7-B1A9-2B6036323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ÐÐ°ÑÑÐ¸Ð½ÐºÐ¸ Ð¿Ð¾ Ð·Ð°Ð¿ÑÐ¾ÑÑ ÑÐ¾Ð½ Ð´Ð»Ñ Ð¿ÑÐµÐ·ÐµÐ½ÑÐ°ÑÐ¸Ð¸ Ð¶ÐµÐ»ÑÑ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1" i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6000"/>
            </a:br>
            <a:br>
              <a:rPr sz="1200"/>
            </a:br>
            <a:r>
              <a:rPr b="1" i="1" lang="en-US" sz="6000" spc="-1" strike="noStrike">
                <a:solidFill>
                  <a:srgbClr val="333399"/>
                </a:solidFill>
                <a:latin typeface="Arial"/>
              </a:rPr>
              <a:t>КАК ПОМОЧЬ ДЕТЯМ ОБРЕСТИ УВЕРЕННОСТЬ В СЕБ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ÐÐ°ÑÑÐ¸Ð½ÐºÐ¸ Ð¿Ð¾ Ð·Ð°Ð¿ÑÐ¾ÑÑ ÑÐ¾Ð½ Ð´Ð»Ñ Ð¿ÑÐµÐ·ÐµÐ½ÑÐ°ÑÐ¸Ð¸ Ð¶ÐµÐ»ÑÑ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380880" y="1905120"/>
            <a:ext cx="97534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ÐÐ°ÑÑÐ¸Ð½ÐºÐ¸ Ð¿Ð¾ Ð·Ð°Ð¿ÑÐ¾ÑÑ ÑÐ¾Ð½ Ð´Ð»Ñ Ð¿ÑÐµÐ·ÐµÐ½ÑÐ°ÑÐ¸Ð¸ Ð¶ÐµÐ»ÑÑ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295280"/>
            <a:ext cx="8382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Уверенность в себе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это вера в свои силы, вера в себя, знание своих возможностей, желаний, смелость следовать в нужном направлени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ÐÐ°ÑÑÐ¸Ð½ÐºÐ¸ Ð¿Ð¾ Ð·Ð°Ð¿ÑÐ¾ÑÑ ÑÐ¾Ð½ Ð´Ð»Ñ Ð¿ÑÐµÐ·ÐµÐ½ÑÐ°ÑÐ¸Ð¸ Ð¶ÐµÐ»ÑÑ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761040"/>
            <a:ext cx="82296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гры для развития увер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Дневни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Разговор по телефону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Неоконченный рассказ»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ÐÐ°ÑÑÐ¸Ð½ÐºÐ¸ Ð¿Ð¾ Ð·Ð°Ð¿ÑÐ¾ÑÑ ÑÐ¾Ð½ Ð´Ð»Ñ Ð¿ÑÐµÐ·ÐµÐ½ÑÐ°ÑÐ¸Ð¸ Ð¶ÐµÐ»ÑÑ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ÐÐ°ÑÑÐ¸Ð½ÐºÐ¸ Ð¿Ð¾ Ð·Ð°Ð¿ÑÐ¾ÑÑ ÐºÐ°Ðº ÑÐ°Ð·Ð²Ð¸ÑÑ ÑÐ²ÐµÑÐµÐ½Ð½Ð¾ÑÑÑ ÑÐµÐ±ÐµÐ½ÐºÐ° Ð² ÑÐµÐ±Ðµ ÐºÐ½Ð¸Ð³Ð°"/>
          <p:cNvPicPr/>
          <p:nvPr/>
        </p:nvPicPr>
        <p:blipFill>
          <a:blip r:embed="rId2"/>
          <a:stretch/>
        </p:blipFill>
        <p:spPr>
          <a:xfrm>
            <a:off x="6095880" y="1371600"/>
            <a:ext cx="2889360" cy="376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ÐÐ°ÑÑÐ¸Ð½ÐºÐ¸ Ð¿Ð¾ Ð·Ð°Ð¿ÑÐ¾ÑÑ ÐºÐ°Ðº ÑÐ°Ð·Ð²Ð¸ÑÑ ÑÐ²ÐµÑÐµÐ½Ð½Ð¾ÑÑÑ ÑÐµÐ±ÐµÐ½ÐºÐ° Ð² ÑÐµÐ±Ðµ ÐºÐ½Ð¸Ð³Ð°"/>
          <p:cNvPicPr/>
          <p:nvPr/>
        </p:nvPicPr>
        <p:blipFill>
          <a:blip r:embed="rId3"/>
          <a:stretch/>
        </p:blipFill>
        <p:spPr>
          <a:xfrm>
            <a:off x="3048120" y="990720"/>
            <a:ext cx="2995560" cy="482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2746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0T19:02:10Z</dcterms:created>
  <dc:creator>Лариса</dc:creator>
  <dc:description/>
  <dc:language>en-US</dc:language>
  <cp:lastModifiedBy>Лариса</cp:lastModifiedBy>
  <dcterms:modified xsi:type="dcterms:W3CDTF">2019-05-20T19:13:37Z</dcterms:modified>
  <cp:revision>2</cp:revision>
  <dc:subject/>
  <dc:title>Тема:   КАК ПОМОЧЬ ДЕТЯМ ОБРЕСТИ УВЕРЕННОСТЬ В СЕБЕ </dc:title>
</cp:coreProperties>
</file>