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1E19-20FF-4AB3-B08D-CA425B8EE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2A31-FF03-4AC9-B9EE-349D86C7A5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866-BA26-46E2-B153-3A233235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F06-DFCD-428E-B235-22E3D910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EAE-0A20-46D8-A6C2-8795E4E0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D3C-61E6-4A9C-8E1E-55C9E3CE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FFE-86A7-4F2D-A430-53B333DF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21F-2E08-4B35-AC9C-B21501E4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273-2C28-4589-A9BC-637B9B2D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471-A8C7-43C0-816E-2A2FF97B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79DB-E265-43A5-AF9E-DE3D350D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0F7-C8A2-4958-B090-9E4564EF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C9F-47E8-4769-9635-B9CB2580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261-9E03-4A30-A24D-D424BC9B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5ED9-6AEA-4F80-A952-7A7B11DC4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2" descr=""/>
          <p:cNvPicPr/>
          <p:nvPr/>
        </p:nvPicPr>
        <p:blipFill>
          <a:blip r:embed="rId1"/>
          <a:stretch/>
        </p:blipFill>
        <p:spPr>
          <a:xfrm>
            <a:off x="365040" y="609480"/>
            <a:ext cx="8474040" cy="13287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2212920"/>
            <a:ext cx="801684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" descr=""/>
          <p:cNvPicPr/>
          <p:nvPr/>
        </p:nvPicPr>
        <p:blipFill>
          <a:blip r:embed="rId3"/>
          <a:stretch/>
        </p:blipFill>
        <p:spPr>
          <a:xfrm>
            <a:off x="438120" y="3962520"/>
            <a:ext cx="78706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609480"/>
            <a:ext cx="7772400" cy="8287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" descr=""/>
          <p:cNvPicPr/>
          <p:nvPr/>
        </p:nvPicPr>
        <p:blipFill>
          <a:blip r:embed="rId2"/>
          <a:stretch/>
        </p:blipFill>
        <p:spPr>
          <a:xfrm>
            <a:off x="506520" y="1689120"/>
            <a:ext cx="7772400" cy="1693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http://pomoshbaby.com/_pu/2/80916683.jpg"/>
          <p:cNvPicPr/>
          <p:nvPr/>
        </p:nvPicPr>
        <p:blipFill>
          <a:blip r:embed="rId3"/>
          <a:stretch/>
        </p:blipFill>
        <p:spPr>
          <a:xfrm>
            <a:off x="1420920" y="3352680"/>
            <a:ext cx="59436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8229600" cy="1438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&amp;Dcy;&amp;iecy;&amp;tcy;&amp;scy;&amp;kcy;&amp;icy;&amp;jcy; &amp;ecy;&amp;gcy;&amp;ocy;&amp;icy;&amp;zcy;&amp;mcy;. &amp;CHcy;&amp;tcy;&amp;ocy; &amp;dcy;&amp;iecy;&amp;lcy;&amp;acy;&amp;tcy;&amp;softcy;, &amp;iecy;&amp;scy;&amp;lcy;&amp;icy; &amp;rcy;&amp;iecy;&amp;bcy;&amp;iecy;&amp;ncy;&amp;ocy;&amp;kcy;-&amp;ecy;&amp;gcy;&amp;ocy;&amp;icy;&amp;scy;&amp;tcy;"/>
          <p:cNvPicPr/>
          <p:nvPr/>
        </p:nvPicPr>
        <p:blipFill>
          <a:blip r:embed="rId2"/>
          <a:stretch/>
        </p:blipFill>
        <p:spPr>
          <a:xfrm>
            <a:off x="1828800" y="2743200"/>
            <a:ext cx="5937120" cy="3956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0" y="1828800"/>
            <a:ext cx="912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, если ребенок-эгоис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17557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2584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5715000" y="4000680"/>
            <a:ext cx="280188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"/>
          <p:cNvPicPr/>
          <p:nvPr/>
        </p:nvPicPr>
        <p:blipFill>
          <a:blip r:embed="rId4"/>
          <a:stretch/>
        </p:blipFill>
        <p:spPr>
          <a:xfrm>
            <a:off x="380880" y="4000680"/>
            <a:ext cx="2801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2" descr=""/>
          <p:cNvPicPr/>
          <p:nvPr/>
        </p:nvPicPr>
        <p:blipFill>
          <a:blip r:embed="rId1"/>
          <a:stretch/>
        </p:blipFill>
        <p:spPr>
          <a:xfrm>
            <a:off x="0" y="79200"/>
            <a:ext cx="9144000" cy="43959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https://im0-tub-ru.yandex.net/i?id=b4000b9049ad160a81d6ef8f717ce808-l&amp;n=13"/>
          <p:cNvPicPr/>
          <p:nvPr/>
        </p:nvPicPr>
        <p:blipFill>
          <a:blip r:embed="rId2"/>
          <a:stretch/>
        </p:blipFill>
        <p:spPr>
          <a:xfrm>
            <a:off x="2670120" y="4572000"/>
            <a:ext cx="36576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1938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1390680" y="2209680"/>
            <a:ext cx="63626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  <a:ea typeface="Times New Roman"/>
              </a:rPr>
              <a:t>Причины детского эгоиз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533520" y="1295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Какие ошибки воспитания приводят к развитию эгоизма у де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8169480" cy="20289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304920" y="5029200"/>
            <a:ext cx="82422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2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474040" cy="24559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182520" y="2590920"/>
            <a:ext cx="8394840" cy="19684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3"/>
          <a:stretch/>
        </p:blipFill>
        <p:spPr>
          <a:xfrm>
            <a:off x="182520" y="4803840"/>
            <a:ext cx="804708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2" descr=""/>
          <p:cNvPicPr/>
          <p:nvPr/>
        </p:nvPicPr>
        <p:blipFill>
          <a:blip r:embed="rId1"/>
          <a:stretch/>
        </p:blipFill>
        <p:spPr>
          <a:xfrm>
            <a:off x="560520" y="457200"/>
            <a:ext cx="8126280" cy="15429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3" descr=""/>
          <p:cNvPicPr/>
          <p:nvPr/>
        </p:nvPicPr>
        <p:blipFill>
          <a:blip r:embed="rId2"/>
          <a:stretch/>
        </p:blipFill>
        <p:spPr>
          <a:xfrm>
            <a:off x="560520" y="2060640"/>
            <a:ext cx="7900920" cy="1962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&amp;Dcy;&amp;iecy;&amp;tcy;&amp;scy;&amp;kcy;&amp;icy;&amp;jcy; &amp;ecy;&amp;gcy;&amp;ocy;&amp;icy;&amp;zcy;&amp;mcy;. &amp;CHcy;&amp;tcy;&amp;ocy; &amp;dcy;&amp;iecy;&amp;lcy;&amp;acy;&amp;tcy;&amp;softcy;, &amp;iecy;&amp;scy;&amp;lcy;&amp;icy; &amp;rcy;&amp;iecy;&amp;bcy;&amp;iecy;&amp;ncy;&amp;ocy;&amp;kcy;-&amp;ecy;&amp;gcy;&amp;ocy;&amp;icy;&amp;scy;&amp;tcy;"/>
          <p:cNvPicPr/>
          <p:nvPr/>
        </p:nvPicPr>
        <p:blipFill>
          <a:blip r:embed="rId3"/>
          <a:stretch/>
        </p:blipFill>
        <p:spPr>
          <a:xfrm>
            <a:off x="2438280" y="3657600"/>
            <a:ext cx="43833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к преодолеть детский эгоизм?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2" descr=""/>
          <p:cNvPicPr/>
          <p:nvPr/>
        </p:nvPicPr>
        <p:blipFill>
          <a:blip r:embed="rId1"/>
          <a:stretch/>
        </p:blipFill>
        <p:spPr>
          <a:xfrm>
            <a:off x="285840" y="2036880"/>
            <a:ext cx="8321760" cy="24256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" descr=""/>
          <p:cNvPicPr/>
          <p:nvPr/>
        </p:nvPicPr>
        <p:blipFill>
          <a:blip r:embed="rId2"/>
          <a:stretch/>
        </p:blipFill>
        <p:spPr>
          <a:xfrm>
            <a:off x="285840" y="4346640"/>
            <a:ext cx="87058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hool4</dc:creator>
  <dc:description/>
  <dc:language>en-US</dc:language>
  <cp:lastModifiedBy>Лариса</cp:lastModifiedBy>
  <dcterms:modified xsi:type="dcterms:W3CDTF">2019-05-28T08:57:2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