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951E-F87C-4464-BE24-31B39A913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4F7A-C89C-4F39-B685-72AE7FE8C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4483-2D13-44FD-B527-77F78EF9E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4237-2786-4021-876F-2CB52BBA8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EA9A2-BBEB-42F8-8927-35AD318CC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B4571-A218-4600-9062-DEEA5B2A1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1EFA9-7BBA-45EB-AE0A-2BD335877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AC6E9-DBB2-4761-9D06-7E52A98EF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1195E-BEEC-4DA7-9D6D-2ED12E245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A0930-3959-4646-94DE-2EF0CC2B9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21FC6-FF2F-4D35-AC1F-88A443FD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01B1-4219-4A51-9207-034849192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0D631-3AA0-4CA6-827C-D781DBB0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886A9-F260-45CB-B487-0A6629B5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3605F-6F24-4783-8555-BF5484634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3B76F-E46A-447F-A5CB-B4BBCC39E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23320-963B-4A15-BF42-8D4E9FC19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BDBA-2F2D-41E2-BC2E-B0A18AFE4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FF48-BCAB-4445-88E3-DA348C6ED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3F61-5493-4ED9-9E9C-8C300816F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42AC-7F12-4F4A-A61E-6EA3F5418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86E0-0737-406C-8213-AE4895ABD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D768-D01C-4B7B-A1BE-75BBB946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B7FE-8B2B-420B-9A4C-35CFB287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5DE88-00B4-47B1-9D95-25FE17A23A0D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27A50-9552-4833-8D49-A16B0202BFCE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006666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1196640"/>
            <a:ext cx="8424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00"/>
                </a:solidFill>
                <a:latin typeface="Arial"/>
              </a:rPr>
              <a:t>ВЛИЯНИЕ ОБЪЕМА И ИНТЕНСИВНОСТИ ТРЕНИРОВОЧНЫХ НАГРУЗОК В ГОДИЧНОМ ЦИКЛЕ ПОДГОТОВКИ ЮНЫХ ЛЫЖНИКОВ-ГОНЩИКОВ НА ИХ СПОРТИВНЫЙ РЕЗУЛЬТАТ</a:t>
            </a:r>
            <a:endParaRPr b="0" lang="en-US" sz="3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116000" y="5950080"/>
            <a:ext cx="7880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99"/>
                </a:solidFill>
                <a:latin typeface="Times New Roman"/>
              </a:rPr>
              <a:t>ЕГОРОВ Алексей Петрович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26028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49636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Verdana"/>
              </a:rPr>
              <a:t>Таблица </a:t>
            </a: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9636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Verdana"/>
              </a:rPr>
              <a:t>ПОКАЗАТЕЛИ ФИЗИЧЕСКОЙ ПОДГОТОВЛЕННОСТИ ИСПЫТУЕМЫХ ДВУХ ГРУПП  ПЕРЕД НАЧАЛОМ ПЕДАГОГИЧЕСКОГО ЭКСПЕРИМЕНТА (</a:t>
            </a: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t</a:t>
            </a:r>
            <a:r>
              <a:rPr b="1" lang="ru-RU" sz="1200" spc="-1" strike="noStrike">
                <a:solidFill>
                  <a:srgbClr val="000099"/>
                </a:solidFill>
                <a:latin typeface="Verdana"/>
              </a:rPr>
              <a:t>0,05</a:t>
            </a:r>
            <a:r>
              <a:rPr b="1" lang="ru-RU" sz="1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Symbol"/>
                <a:ea typeface="Symbol"/>
              </a:rPr>
              <a:t></a:t>
            </a:r>
            <a:r>
              <a:rPr b="1" lang="ru-RU" sz="1800" spc="-1" strike="noStrike">
                <a:solidFill>
                  <a:srgbClr val="000099"/>
                </a:solidFill>
                <a:latin typeface="Verdana"/>
              </a:rPr>
              <a:t> 2,10, </a:t>
            </a: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t</a:t>
            </a:r>
            <a:r>
              <a:rPr b="1" lang="ru-RU" sz="1200" spc="-1" strike="noStrike">
                <a:solidFill>
                  <a:srgbClr val="000099"/>
                </a:solidFill>
                <a:latin typeface="Verdana"/>
              </a:rPr>
              <a:t>0,01</a:t>
            </a:r>
            <a:r>
              <a:rPr b="1" lang="ru-RU" sz="1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</a:t>
            </a:r>
            <a:r>
              <a:rPr b="1" lang="ru-RU" sz="1800" spc="-1" strike="noStrike">
                <a:solidFill>
                  <a:srgbClr val="000099"/>
                </a:solidFill>
                <a:latin typeface="Verdana"/>
              </a:rPr>
              <a:t> 2.88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9636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025720" y="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-252360" y="6342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-56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431640" tIns="-913680" bIns="-91368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481640" y="6900120"/>
            <a:ext cx="18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endParaRPr b="0" lang="en-US" sz="13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5191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98880" y="593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98880" y="593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539640" y="1557360"/>
          <a:ext cx="8064360" cy="4391640"/>
        </p:xfrm>
        <a:graphic>
          <a:graphicData uri="http://schemas.openxmlformats.org/drawingml/2006/table">
            <a:tbl>
              <a:tblPr/>
              <a:tblGrid>
                <a:gridCol w="3238560"/>
                <a:gridCol w="1608480"/>
                <a:gridCol w="1592640"/>
                <a:gridCol w="743760"/>
                <a:gridCol w="880920"/>
              </a:tblGrid>
              <a:tr h="87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Контрольные упражнения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Группа «А»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Группа «Б»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87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Бег 100 м, с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4,10</a:t>
                      </a:r>
                      <a:r>
                        <a:rPr b="0" lang="en-US" sz="2100" spc="-1" strike="noStrike" u="sng">
                          <a:solidFill>
                            <a:srgbClr val="000099"/>
                          </a:solidFill>
                          <a:uFillTx/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en-US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4,30</a:t>
                      </a:r>
                      <a:r>
                        <a:rPr b="0" lang="en-US" sz="2100" spc="-1" strike="noStrike" u="sng">
                          <a:solidFill>
                            <a:srgbClr val="000099"/>
                          </a:solidFill>
                          <a:uFillTx/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en-US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,02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&gt;0.05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7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рыжок в длину с места, см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63</a:t>
                      </a:r>
                      <a:r>
                        <a:rPr b="0" lang="en-US" sz="2100" spc="-1" strike="noStrike" u="sng">
                          <a:solidFill>
                            <a:srgbClr val="000099"/>
                          </a:solidFill>
                          <a:uFillTx/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en-US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,68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57</a:t>
                      </a:r>
                      <a:r>
                        <a:rPr b="0" lang="en-US" sz="2100" spc="-1" strike="noStrike" u="sng">
                          <a:solidFill>
                            <a:srgbClr val="000099"/>
                          </a:solidFill>
                          <a:uFillTx/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en-US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,45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,98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&gt;0.05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87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Бег 1000 м, с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12</a:t>
                      </a:r>
                      <a:r>
                        <a:rPr b="0" lang="en-US" sz="2100" spc="-1" strike="noStrike" u="sng">
                          <a:solidFill>
                            <a:srgbClr val="000099"/>
                          </a:solidFill>
                          <a:uFillTx/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en-US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22</a:t>
                      </a:r>
                      <a:r>
                        <a:rPr b="0" lang="en-US" sz="2100" spc="-1" strike="noStrike" u="sng">
                          <a:solidFill>
                            <a:srgbClr val="000099"/>
                          </a:solidFill>
                          <a:uFillTx/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en-US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,07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&gt;0.05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7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Кросс 5000 м, с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188</a:t>
                      </a:r>
                      <a:r>
                        <a:rPr b="0" lang="en-US" sz="2100" spc="-1" strike="noStrike" u="sng">
                          <a:solidFill>
                            <a:srgbClr val="000099"/>
                          </a:solidFill>
                          <a:uFillTx/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en-US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225</a:t>
                      </a:r>
                      <a:r>
                        <a:rPr b="0" lang="en-US" sz="2100" spc="-1" strike="noStrike" u="sng">
                          <a:solidFill>
                            <a:srgbClr val="000099"/>
                          </a:solidFill>
                          <a:uFillTx/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en-US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,22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&gt;0.05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3970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49636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Verdana"/>
              </a:rPr>
              <a:t>Таблица </a:t>
            </a: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9636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Verdana"/>
              </a:rPr>
              <a:t>ОСНОВНЫЕ ПОКАЗАТЕЛИ ТРЕНИРОВОЧНЫХ НАГРУЗОК ИСПЫТУЕМЫХ НА ПЕРВОМ ЭТАПЕ ПЕДАГОГИЧЕСКОГО ЭКСПЕРИМЕНТ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9636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025720" y="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-252360" y="6342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-56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431640" tIns="-913680" bIns="-91368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81640" y="6900120"/>
            <a:ext cx="18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endParaRPr b="0" lang="en-US" sz="13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5191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098880" y="593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98880" y="593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24000" y="1484280"/>
          <a:ext cx="8424720" cy="5102280"/>
        </p:xfrm>
        <a:graphic>
          <a:graphicData uri="http://schemas.openxmlformats.org/drawingml/2006/table">
            <a:tbl>
              <a:tblPr/>
              <a:tblGrid>
                <a:gridCol w="1990440"/>
                <a:gridCol w="1073160"/>
                <a:gridCol w="1070280"/>
                <a:gridCol w="1072800"/>
                <a:gridCol w="1073160"/>
                <a:gridCol w="1071720"/>
                <a:gridCol w="107316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оказатели нагрузки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одготовительный период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Соревновательный период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За год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Группа «А»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Группа «Б»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Группа «А»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Группа «Б»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Группа «А»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Группа «Б»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Количество тренировочных дней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3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87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2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27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бщая продолжительность занятий, час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5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64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2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2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7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9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бщий объем циклической нагрузки, км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70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70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80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80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50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50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бъем нагрузки различной интенсивности по отношению к соревновательной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5% и больше, км/%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5/3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3,5/0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81/4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6/0,9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76/3,9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/0,7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5-100%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13/4,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8/4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30/12,8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32/12,9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43/7,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40/7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85-90%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50/38,9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153/427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826/45,9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58/42,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876/41,7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911/42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80% и меньше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442/53,4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426/52,8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63/36,8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94/44,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105/46,8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220/49,3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РУ и силовые упражнения, час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4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3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Спортивные и подвижные игры, час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4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87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-15840"/>
            <a:ext cx="914400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49636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Verdana"/>
              </a:rPr>
              <a:t>Таблица </a:t>
            </a: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9636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ОСНОВНЫЕ ПОКАЗАТЕЛИ ТРЕНИРОВОЧНЫХ НАГРУЗОК ИСПЫТУЕМЫХ НА ВТОРОМ ЭТАПЕ ПЕДАГОГИЧЕСКОГО ЭКСПЕРИМЕНТ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963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025720" y="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-252360" y="6342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-56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431640" tIns="-913680" bIns="-91368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481640" y="6900120"/>
            <a:ext cx="18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endParaRPr b="0" lang="en-US" sz="13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5191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98880" y="593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98880" y="593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79280" y="1341360"/>
          <a:ext cx="8756640" cy="5253120"/>
        </p:xfrm>
        <a:graphic>
          <a:graphicData uri="http://schemas.openxmlformats.org/drawingml/2006/table">
            <a:tbl>
              <a:tblPr/>
              <a:tblGrid>
                <a:gridCol w="2070000"/>
                <a:gridCol w="1114560"/>
                <a:gridCol w="1114560"/>
                <a:gridCol w="1114200"/>
                <a:gridCol w="1114560"/>
                <a:gridCol w="1114200"/>
                <a:gridCol w="1114560"/>
              </a:tblGrid>
              <a:tr h="291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оказатели нагрузки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одготовительный период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Соревновательный период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За год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Группа «А»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Группа «Б»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Группа «А»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Группа «Б»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Группа «А»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Группа «Б»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Количество тренировочных дней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43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25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33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8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бщая продолжительность занятий, час.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64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74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21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34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85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08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бщий объем циклической нагрузки, км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0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0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0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0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бъем нагрузки различной интенсивности по отношению к соревновательной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5% и больше, км/%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6/3,2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8/0,6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86/4,3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2/1,1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82/3,6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0/0,8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5-100%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74/5,8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59/5,3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34/11,7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34/11,7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08/8,2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93/7,9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85-90%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335/44,5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425/47,5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834/41,7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818/40,9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169/43,4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243/44,8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80% и меньше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395/46,5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398/46,6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846/42,3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26/46,3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241/44,8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324/46,5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РУ и силовые упражнения, час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1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Спортивные и подвижные игры, час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6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1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3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106920"/>
            <a:ext cx="914400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49636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Verdana"/>
              </a:rPr>
              <a:t>Таблица </a:t>
            </a: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5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9636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Verdana"/>
              </a:rPr>
              <a:t>ПОКАЗАТЕЛИ ФИЗИЧЕСКОЙ ПОДГОТОВЛЕННОСТИ ЛЫЖНИКОВ-ГОНЩИКОВ В  КОНЦЕ ПЕРВОГО ЭТАПА ПЕДАГОГИЧЕСКОГО ЭКСПЕРИМЕНТА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9636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Verdana"/>
              </a:rPr>
              <a:t>t</a:t>
            </a:r>
            <a:r>
              <a:rPr b="1" lang="ru-RU" sz="1200" spc="-1" strike="noStrike">
                <a:solidFill>
                  <a:srgbClr val="000099"/>
                </a:solidFill>
                <a:latin typeface="Verdana"/>
              </a:rPr>
              <a:t>0,05</a:t>
            </a:r>
            <a:r>
              <a:rPr b="1" lang="ru-RU" sz="16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Symbol"/>
                <a:ea typeface="Symbol"/>
              </a:rPr>
              <a:t></a:t>
            </a:r>
            <a:r>
              <a:rPr b="1" lang="ru-RU" sz="1600" spc="-1" strike="noStrike">
                <a:solidFill>
                  <a:srgbClr val="000099"/>
                </a:solidFill>
                <a:latin typeface="Verdana"/>
              </a:rPr>
              <a:t> 2,10, </a:t>
            </a:r>
            <a:r>
              <a:rPr b="1" lang="en-US" sz="1600" spc="-1" strike="noStrike">
                <a:solidFill>
                  <a:srgbClr val="000099"/>
                </a:solidFill>
                <a:latin typeface="Verdana"/>
              </a:rPr>
              <a:t>t</a:t>
            </a:r>
            <a:r>
              <a:rPr b="1" lang="ru-RU" sz="1200" spc="-1" strike="noStrike">
                <a:solidFill>
                  <a:srgbClr val="000099"/>
                </a:solidFill>
                <a:latin typeface="Verdana"/>
              </a:rPr>
              <a:t>0,0</a:t>
            </a:r>
            <a:r>
              <a:rPr b="1" lang="en-US" sz="1200" spc="-1" strike="noStrike">
                <a:solidFill>
                  <a:srgbClr val="000099"/>
                </a:solidFill>
                <a:latin typeface="Verdana"/>
              </a:rPr>
              <a:t>1</a:t>
            </a:r>
            <a:r>
              <a:rPr b="1" lang="en-US" sz="16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Symbol"/>
                <a:ea typeface="Symbol"/>
              </a:rPr>
              <a:t></a:t>
            </a:r>
            <a:r>
              <a:rPr b="1" lang="ru-RU" sz="1600" spc="-1" strike="noStrike">
                <a:solidFill>
                  <a:srgbClr val="000099"/>
                </a:solidFill>
                <a:latin typeface="Verdana"/>
              </a:rPr>
              <a:t> 2.88)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9636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025720" y="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-252360" y="6342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-56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431640" tIns="-913680" bIns="-91368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481640" y="6900120"/>
            <a:ext cx="18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endParaRPr b="0" lang="en-US" sz="13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8360" y="5191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098880" y="593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98880" y="593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539640" y="1341360"/>
          <a:ext cx="8064720" cy="5192640"/>
        </p:xfrm>
        <a:graphic>
          <a:graphicData uri="http://schemas.openxmlformats.org/drawingml/2006/table">
            <a:tbl>
              <a:tblPr/>
              <a:tblGrid>
                <a:gridCol w="3238560"/>
                <a:gridCol w="1608120"/>
                <a:gridCol w="1592280"/>
                <a:gridCol w="744480"/>
                <a:gridCol w="881280"/>
              </a:tblGrid>
              <a:tr h="62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Контрольные упражнения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Группа «А»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Группа «Б»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2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Бег 100 м, с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3,52</a:t>
                      </a:r>
                      <a:r>
                        <a:rPr b="1" lang="en-US" sz="1900" spc="-1" strike="noStrike" u="sng">
                          <a:solidFill>
                            <a:srgbClr val="000099"/>
                          </a:solidFill>
                          <a:uFillTx/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0,17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4,12</a:t>
                      </a:r>
                      <a:r>
                        <a:rPr b="1" lang="en-US" sz="1900" spc="-1" strike="noStrike" u="sng">
                          <a:solidFill>
                            <a:srgbClr val="000099"/>
                          </a:solidFill>
                          <a:uFillTx/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0,26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,12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&lt;0.05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рыжок в длину с места, см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66</a:t>
                      </a:r>
                      <a:r>
                        <a:rPr b="1" lang="en-US" sz="1900" spc="-1" strike="noStrike" u="sng">
                          <a:solidFill>
                            <a:srgbClr val="000099"/>
                          </a:solidFill>
                          <a:uFillTx/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,04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63</a:t>
                      </a:r>
                      <a:r>
                        <a:rPr b="1" lang="en-US" sz="1900" spc="-1" strike="noStrike" u="sng">
                          <a:solidFill>
                            <a:srgbClr val="000099"/>
                          </a:solidFill>
                          <a:uFillTx/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,03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lang="ru-RU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&gt;0.05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2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Бег 1000 м, с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r>
                        <a:rPr b="1" lang="en-US" sz="1900" spc="-1" strike="noStrike" u="sng">
                          <a:solidFill>
                            <a:srgbClr val="000099"/>
                          </a:solidFill>
                          <a:uFillTx/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11</a:t>
                      </a:r>
                      <a:r>
                        <a:rPr b="1" lang="en-US" sz="1900" spc="-1" strike="noStrike" u="sng">
                          <a:solidFill>
                            <a:srgbClr val="000099"/>
                          </a:solidFill>
                          <a:uFillTx/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,03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&gt;0.05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2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Кросс 5000 м, с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172</a:t>
                      </a:r>
                      <a:r>
                        <a:rPr b="1" lang="en-US" sz="1900" spc="-1" strike="noStrike" u="sng">
                          <a:solidFill>
                            <a:srgbClr val="000099"/>
                          </a:solidFill>
                          <a:uFillTx/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211</a:t>
                      </a:r>
                      <a:r>
                        <a:rPr b="1" lang="en-US" sz="1900" spc="-1" strike="noStrike" u="sng">
                          <a:solidFill>
                            <a:srgbClr val="000099"/>
                          </a:solidFill>
                          <a:uFillTx/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,07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&gt;0.05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ередвижение на лыжах 1000 м, мин., с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67</a:t>
                      </a:r>
                      <a:r>
                        <a:rPr b="1" lang="en-US" sz="1900" spc="-1" strike="noStrike" u="sng">
                          <a:solidFill>
                            <a:srgbClr val="000099"/>
                          </a:solidFill>
                          <a:uFillTx/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81</a:t>
                      </a:r>
                      <a:r>
                        <a:rPr b="1" lang="en-US" sz="1900" spc="-1" strike="noStrike" u="sng">
                          <a:solidFill>
                            <a:srgbClr val="000099"/>
                          </a:solidFill>
                          <a:uFillTx/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,30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&lt;0.05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ередвижение на лыжах 5000 м, с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81</a:t>
                      </a:r>
                      <a:r>
                        <a:rPr b="1" lang="en-US" sz="1900" spc="-1" strike="noStrike" u="sng">
                          <a:solidFill>
                            <a:srgbClr val="000099"/>
                          </a:solidFill>
                          <a:uFillTx/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30</a:t>
                      </a:r>
                      <a:r>
                        <a:rPr b="1" lang="en-US" sz="1900" spc="-1" strike="noStrike" u="sng">
                          <a:solidFill>
                            <a:srgbClr val="000099"/>
                          </a:solidFill>
                          <a:uFillTx/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,95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&gt;0.05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ередвижение на лыжах 10000 м, с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050</a:t>
                      </a:r>
                      <a:r>
                        <a:rPr b="1" lang="en-US" sz="1900" spc="-1" strike="noStrike" u="sng">
                          <a:solidFill>
                            <a:srgbClr val="000099"/>
                          </a:solidFill>
                          <a:uFillTx/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117</a:t>
                      </a:r>
                      <a:r>
                        <a:rPr b="1" lang="en-US" sz="1900" spc="-1" strike="noStrike" u="sng">
                          <a:solidFill>
                            <a:srgbClr val="000099"/>
                          </a:solidFill>
                          <a:uFillTx/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,21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&lt;0.05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1821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49636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Verdana"/>
              </a:rPr>
              <a:t>Таблица </a:t>
            </a: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6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9636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Verdana"/>
              </a:rPr>
              <a:t>ПОКАЗАТЕЛИ ФИЗИЧЕСКОЙ ПОДГОТОВЛЕННОСТИ ЛЫЖНИКОВ-ГОНЩИКОВ В КОНЦЕ ВТОРОГО ЭТАПА ПЕДАГОГИЧЕСКОГО ЭКСПЕРИМЕНТА (</a:t>
            </a: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t</a:t>
            </a:r>
            <a:r>
              <a:rPr b="1" lang="ru-RU" sz="1200" spc="-1" strike="noStrike">
                <a:solidFill>
                  <a:srgbClr val="000099"/>
                </a:solidFill>
                <a:latin typeface="Verdana"/>
              </a:rPr>
              <a:t>0,05</a:t>
            </a:r>
            <a:r>
              <a:rPr b="1" lang="ru-RU" sz="1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Symbol"/>
                <a:ea typeface="Symbol"/>
              </a:rPr>
              <a:t></a:t>
            </a:r>
            <a:r>
              <a:rPr b="1" lang="ru-RU" sz="1800" spc="-1" strike="noStrike">
                <a:solidFill>
                  <a:srgbClr val="000099"/>
                </a:solidFill>
                <a:latin typeface="Verdana"/>
              </a:rPr>
              <a:t> 2,10, </a:t>
            </a: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t</a:t>
            </a:r>
            <a:r>
              <a:rPr b="1" lang="ru-RU" sz="1200" spc="-1" strike="noStrike">
                <a:solidFill>
                  <a:srgbClr val="000099"/>
                </a:solidFill>
                <a:latin typeface="Verdana"/>
              </a:rPr>
              <a:t>0,01</a:t>
            </a:r>
            <a:r>
              <a:rPr b="1" lang="ru-RU" sz="1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</a:t>
            </a:r>
            <a:r>
              <a:rPr b="1" lang="ru-RU" sz="1800" spc="-1" strike="noStrike">
                <a:solidFill>
                  <a:srgbClr val="000099"/>
                </a:solidFill>
                <a:latin typeface="Verdana"/>
              </a:rPr>
              <a:t> 2.88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025720" y="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-252360" y="6342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-56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431640" tIns="-913680" bIns="-91368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481640" y="6900120"/>
            <a:ext cx="18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endParaRPr b="0" lang="en-US" sz="13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8360" y="5191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98880" y="593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098880" y="593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395280" y="1557360"/>
          <a:ext cx="8280000" cy="4824000"/>
        </p:xfrm>
        <a:graphic>
          <a:graphicData uri="http://schemas.openxmlformats.org/drawingml/2006/table">
            <a:tbl>
              <a:tblPr/>
              <a:tblGrid>
                <a:gridCol w="3082680"/>
                <a:gridCol w="1917000"/>
                <a:gridCol w="1535040"/>
                <a:gridCol w="830520"/>
                <a:gridCol w="914760"/>
              </a:tblGrid>
              <a:tr h="71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Контрольные упражнения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Группа «А»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Группа «Б»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Бег 100 м, с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3,27</a:t>
                      </a:r>
                      <a:r>
                        <a:rPr b="1" lang="en-US" sz="1900" spc="-1" strike="noStrike" u="sng">
                          <a:solidFill>
                            <a:srgbClr val="000099"/>
                          </a:solidFill>
                          <a:uFillTx/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0,19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4,0</a:t>
                      </a:r>
                      <a:r>
                        <a:rPr b="1" lang="en-US" sz="1900" spc="-1" strike="noStrike" u="sng">
                          <a:solidFill>
                            <a:srgbClr val="000099"/>
                          </a:solidFill>
                          <a:uFillTx/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0,18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,92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&lt;0.0</a:t>
                      </a:r>
                      <a:r>
                        <a:rPr b="1" lang="ru-RU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71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рыжок в длину с места, см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87</a:t>
                      </a:r>
                      <a:r>
                        <a:rPr b="1" lang="en-US" sz="1900" spc="-1" strike="noStrike" u="sng">
                          <a:solidFill>
                            <a:srgbClr val="000099"/>
                          </a:solidFill>
                          <a:uFillTx/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,3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76</a:t>
                      </a:r>
                      <a:r>
                        <a:rPr b="1" lang="en-US" sz="1900" spc="-1" strike="noStrike" u="sng">
                          <a:solidFill>
                            <a:srgbClr val="000099"/>
                          </a:solidFill>
                          <a:uFillTx/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,45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,12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&lt;0.05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Бег 1000 м, с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92</a:t>
                      </a:r>
                      <a:r>
                        <a:rPr b="1" lang="en-US" sz="1900" spc="-1" strike="noStrike" u="sng">
                          <a:solidFill>
                            <a:srgbClr val="000099"/>
                          </a:solidFill>
                          <a:uFillTx/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02</a:t>
                      </a:r>
                      <a:r>
                        <a:rPr b="1" lang="en-US" sz="1900" spc="-1" strike="noStrike" u="sng">
                          <a:solidFill>
                            <a:srgbClr val="000099"/>
                          </a:solidFill>
                          <a:uFillTx/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,</a:t>
                      </a:r>
                      <a:r>
                        <a:rPr b="1" lang="ru-RU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&lt;0.05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2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Кросс 5000 м, с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155</a:t>
                      </a:r>
                      <a:r>
                        <a:rPr b="1" lang="en-US" sz="1900" spc="-1" strike="noStrike" u="sng">
                          <a:solidFill>
                            <a:srgbClr val="000099"/>
                          </a:solidFill>
                          <a:uFillTx/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190</a:t>
                      </a:r>
                      <a:r>
                        <a:rPr b="1" lang="en-US" sz="1900" spc="-1" strike="noStrike" u="sng">
                          <a:solidFill>
                            <a:srgbClr val="000099"/>
                          </a:solidFill>
                          <a:uFillTx/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,</a:t>
                      </a:r>
                      <a:r>
                        <a:rPr b="1" lang="ru-RU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&lt;0.05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71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ередвижение на лыжах 1000 м, с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45</a:t>
                      </a:r>
                      <a:r>
                        <a:rPr b="1" lang="en-US" sz="1900" spc="-1" strike="noStrike" u="sng">
                          <a:solidFill>
                            <a:srgbClr val="000099"/>
                          </a:solidFill>
                          <a:uFillTx/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62</a:t>
                      </a:r>
                      <a:r>
                        <a:rPr b="1" lang="en-US" sz="1900" spc="-1" strike="noStrike" u="sng">
                          <a:solidFill>
                            <a:srgbClr val="000099"/>
                          </a:solidFill>
                          <a:uFillTx/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,3</a:t>
                      </a: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&lt;0.05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ередвижение на лыжах 5000 м, с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50</a:t>
                      </a:r>
                      <a:r>
                        <a:rPr b="1" lang="en-US" sz="1900" spc="-1" strike="noStrike" u="sng">
                          <a:solidFill>
                            <a:srgbClr val="000099"/>
                          </a:solidFill>
                          <a:uFillTx/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5</a:t>
                      </a:r>
                      <a:r>
                        <a:rPr b="1" lang="en-US" sz="1900" spc="-1" strike="noStrike" u="sng">
                          <a:solidFill>
                            <a:srgbClr val="000099"/>
                          </a:solidFill>
                          <a:uFillTx/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,</a:t>
                      </a:r>
                      <a:r>
                        <a:rPr b="1" lang="ru-RU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&lt;0.05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71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ередвижение на лыжах 10000 м, с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040</a:t>
                      </a:r>
                      <a:r>
                        <a:rPr b="1" lang="en-US" sz="1900" spc="-1" strike="noStrike" u="sng">
                          <a:solidFill>
                            <a:srgbClr val="000099"/>
                          </a:solidFill>
                          <a:uFillTx/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085</a:t>
                      </a:r>
                      <a:r>
                        <a:rPr b="1" lang="en-US" sz="1900" spc="-1" strike="noStrike" u="sng">
                          <a:solidFill>
                            <a:srgbClr val="000099"/>
                          </a:solidFill>
                          <a:uFillTx/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,</a:t>
                      </a:r>
                      <a:r>
                        <a:rPr b="1" lang="ru-RU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&lt;0.05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4032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49636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Verdana"/>
              </a:rPr>
              <a:t>Таблица </a:t>
            </a: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7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9636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СООТНОШЕНИЕ НАГРУЗОК РАЗЛИЧНОЙ ИНТЕНСИВНОСТИ В ГОДИЧНОМ ЦИКЛЕ ПОДГОТОВКИ ЛЫЖНИКОВ-ГОНЩИКОВ 15-17 ЛЕ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025720" y="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-252360" y="6342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-56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431640" tIns="-913680" bIns="-91368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481640" y="6900120"/>
            <a:ext cx="18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endParaRPr b="0" lang="en-US" sz="13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68360" y="5191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098880" y="593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098880" y="593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468360" y="2133720"/>
          <a:ext cx="8135640" cy="3815640"/>
        </p:xfrm>
        <a:graphic>
          <a:graphicData uri="http://schemas.openxmlformats.org/drawingml/2006/table">
            <a:tbl>
              <a:tblPr/>
              <a:tblGrid>
                <a:gridCol w="2711520"/>
                <a:gridCol w="2711880"/>
                <a:gridCol w="2712240"/>
              </a:tblGrid>
              <a:tr h="5709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Интенсивность нагрузок в % от соревновательной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Соотношение нагрузок разной интенсивности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62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км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7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5% и больше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75-200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,5-4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5-100%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50-375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-7,5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7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85-90%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150-2200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3-44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69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80% и меньше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250-2300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5-46</a:t>
                      </a:r>
                      <a:endParaRPr b="0" lang="en-US" sz="1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2133720"/>
            <a:ext cx="914400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beb21"/>
                </a:solidFill>
                <a:latin typeface="Times New Roman"/>
              </a:rPr>
              <a:t>Спасибо за внимание!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006666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99"/>
                </a:solidFill>
                <a:uFillTx/>
                <a:latin typeface="Times New Roman"/>
              </a:rPr>
              <a:t>Научная новизна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43588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Обусловлена рациональная структура объема тренировочных нагрузок различной интенсивности в годичном цикле подготовки юных лыжников-гонщиков, за счет применения работы с интенсивностью, превышающей соревновательную на 3,5-4%, что привело к более высокому спортивному результату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50000">
              <a:srgbClr val="ffff0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beb21"/>
                </a:solidFill>
                <a:uFillTx/>
                <a:latin typeface="Times New Roman"/>
              </a:rPr>
              <a:t>Объект</a:t>
            </a:r>
            <a:r>
              <a:rPr b="0" lang="en-US" sz="4400" spc="-1" strike="noStrike" u="sng">
                <a:solidFill>
                  <a:srgbClr val="fbeb21"/>
                </a:solidFill>
                <a:uFillTx/>
                <a:latin typeface="Times New Roman"/>
              </a:rPr>
              <a:t> </a:t>
            </a:r>
            <a:r>
              <a:rPr b="1" lang="en-US" sz="5400" spc="-1" strike="noStrike" u="sng">
                <a:solidFill>
                  <a:srgbClr val="fbeb21"/>
                </a:solidFill>
                <a:uFillTx/>
                <a:latin typeface="Times New Roman"/>
              </a:rPr>
              <a:t>исследования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843588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    </a:t>
            </a: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система и структура тренировочных нагрузок в годичном цикле подготовки юных лыжников-гонщиков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beb21"/>
                </a:solidFill>
                <a:uFillTx/>
                <a:latin typeface="Times New Roman"/>
              </a:rPr>
              <a:t>Предмет</a:t>
            </a:r>
            <a:r>
              <a:rPr b="0" lang="en-US" sz="4400" spc="-1" strike="noStrike" u="sng">
                <a:solidFill>
                  <a:srgbClr val="fbeb21"/>
                </a:solidFill>
                <a:uFillTx/>
                <a:latin typeface="Times New Roman"/>
              </a:rPr>
              <a:t> </a:t>
            </a:r>
            <a:r>
              <a:rPr b="1" lang="en-US" sz="5400" spc="-1" strike="noStrike" u="sng">
                <a:solidFill>
                  <a:srgbClr val="fbeb21"/>
                </a:solidFill>
                <a:uFillTx/>
                <a:latin typeface="Times New Roman"/>
              </a:rPr>
              <a:t>исследования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43588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соотношение объема и интенсивности тренировочных нагрузок в годичном цикле подготовки и их влияние на спортивный результат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006666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99"/>
                </a:solidFill>
                <a:uFillTx/>
                <a:latin typeface="Times New Roman"/>
              </a:rPr>
              <a:t>Гипотеза исследования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362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eaeaea"/>
                </a:solidFill>
                <a:latin typeface="Verdana"/>
              </a:rPr>
              <a:t>предполагалось,</a:t>
            </a: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что увеличение объема тренировочных упражнений, по интенсивности превышающих соревновательную нагрузку на 3,5-4%, а также рациональное применение средств тренировки, должно привести к повышению спортивно-технических результатов юных лыжников-гонщиков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beb21"/>
                </a:solidFill>
                <a:uFillTx/>
                <a:latin typeface="Times New Roman"/>
              </a:rPr>
              <a:t>Цель</a:t>
            </a:r>
            <a:r>
              <a:rPr b="0" lang="en-US" sz="4400" spc="-1" strike="noStrike" u="sng">
                <a:solidFill>
                  <a:srgbClr val="fbeb21"/>
                </a:solidFill>
                <a:uFillTx/>
                <a:latin typeface="Times New Roman"/>
              </a:rPr>
              <a:t> </a:t>
            </a:r>
            <a:r>
              <a:rPr b="1" lang="en-US" sz="5400" spc="-1" strike="noStrike" u="sng">
                <a:solidFill>
                  <a:srgbClr val="fbeb21"/>
                </a:solidFill>
                <a:uFillTx/>
                <a:latin typeface="Times New Roman"/>
              </a:rPr>
              <a:t>исследования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совершенствование учебно-тренировочного процесса юных лыжников-гонщиков в возрасте 15-17 лет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006666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99"/>
                </a:solidFill>
                <a:uFillTx/>
                <a:latin typeface="Times New Roman"/>
              </a:rPr>
              <a:t>Задачи исследования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5690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3880" indent="-6238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Определить оптимальный объем и интенсивность тренировочных нагрузок в годичном цикле подготовки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23880" indent="-6238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Выявить влияние изменения объема и интенсивности на спортивный результат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23880" indent="-6238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Дать практические рекомендации по планированию тренировочных нагрузок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beb21"/>
                </a:solidFill>
                <a:uFillTx/>
                <a:latin typeface="Times New Roman"/>
              </a:rPr>
              <a:t>Методы  исследования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3640" y="1773360"/>
            <a:ext cx="85690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3880" indent="-6238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Анализ научно-методической и специальной литературы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23880" indent="-6238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Анализ тренировочных планов и дневников спортсменов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23880" indent="-6238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Педагогические наблюдения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23880" indent="-6238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Педагогический эксперимент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23880" indent="-6238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Контрольное тестирование различных сторон подготовленности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23880" indent="-6238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Диспансерное обследование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23880" indent="-6238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Математическая статистика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2250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49636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Verdana"/>
              </a:rPr>
              <a:t>Таблица 1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9636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Verdana"/>
              </a:rPr>
              <a:t>РАСПРЕДЕЛЕНИЕ ОБЪЕМА СПЕЦИАЛЬНО-ПОДГОТОВИТЕЛЬНЫХ СРЕДСТВ НА 2 ЭТАПЕ ПОДГОТОВИТЕЛЬНОГО ПЕРИОД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25720" y="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-252360" y="6342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-56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431640" tIns="-913680" bIns="-91368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481640" y="6900120"/>
            <a:ext cx="18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endParaRPr b="0" lang="en-US" sz="13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8360" y="5191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098880" y="593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98880" y="593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24000" y="1341360"/>
          <a:ext cx="8496000" cy="4966560"/>
        </p:xfrm>
        <a:graphic>
          <a:graphicData uri="http://schemas.openxmlformats.org/drawingml/2006/table">
            <a:tbl>
              <a:tblPr/>
              <a:tblGrid>
                <a:gridCol w="2996280"/>
                <a:gridCol w="916560"/>
                <a:gridCol w="916560"/>
                <a:gridCol w="916920"/>
                <a:gridCol w="916200"/>
                <a:gridCol w="916920"/>
                <a:gridCol w="916560"/>
              </a:tblGrid>
              <a:tr h="81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Средства подготовки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июнь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июль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вг.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сент.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кт.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138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еременный бег с имитацией, км (при ЧСС 145-190 уд/мин.)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6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24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34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78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38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рыжковая имитация в подъем, км (при ЧСС 155-185 уд/мин.)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138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ередвижение на лыжероллерах, км  (при ЧСС 145-175 уд/мин.)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40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50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40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40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2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9T06:54:36Z</dcterms:created>
  <dc:creator>1</dc:creator>
  <dc:description/>
  <dc:language>en-US</dc:language>
  <cp:lastModifiedBy>Admin</cp:lastModifiedBy>
  <dcterms:modified xsi:type="dcterms:W3CDTF">2012-04-28T05:47:09Z</dcterms:modified>
  <cp:revision>126</cp:revision>
  <dc:subject/>
  <dc:title>Название</dc:title>
</cp:coreProperties>
</file>