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FA8-00FB-4C19-A818-277DC74B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CD6-5774-4BDA-9F78-808969E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567-4B87-442C-863F-DF56BC6C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058-44D1-48DD-A353-650A3786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BC63-0E98-4185-A5B5-CB1685F7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E253-5C32-4D3B-BB24-13173FC7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9135-EEBD-4E72-B7C9-9FB9F621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CA92-5DDE-46AA-A4B6-5F993B25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0EAD-E548-4ED4-882F-5B25FD57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5820-6C09-467A-B97D-DC22BC52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9BB2-9343-4AA8-83B5-769A9A5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4DD-AA31-41EA-98E2-90053F60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8BE9-EAB7-4C16-947C-D2E692E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6F0E-CDC1-4F0C-B1EB-14FAE26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5C71-2ED6-4724-8072-14ECC83E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7488-8A94-4216-972F-4F969A59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CA28-1A4F-4048-996D-D0A67441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7E5-5816-40F2-8AD8-75145DCD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C04-2269-4461-BB14-C400FDEF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8DB-E96B-4874-8B1B-33BBA53A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D7D-0790-4C03-8A8B-92593D10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1A0-79F6-4EF4-A485-FAE508A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550-D80E-410F-BBF4-072DCAC1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10C-078C-4907-B986-036CACB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E1C2-D135-44D3-8B6A-C2A84209315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FC23-2FFA-4366-8FC9-445BCE44DBB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66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ВЛИЯНИЕ ОБЪЕМА И ИНТЕНСИВНОСТИ ТРЕНИРОВОЧНЫХ НАГРУЗОК В ГОДИЧНОМ ЦИКЛЕ ПОДГОТОВКИ ЮНЫХ ЛЫЖНИКОВ-ГОНЩИКОВ НА ИХ СПОРТИВНЫЙ РЕЗУЛЬТАТ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16000" y="5950080"/>
            <a:ext cx="7880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ЕГОРОВ Алексей Петрович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60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ОКАЗАТЕЛИ ФИЗИЧЕСКОЙ ПОДГОТОВЛЕННОСТИ ИСПЫТУЕМЫХ ДВУХ ГРУПП  ПЕРЕД НАЧАЛОМ ПЕДАГОГИЧЕСКОГО ЭКСПЕРИМЕНТА (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5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2,10,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1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2.8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557360"/>
          <a:ext cx="8064360" cy="4391640"/>
        </p:xfrm>
        <a:graphic>
          <a:graphicData uri="http://schemas.openxmlformats.org/drawingml/2006/table">
            <a:tbl>
              <a:tblPr/>
              <a:tblGrid>
                <a:gridCol w="3238560"/>
                <a:gridCol w="1608480"/>
                <a:gridCol w="1592640"/>
                <a:gridCol w="743760"/>
                <a:gridCol w="8809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трольные упражнения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 м, с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,10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,30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ыжок в длину с места, см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3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68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4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98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0 м, с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росс 5000 м, с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88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2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97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ОСНОВНЫЕ ПОКАЗАТЕЛИ ТРЕНИРОВОЧНЫХ НАГРУЗОК ИСПЫТУЕМЫХ НА ПЕРВОМ ЭТАПЕ ПЕДАГОГИЧЕСКОГО ЭКСПЕРИМЕНТ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484280"/>
          <a:ext cx="8424720" cy="5102280"/>
        </p:xfrm>
        <a:graphic>
          <a:graphicData uri="http://schemas.openxmlformats.org/drawingml/2006/table">
            <a:tbl>
              <a:tblPr/>
              <a:tblGrid>
                <a:gridCol w="1990440"/>
                <a:gridCol w="1073160"/>
                <a:gridCol w="1070280"/>
                <a:gridCol w="1072800"/>
                <a:gridCol w="1073160"/>
                <a:gridCol w="1071720"/>
                <a:gridCol w="10731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казатели нагрузк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дготовительный пери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ревновательный пери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 г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ичество тренировочных дне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ая продолжительность занятий, час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5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9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ий объем циклической нагрузки, км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м нагрузки различной интенсивности по отношению к соревновательно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% и больше, км/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/3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,5/0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1/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/0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6/3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/0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-100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3/4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8/4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0/12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2/12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3/7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0/7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-90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0/38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53/4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26/45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58/42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76/41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1/4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% и меньш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42/53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26/52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63/36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94/44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05/46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20/49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У и силовые упражнения, час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3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портивные и подвижные игры, час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-1584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ОСНОВНЫЕ ПОКАЗАТЕЛИ ТРЕНИРОВОЧНЫХ НАГРУЗОК ИСПЫТУЕМЫХ НА ВТОРОМ ЭТАПЕ ПЕДАГОГИЧЕСКОГО ЭКСПЕРИМЕН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341360"/>
          <a:ext cx="8756640" cy="5253120"/>
        </p:xfrm>
        <a:graphic>
          <a:graphicData uri="http://schemas.openxmlformats.org/drawingml/2006/table">
            <a:tbl>
              <a:tblPr/>
              <a:tblGrid>
                <a:gridCol w="2070000"/>
                <a:gridCol w="1114560"/>
                <a:gridCol w="1114560"/>
                <a:gridCol w="1114200"/>
                <a:gridCol w="1114560"/>
                <a:gridCol w="1114200"/>
                <a:gridCol w="11145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казатели нагрузки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дготовительный период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ревновательный период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 год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ичество тренировочных дней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ая продолжительность занятий, час.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74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ий объем циклической нагрузки, км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м нагрузки различной интенсивности по отношению к соревновательной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% и больше, км/%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/3,2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/0,6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6/4,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/1,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2/3,6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/0,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-100%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/5,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9/5,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4/11,7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4/11,7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8/8,2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3/7,9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-90%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35/44,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25/47,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34/41,7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18/40,9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69/43,4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43/44,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% и меньше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95/46,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98/46,6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6/42,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26/46,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41/44,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24/46,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У и силовые упражнения, час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портивные и подвижные игры, час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06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ПОКАЗАТЕЛИ ФИЗИЧЕСКОЙ ПОДГОТОВЛЕННОСТИ ЛЫЖНИКОВ-ГОНЩИКОВ В  КОНЦЕ ПЕРВОГО ЭТАПА ПЕДАГОГИЧЕСКОГО ЭКСПЕРИМЕНТ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5</a:t>
            </a: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 2,10, 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</a:t>
            </a: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 2.88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9640" y="1341360"/>
          <a:ext cx="8064720" cy="5192640"/>
        </p:xfrm>
        <a:graphic>
          <a:graphicData uri="http://schemas.openxmlformats.org/drawingml/2006/table">
            <a:tbl>
              <a:tblPr/>
              <a:tblGrid>
                <a:gridCol w="3238560"/>
                <a:gridCol w="1608120"/>
                <a:gridCol w="1592280"/>
                <a:gridCol w="744480"/>
                <a:gridCol w="881280"/>
              </a:tblGrid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трольные упражнения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,5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,1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1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ыжок в длину с места, см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6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0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3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3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3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росс 5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1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1000 м, мин.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3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5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10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5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17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82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ОКАЗАТЕЛИ ФИЗИЧЕСКОЙ ПОДГОТОВЛЕННОСТИ ЛЫЖНИКОВ-ГОНЩИКОВ В КОНЦЕ ВТОРОГО ЭТАПА ПЕДАГОГИЧЕСКОГО ЭКСПЕРИМЕНТА (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5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2,10,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1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2.8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95280" y="1557360"/>
          <a:ext cx="8280000" cy="4824000"/>
        </p:xfrm>
        <a:graphic>
          <a:graphicData uri="http://schemas.openxmlformats.org/drawingml/2006/table">
            <a:tbl>
              <a:tblPr/>
              <a:tblGrid>
                <a:gridCol w="3082680"/>
                <a:gridCol w="1917000"/>
                <a:gridCol w="1535040"/>
                <a:gridCol w="830520"/>
                <a:gridCol w="914760"/>
              </a:tblGrid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трольные упражнения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,27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9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ыжок в длину с места, см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6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4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1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росс 5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1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5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5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10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4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85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403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ООТНОШЕНИЕ НАГРУЗОК РАЗЛИЧНОЙ ИНТЕНСИВНОСТИ В ГОДИЧНОМ ЦИКЛЕ ПОДГОТОВКИ ЛЫЖНИКОВ-ГОНЩИКОВ 15-17 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2133720"/>
          <a:ext cx="8135640" cy="3815640"/>
        </p:xfrm>
        <a:graphic>
          <a:graphicData uri="http://schemas.openxmlformats.org/drawingml/2006/table">
            <a:tbl>
              <a:tblPr/>
              <a:tblGrid>
                <a:gridCol w="2711520"/>
                <a:gridCol w="2711880"/>
                <a:gridCol w="2712240"/>
              </a:tblGrid>
              <a:tr h="57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тенсивность нагрузок в % от соревновательной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отношение нагрузок разной интенсивности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% и больше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5-20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5-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-100%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50-37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-7,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-90%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50-220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3-4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% и меньше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50-230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-4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beb21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66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Times New Roman"/>
              </a:rPr>
              <a:t>Научная новизн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35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бусловлена рациональная структура объема тренировочных нагрузок различной интенсивности в годичном цикле подготовки юных лыжников-гонщиков, за счет применения работы с интенсивностью, превышающей соревновательную на 3,5-4%, что привело к более высокому спортивному результату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Объект</a:t>
            </a:r>
            <a:r>
              <a:rPr b="0" lang="en-US" sz="4400" spc="-1" strike="noStrike" u="sng">
                <a:solidFill>
                  <a:srgbClr val="fbeb21"/>
                </a:solidFill>
                <a:uFillTx/>
                <a:latin typeface="Times New Roman"/>
              </a:rPr>
              <a:t> </a:t>
            </a: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35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система и структура тренировочных нагрузок в годичном цикле подготовки юных лыжников-гонщик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Предмет</a:t>
            </a:r>
            <a:r>
              <a:rPr b="0" lang="en-US" sz="4400" spc="-1" strike="noStrike" u="sng">
                <a:solidFill>
                  <a:srgbClr val="fbeb21"/>
                </a:solidFill>
                <a:uFillTx/>
                <a:latin typeface="Times New Roman"/>
              </a:rPr>
              <a:t> </a:t>
            </a: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35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соотношение объема и интенсивности тренировочных нагрузок в годичном цикле подготовки и их влияние на спортивный результа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66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Times New Roman"/>
              </a:rPr>
              <a:t>Гипотеза 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предполагалось,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что увеличение объема тренировочных упражнений, по интенсивности превышающих соревновательную нагрузку на 3,5-4%, а также рациональное применение средств тренировки, должно привести к повышению спортивно-технических результатов юных лыжников-гонщико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Цель</a:t>
            </a:r>
            <a:r>
              <a:rPr b="0" lang="en-US" sz="4400" spc="-1" strike="noStrike" u="sng">
                <a:solidFill>
                  <a:srgbClr val="fbeb21"/>
                </a:solidFill>
                <a:uFillTx/>
                <a:latin typeface="Times New Roman"/>
              </a:rPr>
              <a:t> </a:t>
            </a: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совершенствование учебно-тренировочного процесса юных лыжников-гонщиков в возрасте 15-17 ле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66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Times New Roman"/>
              </a:rPr>
              <a:t>Задачи 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6238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пределить оптимальный объем и интенсивность тренировочных нагрузок в годичном цикле подготов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ыявить влияние изменения объема и интенсивности на спортивный результа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Дать практические рекомендации по планированию тренировочных нагруз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Методы  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нализ научно-методической и специальной литературы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нализ тренировочных планов и дневников спортсменов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дагогические наблюдени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дагогический эксперимент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онтрольное тестирование различных сторон подготовленност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Диспансерное обследование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атематическая статистик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5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РАСПРЕДЕЛЕНИЕ ОБЪЕМА СПЕЦИАЛЬНО-ПОДГОТОВИТЕЛЬНЫХ СРЕДСТВ НА 2 ЭТАПЕ ПОДГОТОВИТЕЛЬНОГО ПЕРИ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00" y="1341360"/>
          <a:ext cx="8496000" cy="4966560"/>
        </p:xfrm>
        <a:graphic>
          <a:graphicData uri="http://schemas.openxmlformats.org/drawingml/2006/table">
            <a:tbl>
              <a:tblPr/>
              <a:tblGrid>
                <a:gridCol w="2996280"/>
                <a:gridCol w="916560"/>
                <a:gridCol w="916560"/>
                <a:gridCol w="916920"/>
                <a:gridCol w="916200"/>
                <a:gridCol w="916920"/>
                <a:gridCol w="916560"/>
              </a:tblGrid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едства подготовки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г.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ент.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кт.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3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менный бег с имитацией, км (при ЧСС 145-190 уд/мин.)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78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ыжковая имитация в подъем, км (при ЧСС 155-185 уд/мин.)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3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ероллерах, км  (при ЧСС 145-175 уд/мин.)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6:54:36Z</dcterms:created>
  <dc:creator>1</dc:creator>
  <dc:description/>
  <dc:language>en-US</dc:language>
  <cp:lastModifiedBy>Admin</cp:lastModifiedBy>
  <dcterms:modified xsi:type="dcterms:W3CDTF">2012-04-28T05:47:09Z</dcterms:modified>
  <cp:revision>126</cp:revision>
  <dc:subject/>
  <dc:title>Название</dc:title>
</cp:coreProperties>
</file>