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0476-76D3-4395-ADF3-3DA42CD0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45F-A2B9-41A7-B761-08B54A23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E42-82A6-4FA0-926A-2424822D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A43-4A6C-46B8-B69B-2FBC62E9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780-F224-49DA-9E24-97068F25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8B7-D1C0-453C-B502-264D32DE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5EA9-C9A4-4BF3-AF4C-397EEE89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8B5B-F00B-4516-AFBD-0126A7C5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DBF-6121-4ABB-A9AB-2F7AC0A9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AE0-82D5-46E1-9894-784E718E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1739-3B80-4A44-98BD-03D75F45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C26-BA5E-4E15-942B-E3DCC4D0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0E53-3C8B-4CD9-A41A-F0C242139C4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056D-232A-4423-9872-BD8C46C787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0_8e643_a73a254e_XXX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2"/>
          <a:stretch/>
        </p:blipFill>
        <p:spPr>
          <a:xfrm>
            <a:off x="1390680" y="1212840"/>
            <a:ext cx="6437160" cy="1639800"/>
          </a:xfrm>
          <a:prstGeom prst="rect">
            <a:avLst/>
          </a:prstGeom>
          <a:ln w="0">
            <a:noFill/>
          </a:ln>
        </p:spPr>
      </p:pic>
      <p:sp>
        <p:nvSpPr>
          <p:cNvPr id="4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A536-993F-4D18-BA36-414795C855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979640" y="292428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Урок технологии в 1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«Подснежн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3" descr="post-57410-1270195768.jpg"/>
          <p:cNvPicPr/>
          <p:nvPr/>
        </p:nvPicPr>
        <p:blipFill>
          <a:blip r:embed="rId1"/>
          <a:stretch/>
        </p:blipFill>
        <p:spPr>
          <a:xfrm>
            <a:off x="-281160" y="-255600"/>
            <a:ext cx="9644400" cy="73692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plastilinchik.jpg"/>
          <p:cNvPicPr/>
          <p:nvPr/>
        </p:nvPicPr>
        <p:blipFill>
          <a:blip r:embed="rId2"/>
          <a:stretch/>
        </p:blipFill>
        <p:spPr>
          <a:xfrm>
            <a:off x="1908000" y="2054160"/>
            <a:ext cx="4334040" cy="42498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4" descr=""/>
          <p:cNvPicPr/>
          <p:nvPr/>
        </p:nvPicPr>
        <p:blipFill>
          <a:blip r:embed="rId3"/>
          <a:stretch/>
        </p:blipFill>
        <p:spPr>
          <a:xfrm>
            <a:off x="493560" y="1371600"/>
            <a:ext cx="7444080" cy="174312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5" descr=""/>
          <p:cNvPicPr/>
          <p:nvPr/>
        </p:nvPicPr>
        <p:blipFill>
          <a:blip r:embed="rId4"/>
          <a:stretch/>
        </p:blipFill>
        <p:spPr>
          <a:xfrm>
            <a:off x="701640" y="665280"/>
            <a:ext cx="7394760" cy="117612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E488-57B3-4095-9467-F1CF6FF12E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47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ожите пластилин, который будете использовать в работе. Нам понадобится белый, голубой, зеленый и их оттен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C349-1F69-452C-830F-BD547CDC3E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s://creativebaby.ru/wp-content/uploads/2018/07/IMG_8707.jpg"/>
          <p:cNvPicPr/>
          <p:nvPr/>
        </p:nvPicPr>
        <p:blipFill>
          <a:blip r:embed="rId1"/>
          <a:srcRect l="0" t="0" r="0" b="3743"/>
          <a:stretch/>
        </p:blipFill>
        <p:spPr>
          <a:xfrm>
            <a:off x="4284720" y="1557360"/>
            <a:ext cx="4137120" cy="472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s://creativebaby.ru/wp-content/uploads/2018/07/IMG_8750.jpg"/>
          <p:cNvPicPr/>
          <p:nvPr/>
        </p:nvPicPr>
        <p:blipFill>
          <a:blip r:embed="rId2"/>
          <a:srcRect l="0" t="0" r="0" b="6242"/>
          <a:stretch/>
        </p:blipFill>
        <p:spPr>
          <a:xfrm>
            <a:off x="611280" y="2492280"/>
            <a:ext cx="302400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таем жгутик из оттенков зеленого пластилина и сделаем стебелек.  Лишнее обрезаем стек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9EC2-AD4A-422A-9C72-613B32D631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s://creativebaby.ru/wp-content/uploads/2018/07/IMG_8710-12.jpg"/>
          <p:cNvPicPr/>
          <p:nvPr/>
        </p:nvPicPr>
        <p:blipFill>
          <a:blip r:embed="rId1"/>
          <a:srcRect l="0" t="0" r="0" b="7547"/>
          <a:stretch/>
        </p:blipFill>
        <p:spPr>
          <a:xfrm>
            <a:off x="527040" y="1628640"/>
            <a:ext cx="861696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8E58-3E7A-43EE-8219-A4E8299E8D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611280" y="1890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м к листикам. Сначала жгутиками делаем контур, а потом небольшими кусочками разных оттенков зеленого пластилина заполняем их внутри. Нужно хорошо разгладить основу пальчиками, чтобы получилась гладкая поверх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s://creativebaby.ru/wp-content/uploads/2018/07/IMG_8713-18.jpg"/>
          <p:cNvPicPr/>
          <p:nvPr/>
        </p:nvPicPr>
        <p:blipFill>
          <a:blip r:embed="rId1"/>
          <a:srcRect l="0" t="0" r="0" b="4374"/>
          <a:stretch/>
        </p:blipFill>
        <p:spPr>
          <a:xfrm>
            <a:off x="2556000" y="2060640"/>
            <a:ext cx="561636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15E5-3D40-48C5-8724-4EFD544EA9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1116000" y="33336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ком делаем рельеф, имитируя прожилки на лист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s://creativebaby.ru/wp-content/uploads/2018/07/IMG_8719-24.jpg"/>
          <p:cNvPicPr/>
          <p:nvPr/>
        </p:nvPicPr>
        <p:blipFill>
          <a:blip r:embed="rId1"/>
          <a:srcRect l="0" t="0" r="0" b="9802"/>
          <a:stretch/>
        </p:blipFill>
        <p:spPr>
          <a:xfrm>
            <a:off x="539640" y="1341360"/>
            <a:ext cx="82933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F09E-8997-47D3-B41C-DB29FBC5FC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611280" y="33336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цветка нам понадобится белый, голубой и светло-голубой ц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s://creativebaby.ru/wp-content/uploads/2018/07/IMG_8726.jpg"/>
          <p:cNvPicPr/>
          <p:nvPr/>
        </p:nvPicPr>
        <p:blipFill>
          <a:blip r:embed="rId1"/>
          <a:srcRect l="0" t="0" r="0" b="9587"/>
          <a:stretch/>
        </p:blipFill>
        <p:spPr>
          <a:xfrm>
            <a:off x="1692360" y="1484280"/>
            <a:ext cx="5904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1791-D057-47FE-9852-D3A8165F78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611280" y="260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чала заполняем листик посередине, потом два верхних. Стеком делаем прожи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creativebaby.ru/wp-content/uploads/2018/07/IMG_8728-31.jpg"/>
          <p:cNvPicPr/>
          <p:nvPr/>
        </p:nvPicPr>
        <p:blipFill>
          <a:blip r:embed="rId1"/>
          <a:srcRect l="0" t="0" r="0" b="5462"/>
          <a:stretch/>
        </p:blipFill>
        <p:spPr>
          <a:xfrm>
            <a:off x="3851280" y="1197000"/>
            <a:ext cx="4489560" cy="551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s://creativebaby.ru/wp-content/uploads/2018/07/IMG_8750.jpg"/>
          <p:cNvPicPr/>
          <p:nvPr/>
        </p:nvPicPr>
        <p:blipFill>
          <a:blip r:embed="rId2"/>
          <a:srcRect l="0" t="0" r="0" b="6242"/>
          <a:stretch/>
        </p:blipFill>
        <p:spPr>
          <a:xfrm>
            <a:off x="395280" y="2276640"/>
            <a:ext cx="324000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65C0-D227-4354-A84E-1AC45A2DBD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900000" y="404640"/>
            <a:ext cx="60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ваем цветок сверху чашеч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s://creativebaby.ru/wp-content/uploads/2018/07/IMG_8732.jpg"/>
          <p:cNvPicPr/>
          <p:nvPr/>
        </p:nvPicPr>
        <p:blipFill>
          <a:blip r:embed="rId1"/>
          <a:srcRect l="0" t="0" r="0" b="4602"/>
          <a:stretch/>
        </p:blipFill>
        <p:spPr>
          <a:xfrm>
            <a:off x="3708360" y="1125360"/>
            <a:ext cx="4246560" cy="540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s://creativebaby.ru/wp-content/uploads/2018/07/IMG_8750.jpg"/>
          <p:cNvPicPr/>
          <p:nvPr/>
        </p:nvPicPr>
        <p:blipFill>
          <a:blip r:embed="rId2"/>
          <a:srcRect l="0" t="0" r="0" b="6242"/>
          <a:stretch/>
        </p:blipFill>
        <p:spPr>
          <a:xfrm>
            <a:off x="395280" y="2133720"/>
            <a:ext cx="3151080" cy="37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FA8D-0D09-478D-89D7-2DFBA65C45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539640" y="2602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ластилина коричневого цвета делаем зем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s://creativebaby.ru/wp-content/uploads/2018/07/IMG_8750.jpg"/>
          <p:cNvPicPr/>
          <p:nvPr/>
        </p:nvPicPr>
        <p:blipFill>
          <a:blip r:embed="rId1"/>
          <a:srcRect l="0" t="0" r="0" b="6242"/>
          <a:stretch/>
        </p:blipFill>
        <p:spPr>
          <a:xfrm>
            <a:off x="2195640" y="836640"/>
            <a:ext cx="4897440" cy="5829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5:31:36Z</dcterms:created>
  <dc:creator>Татьяна</dc:creator>
  <dc:description/>
  <dc:language>en-US</dc:language>
  <cp:lastModifiedBy>Фёдор</cp:lastModifiedBy>
  <dcterms:modified xsi:type="dcterms:W3CDTF">2019-05-28T18:56:47Z</dcterms:modified>
  <cp:revision>28</cp:revision>
  <dc:subject/>
  <dc:title>Слайд 1</dc:title>
</cp:coreProperties>
</file>