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956-CD6C-4E4D-BCC6-75C3AE22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0E5-2D5E-4386-BBC8-0C36ADD4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8EA-78D2-46EA-AE8B-92A604F6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333-4E5C-4C24-B0A7-18C4612B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199-27F4-41B8-8E60-CD060D13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DDD-5D32-4C24-8097-8C39B318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46B-06A3-4C0E-9679-8C0647B3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E88-A029-4C79-9E0D-77E3901E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41C-DA74-4C8F-B406-86B9E4B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A11-2CBE-405C-801C-A666CA28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27D-FD55-453B-ABFE-89525386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A8B-43FD-4EE7-BC70-E1A4EB0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F7B6-7DAC-44F3-868C-A95A3A2CFB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E010-EE86-412A-BF77-5C7F2CDF8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0_8e643_a73a254e_XX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1390680" y="1212840"/>
            <a:ext cx="6437160" cy="163980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9EE6-79F9-4E75-B7A1-D7270F417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979640" y="292428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Урок технологии в 1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«Подснеж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ost-57410-1270195768.jpg"/>
          <p:cNvPicPr/>
          <p:nvPr/>
        </p:nvPicPr>
        <p:blipFill>
          <a:blip r:embed="rId1"/>
          <a:stretch/>
        </p:blipFill>
        <p:spPr>
          <a:xfrm>
            <a:off x="-281160" y="-255600"/>
            <a:ext cx="9644400" cy="7369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plastilinchik.jpg"/>
          <p:cNvPicPr/>
          <p:nvPr/>
        </p:nvPicPr>
        <p:blipFill>
          <a:blip r:embed="rId2"/>
          <a:stretch/>
        </p:blipFill>
        <p:spPr>
          <a:xfrm>
            <a:off x="1908000" y="2054160"/>
            <a:ext cx="4334040" cy="42498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" descr=""/>
          <p:cNvPicPr/>
          <p:nvPr/>
        </p:nvPicPr>
        <p:blipFill>
          <a:blip r:embed="rId3"/>
          <a:stretch/>
        </p:blipFill>
        <p:spPr>
          <a:xfrm>
            <a:off x="493560" y="1371600"/>
            <a:ext cx="744408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5" descr=""/>
          <p:cNvPicPr/>
          <p:nvPr/>
        </p:nvPicPr>
        <p:blipFill>
          <a:blip r:embed="rId4"/>
          <a:stretch/>
        </p:blipFill>
        <p:spPr>
          <a:xfrm>
            <a:off x="701640" y="665280"/>
            <a:ext cx="7394760" cy="117612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2880-5681-47E0-B265-690FBB1A2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47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е пластилин, который будете использовать в работе. Нам понадобится белый, голубой, зеленый и их оттен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FCC7-A4CB-4B30-9208-520EB310D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creativebaby.ru/wp-content/uploads/2018/07/IMG_8707.jpg"/>
          <p:cNvPicPr/>
          <p:nvPr/>
        </p:nvPicPr>
        <p:blipFill>
          <a:blip r:embed="rId1"/>
          <a:srcRect l="0" t="0" r="0" b="3743"/>
          <a:stretch/>
        </p:blipFill>
        <p:spPr>
          <a:xfrm>
            <a:off x="4284720" y="1557360"/>
            <a:ext cx="4137120" cy="472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611280" y="2492280"/>
            <a:ext cx="30240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таем жгутик из оттенков зеленого пластилина и сделаем стебелек.  Лишнее обрезаем сте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10CF-C2F9-4A94-8699-F9E07A253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creativebaby.ru/wp-content/uploads/2018/07/IMG_8710-12.jpg"/>
          <p:cNvPicPr/>
          <p:nvPr/>
        </p:nvPicPr>
        <p:blipFill>
          <a:blip r:embed="rId1"/>
          <a:srcRect l="0" t="0" r="0" b="7547"/>
          <a:stretch/>
        </p:blipFill>
        <p:spPr>
          <a:xfrm>
            <a:off x="527040" y="1628640"/>
            <a:ext cx="86169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9ABD-402E-4AAC-9654-7918AA019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611280" y="189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м к листикам. Сначала жгутиками делаем контур, а потом небольшими кусочками разных оттенков зеленого пластилина заполняем их внутри. Нужно хорошо разгладить основу пальчиками, чтобы получилась гладкая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reativebaby.ru/wp-content/uploads/2018/07/IMG_8713-18.jpg"/>
          <p:cNvPicPr/>
          <p:nvPr/>
        </p:nvPicPr>
        <p:blipFill>
          <a:blip r:embed="rId1"/>
          <a:srcRect l="0" t="0" r="0" b="4374"/>
          <a:stretch/>
        </p:blipFill>
        <p:spPr>
          <a:xfrm>
            <a:off x="2556000" y="2060640"/>
            <a:ext cx="56163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4DD2-8A0E-47F2-B246-D41D1074A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116000" y="333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ом делаем рельеф, имитируя прожилки на лис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creativebaby.ru/wp-content/uploads/2018/07/IMG_8719-24.jpg"/>
          <p:cNvPicPr/>
          <p:nvPr/>
        </p:nvPicPr>
        <p:blipFill>
          <a:blip r:embed="rId1"/>
          <a:srcRect l="0" t="0" r="0" b="9802"/>
          <a:stretch/>
        </p:blipFill>
        <p:spPr>
          <a:xfrm>
            <a:off x="539640" y="1341360"/>
            <a:ext cx="82933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38CC-3248-4882-8FE2-AF78DC52A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61128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цветка нам понадобится белый, голубой и светло-голубой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s://creativebaby.ru/wp-content/uploads/2018/07/IMG_8726.jpg"/>
          <p:cNvPicPr/>
          <p:nvPr/>
        </p:nvPicPr>
        <p:blipFill>
          <a:blip r:embed="rId1"/>
          <a:srcRect l="0" t="0" r="0" b="9587"/>
          <a:stretch/>
        </p:blipFill>
        <p:spPr>
          <a:xfrm>
            <a:off x="1692360" y="1484280"/>
            <a:ext cx="59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CD7A-B7B0-467D-A440-68FC140CA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611280" y="260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заполняем листик посередине, потом два верхних. Стеком делаем прож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creativebaby.ru/wp-content/uploads/2018/07/IMG_8728-31.jpg"/>
          <p:cNvPicPr/>
          <p:nvPr/>
        </p:nvPicPr>
        <p:blipFill>
          <a:blip r:embed="rId1"/>
          <a:srcRect l="0" t="0" r="0" b="5462"/>
          <a:stretch/>
        </p:blipFill>
        <p:spPr>
          <a:xfrm>
            <a:off x="3851280" y="1197000"/>
            <a:ext cx="4489560" cy="551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395280" y="2276640"/>
            <a:ext cx="32400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1C93-8658-4587-A322-DC990F817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900000" y="404640"/>
            <a:ext cx="60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ваем цветок сверху чаше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creativebaby.ru/wp-content/uploads/2018/07/IMG_8732.jpg"/>
          <p:cNvPicPr/>
          <p:nvPr/>
        </p:nvPicPr>
        <p:blipFill>
          <a:blip r:embed="rId1"/>
          <a:srcRect l="0" t="0" r="0" b="4602"/>
          <a:stretch/>
        </p:blipFill>
        <p:spPr>
          <a:xfrm>
            <a:off x="3708360" y="1125360"/>
            <a:ext cx="4246560" cy="540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395280" y="2133720"/>
            <a:ext cx="315108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8F7-7616-468F-AC61-9B8143CFC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53964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ластилина коричневого цвета делаем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s://creativebaby.ru/wp-content/uploads/2018/07/IMG_8750.jpg"/>
          <p:cNvPicPr/>
          <p:nvPr/>
        </p:nvPicPr>
        <p:blipFill>
          <a:blip r:embed="rId1"/>
          <a:srcRect l="0" t="0" r="0" b="6242"/>
          <a:stretch/>
        </p:blipFill>
        <p:spPr>
          <a:xfrm>
            <a:off x="2195640" y="836640"/>
            <a:ext cx="4897440" cy="582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31:36Z</dcterms:created>
  <dc:creator>Татьяна</dc:creator>
  <dc:description/>
  <dc:language>en-US</dc:language>
  <cp:lastModifiedBy>Фёдор</cp:lastModifiedBy>
  <dcterms:modified xsi:type="dcterms:W3CDTF">2019-05-28T18:56:47Z</dcterms:modified>
  <cp:revision>28</cp:revision>
  <dc:subject/>
  <dc:title>Слайд 1</dc:title>
</cp:coreProperties>
</file>