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F8A-87B2-47A6-AA3E-6BB6DFDB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538-4215-45DD-A6F6-6E8FAB3B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EB8-67C2-4919-A47A-5D530815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A70-E81C-4770-B416-A748A555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F052-8314-49DD-AE14-AD6258B7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EA9F-5C86-4440-AE67-60249905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7C6F-A550-4B52-A66F-DD13ECE3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3D56-3ACB-4A8E-B180-3CBF1F11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2413-1B6B-4901-A1E0-52B51871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5560-90CB-4DD8-85D2-C8E300A2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8EE6-BF55-41F9-A4E8-6D649097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9D5-EDEB-4DA4-866B-A985280A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95BD-123E-4EDD-B5E0-66024667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630C-5303-43F5-B4D5-5EDEE07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839E-12B2-4B92-AD16-1E43D2B0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FF89-FD99-48A3-8681-CA40C8E0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6E23-CCF2-42EC-9F0D-A71C0E54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0CAD-A743-46B4-AB37-02693747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F1B7-2A6E-41E0-BF7D-A02EF223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CC4E-FB9F-4D9B-B7B0-7094C8EE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5F9A-6FD2-47A3-A607-4515A7AD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7689-60A9-4BA6-8DCA-977B7660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FD0-2D82-4304-B2AC-17BA9C28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1535-E0AE-45C6-B49B-01F53C0B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CFBBC-64C0-402F-96D7-6587AFB5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5B96-2200-4015-BB60-33FC5988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A55C-4C75-4764-85D0-A9F28B04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55DD-A061-4E32-9840-B6E2D393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3E46-02CC-4FDB-8070-13A7501A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083B-EE3F-4F27-887B-8293E624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C78A0-808D-4402-ACAC-39299C19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41D7-AFF8-4D23-8D17-AD86050E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7339-1A04-4E54-94B2-44AFB2FD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8C2-25FD-4061-BFB7-F03B5C22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215E2-DAA2-447D-A0A5-517E6C1B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DEF7A-E5E5-405D-8C79-9A9A9F66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6245-ABED-4625-B5AF-D93D629C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41478-197E-4DAE-903E-BAEFAAC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5C84A-6C64-4CCE-BDAE-7451239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E195-56A1-4BC0-88D2-4199A4F9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19DC-075D-49C0-8417-42DD09D6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17FDA-ABB7-4F69-BA61-D4965516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3A17-AB40-44FE-B319-3565E597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46F8-70A0-4DB0-ABC3-948EF4D6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87C-B482-4932-82C1-46079B49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4A1C9-12D0-4CFB-A39A-077F7D4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CC4C4-455E-47A0-A909-095677E1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9E2D2-CD2F-419C-BC69-CAB690C5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9E002-A7B5-4861-89F2-00F5ACA7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AF1F1-BE70-42A4-BC7D-E80814FF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B2503-B8EE-4A9A-BC5F-4B52CC42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422D-6541-4CAA-952C-D6A06D23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4EF5B-8092-45C8-9F6F-B75055DC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9848D-FAAF-4625-B73D-8E358817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BA729-92E9-49FB-8528-A5659092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3B6-FEFA-40D8-8ECD-CA7A2CB7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F5E89-2A40-42C6-8229-8B08C96B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F71-56F4-4A33-8FEA-8C7EDC01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4F0-6DDF-4409-849D-FF701315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ADB-7457-492C-904C-BE23927E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6FA5-42A4-4BA5-B8B8-9E77996004E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C0B9-7CB0-46AE-BC2E-CA92DF6B610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F083-0083-4D24-A0DC-0BDD9DB7CE3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9C49-E3FE-49E0-85A9-D80164982BA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C829-06F8-4E33-8DE7-74B259DDF2E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414360" y="291960"/>
            <a:ext cx="7980480" cy="28591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5076720" y="5373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4b73"/>
                </a:solidFill>
                <a:latin typeface="Arial"/>
              </a:rPr>
              <a:t>Выполнила: воспитатель</a:t>
            </a:r>
            <a:r>
              <a:rPr b="0" lang="en-US" sz="1800" spc="-1" strike="noStrike">
                <a:solidFill>
                  <a:srgbClr val="a34b7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34b73"/>
                </a:solidFill>
                <a:latin typeface="Arial"/>
              </a:rPr>
              <a:t>Зверева Валенти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http://www.sun37.ru/roditeli3-12_files/f9.gif"/>
          <p:cNvPicPr/>
          <p:nvPr/>
        </p:nvPicPr>
        <p:blipFill>
          <a:blip r:embed="rId2"/>
          <a:stretch/>
        </p:blipFill>
        <p:spPr>
          <a:xfrm>
            <a:off x="0" y="2703600"/>
            <a:ext cx="464328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0560" y="333000"/>
            <a:ext cx="84978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Уровень развития детей находится в прямой зависимости от степени развития мелкой моторики рук. Если движение пальцев рук развито в соответствии с возрастом, то и речевое развитие находится в пределах нормы. Игры с прищепками идеально подходят для развития мелкой моторики ребенка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Кроме того, развивая мелкую моторику у малыша, мы одновременно развиваем его творческий потенциал. И через некоторое время вы заметите, что ребенок пытается конструировать сложные модели, рисовать объемные элементы, объединять и скреплять то, что скрепить нельзя по определению. Вместе с мелкой моторикой развивается логическое мышление ребенка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Движение  пальцев и кистей рук имеет особое стимулирующее воздействие и положительно влияет не только на речевые функции, но и на здоровье  малыша. Совершенствует внимание, память, восприятие, мышление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роведение игр на развитие мелкой моторики позволяет облегчить будущим школьникам усвоение навыков  письма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Игры с прищепками таят в себе нераскрытые возможности, требуют усидчивости и терпения. И так, играем…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500200" y="928800"/>
            <a:ext cx="42148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96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2281320" y="1071720"/>
            <a:ext cx="50767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96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834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2286000" y="1071720"/>
            <a:ext cx="502776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</a:rPr>
              <a:t>Игры с прищепками прекрасно тренируют мелкую моторику, развивают тактильные ощущения, цветовое восприятие, фантазию и творческие способности. 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</a:rPr>
              <a:t>Все фигуры (кроме «Солнышка») выполнены из фанеры, устойчиво стоят на столе, очень удобно с ними работать.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</a:rPr>
              <a:t>ЖЕЛАЮ УСПЕХА!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28:37Z</dcterms:created>
  <dc:creator>Милейшева Надежда</dc:creator>
  <dc:description/>
  <dc:language>en-US</dc:language>
  <cp:lastModifiedBy>Microsoft Office</cp:lastModifiedBy>
  <dcterms:modified xsi:type="dcterms:W3CDTF">2019-05-29T07:38:55Z</dcterms:modified>
  <cp:revision>23</cp:revision>
  <dc:subject/>
  <dc:title>ИГРЫ С ПРИЩЕПКАМИ</dc:title>
</cp:coreProperties>
</file>