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169-0ADC-4103-A5EA-0AC11EE4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2B1-D375-44A6-AC33-48CC11F8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3CD-5800-4CA9-94D3-28B99FF3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66F-E517-4D3C-B9C5-3E307A9A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FDBA-0EF0-4E54-A7D4-6619E851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80E0-76E4-46F6-8B58-A153131F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8B54-6B29-4DB4-B640-4EDD7FE6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EE3C-F8BF-4714-8B06-F4AAB6B8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3102-9684-49C9-8221-686DCC62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D58D-F1E1-4916-AF39-5691EF95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5D01-E8EA-41C1-9E75-4628058A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D97F-C9A2-46BE-BA90-D664656E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4ED6-0FB0-4A8A-AD7D-6EC2ED5F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A80F-3B75-4EF0-A8D8-3B555F52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28E0-A928-425E-90BD-31F478BC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C152-B20B-46D0-B0ED-82485597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882B-E458-4AC2-B971-AB515935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74CFD-D9F2-435C-8506-18631C2E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802D-0B84-48EC-819E-8B4893C5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311B7-8B79-4FF9-BA9E-0B39E55D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977F3-35B5-40B0-BBBF-459CD678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DCC60-8EC5-44B3-9203-1FE58F26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65B-9803-4954-9657-F4179241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7E2FC-04D0-42FD-BD6E-3BE677F8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F7D5-2DCB-4A7B-8817-5DBFC03D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8D2D-0B43-465D-947B-4EFD1056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7BF4D-30FA-4223-AA9F-1724AB29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8CCD-C245-4C1E-BA76-1EA0ACCA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91E65-74E4-4258-BF5D-651789C7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E2249-4114-4270-B71B-6CB85E32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149EA-14A2-405D-922A-E5490232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552F9-7BC5-4459-AA74-AE3B7670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AEAE7-5CE0-4134-B44B-40951AB7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160-9392-4CC8-876E-F19B45DB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BDF13-EA37-400C-B659-7EF78A4C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12972-0484-47F6-A6DD-B6D91E4B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97B09-455D-4634-B220-2019A608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9082E-8762-4273-BA77-B7B4E003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16558-34A1-428A-B5E1-072C89E6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BB853-B540-4363-AD4B-24CF438F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92707-A512-4EDE-8477-0FE8B046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FC832-14D7-4E51-9DCB-9A339CB5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F79DF-8901-4D2F-A7BC-BBFFFF23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541AE-668D-40DC-8D03-BDBDA6EE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11B-2C2A-458C-ADF9-EAFEDE8A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65948-C867-4523-A01A-9B6AD175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D82C3-E20F-47C5-9B46-9BC46AC8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935A8-03B7-4E92-97D3-E52D2C2F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1C526-B94E-441D-A1D4-82B596D1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4CA89-2CF6-4D80-B6D0-8EFE2471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66561-717B-4632-880B-3E052776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DF2AB-D961-4067-88A3-A18D6FC7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91C7D-168A-4664-AA1E-B78206ED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442C9-B6B3-45AE-A378-6DD0FE37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35228-768C-4C51-9734-E7135938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346-2B56-4FBB-B3E5-B482FF03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0FEAA-9B5C-4F11-90F3-A0D0CCA4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109-0EAE-40D4-9796-559C6725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1D5-78ED-41F0-BD5C-90A3B274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91A-EECC-4A6E-B812-4D068731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6A2D-3328-460E-85E9-4ABE6AC261F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38F7-1562-424A-8E81-72664E9B316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CCB5-5506-40DA-B87B-F548102EE00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3A04-817E-423D-9884-202C23D3F07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B7C4-05FD-45D2-A38E-72F037C1558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414360" y="291960"/>
            <a:ext cx="7980480" cy="28591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"/>
          <p:cNvSpPr/>
          <p:nvPr/>
        </p:nvSpPr>
        <p:spPr>
          <a:xfrm>
            <a:off x="5076720" y="53737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34b73"/>
                </a:solidFill>
                <a:latin typeface="Arial"/>
              </a:rPr>
              <a:t>Выполнила: воспитатель</a:t>
            </a:r>
            <a:r>
              <a:rPr b="0" lang="en-US" sz="1800" spc="-1" strike="noStrike">
                <a:solidFill>
                  <a:srgbClr val="a34b7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34b73"/>
                </a:solidFill>
                <a:latin typeface="Arial"/>
              </a:rPr>
              <a:t>Зверева Валенти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" descr="http://www.sun37.ru/roditeli3-12_files/f9.gif"/>
          <p:cNvPicPr/>
          <p:nvPr/>
        </p:nvPicPr>
        <p:blipFill>
          <a:blip r:embed="rId2"/>
          <a:stretch/>
        </p:blipFill>
        <p:spPr>
          <a:xfrm>
            <a:off x="0" y="2703600"/>
            <a:ext cx="464328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50560" y="333000"/>
            <a:ext cx="84978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Уровень развития детей находится в прямой зависимости от степени развития мелкой моторики рук. Если движение пальцев рук развито в соответствии с возрастом, то и речевое развитие находится в пределах нормы. Игры с прищепками идеально подходят для развития мелкой моторики ребенка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Кроме того, развивая мелкую моторику у малыша, мы одновременно развиваем его творческий потенциал. И через некоторое время вы заметите, что ребенок пытается конструировать сложные модели, рисовать объемные элементы, объединять и скреплять то, что скрепить нельзя по определению. Вместе с мелкой моторикой развивается логическое мышление ребенка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Движение  пальцев и кистей рук имеет особое стимулирующее воздействие и положительно влияет не только на речевые функции, но и на здоровье  малыша. Совершенствует внимание, память, восприятие, мышление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роведение игр на развитие мелкой моторики позволяет облегчить будущим школьникам усвоение навыков  письма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Игры с прищепками таят в себе нераскрытые возможности, требуют усидчивости и терпения. И так, играем…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157680" indent="-12564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596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2500200" y="928800"/>
            <a:ext cx="42148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596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2281320" y="1071720"/>
            <a:ext cx="507672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596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834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2286000" y="1071720"/>
            <a:ext cx="502776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</a:rPr>
              <a:t>Игры с прищепками прекрасно тренируют мелкую моторику, развивают тактильные ощущения, цветовое восприятие, фантазию и творческие способности. 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</a:rPr>
              <a:t>Все фигуры (кроме «Солнышка») выполнены из фанеры, устойчиво стоят на столе, очень удобно с ними работать.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</a:rPr>
              <a:t>ЖЕЛАЮ УСПЕХА!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e36406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28:37Z</dcterms:created>
  <dc:creator>Милейшева Надежда</dc:creator>
  <dc:description/>
  <dc:language>en-US</dc:language>
  <cp:lastModifiedBy>Microsoft Office</cp:lastModifiedBy>
  <dcterms:modified xsi:type="dcterms:W3CDTF">2019-05-29T07:38:55Z</dcterms:modified>
  <cp:revision>23</cp:revision>
  <dc:subject/>
  <dc:title>ИГРЫ С ПРИЩЕПКАМИ</dc:title>
</cp:coreProperties>
</file>