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73C-9355-4CD4-9EA8-5B6E8601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5DF-2F3D-4150-BFD7-185C253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71E-E418-42D5-8192-50A9E72A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DBF-10CC-41AD-AF0A-56BC208C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649-2025-43E0-94CC-642779F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57D-6D52-4457-9C06-7EABA33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639-73B8-49ED-BB94-48AA04C8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337-D921-4FF4-9F20-1B90FB7D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813-FBED-4110-AD37-BA0B76E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3BE-C3B4-4051-8A61-30618A9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4CE-C65C-483B-B9DC-88DB9C8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273-2461-461C-AE06-AD12B82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2D17-E4A1-4386-B572-176BD5FBD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и по запросу фон 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908000" y="765000"/>
            <a:ext cx="51850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активные игры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84360" y="177336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 формировании элементарных математических представлений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Образовательная область</a:t>
            </a: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 «Познавательное 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разде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«Формирование элементарных математических представл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2340000" y="1197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упражнен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50920" y="177336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2052720" y="1147680"/>
            <a:ext cx="45352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задачи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4000" y="17002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развитие образного и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287280" y="17733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комплексное решение зад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темат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1547640" y="1197000"/>
            <a:ext cx="554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путешеств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214200" y="20001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стимулирование интереса детей к самостоятельной матема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547640" y="1197000"/>
            <a:ext cx="60246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пользование математических игр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 самостоятельной детской деятельности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7"/>
          <p:cNvSpPr txBox="1"/>
          <p:nvPr/>
        </p:nvSpPr>
        <p:spPr>
          <a:xfrm>
            <a:off x="609480" y="1204920"/>
            <a:ext cx="6770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Секреты» создания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ных игр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042920" y="2349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пользование современных герое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ультфиль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которые нравятся детям, но не несут элемент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пользование ситуаций, которые возник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дресная направленность разрабатываемых иг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моциональная окрашенность математ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2844360"/>
            <a:ext cx="79200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изучение новых компьютерных технологий разработки презентаций и компьютерных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продумывание методических приемов представления их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разработка перспективного планирования использования компьютерных игр в реализации образовательной области «Позна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дифференциация содержания компьютерных игр и презентаций в соответствии с индивидуальным освоением ребенком О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1042920" y="1230480"/>
            <a:ext cx="669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компьютерных игр в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м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развитии педагога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1619280" y="2276640"/>
            <a:ext cx="6337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Красивых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творческих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решений!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468360" y="112536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Актуальность использования ИК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технологи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математическ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Математическое 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– это изме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в познавательной деятельности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азвитие основ математического мыш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формирование математических представлений, развитие сенсорных процессов.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КТ – эффективное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математическ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5778360" y="4151160"/>
            <a:ext cx="30672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960480" y="13003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адап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правля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очетание индивидуальной, подгрупповой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оддержание интер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одбор интересного содержания и е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нтерпре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нтенсифик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амостоятель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/>
          <p:nvPr/>
        </p:nvSpPr>
        <p:spPr>
          <a:xfrm>
            <a:off x="696960" y="441360"/>
            <a:ext cx="7115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5651640" y="3902040"/>
            <a:ext cx="3144600" cy="246852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1258920" y="485640"/>
            <a:ext cx="66261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имущества  использования  ИКТ: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58" name="Picture 12" descr="https://png.pngtree.com/element_origin_min_pic/17/03/28/ba3269de0522e4dfeae2ab2e6616a2b7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843280" y="5186520"/>
            <a:ext cx="100800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8"/>
          <p:cNvSpPr/>
          <p:nvPr/>
        </p:nvSpPr>
        <p:spPr>
          <a:xfrm>
            <a:off x="696960" y="441360"/>
            <a:ext cx="7115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1258920" y="485640"/>
            <a:ext cx="66261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имущества  использования  ИКТ: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755640" y="1195560"/>
            <a:ext cx="6553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ы</a:t>
            </a:r>
            <a:endParaRPr b="0" lang="en-US" sz="2000" spc="1" strike="noStrike">
              <a:ln w="19080">
                <a:solidFill>
                  <a:srgbClr val="8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я компьютерных  игр:</a:t>
            </a:r>
            <a:endParaRPr b="0" lang="en-US" sz="2000" spc="1" strike="noStrike">
              <a:ln w="19080">
                <a:solidFill>
                  <a:srgbClr val="8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046160" y="264312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простого к слож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знакомого к неизвест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восприятия математического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 самостоятельному его воспроизве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2700360" y="4286160"/>
            <a:ext cx="308448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7"/>
          <p:cNvSpPr/>
          <p:nvPr/>
        </p:nvSpPr>
        <p:spPr>
          <a:xfrm>
            <a:off x="250920" y="1050840"/>
            <a:ext cx="633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900000" y="2060640"/>
            <a:ext cx="69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совершенствовать навыки сч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изучать и закреплять циф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проводить исследовательскую  работ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с геометрическими фигур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решать простейшие арифметические задач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развивать умение ориентироваться на плоск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закреплять представления о величине предм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6370560" y="4761000"/>
            <a:ext cx="249876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3084480" y="4821120"/>
            <a:ext cx="2414520" cy="175104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1187280" y="1125360"/>
            <a:ext cx="619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Основная направленность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мпьютерных игр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365040" y="2320920"/>
            <a:ext cx="773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ирование и развитие умственных способностей детей, целеполагания, способность озвучивать свои действия, развитие фантазии, вообра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708360" y="5229360"/>
            <a:ext cx="1429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5578560" y="3773520"/>
            <a:ext cx="1955880" cy="2608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1762200" y="3803760"/>
            <a:ext cx="1944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1136520" y="119700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дназначение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мпьютерных игр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3059280" y="54936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Виды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826920" y="170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назначение: решение одной или несколь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2664000" y="1233360"/>
            <a:ext cx="338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Обучающие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2308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476360" y="1284120"/>
            <a:ext cx="583236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экспериментирован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177624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ель: развитие у детей интер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 экспериментированию с цветом, формой, велич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19:13:26Z</dcterms:created>
  <dc:creator>Сергей</dc:creator>
  <dc:description/>
  <dc:language>en-US</dc:language>
  <cp:lastModifiedBy>home</cp:lastModifiedBy>
  <dcterms:modified xsi:type="dcterms:W3CDTF">2019-05-29T20:23:52Z</dcterms:modified>
  <cp:revision>27</cp:revision>
  <dc:subject/>
  <dc:title>Слайд 1</dc:title>
</cp:coreProperties>
</file>