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775-A9D8-4140-8FB0-CBC138AF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41C-5319-4007-B14F-EA6CA693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BED-77BE-495C-B7BD-8D6EC313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D66-20B2-45E2-91E3-FE12942E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6D6F-F0A5-43A6-A78C-7C3A81EC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871-92F2-47DA-9877-7A15FACA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865-B102-4267-8B9B-40EBCBBB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A7C-B078-44C9-B2FA-3AA2E135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7DD-7DCF-443C-AD20-6F8224BB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546-39AB-4B95-AA7C-809BEC73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48B-DDDE-4E33-8F0D-6770C149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DC7-8FFF-41DC-89BB-19CDB493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8312-37DC-43D5-BF8D-286CC5B0D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артинки по запросу фон 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7"/>
          <p:cNvSpPr txBox="1"/>
          <p:nvPr/>
        </p:nvSpPr>
        <p:spPr>
          <a:xfrm>
            <a:off x="1908000" y="765000"/>
            <a:ext cx="518508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активные игры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684360" y="1773360"/>
            <a:ext cx="79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в формировании элементарных математических представлений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старшего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80"/>
                </a:solidFill>
                <a:uFillTx/>
                <a:latin typeface="Arial"/>
              </a:rPr>
              <a:t>Образовательная область</a:t>
            </a: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 «Познавательное развит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раздел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«Формирование элементарных математических представл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2340000" y="1197000"/>
            <a:ext cx="42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гры – упражнения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50920" y="177336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ель: закрепление изуче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3426840" y="3141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7"/>
          <p:cNvSpPr txBox="1"/>
          <p:nvPr/>
        </p:nvSpPr>
        <p:spPr>
          <a:xfrm>
            <a:off x="2052720" y="1147680"/>
            <a:ext cx="453528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гры – задачи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24000" y="170028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ель: развитие образного и логического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3426840" y="3141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287280" y="177336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ель: комплексное решение зада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атематическ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1547640" y="1197000"/>
            <a:ext cx="554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гры – путешествия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3426840" y="3141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214200" y="200016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ель: стимулирование интереса детей к самостоятельной матема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1547640" y="1197000"/>
            <a:ext cx="602460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спользование математических игр 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 самостоятельной детской деятельности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3426840" y="3141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7"/>
          <p:cNvSpPr txBox="1"/>
          <p:nvPr/>
        </p:nvSpPr>
        <p:spPr>
          <a:xfrm>
            <a:off x="609480" y="1204920"/>
            <a:ext cx="6770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Секреты» создания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ных игр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042920" y="234936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спользование современных героев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мультфиль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которые нравятся детям, но не несут элементов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агре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спользование ситуаций, которые возникаю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групп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адресная направленность разрабатываемых иг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эмоциональная окрашенность математ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и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16000" y="2844360"/>
            <a:ext cx="79200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изучение новых компьютерных технологий разработки презентаций и компьютерных иг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продумывание методических приемов представления их дет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разработка перспективного планирования использования компьютерных игр в реализации образовательной области «Познани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дифференциация содержания компьютерных игр и презентаций в соответствии с индивидуальным освоением ребенком О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7"/>
          <p:cNvSpPr txBox="1"/>
          <p:nvPr/>
        </p:nvSpPr>
        <p:spPr>
          <a:xfrm>
            <a:off x="1042920" y="1230480"/>
            <a:ext cx="6696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е компьютерных игр в 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фессиональном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развитии педагога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6"/>
          <p:cNvSpPr txBox="1"/>
          <p:nvPr/>
        </p:nvSpPr>
        <p:spPr>
          <a:xfrm>
            <a:off x="1619280" y="2276640"/>
            <a:ext cx="6337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333399">
                      <a:alpha val="50000"/>
                    </a:srgbClr>
                  </a:outerShdw>
                </a:effectLst>
                <a:latin typeface="Arial"/>
              </a:rPr>
              <a:t>Красивых 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333399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333399">
                      <a:alpha val="50000"/>
                    </a:srgbClr>
                  </a:outerShdw>
                </a:effectLst>
                <a:latin typeface="Arial"/>
              </a:rPr>
              <a:t>творческих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333399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333399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333399">
                      <a:alpha val="50000"/>
                    </a:srgbClr>
                  </a:outerShdw>
                </a:effectLst>
                <a:latin typeface="Arial"/>
              </a:rPr>
              <a:t>решений! 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333399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468360" y="112536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Актуальность использования ИК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технологи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в математическ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Математическое развит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– это изме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в познавательной деятельности ребен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развитие основ математического мыш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формирование математических представлений, развитие сенсорных процессов.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ИКТ – эффективное сред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математического разви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5778360" y="4151160"/>
            <a:ext cx="3067200" cy="2127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960480" y="130032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адап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управляе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сочетание индивидуальной, подгрупповой и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группов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поддержание интере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подбор интересного содержания и ег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интерпрет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интенсифик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самостоятель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8"/>
          <p:cNvSpPr/>
          <p:nvPr/>
        </p:nvSpPr>
        <p:spPr>
          <a:xfrm>
            <a:off x="696960" y="441360"/>
            <a:ext cx="71150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2"/>
          <a:stretch/>
        </p:blipFill>
        <p:spPr>
          <a:xfrm>
            <a:off x="5651640" y="3902040"/>
            <a:ext cx="3144600" cy="2468520"/>
          </a:xfrm>
          <a:prstGeom prst="rect">
            <a:avLst/>
          </a:prstGeom>
          <a:ln w="0">
            <a:noFill/>
          </a:ln>
        </p:spPr>
      </p:pic>
      <p:sp>
        <p:nvSpPr>
          <p:cNvPr id="57" name="WordArt 9"/>
          <p:cNvSpPr txBox="1"/>
          <p:nvPr/>
        </p:nvSpPr>
        <p:spPr>
          <a:xfrm>
            <a:off x="1258920" y="485640"/>
            <a:ext cx="662616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еимущества  использования  ИКТ: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58" name="Picture 12" descr="https://png.pngtree.com/element_origin_min_pic/17/03/28/ba3269de0522e4dfeae2ab2e6616a2b7.jp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843280" y="5186520"/>
            <a:ext cx="1008000" cy="100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8"/>
          <p:cNvSpPr/>
          <p:nvPr/>
        </p:nvSpPr>
        <p:spPr>
          <a:xfrm>
            <a:off x="696960" y="441360"/>
            <a:ext cx="71150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9"/>
          <p:cNvSpPr txBox="1"/>
          <p:nvPr/>
        </p:nvSpPr>
        <p:spPr>
          <a:xfrm>
            <a:off x="1258920" y="485640"/>
            <a:ext cx="662616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еимущества  использования  ИКТ: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3426840" y="3141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755640" y="1195560"/>
            <a:ext cx="65530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нципы</a:t>
            </a:r>
            <a:endParaRPr b="0" lang="en-US" sz="2000" spc="1" strike="noStrike">
              <a:ln w="19080">
                <a:solidFill>
                  <a:srgbClr val="8000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я компьютерных  игр:</a:t>
            </a:r>
            <a:endParaRPr b="0" lang="en-US" sz="2000" spc="1" strike="noStrike">
              <a:ln w="19080">
                <a:solidFill>
                  <a:srgbClr val="8000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046160" y="264312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т простого к сложн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т знакомого к неизвестн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т восприятия математического об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к самостоятельному его воспроизвед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2"/>
          <a:stretch/>
        </p:blipFill>
        <p:spPr>
          <a:xfrm>
            <a:off x="2700360" y="4286160"/>
            <a:ext cx="3084480" cy="2170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0727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WordArt 7"/>
          <p:cNvSpPr/>
          <p:nvPr/>
        </p:nvSpPr>
        <p:spPr>
          <a:xfrm>
            <a:off x="250920" y="1050840"/>
            <a:ext cx="6335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900000" y="2060640"/>
            <a:ext cx="6985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совершенствовать навыки сче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изучать и закреплять цифр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проводить исследовательскую  работу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с геометрическими фигур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решать простейшие арифметические задач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развивать умение ориентироваться на плоск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ff"/>
                </a:solidFill>
                <a:latin typeface="Arial"/>
              </a:rPr>
              <a:t>закреплять представления о величине предме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2"/>
          <a:stretch/>
        </p:blipFill>
        <p:spPr>
          <a:xfrm>
            <a:off x="6370560" y="4761000"/>
            <a:ext cx="2498760" cy="1871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3"/>
          <a:stretch/>
        </p:blipFill>
        <p:spPr>
          <a:xfrm>
            <a:off x="3084480" y="4821120"/>
            <a:ext cx="2414520" cy="1751040"/>
          </a:xfrm>
          <a:prstGeom prst="rect">
            <a:avLst/>
          </a:prstGeom>
          <a:ln w="0">
            <a:noFill/>
          </a:ln>
        </p:spPr>
      </p:pic>
      <p:sp>
        <p:nvSpPr>
          <p:cNvPr id="78" name="WordArt 9"/>
          <p:cNvSpPr txBox="1"/>
          <p:nvPr/>
        </p:nvSpPr>
        <p:spPr>
          <a:xfrm>
            <a:off x="1187280" y="1125360"/>
            <a:ext cx="6193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Основная направленность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компьютерных игр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365040" y="2320920"/>
            <a:ext cx="773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ирование и развитие умственных способностей детей, целеполагания, способность озвучивать свои действия, развитие фантазии, воображ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3708360" y="5229360"/>
            <a:ext cx="14292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2"/>
          <a:stretch/>
        </p:blipFill>
        <p:spPr>
          <a:xfrm>
            <a:off x="5578560" y="3773520"/>
            <a:ext cx="1955880" cy="26082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3"/>
          <a:stretch/>
        </p:blipFill>
        <p:spPr>
          <a:xfrm>
            <a:off x="1762200" y="3803760"/>
            <a:ext cx="1944720" cy="2590560"/>
          </a:xfrm>
          <a:prstGeom prst="rect">
            <a:avLst/>
          </a:prstGeom>
          <a:ln w="0">
            <a:noFill/>
          </a:ln>
        </p:spPr>
      </p:pic>
      <p:sp>
        <p:nvSpPr>
          <p:cNvPr id="86" name="WordArt 9"/>
          <p:cNvSpPr txBox="1"/>
          <p:nvPr/>
        </p:nvSpPr>
        <p:spPr>
          <a:xfrm>
            <a:off x="1136520" y="119700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едназначение 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компьютерных игр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3059280" y="549360"/>
            <a:ext cx="32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Black"/>
              </a:rPr>
              <a:t>Виды иг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826920" y="1700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назначение: решение одной или нескольк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8"/>
          <p:cNvSpPr txBox="1"/>
          <p:nvPr/>
        </p:nvSpPr>
        <p:spPr>
          <a:xfrm>
            <a:off x="2664000" y="1233360"/>
            <a:ext cx="338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Обучающие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3426840" y="3141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2308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1476360" y="1284120"/>
            <a:ext cx="583236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гры – экспериментирования</a:t>
            </a:r>
            <a:endParaRPr b="1" lang="en-US" sz="1800" spc="1" strike="noStrike">
              <a:ln w="1260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79280" y="177624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Цель: развитие у детей интере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 экспериментированию с цветом, формой, величи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3426840" y="31417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6T19:13:26Z</dcterms:created>
  <dc:creator>Сергей</dc:creator>
  <dc:description/>
  <dc:language>en-US</dc:language>
  <cp:lastModifiedBy>home</cp:lastModifiedBy>
  <dcterms:modified xsi:type="dcterms:W3CDTF">2019-05-29T20:23:52Z</dcterms:modified>
  <cp:revision>27</cp:revision>
  <dc:subject/>
  <dc:title>Слайд 1</dc:title>
</cp:coreProperties>
</file>