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8.gif" ContentType="image/gif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319-41E3-4322-A492-6101C2C8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576-E219-4899-B635-97801D30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936-2C6E-4785-968C-78BFAD54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3AF-FE48-42BE-B1F0-538F2679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8CEE-58B1-4523-8C2E-628A9A11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F62B-35AC-4463-BF8B-9CDE62F7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DF19-EEC2-4FB9-BF21-4C76282F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BAB9-A658-4998-99BE-DE050AF4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35B8-F95E-4D29-B31B-63498FCD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65DD-29BB-4C0B-AAA8-B84779B5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5C2C-786D-4038-AF89-371C8223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371-6788-4F17-92AF-0D774850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FB76-AC35-4D9F-AF7D-FC415828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42CF-81DB-4144-A87F-4CE5A926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BC65-E5AF-4F8C-B5D9-92D13EAB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D3D1-C7C2-41B2-AE2B-F5D3B4CD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1CD4-E1FA-42B0-A176-1D27CB5D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ACF1-ED97-4B42-BBB3-B7FA4D46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BA97-BA2E-410E-BCA6-9DFA76C1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A7AC-45D1-488E-A515-7A653F92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CFA9-60C4-44D8-84F3-21D76B55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D332-4F47-4CB1-9600-1B698530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B71-AB17-4BCE-ADA3-109C1F6E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3A31-5E07-4226-B109-97FF9F68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C08B-C381-4435-9854-0DB1DC26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B6D00-2917-4951-8EE3-96A5235C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AA590-B08E-440C-982A-6FF86266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86E7-1595-4920-B153-F10631E9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C5A2-7C4D-4700-8D08-3B026B36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E4A4-1C4F-49FE-ACAA-1C057063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AEF28-3078-47A3-8B8F-75BA42C9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A72C2-9CBD-43F4-9A21-6CB99D39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3461-6807-4BE7-A5F0-8E20D98B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B56-9B8B-4119-A5DE-8319BE4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0E61-47DF-47F5-A2B0-27537E9F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0C0F-0465-4953-AA5A-0A171EA5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80F2-7BEE-44BA-93CE-30F80AEB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6ECF1-944C-4AC6-8D2F-7868DC7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3A526-9913-49C5-A3E7-3D38702B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64EB-65E5-4444-BB76-B3E4557C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455AA-BBEA-4208-9314-ED9E05DC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C9392-082A-499F-863C-9E6A2640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4D56-25F6-447C-9D00-403D48C5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C652D-C5E3-4880-9041-D6C1DA2A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D43-8B92-4474-AF92-ACEC8912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1C0DD-3123-464A-91F6-0800B667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E4A8C-B414-44BD-8E85-5732286A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FF70-F5BD-43E6-AB40-74DCC6CA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0016A-DE92-4A89-AB60-CC42A26F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A3703-DEC6-4A1A-95EB-76F81DCF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A7FA7-59C8-49E9-A276-F5FC50FD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72E12-A009-4FEB-BB84-7723FF39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F83E-FC2A-44B3-A103-A388AF86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2E6A8-BEFC-4E83-B840-9DE05E3F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13A17-A2D1-48D8-939E-E75B377E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FD0-B901-48C2-8992-D89CE03B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C3ED7-4136-402E-8D6B-95BD2B9D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F56ED-1DC2-4650-977B-48CD3239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C63D5-D17D-4742-B407-AB4E7C4B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CA36-3DBC-4574-AAF3-B5C793A3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A2817-C38A-451A-BC2A-7F092237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D6172-36E3-4C12-A83A-5AC0D1AD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5B894-25AF-4696-8EC2-8414B90F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EE0D4-97C8-4E08-BA96-5B60CCED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7748F-3CBB-4EAE-86EE-ACA5B9C2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39F95-0EA7-488C-A58E-C4C11D31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ACA-6128-4817-9B51-C9D9C19F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5A66-1953-4F4E-A546-93BC9CD0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EF361-6EA4-4EE6-8219-64692763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9CED3-0B6F-41BD-83F9-836574D7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6A141-B527-47BE-9E0D-D92B137C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4347C-DE51-4BC8-BD32-305F9E6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336C0-C690-4CD2-9605-AA957DF8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74A65-3807-4EE6-8B92-7DB0B5F6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97989-CF80-4A48-B130-CEE3D53E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51CBD-F938-437A-AF83-46BE4D04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4273-6BB1-4F04-A372-9BC1665B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9D6-7DE8-401F-9C0B-D5248844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CDCC-4F0B-4710-9611-F922D39B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AF0F5-D65E-411B-92AE-D1393409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4F590-C2A2-4A0F-876D-E9A7C03D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50DA0-F69D-4AA0-AB73-F3502061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FEE4D-7CF7-45FB-BC0F-371FF9C2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2C6-8440-4EA3-A899-5E77EB6C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2AE8-D63D-446A-8BAA-00C014F09BC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5F00-9728-42EC-A930-6A4C09E1423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F981-56A5-4A1F-82C4-ED5E6117958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4A55-41E8-4A83-924F-5EDCAFB7765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7639-56B6-48B1-A7AE-C1F24D6979A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51D2-5A47-413F-9B46-A7EFCBE675F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D2F1-A152-4BA2-80A2-DBBE4156633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280" y="3284640"/>
            <a:ext cx="799308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ГРА</a:t>
            </a:r>
            <a:br>
              <a:rPr sz="4000"/>
            </a:br>
            <a:r>
              <a:rPr b="1" i="1" lang="ru-RU" sz="5400" spc="-1" strike="noStrike">
                <a:solidFill>
                  <a:srgbClr val="ff0000"/>
                </a:solidFill>
                <a:latin typeface="Candara"/>
              </a:rPr>
              <a:t>«Что я знаю об избирательном праве?»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03280" y="3357360"/>
            <a:ext cx="6400800" cy="21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ndara"/>
              </a:rPr>
              <a:t>Авторы: </a:t>
            </a:r>
            <a:r>
              <a:rPr b="0" lang="ru-RU" sz="1900" spc="-1" strike="noStrike">
                <a:solidFill>
                  <a:srgbClr val="ffffff"/>
                </a:solidFill>
                <a:latin typeface="Candara"/>
              </a:rPr>
              <a:t>Заикина Анастасия Борисовна, преподаватель гуманитарных и социально-экономических дисциплин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ndara"/>
              </a:rPr>
              <a:t>Потехина Елена Анатольевна, преподаватель гуманитарных и социально-экономических дисциплин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ndara"/>
              </a:rPr>
              <a:t>Место работы: </a:t>
            </a:r>
            <a:r>
              <a:rPr b="0" lang="ru-RU" sz="1900" spc="-1" strike="noStrike">
                <a:solidFill>
                  <a:srgbClr val="ffffff"/>
                </a:solidFill>
                <a:latin typeface="Candara"/>
              </a:rPr>
              <a:t>ГБПОУ НСО «Новосибирский радиотехнический колледж»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9. В каком порядке располагаются фамилии кандидата в депутаты в избирательном бюллетени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10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Срок, на который избирается Президент России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003640" y="5157720"/>
            <a:ext cx="32767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323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3 тур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 «СУНДУЧОК ЗНАНИЙ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9360" y="-7920"/>
            <a:ext cx="3602160" cy="2743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33480" y="2778120"/>
            <a:ext cx="6511680" cy="17794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3"/>
          <a:stretch/>
        </p:blipFill>
        <p:spPr>
          <a:xfrm>
            <a:off x="5800680" y="3502080"/>
            <a:ext cx="3406680" cy="3351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4"/>
          <a:stretch/>
        </p:blipFill>
        <p:spPr>
          <a:xfrm>
            <a:off x="5548320" y="30240"/>
            <a:ext cx="3595680" cy="2747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5"/>
          <a:stretch/>
        </p:blipFill>
        <p:spPr>
          <a:xfrm>
            <a:off x="50760" y="4449600"/>
            <a:ext cx="3290760" cy="24447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6"/>
          <a:stretch/>
        </p:blipFill>
        <p:spPr>
          <a:xfrm>
            <a:off x="3635280" y="1684440"/>
            <a:ext cx="1608120" cy="1093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"/>
          <p:cNvPicPr/>
          <p:nvPr/>
        </p:nvPicPr>
        <p:blipFill>
          <a:blip r:embed="rId7"/>
          <a:stretch/>
        </p:blipFill>
        <p:spPr>
          <a:xfrm>
            <a:off x="3362400" y="4557600"/>
            <a:ext cx="2695680" cy="2454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"/>
          <p:cNvPicPr/>
          <p:nvPr/>
        </p:nvPicPr>
        <p:blipFill>
          <a:blip r:embed="rId8"/>
          <a:stretch/>
        </p:blipFill>
        <p:spPr>
          <a:xfrm>
            <a:off x="3544920" y="-7920"/>
            <a:ext cx="2003400" cy="1617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"/>
          <p:cNvPicPr/>
          <p:nvPr/>
        </p:nvPicPr>
        <p:blipFill>
          <a:blip r:embed="rId9"/>
          <a:stretch/>
        </p:blipFill>
        <p:spPr>
          <a:xfrm>
            <a:off x="30240" y="677880"/>
            <a:ext cx="1601640" cy="2065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"/>
          <p:cNvPicPr/>
          <p:nvPr/>
        </p:nvPicPr>
        <p:blipFill>
          <a:blip r:embed="rId10"/>
          <a:stretch/>
        </p:blipFill>
        <p:spPr>
          <a:xfrm>
            <a:off x="7504200" y="719280"/>
            <a:ext cx="1639800" cy="2892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"/>
          <p:cNvPicPr/>
          <p:nvPr/>
        </p:nvPicPr>
        <p:blipFill>
          <a:blip r:embed="rId11"/>
          <a:stretch/>
        </p:blipFill>
        <p:spPr>
          <a:xfrm>
            <a:off x="0" y="3357720"/>
            <a:ext cx="971640" cy="1091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"/>
          <p:cNvPicPr/>
          <p:nvPr/>
        </p:nvPicPr>
        <p:blipFill>
          <a:blip r:embed="rId12"/>
          <a:stretch/>
        </p:blipFill>
        <p:spPr>
          <a:xfrm>
            <a:off x="8172360" y="4557600"/>
            <a:ext cx="103500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.В какой день недели проходят выборы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. Перечислите принципы избирательного права в Российской Федерац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3. Перечислите нормативно-правовые акты, регулирующие избирательный процесс в РФ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4. В каком году был введен единый день голосова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5. Назовите дату последних выборов Президента РФ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6. Какой принцип избирательного права не допускает контроля за волеизъявлением избирател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7. Согласно какому принципу, никто из голосующих не получает преимущества во время голосова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8. В каком случае избирательный бюллетень будет считаться недействительным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9. Перечислите лица, которые  могут находиться на избирательном участке в день голосова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0. 12 декабря 1993,помимо референдума по принятию Конституции РФ, также проходили выборы в Высший Законодательный орган страны. Какой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686800" y="-5161320"/>
            <a:ext cx="277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Прямоугольник 3"/>
          <p:cNvSpPr/>
          <p:nvPr/>
        </p:nvSpPr>
        <p:spPr>
          <a:xfrm>
            <a:off x="900000" y="2690640"/>
            <a:ext cx="75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Может ли избиратель, не включенный в список избирателей, но зарегистрированный по месту жительства на данном избирательном участке, проголос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1187280" y="2690640"/>
            <a:ext cx="69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Если избиратель считает, что при заполнении бюллетеня совершил ошибку, может ли он получить новый избирательный бюллетень взамен испорчен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1042920" y="31050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Можно ли получить бюллетень, предъявив водительское удостове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1619280" y="308916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Можно ли проголосовать за соседа, если ему более 70-ти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Прямоугольник 3"/>
          <p:cNvSpPr/>
          <p:nvPr/>
        </p:nvSpPr>
        <p:spPr>
          <a:xfrm>
            <a:off x="900000" y="2828880"/>
            <a:ext cx="741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В романе И.С. Тургенева «Отцы и дети» Базаров постоянно использует одно из прав человека - право на свободу убеждений и свободное выражени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.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Главный избирательный орган страны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Прямоугольник 3"/>
          <p:cNvSpPr/>
          <p:nvPr/>
        </p:nvSpPr>
        <p:spPr>
          <a:xfrm>
            <a:off x="1619280" y="2967120"/>
            <a:ext cx="59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В  кабине для голосования закреплен простой карандаш. Является ли это наруш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1403280" y="282888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о-французски «говорильня», в Израиле – Кнессет, в Иране – Меджлис, в Украине – Рада, а в России – Федеральное Собр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Прямоугольник 3"/>
          <p:cNvSpPr/>
          <p:nvPr/>
        </p:nvSpPr>
        <p:spPr>
          <a:xfrm>
            <a:off x="1835280" y="3105000"/>
            <a:ext cx="56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Имеет ли право наблюдатель выдавать избирательный бюллетен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1692360" y="3105000"/>
            <a:ext cx="611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Имеет ли право голосовать человек с двойным гражданств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4 тур  «ДАНЕТКИ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Прямоугольник 3"/>
          <p:cNvSpPr/>
          <p:nvPr/>
        </p:nvSpPr>
        <p:spPr>
          <a:xfrm>
            <a:off x="1332000" y="2967120"/>
            <a:ext cx="69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Мажоритарная избирательная система предусматривает голосование по партийным спис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5 тур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 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«ЗНАЙ НАШИХ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мена: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1. Лаптев В.В., 2.Травников А.А., 3. Асанцев Д.В., 4.Локоть А.Е., 5.Шимкив А.И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олжности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: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1. Председатель Заксобрания НСО, 2. ВРИО Губернатор НСО, 3. Представитель НСО в      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1200" spc="-1" strike="noStrike">
                <a:solidFill>
                  <a:srgbClr val="073e87"/>
                </a:solidFill>
                <a:latin typeface="Candara"/>
              </a:rPr>
              <a:t>Совете Федерации РФ, 4. Мэр г. Новосибирска, 5. Председатель Совета депутатов города Новосибирска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39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«ЗНАЙ НАШИХ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47560" y="1197000"/>
            <a:ext cx="2249640" cy="1944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3564000" y="1155600"/>
            <a:ext cx="2009880" cy="1978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6516720" y="1155600"/>
            <a:ext cx="1846080" cy="197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2050920" y="3309840"/>
            <a:ext cx="2235240" cy="1987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5219640" y="3284640"/>
            <a:ext cx="2035080" cy="19875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3"/>
          <p:cNvSpPr/>
          <p:nvPr/>
        </p:nvSpPr>
        <p:spPr>
          <a:xfrm>
            <a:off x="4871880" y="490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4"/>
          <p:cNvSpPr/>
          <p:nvPr/>
        </p:nvSpPr>
        <p:spPr>
          <a:xfrm>
            <a:off x="1744560" y="4927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6210000" y="2755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6"/>
          <p:cNvSpPr/>
          <p:nvPr/>
        </p:nvSpPr>
        <p:spPr>
          <a:xfrm>
            <a:off x="3257280" y="2773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7"/>
          <p:cNvSpPr/>
          <p:nvPr/>
        </p:nvSpPr>
        <p:spPr>
          <a:xfrm>
            <a:off x="241200" y="2755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5651640" y="4941720"/>
            <a:ext cx="26287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6 тур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 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«ШЛЯПА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2" name="Picture 3" descr="C:\Users\user\Desktop\628817286.gif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2. Основной закон государства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3. Что необходимо иметь при себе для получения избирательного бюллетеня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4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Когда прекращается предвыборная агитация?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5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С какого возраста можно стать кандидатом на пост Президента РФ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6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 С какого возраста гражданин обладает активным избирательным правом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560" y="1988640"/>
            <a:ext cx="740916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7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 Как называется документ, в котором включены все избиратели, зарегистрированные по месту жительства на территории избирательного участка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8.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 Как называется лицо, избранное в представительный орган государственной власти?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ndara"/>
              </a:rPr>
              <a:t>2 тур «БЛИЦ-ТУРНИР»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3:00:07Z</dcterms:created>
  <dc:creator>user</dc:creator>
  <dc:description/>
  <dc:language>en-US</dc:language>
  <cp:lastModifiedBy>Анастасия</cp:lastModifiedBy>
  <dcterms:modified xsi:type="dcterms:W3CDTF">2018-09-04T14:51:29Z</dcterms:modified>
  <cp:revision>23</cp:revision>
  <dc:subject/>
  <dc:title>Презентация PowerPoint</dc:title>
</cp:coreProperties>
</file>