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A5D-FC80-4EB7-8B05-C9C66565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0C9-2B14-4DEF-829C-FD78F57F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390-2F8C-4874-9748-83D4A861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535-DC89-4E2A-AC54-44A00088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574F-1D8F-40B4-9946-29E18085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D3AF-D7B2-4F12-8523-2E7F243F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0CDB-0075-4E6A-9F09-F597C244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2D0A-DEDD-4801-9F0F-2DC5EAB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4184-C841-404B-84F1-C2BFBD9A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CE09-16F7-4DB2-A0F6-47DE4D73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9E1F-F65C-45D3-92E1-17351DEB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0A8-D38A-458B-A972-41C56EC6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4538-2BE0-4261-82D2-E2C37C0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A67C-F7C8-41BA-881A-C71E25C1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FDCC-B61E-4BD2-A603-8CE068FD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4E48-0329-439E-B74F-2B070A55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F993-4625-495E-A25A-4243A0C7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0FB-9A2F-49A5-AC78-7DB7D509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464-1A14-4203-AFAC-0534E012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93E-8322-4CAC-9D97-E0842A6C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CE6-9D8B-418C-9B13-08B9C1DD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F0A-7C32-4983-B845-E5AC2EDA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93A-2115-4EA9-B723-737CE1A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BD5-3E06-4C93-8B67-00EB5E3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D92E-A668-4CE7-95C6-6445ED8E38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D0C0-0E3F-44D7-B26B-BAC9EDC516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аспорядок дня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360" y="1773000"/>
            <a:ext cx="5943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ajestic"/>
              </a:rPr>
              <a:t>Режим дня</a:t>
            </a:r>
            <a:endParaRPr b="0" lang="en-US" sz="9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967280" y="4330800"/>
            <a:ext cx="417672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ирневская Анна Серг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5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70578130"/>
          <p:cNvPicPr/>
          <p:nvPr/>
        </p:nvPicPr>
        <p:blipFill>
          <a:blip r:embed="rId1"/>
          <a:stretch/>
        </p:blipFill>
        <p:spPr>
          <a:xfrm>
            <a:off x="2362320" y="12600"/>
            <a:ext cx="7617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1268280"/>
            <a:ext cx="742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накомство с понятием «Режим дня» и его значением в жизни школьн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5"/>
          <p:cNvSpPr/>
          <p:nvPr/>
        </p:nvSpPr>
        <p:spPr>
          <a:xfrm>
            <a:off x="250920" y="549360"/>
            <a:ext cx="76341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Дать понятие режима дня, раскрыть его структуру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знакомить с основными требованиями к режиму дн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пособствовать тому, чтобы родители были заинтересованы в соблюдении режима дня до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24000" y="691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такое режим дня и его струк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знакомится с требованием к режиму д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делать примерный режим д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691920"/>
            <a:ext cx="8929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жим дня — это определенный распорядок дня, предусматривающий время для учебы, различных дел и отдых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ъё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ренние гигиенические процедуры (умывание, чистка зубов), одевание, уборка постели, гимнаст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рога в шко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ятия в шко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рога из шко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ды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ение уро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улка на воздух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жин, свободное врем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черние гигиенические процедур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ъё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ренние гигиенические процедуры (умывание, чистка зубов), одевание, уборка постели, гимнаст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рога в шко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ятия в шко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рога из шко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ды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ение уро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улка на воздух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жин, свободное врем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черние гигиенические процедур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219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219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219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05:28:02Z</dcterms:created>
  <dc:creator>Оля</dc:creator>
  <dc:description/>
  <dc:language>en-US</dc:language>
  <cp:lastModifiedBy>Анна Скирневская</cp:lastModifiedBy>
  <dcterms:modified xsi:type="dcterms:W3CDTF">2019-05-19T05:42:37Z</dcterms:modified>
  <cp:revision>21</cp:revision>
  <dc:subject/>
  <dc:title>Слайд 1</dc:title>
</cp:coreProperties>
</file>