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1ED-AD85-4625-AD63-D6E5BF86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036-DFB5-42DF-A987-ACF22228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B49-D48E-4410-92EC-5AA98DA3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C77-5D62-4166-BF4F-C6C4C924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5212-EEF0-4475-88AD-71DD9B4B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3B77-C131-4F8E-A0F5-3D62A474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D262-A524-4FBB-872F-C71AA93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06E-538D-446E-8FE8-2694576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73F4-6A6F-4D0B-A38F-56D53D5D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188E-239B-45C9-AB1E-D9CAA373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E137-BE78-4467-9019-2BC4ABF3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892-1D0E-44C2-9409-155FB80E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0FA3-D83D-4824-BC2D-7284E36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7AC3-278F-44E3-B4A4-E4D4EDCB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FEBF-EDCC-4E22-9093-AB427F1A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E10C-1F7D-4D92-87B8-B5D8C0CF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C9EB-2DE5-4FF7-8B86-AAD5B59D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C94-B4F8-4E1B-BF54-EBD94023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199-B012-413C-B383-75B883EB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612-C4D6-4486-A817-01D56AE6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1BA-96B8-4270-B0E0-9E7A2380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54B-22A3-486C-9E52-5D78498C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E92-1E5C-4C25-96EF-15654CE2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2D2-0ABB-4D79-90A7-DA50B2D8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24F0-FD4F-43F1-AC03-A27E286EDF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3191-D009-459C-AD5F-0EA33C11E1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аспорядок дня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360" y="177300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ajestic"/>
              </a:rPr>
              <a:t>Режим дня</a:t>
            </a:r>
            <a:endParaRPr b="0" lang="en-US" sz="9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967280" y="4330800"/>
            <a:ext cx="417672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ирневская Анна Серг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5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70578130"/>
          <p:cNvPicPr/>
          <p:nvPr/>
        </p:nvPicPr>
        <p:blipFill>
          <a:blip r:embed="rId1"/>
          <a:stretch/>
        </p:blipFill>
        <p:spPr>
          <a:xfrm>
            <a:off x="2362320" y="12600"/>
            <a:ext cx="761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1268280"/>
            <a:ext cx="742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накомство с понятием «Режим дня» и его значением в жизни шк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5"/>
          <p:cNvSpPr/>
          <p:nvPr/>
        </p:nvSpPr>
        <p:spPr>
          <a:xfrm>
            <a:off x="250920" y="549360"/>
            <a:ext cx="76341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Дать понятие режима дня, раскрыть его структуру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знакомить с основными требованиями к режиму дн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пособствовать тому, чтобы родители были заинтересованы в соблюдении режима дня до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4000" y="691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режим дня и его струк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знакомится с требованием к режиму д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делать примерный режим д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-360" y="691920"/>
            <a:ext cx="8929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жим дня — это определенный распорядок дня, предусматривающий время для учебы, различных дел и отдых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ъё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ренние гигиенические процедуры (умывание, чистка зубов), одевание, уборка постели, гимнаст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рога в шко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ятия в шко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рога из шко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д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ение уро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улка на воздух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жин, свободное врем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черние гигиенические процедур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ъё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ренние гигиенические процедуры (умывание, чистка зубов), одевание, уборка постели, гимнаст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рога в шко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ятия в шко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рога из шко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д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ение уро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улка на воздух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жин, свободное врем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черние гигиенические процедур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219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219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2193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05:28:02Z</dcterms:created>
  <dc:creator>Оля</dc:creator>
  <dc:description/>
  <dc:language>en-US</dc:language>
  <cp:lastModifiedBy>Анна Скирневская</cp:lastModifiedBy>
  <dcterms:modified xsi:type="dcterms:W3CDTF">2019-05-19T05:42:37Z</dcterms:modified>
  <cp:revision>21</cp:revision>
  <dc:subject/>
  <dc:title>Слайд 1</dc:title>
</cp:coreProperties>
</file>