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5DA-563C-419F-B7E6-EC685C0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414-B0D7-425D-B065-81C31B58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BBF-BEB9-4E4E-B68D-AEADEDB4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742-7448-4B23-A10B-ECFB3537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D5F2E-5376-450D-B364-797BAB2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1DEFB-748E-4A2A-97C2-8DAE8F6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06FE8-97E4-482C-8E46-0597923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641FF-F28B-40A9-B483-A1221A9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2B39-5272-4FBC-9F95-C50D65A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00C4-D9D0-4A0A-AF90-99A5CC2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63CD3-9B6F-480F-8B74-8D508CA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498-2E46-4A97-8774-77551A34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3FD1-F60D-4C1E-926E-EB4CDC1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D319-6962-4BFA-9BEA-EF5D981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0606-DE92-4C7F-8D36-CD91C8DA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C8493-F0BC-43C3-86E5-1BEAC1E6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70DD6-3940-4F3F-B820-670C2621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FBD-36CA-4641-97E2-CBCF83F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14D-A0D8-4EAD-9642-953CBD76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013-AF0C-4B71-99AF-5E5E807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FE2-574C-42E2-AE60-487D594B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9E0-6CE3-4926-BA09-A8A955A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073-ED08-4B9E-900D-3FBFA53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2F1-35E2-430E-BC13-4FB719F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12C5-6EF3-465B-839B-C974C5CD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14E-EBAD-4B3D-A1D0-63C2477E8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38080" y="2438280"/>
            <a:ext cx="7309080" cy="1812960"/>
            <a:chOff x="838080" y="2438280"/>
            <a:chExt cx="7309080" cy="18129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38080" y="2514600"/>
              <a:ext cx="76536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7238880" y="2438280"/>
              <a:ext cx="908280" cy="177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042920" cy="1177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35640" y="5667480"/>
            <a:ext cx="3529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МБУДО ЦДТ г.Саян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Булыгина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473720"/>
            <a:ext cx="633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3e"/>
                </a:solidFill>
                <a:latin typeface="Comic Sans MS"/>
              </a:rPr>
              <a:t>Создание условий, благоприятствующих развитию творческих способностей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6270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я успешного развития творчески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зическое и интеллектуальное развитие де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дание обстановки, определяющей развитие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мостоятельное решение ребенком задач, требующих максимального напряжения, когда ребенок добирается до «потолка» своих возмож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оставление ученику свободы в выборе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мная доброжелательная помощь (а не подсказка) взросл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мфортная психологическая обстановка, поощрение взрослыми стремления ребенка к творче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ланировании системы занятий важно предусмотреть следующее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тическое разнообраз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редование разных видов (беседа, семинар, викторина, экскурсия, практикум, лаборатория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ену приемов активизации самостоятельности учащих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особы развития умственных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ыты и эксперимен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ганизация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гадывание зага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 развивающих задач и головолом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левые игры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Mышлeниe нaчинaeтcя c пpoблeмы или вoпpoca, c yдивлeния или нeдoyмeвaния, c пpoтивopeчи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Л. Pyбинштeй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ические рекомендации по развитию творчески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творческих занятиях не допустим педагогический нажим, повышенный голос, явные и скрытые угроз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дивидуальный подход к каждому ребенку, создание на занятиях климата доверия, предоставление самостоятельности в решении твор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комендации от педагогов, работающих в области «креативной педагогик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те терпеливы, не ждите от детей «быстрых» результат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 о доброжела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ойтесь движения и шума на заняти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йте своим воспитанникам «ситуации успех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50864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Обучать творческому акту нельзя - это вовсе не означает, что нельзя учителю содействовать его образованию и появ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.С.Выго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03:20:48Z</dcterms:created>
  <dc:creator>1</dc:creator>
  <dc:description/>
  <dc:language>en-US</dc:language>
  <cp:lastModifiedBy>1</cp:lastModifiedBy>
  <dcterms:modified xsi:type="dcterms:W3CDTF">2017-02-08T07:16:09Z</dcterms:modified>
  <cp:revision>7</cp:revision>
  <dc:subject/>
  <dc:title>Слайд 1</dc:title>
</cp:coreProperties>
</file>