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97E-1144-4852-B86D-20F25889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394-4001-477A-A414-3F6DAB90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EF0-4479-4FB9-A79F-D2D4EB7D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B2B-3C00-4D18-9ED4-CD26AE77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69193-2F06-4622-8BAE-C2249AAF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C59CE-271F-4FDB-9001-14EB31F9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7B0E1-7A8D-49AA-B04D-41A5F0B5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E3CCE-7107-44B0-9D6B-3A979C06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A39AA-29C6-4612-A946-0AC9A7B2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752D9-2233-4871-BEB4-EC1B2470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5D2D1-4712-4323-ACB8-054ACDB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914-97D8-4920-A161-B5370109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83B30-CD77-4428-AD09-5A415CF4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28A8E-6BB3-4E4C-A9E5-77A852B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60C47-5FCC-4B9D-BF9E-9CC5AB08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A4472-77CD-40AE-A9E6-35370C14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7C089-EC62-43DF-ADDF-D6AA9472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5B4-1CA2-4D27-9DE9-BD5DA6D9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33A-E6B7-460F-A1F9-76648A2C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AFF-117D-4DE2-8662-B07546D2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D09-F178-4D8C-A910-65D1AFEC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1AE-2A1B-4179-B080-09F92E05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163-0643-47F0-8FA6-0DD447B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7E5A-C86F-47D8-B024-4107B921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554E-BD05-4032-9D9B-E7CD6A55D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A910-79EE-4539-99C9-277093FB2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838080" y="2438280"/>
            <a:ext cx="7309080" cy="1812960"/>
            <a:chOff x="838080" y="2438280"/>
            <a:chExt cx="7309080" cy="181296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838080" y="2514600"/>
              <a:ext cx="765360" cy="17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7238880" y="2438280"/>
              <a:ext cx="908280" cy="177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067280" y="2852640"/>
            <a:ext cx="1042920" cy="1177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35640" y="5667480"/>
            <a:ext cx="3529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МБУДО ЦДТ г.Саяного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Булыгина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473720"/>
            <a:ext cx="6337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3e"/>
                </a:solidFill>
                <a:latin typeface="Comic Sans MS"/>
              </a:rPr>
              <a:t>Создание условий, благоприятствующих развитию творческих способностей обучаю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84000" y="188640"/>
            <a:ext cx="6270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ловия успешного развития творческих способност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физическое и интеллектуальное развитие де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здание обстановки, определяющей развитие ребен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амостоятельное решение ребенком задач, требующих максимального напряжения, когда ребенок добирается до «потолка» своих возможност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оставление ученику свободы в выборе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умная доброжелательная помощь (а не подсказка) взросл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омфортная психологическая обстановка, поощрение взрослыми стремления ребенка к творчеств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 планировании системы занятий важно предусмотреть следующее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матическое разнообраз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редование разных видов (беседа, семинар, викторина, экскурсия, практикум, лаборатория и т.д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мену приемов активизации самостоятельности учащих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особы развития умственных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ыты и эксперимент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рганизация проблемного обу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гадывание загад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 развивающих задач и головолом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олевые игры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Mышлeниe нaчинaeтcя c пpoблeмы или вoпpoca, c yдивлeния или нeдoyмeвaния, c пpoтивopeчия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Л. Pyбинштeй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тодические рекомендации по развитию творческих способност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творческих занятиях не допустим педагогический нажим, повышенный голос, явные и скрытые угроз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дивидуальный подход к каждому ребенку, создание на занятиях климата доверия, предоставление самостоятельности в решении твор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комендации от педагогов, работающих в области «креативной педагогики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07640" y="1700280"/>
            <a:ext cx="7077240" cy="43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ьте терпеливы, не ждите от детей «быстрых» результато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забывайте о доброжелатель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бойтесь движения и шума на занятия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вайте своим воспитанникам «ситуации успех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450864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Обучать творческому акту нельзя - это вовсе не означает, что нельзя учителю содействовать его образованию и появ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.С.Выго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8T03:20:48Z</dcterms:created>
  <dc:creator>1</dc:creator>
  <dc:description/>
  <dc:language>en-US</dc:language>
  <cp:lastModifiedBy>1</cp:lastModifiedBy>
  <dcterms:modified xsi:type="dcterms:W3CDTF">2017-02-08T07:16:09Z</dcterms:modified>
  <cp:revision>7</cp:revision>
  <dc:subject/>
  <dc:title>Слайд 1</dc:title>
</cp:coreProperties>
</file>