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1221-9877-4C49-83F6-7BE0E9381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207D-F5C6-46BE-932B-31DE8EAA1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C86B-D9B2-44FA-BE14-51AEED175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225C-6F07-4C70-B11B-D891DE9FA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09B8-87C6-4B86-AA42-8AD035336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9136-1014-4C4E-9FA8-18D28E9E1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E1CB-E20B-4611-814C-1B27B7143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D1F4-65BD-4A5B-99E1-90E942A2A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AEEF-A4FA-4BF3-B50E-53D600F9C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7A3A-D3E2-4097-98DB-2535A6E2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CDE8-237E-4558-87C5-94EF31B4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B40B-6C20-4986-8E61-F7E8E539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D19F3-7745-4414-AEF4-FBF2C48BE2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00000"/>
                </a:solidFill>
                <a:latin typeface="Calibri"/>
              </a:rPr>
              <a:t>Что такое ОНР?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0" y="1901880"/>
            <a:ext cx="9144000" cy="495612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3"/>
          <p:cNvSpPr/>
          <p:nvPr/>
        </p:nvSpPr>
        <p:spPr>
          <a:xfrm>
            <a:off x="4000680" y="1143000"/>
            <a:ext cx="471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ила учитель-логопед МАДОУ ЦРР д/с 114 Мурадян С.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606560" y="333360"/>
            <a:ext cx="453708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Общее недоразвитие речи (ОНР) – это сложное речевое расстройство, при котором у детей нарушено формирование всех компонентов речи, касающихся звуковой и смысловой сторон, при нормальном слухе и интеллект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94920" y="333360"/>
            <a:ext cx="828036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инято выделять 4 уровня речевого развития при ОНР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I уровень речевого развития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характеризуется отсутствием речи (так называемые «безречевые дети»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ети этого уровня для общения пользуются главным образом лепетными  словами, звукоподражаниями, отдельными существи­тельными и глаголами бытового содержания, обрывками лепетных предложений, звуковое оформление которых смазано, нечетко и крайне неустойчиво. Нередко свои «высказывания» ребенок подкрепляет мимикой и жестам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95280" y="260280"/>
            <a:ext cx="82915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ереход ко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II уровню речевого развития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(зачатки общеупотребительной речи) знаменуется тем, что, кроме жестов и лепетных слов, появляются хотя и искаженные, но достаточно постоянные общеупотребительные слова («Алязай. Дети алязай убиляют. Капутн, лидоме, лябака. Литя сдают земю» - Урожай. Дети урожай убирают. Капусты, помидоры, яблоки. Листья падают на землю)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дновременно намечается различение некоторых грамматических форм. Однако это происходит лишь по отношению к словам с ударными окончаниями (стол-столы; поет-поют) и относящимся лишь к некоторым грамматическим категориям. Этот процесс носит еще довольно неустойчивый характер, и грубое недоразвитие речи у данных детей проявляется достаточно выражено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ысказывания детей обычно бедны, ребенок ограничивается перечислением непосредственно воспринимаемых предметов и действий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24000" y="0"/>
            <a:ext cx="8640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II уровень речевого развития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характеризуется наличием развернутой фразовой речи с элементами лексико-грамматического и фонетико-фонематического недоразвития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вободное общение крайне затруднено. Даже те звуки, которые дети умеют произносить правильно, в их самостоятельной речи звучат недостаточно четко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Характерным является недифференцированное произнесение звуков (в основном свистящих, шипящих, аффрикат и соноров), когда один звук заменяет одновременно два или несколько звуков данной фонетической группы. Например, ребенок заменяет звуком с', еще недостаточно четко произносимым, звуки с («сяпоги» вместо сапоги), ш («сюба» вместо шуба), ц («сяпля» вместо цапля)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месте с тем на данном этапе дети уже пользуются всеми частями речи, правильно употребляют простые грамматические формы, пытаются строить сложносочиненные и сложноподчиненные предложения («Кола посол в лес, помал маленькую белку, и тыла у Коли кетка» - Коля пошел в лес, поймал маленькую белку, и жила у Коли в клетке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24000" y="0"/>
            <a:ext cx="8640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Calibri"/>
              </a:rPr>
              <a:t>IV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уровень речевого развития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характеризуется незначительными изменениями всех компонентов языка. У детей нет ярких нарушений звукопроизношения имеется лишь недостатки дифференциации звуков [Р - Р'], [Л - Л'], [j], [Щ - Ч - Ш], [Т' - Ц - С - С'] и др. и характеризуется своеобразием нарушения слоговой структуры, ребенок понимает значение слова не удерживает в памяти фонематический образ, в следствии чего искажения звуконаполняемости в разных вариантах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ерсеверации (упорное повторение какого-либо слога) «блиблиотекарь» - библиотекарь;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ерестановки звуков и слогов «комосновт» - космонавт;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элизии (сокращение гласных при стечении);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арафазии (замены слогов) «мотокилист» - мотоциклист;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 редких случаях опускание слогов «велопедист» - велосипедист;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добавление звуков «игруша» - груша, и слогов «воващи»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тепень отставания в употреблении сложных по структуре слов в спонтанном проговаривании и речевом контакте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се это прослеживается в сравнении с нормой, т.о. четвертый уровень определяется в зависимости от соотношения нарушений слоговой структуры и звуконаполняемост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4:27:04Z</dcterms:created>
  <dc:creator>Татьяна</dc:creator>
  <dc:description/>
  <dc:language>en-US</dc:language>
  <cp:lastModifiedBy>admin</cp:lastModifiedBy>
  <dcterms:modified xsi:type="dcterms:W3CDTF">2019-05-18T17:20:45Z</dcterms:modified>
  <cp:revision>8</cp:revision>
  <dc:subject/>
  <dc:title>Слайд 1</dc:title>
</cp:coreProperties>
</file>