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9AB-FCC7-4883-BC58-1F71FBC8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B07-9710-4FB7-B8BE-BFC6C94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1CA-1A70-4E58-AC65-2E7B06D0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15C-338F-493A-8074-C1B45B0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F87-1463-46C3-A0F6-7C328F3F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CF7-3907-4C9A-ADBF-362E911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EC7-754D-4470-8DB8-228D484C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0F-C34B-48E0-91EA-DDC94B8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272-39FB-4915-88C9-2F50AC4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27A-AFBA-4F9F-80F1-AD18095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D6C-4C34-4036-A9E0-358779C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E55-DE27-4E85-AC44-43BC0F15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2ECE-B3DC-4288-A694-A9EFF7B2D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Что такое ОНР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000680" y="1143000"/>
            <a:ext cx="47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учитель-логопед МАДОУ ЦРР д/с 114 Мурадян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06560" y="333360"/>
            <a:ext cx="453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щее недоразвитие речи (ОНР) – это сложное речевое расстройство, при котором у детей нарушено формирование всех компонентов речи, касающихся звуковой и смысловой сторон, при нормальном слухе и интеллек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4920" y="333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нято выделять 4 уровня речевого развития при ОН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I уровень речевого развит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арактеризуется отсутствием речи (так называемые «безречевые дети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и этого уровня для общения пользуются главным образом лепетными  словами, звукоподражаниями, отдельными существи­тельными и глаголами бытового содержания, обрывками лепетных предложений, звуковое оформление которых смазано, нечетко и крайне неустойчиво. Нередко свои «высказывания» ребенок подкрепляет мимикой и жест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ереход 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II уровню речевого развит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зачатки общеупотребительной речи) знаменуется тем, что, кроме жестов и лепетных слов, появляются хотя и искаженные, но достаточно постоянные общеупотребительные слова («Алязай. Дети алязай убиляют. Капутн, лидоме, лябака. Литя сдают земю» - Урожай. Дети урожай убирают. Капусты, помидоры, яблоки. Листья падают на землю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овременно намечается различение некоторых грамматических форм. Однако это происходит лишь по отношению к словам с ударными окончаниями (стол-столы; поет-поют) и относящимся лишь к некоторым грамматическим категориям. Этот процесс носит еще довольно неустойчивый характер, и грубое недоразвитие речи у данных детей проявляется достаточно выраже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сказывания детей обычно бедны, ребенок ограничивается перечислением непосредственно воспринимаемых предметов и действ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II уровень речевого развит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характеризуется наличием развернутой фразовой речи с элементами лексико-грамматического и фонетико-фонематического недоразвит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вободное общение крайне затруднено. Даже те звуки, которые дети умеют произносить правильно, в их самостоятельной речи звучат недостаточно четк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арактерным является недифференцированное произнесение звуков (в основном свистящих, шипящих, аффрикат и соноров), когда один звук заменяет одновременно два или несколько звуков данной фонетической группы. Например, ребенок заменяет звуком с', еще недостаточно четко произносимым, звуки с («сяпоги» вместо сапоги), ш («сюба» вместо шуба), ц («сяпля» вместо цапля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на данном этапе дети уже пользуются всеми частями речи, правильно употребляют простые грамматические формы, пытаются строить сложносочиненные и сложноподчиненные предложения («Кола посол в лес, помал маленькую белку, и тыла у Коли кетка» - Коля пошел в лес, поймал маленькую белку, и жила у Коли в клетк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0"/>
            <a:ext cx="86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ровень речевого развит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характеризуется незначительными изменениями всех компонентов языка. У детей нет ярких нарушений звукопроизношения имеется лишь недостатки дифференциации звуков [Р - Р'], [Л - Л'], [j], [Щ - Ч - Ш], [Т' - Ц - С - С'] и др. и характеризуется своеобразием нарушения слоговой структуры, ребенок понимает значение слова не удерживает в памяти фонематический образ, в следствии чего искажения звуконаполняемости в разных вариантах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северации (упорное повторение какого-либо слога) «блиблиотекарь» - библиотекарь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становки звуков и слогов «комосновт» - космонав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изии (сокращение гласных при стечении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фазии (замены слогов) «мотокилист» - мотоциклис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едких случаях опускание слогов «велопедист» - велосипедист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бавление звуков «игруша» - груша, и слогов «воващи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епень отставания в употреблении сложных по структуре слов в спонтанном проговаривании и речевом контакт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это прослеживается в сравнении с нормой, т.о. четвертый уровень определяется в зависимости от соотношения нарушений слоговой структуры и звуконаполняем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27:04Z</dcterms:created>
  <dc:creator>Татьяна</dc:creator>
  <dc:description/>
  <dc:language>en-US</dc:language>
  <cp:lastModifiedBy>admin</cp:lastModifiedBy>
  <dcterms:modified xsi:type="dcterms:W3CDTF">2019-05-18T17:20:45Z</dcterms:modified>
  <cp:revision>8</cp:revision>
  <dc:subject/>
  <dc:title>Слайд 1</dc:title>
</cp:coreProperties>
</file>