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4C4-B052-419E-B565-13578357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967-9BB3-4DBA-B771-DA07846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2B1-451B-4260-B193-0B85DFD7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58B-243B-4A6D-9042-3A4F1A6B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66B7-0568-44C2-943A-AC162DDC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1052-AEAC-4831-99A3-25C0F529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B78-EBFA-4A42-8CB2-1CA2E2C4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873A-B1D0-462B-99E6-E0BDC5E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FD72-92E9-49D9-8809-3A7562C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416-A9E5-4DE0-8934-DE9D2079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71B-7442-4496-8C22-E92FF1F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C33-9BDA-4CBD-A408-5A070BDF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3B7D-49F2-44D8-94C2-BD1CA8C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BECB-B51B-460B-8D82-47893D9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EB5-B7BA-46B9-9E45-2C14613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F4D-9A4F-4289-8DBD-0ED9F7FD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827A-9F38-4CDE-95F9-4AA5E9FB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A84-C526-4A61-95E8-F10142B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411-CF98-44DB-A5CC-5E9E597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CAB-E483-4CC0-A0DB-C13EDF7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37E-2B3E-4844-8E54-6261678E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E13-97FE-4BF1-B23E-50105DB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D11-B5E7-46C6-8894-6BD458DD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D2A-5DC9-4F01-BCD0-B3860D2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af4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B39-88D2-4082-982B-9E6A327F3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af4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732-CB67-499D-8A89-FC103D72D1D5}" type="slidenum">
              <a:rPr b="0" lang="ru-RU" sz="14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Oval 5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pic>
          <p:nvPicPr>
            <p:cNvPr id="101" name="Picture 6" descr="Untitled - 3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Picture 8" descr="Untitled - 2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Picture 8" descr="article_1109191297_2_91433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map010s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Picture 5" descr="1359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8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2069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1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Picture 6" descr="i4_210099_796_s22279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0524_1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Picture 5" descr="1101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Picture 4" descr="5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4" descr="4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Company</cp:lastModifiedBy>
  <dcterms:modified xsi:type="dcterms:W3CDTF">2010-11-29T06:34:37Z</dcterms:modified>
  <cp:revision>9</cp:revision>
  <dc:subject/>
  <dc:title>22 апреля - День Земли </dc:title>
</cp:coreProperties>
</file>