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679-AB49-40A0-BE02-6C85D715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1AD-F29F-4491-B90B-24BA68C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54D-77EB-4234-85B1-D8BA384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CED-380E-4E27-9B2D-2BE23CF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B7B3-A3A7-4D65-94F9-8CA39F8C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511-E796-4FCD-99A3-DCFC993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2E4-A13A-4AD0-B78F-99BA79B1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E7F1-65D7-4B3A-8933-39BA863E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5A0-CEA9-4606-9E47-71C085C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5022-43B4-40EE-8CCD-90987872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F55C-1285-4494-91A1-B525610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14B-46BB-461B-BD19-EFDF80D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6EC-2639-4C80-A37C-2B4A804C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1A9E-673A-40BA-A416-45B4577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D38B-9980-4A41-8651-DFAE26CF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B87-5266-46A3-9BF1-03AEFA68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478-397D-4B20-B917-EF5E4EF2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109-7D6B-4C59-8BE5-348A1654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673-E922-4A7C-AE8E-C1996E0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DC2-04A2-4075-830B-BA8423E6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727-7602-4AE8-8614-9C0E4A42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BD0-1B2B-4411-8426-E40F670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0B3-9A89-4079-A230-C05D27A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EDA-68E0-4306-8B08-3E7679F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af4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4EA-1A88-43FB-8527-0A776D5F3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aaf4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3C25-5000-4347-8363-9705FA96D15A}" type="slidenum">
              <a:rPr b="0" lang="ru-RU" sz="1400" spc="-1" strike="noStrike">
                <a:solidFill>
                  <a:srgbClr val="99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Oval 5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  <p:pic>
          <p:nvPicPr>
            <p:cNvPr id="101" name="Picture 6" descr="Untitled - 3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Picture 8" descr="Untitled - 2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Picture 8" descr="article_1109191297_2_91433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map010s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Picture 5" descr="1359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08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2069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1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Picture 6" descr="i4_210099_796_s22279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0524_1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Picture 5" descr="1101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Picture 4" descr="5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Picture 4" descr="4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Company</cp:lastModifiedBy>
  <dcterms:modified xsi:type="dcterms:W3CDTF">2010-11-29T06:34:37Z</dcterms:modified>
  <cp:revision>9</cp:revision>
  <dc:subject/>
  <dc:title>22 апреля - День Земли </dc:title>
</cp:coreProperties>
</file>