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6AA-650C-40E4-8100-87B0B138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7EF-8385-455E-8C14-972C7966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837-72B0-4B52-ADFB-118B935D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A43-EE0E-4F1A-9B77-F662DC53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813-A8BE-4470-9E40-BCC5F20D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787-E7D5-400B-9511-28418C5D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A3D-A0A1-4CC1-B6F6-4CCB3511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353-8A54-42D2-88E5-3F10A82D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292-5C8C-4D8D-8B53-A1F2C3C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ACB-FFBC-47C3-BFDC-16CAC74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740-FAB1-437F-9CB5-10AD66B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817-956D-42FD-B498-811C360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AAB6-7B82-475E-82D6-3B1186246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40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e like to pla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veryday</a:t>
            </a:r>
            <a:br>
              <a:rPr sz="7200"/>
            </a:br>
            <a:br>
              <a:rPr sz="7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нетические игры на урок английского языка</a:t>
            </a:r>
            <a:br>
              <a:rPr sz="32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Цель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тренировать учащихся в произношении английских звуков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формирование основ фонетических навыков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        укрепление артикуляционного аппарата</a:t>
            </a:r>
            <a:br>
              <a:rPr sz="27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5013000"/>
            <a:ext cx="7304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читель:Шамшина Яна Андр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ра «Koмары и осы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ложите детям вымолвить звук [z] - [z-z-z] и объясните, что так в нашей игре будут жужжать комары, потом предложите детям вымолвить звук [ð] - [ð-ð-ð] и объясните, что так будут жужжать осы. Каждый раз, когда будут жужжать комары (звук [z]), дети должны хлопать в ладони, будто отгоняют комаров, а когда зажужжат осы (звук [ð]), они должны сидеть тихо, чтобы оса их не укусила. Цель игры - научить различать на слух звуки [z] и [ð]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сергей\Desktop\n_079.jpg"/>
          <p:cNvPicPr/>
          <p:nvPr/>
        </p:nvPicPr>
        <p:blipFill>
          <a:blip r:embed="rId1"/>
          <a:stretch/>
        </p:blipFill>
        <p:spPr>
          <a:xfrm>
            <a:off x="5364000" y="2565360"/>
            <a:ext cx="3137040" cy="3681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сергей\Desktop\1305904729_malyariya.jpg"/>
          <p:cNvPicPr/>
          <p:nvPr/>
        </p:nvPicPr>
        <p:blipFill>
          <a:blip r:embed="rId2"/>
          <a:stretch/>
        </p:blipFill>
        <p:spPr>
          <a:xfrm>
            <a:off x="1042920" y="2565360"/>
            <a:ext cx="3457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гра «Пчёлы»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отработка звуков [ð]-[θ]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Любите ли вы сказки? Тогда слушайте! Одна русская пчела сидела на цветке. Вдруг на тот же цветок прилетела английская пчела. Русской пчеле это не понравилось. Она жужжит, ругается: з-з-з-з-з-з! И английская пчела ей не уступает. Но у нее, взгляните, язык длинный, во рту не умещается. И выходит у нее: th-th-th-th-th! Как русская пчела жужжит? - з-з-з-з-з. - А английская? - th-th-th-th (3-4 раза). Русская ругается - [за-за-за], а английская - (дети повторяют за учителем) [ðа-ðа-ðа]. Русская - [зе-зе-зе], а английская - [ðе-ðе-ðе]. Русская - [зи-зи-зи], а английская - [ðі-ðі-ði].  А к вечеру они осипли, и русская пчела стала жужжать так: с-с-с-с-с-с-с. А как стала жужжать английская пчела? Правильно! th-th-th-th (глухой звук)! (3-4 раза). Русская - [са-са-са], а английская - [θа-θа-θа ]. Украинская - [си-си-си], а английская - [θі-θі-θі]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Users\сергей\Desktop\d651285adbbb.jpg"/>
          <p:cNvPicPr/>
          <p:nvPr/>
        </p:nvPicPr>
        <p:blipFill>
          <a:blip r:embed="rId1"/>
          <a:stretch/>
        </p:blipFill>
        <p:spPr>
          <a:xfrm>
            <a:off x="2340000" y="3068640"/>
            <a:ext cx="4271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Угадай по голосу, кто пришёл к тебе в гости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то-нибудь из ребят, закрыв глаза, стоит у доски, а другой ученик громко произносит слова приветствия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Good morning, Pete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How are  you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т, кто стоит у доски, должен по голосу догадаться, кто с ним здоровается, должен ответить на приветствие, назвав ученика по имен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Good morning, Olga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I amine, thank you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7" descr="мальчик.gif"/>
          <p:cNvPicPr/>
          <p:nvPr/>
        </p:nvPicPr>
        <p:blipFill>
          <a:blip r:embed="rId1"/>
          <a:stretch/>
        </p:blipFill>
        <p:spPr>
          <a:xfrm>
            <a:off x="1332000" y="4221000"/>
            <a:ext cx="1938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13957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роизносит английские звуки, а ребята показывают соответствующие транскрипционные значки. Можно видоизменять условия игры: учитель показывает транскрипционные значки, а вызванные ученики произносят соответствующий гласный звук или слово, содержащее данный зву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baby01.gif"/>
          <p:cNvPicPr/>
          <p:nvPr/>
        </p:nvPicPr>
        <p:blipFill>
          <a:blip r:embed="rId1"/>
          <a:stretch/>
        </p:blipFill>
        <p:spPr>
          <a:xfrm>
            <a:off x="6012000" y="3645000"/>
            <a:ext cx="2457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ыстрее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Цель: формирование и совершенствование навыков установления звуко-буквенных соответствий и значения слов на слу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Ход игры: ученикам раздаются карточки, на которых в первой колонке приводятся слова на иностранном языке, во второй - их транскрипция, в третьей - перевод слов на русский язык. Слова на иностранном языке пронумерованы по порядку следования. Каждый ученик должен, как только учитель произнесёт то или иное слово, поставить его номер рядом с соответствующими транскрипцией и переводом на русский язык (или все три соответствия непрерывной чертой). Выигрывает тот, кто быстрее и качественнее установит соответствия между иноязычным словом, транскрипцией и переводом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ing Airplane. [v]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 когда – нибудь играли в «самолётик»? Наверное, вы расправляли руки, словно крылья, слегка наклонялись вперёд – и вот вы уже летите. Маленькие англичане тоже любят играть в эту игру. Но вместо звука [ж], они говорят звук [v]. давайте поиграем в «английский» самолётик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e is travelling up in the sky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so fast and ever so high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land and over the sea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we always come back in time for tea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v – vvv – vvv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анную игру можно играть с движениями, используя её в качестве физкультминутки. Стих может говорить только учитель, а ученики произносить звук [v], но в более подготовленных группах стих могут выучить все уче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сергей\Desktop\rrj.jpg"/>
          <p:cNvPicPr/>
          <p:nvPr/>
        </p:nvPicPr>
        <p:blipFill>
          <a:blip r:embed="rId1"/>
          <a:stretch/>
        </p:blipFill>
        <p:spPr>
          <a:xfrm>
            <a:off x="6300720" y="2781360"/>
            <a:ext cx="2430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Michael Carrier &amp; The Centre for British Teachers. Take 5. Games and Activities for the Language Learner. – Berlin: CVK, 1980. (игры из данного пособия даны в переводе Добряк С.Н.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рбовская М.Е., Шишкова И.А. Английский для малышей./Под ред. Н.А.Бонк. книга для родителей и преподавателей. – М.: АОЗТ «Издательство РУЧЕНЬКИНА», 1996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зюина Е.В. Поурочные разработки по английскому языку к учебному комплекту М.З.Биболетовой, Н.В.Добрыниной, Е.А.Ленской “Enjoy English 1”: 1-2 классы. – М.: ВАКО, 2007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слыко Е.А., Бабинская П.К., Будько А.Ф, Петрова С.И. Настольная книга преподавателя иностранного языка. Справочное пособие. – Минск: «Вышэйшая школа», 1999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йнберг Д. 110 игр на уроках английского языка/Дж.Стайнберг; Пер. с англ. – М.: ООО «Издательство АСТ»: ООО «Издательство Аристель», 2004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орова Г.Н. Игры на уроках иностранного языка. – М.: ИКЦ «МарТ», Ростов н/Д.:Издательский центр «МарТ», 2005г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www.homeenglish.ru/Othercount.htm</a:t>
            </a:r>
            <a:br>
              <a:rPr sz="1100"/>
            </a:br>
            <a:br>
              <a:rPr sz="11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9:55:12Z</dcterms:created>
  <dc:creator>WINNER</dc:creator>
  <dc:description/>
  <dc:language>en-US</dc:language>
  <cp:lastModifiedBy>Учитель</cp:lastModifiedBy>
  <dcterms:modified xsi:type="dcterms:W3CDTF">2018-06-13T07:56:31Z</dcterms:modified>
  <cp:revision>32</cp:revision>
  <dc:subject/>
  <dc:title>We like to play  урок английского языка в 4 классе</dc:title>
</cp:coreProperties>
</file>