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F7D-62CC-4CA8-97FE-8FB61EA7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BBB-EB5A-4B69-8E56-12E0DB91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116-2D7C-40AB-AB2A-1FDB1916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71D-AFBB-44BB-808C-5B168D14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AC93-26E9-48C6-B147-17CCA608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9DD5-779C-43D8-B67A-51B62977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7B03-F831-404F-AEA5-DFB6EB58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60FE-9399-47EF-B538-A473856D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1121-1688-405E-B138-82EC4D2B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0449-2AF2-4E34-AFD4-0DEC17B9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EEDF-46C7-4F08-B028-38A3FD7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643-4467-46D2-9214-D49BEB3C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4C0A-4FFE-432D-8CA4-062B5E42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D4C4-BEC8-4450-952F-CC72025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01A4-EAF1-4322-887F-76B53759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79C4-7C6E-4DC5-8308-86EFDCE3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EC0D-F815-406F-8148-903FF358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0CC-CD1C-4FE1-8FFE-C73983B9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A99-4686-4EA9-A96A-FDEE986A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86E-84BE-441F-97B9-921A36D7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4E3-9571-4700-98DC-B6FB7B1C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C60-459D-47FD-8B81-ECB1118A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CDE-7C13-4FF9-BE8D-0CBC8476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61D-C2D9-4046-B6E2-747B8FFC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FAF2-B52C-432C-9CBB-03952506BC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FC50-F944-44F7-8209-1CFD723347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Формирование устойчивой социальной среды как условие развития социальной одаренности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обучающихся в УДОД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0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Булыгина Т.П., зам директора по НМР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МБОУ ДОД Центр детского творчества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МО г. Саяногорс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оциальная одаренность как предпосылка успешности в нескольких областях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4508280"/>
            <a:ext cx="731376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736"/>
                </a:solidFill>
                <a:latin typeface="Comic Sans MS"/>
              </a:rPr>
              <a:t>Социальная одаренность - исключительная способность устанавливать зрелые, конструктивные взаимоотношения с другими людь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1916280"/>
            <a:ext cx="7705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36"/>
                </a:solidFill>
                <a:latin typeface="Comic Sans MS"/>
              </a:rPr>
              <a:t>Социально-одаренный челов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36"/>
                </a:solidFill>
                <a:latin typeface="Comic Sans MS"/>
              </a:rPr>
              <a:t>умеет ориентироваться в изменяющемся ми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36"/>
                </a:solidFill>
                <a:latin typeface="Comic Sans MS"/>
              </a:rPr>
              <a:t>действует с больш</a:t>
            </a:r>
            <a:r>
              <a:rPr b="1" lang="en-US" sz="2400" spc="-1" strike="noStrike">
                <a:solidFill>
                  <a:srgbClr val="003736"/>
                </a:solidFill>
                <a:latin typeface="Comic Sans MS"/>
              </a:rPr>
              <a:t>о</a:t>
            </a:r>
            <a:r>
              <a:rPr b="0" lang="en-US" sz="2400" spc="-1" strike="noStrike">
                <a:solidFill>
                  <a:srgbClr val="003736"/>
                </a:solidFill>
                <a:latin typeface="Comic Sans MS"/>
              </a:rPr>
              <a:t>й долей самосто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36"/>
                </a:solidFill>
                <a:latin typeface="Comic Sans MS"/>
              </a:rPr>
              <a:t>Один из видов социальной одаренности - 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Педагогическая поддержка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даренных детей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4"/>
                </a:solidFill>
                <a:latin typeface="Comic Sans MS"/>
              </a:rPr>
              <a:t>создать творческую среду учрежден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4"/>
                </a:solidFill>
                <a:latin typeface="Comic Sans MS"/>
              </a:rPr>
              <a:t>разработать комплекс образовательных программ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4"/>
                </a:solidFill>
                <a:latin typeface="Comic Sans MS"/>
              </a:rPr>
              <a:t>организовать методическое сопровождение самореализации одаренных дете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4"/>
                </a:solidFill>
                <a:latin typeface="Comic Sans MS"/>
              </a:rPr>
              <a:t>сформировать положительное отношение педагога к учени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5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301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Формирование устойчивой социальной среды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– одна из важнейших задач О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892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Связи ОУ с социумом можно установи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1. Приспосабливая организацию к развитию обще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2. Улучшая имидж ОУ в социуме и способствуя принятию социумом политики учрежд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301320"/>
            <a:ext cx="756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Формирование образовательной среды О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1916280"/>
            <a:ext cx="3240000" cy="93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Факторы внешн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1916280"/>
            <a:ext cx="324036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нутренн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141720"/>
            <a:ext cx="2016360" cy="934920"/>
          </a:xfrm>
          <a:prstGeom prst="rect">
            <a:avLst/>
          </a:prstGeom>
          <a:solidFill>
            <a:srgbClr val="33ccc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ям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141720"/>
            <a:ext cx="2016000" cy="93492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св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213000"/>
            <a:ext cx="3671640" cy="2016360"/>
          </a:xfrm>
          <a:prstGeom prst="rect">
            <a:avLst/>
          </a:prstGeom>
          <a:solidFill>
            <a:srgbClr val="cc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атериально-техн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сн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адровый потенц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етод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omic Sans MS"/>
              </a:rPr>
              <a:t>Приоритеты Концепции развития дополнительного образования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827000"/>
            <a:ext cx="79218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Обеспечение доступности дополнительных общеобразовательных програм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Расширение спектра дополнительных общеобразовательных программ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Развитие системы управления качеством реализации дополнительных общеобразовательных програм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Развитие кадрового потенциала системы дополнительного образова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Совершенствование финансово-экономических механизмов развития дополнительного образова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Расширение участия негосударственного сектора в оказании услуг дополнительного образова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Модернизация инфраструктуры дополнительного образования детей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Развитие неформального и информального образова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Методы продвижения услуг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1. Трансляция опыта работ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2.Участие обучающихся в Центре в различных научных конференциях и конкурсах городского, республиканского, регионального, всероссийского и международного уровн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3. Культурно-массовая деятельность Центра как пропаганда творческой активности на площадках города и республики Хакас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4. Ежегодная кампания по набору детей в творческие объедин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5. Организация сетевого взаимодействия с учреждениями город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1:36:36Z</dcterms:created>
  <dc:creator>1</dc:creator>
  <dc:description/>
  <dc:language>en-US</dc:language>
  <cp:lastModifiedBy>1</cp:lastModifiedBy>
  <dcterms:modified xsi:type="dcterms:W3CDTF">2014-10-29T07:33:26Z</dcterms:modified>
  <cp:revision>9</cp:revision>
  <dc:subject/>
  <dc:title>Факторы образовательной среды, влияющие на развитие социальной одаренности обучающихся</dc:title>
</cp:coreProperties>
</file>