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0BE-ECC5-41F1-96C8-1958855C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5C1-6F51-4282-A1C6-17EE59C6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358-840B-48D5-9127-03D98E47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B6A-8193-43A8-92D1-85822AB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F1F1-9DAA-492C-BDA8-2E298CE5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D138-736A-4B81-A1F8-497BE7B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F57C-8EF2-45C0-89D8-43394A54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F408-9A79-4295-80F9-118A5F7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1174-5ED2-4F3D-8FDE-A1F2664A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5CD-C3AC-4A59-98EC-FB5BDDD1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62E0-046A-4ADC-8DA2-3CBAE3A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25FE-9034-49FF-AA17-4907FC04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07E7-8E61-481E-9595-168A3A4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BC9C-51B7-40EE-B3B3-F77A634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7A83-E337-4568-89CD-C1B3B3E2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AA1-44B5-4819-AE10-C7AF542F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805F-95A8-46F3-B5FA-F2366F07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894-08C7-4769-A168-D29724B9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7EF-6293-4311-8015-91B6A56C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78C-5B91-4B88-A2CB-807EF39C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658-6A6B-4096-8764-CA586237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07C-833A-4AED-B39C-92B6DDA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63D-2D0E-480A-AF6B-E8DC6CCD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48A-D93B-4D96-8904-B606B03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4A9D-42ED-4A8B-990C-E3D422391E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76D1-EE09-45FD-B498-8F63523F6ED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19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Формирование устойчивой социальной среды как условие развития социальной одаренност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обучающихся в УДОД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0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Булыгина Т.П., зам директора по НМР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МБОУ ДОД Центр детского творчества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66"/>
                </a:solidFill>
                <a:latin typeface="Verdana"/>
              </a:rPr>
              <a:t>МО г. Саяногорс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301320"/>
            <a:ext cx="77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Социальная одаренность как предпосылка успешности в нескольких областя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4508280"/>
            <a:ext cx="731376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736"/>
                </a:solidFill>
                <a:latin typeface="Comic Sans MS"/>
              </a:rPr>
              <a:t>Социальная одаренность - исключительная способность устанавливать зрелые, конструктивные взаимоотношения с другими людьм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1916280"/>
            <a:ext cx="7705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Социально-одаренный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умеет ориентироваться в изменяющемся ми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действует с больш</a:t>
            </a:r>
            <a:r>
              <a:rPr b="1" lang="en-US" sz="2400" spc="-1" strike="noStrike">
                <a:solidFill>
                  <a:srgbClr val="003736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й долей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736"/>
                </a:solidFill>
                <a:latin typeface="Comic Sans MS"/>
              </a:rPr>
              <a:t>Один из видов социальной одаренности - 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Педагогическая поддержка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даренных детей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создать творческую среду учрежден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разработать комплекс образовательных программ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организовать методическое сопровождение самореализации одаренных дете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4"/>
                </a:solidFill>
                <a:latin typeface="Comic Sans MS"/>
              </a:rPr>
              <a:t>сформировать положительное отношение педагога к ученик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301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Формирование устойчивой социальной среды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– одна из важнейших задач О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Связи ОУ с социумом можно установить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1. Приспосабливая организацию к развитию обще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2. Улучшая имидж ОУ в социуме и способствуя принятию социумом политики учрежд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301320"/>
            <a:ext cx="756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Формирование образовательной среды О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1916280"/>
            <a:ext cx="3240000" cy="93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внешн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1916280"/>
            <a:ext cx="3240360" cy="93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нутренние 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141720"/>
            <a:ext cx="2016360" cy="934920"/>
          </a:xfrm>
          <a:prstGeom prst="rect">
            <a:avLst/>
          </a:prstGeom>
          <a:solidFill>
            <a:srgbClr val="33cccc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ря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141720"/>
            <a:ext cx="2016000" cy="93492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Фак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с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213000"/>
            <a:ext cx="3671640" cy="2016360"/>
          </a:xfrm>
          <a:prstGeom prst="rect">
            <a:avLst/>
          </a:prstGeom>
          <a:solidFill>
            <a:srgbClr val="cc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териально-техн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сн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адровый потенц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етод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риоритеты Концепции развития дополнительного образования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Обеспечение доступности дополнительных общеобразовательных програм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сширение спектра дополнительных общеобразовательных програм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системы управления качеством реализации дополнительных общеобразовательных програм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кадрового потенциала системы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Совершенствование финансово-экономических механизмов развития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сширение участия негосударственного сектора в оказании услуг дополнительного образова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Модернизация инфраструктуры дополнительного образования дете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736"/>
                </a:solidFill>
                <a:latin typeface="Comic Sans MS"/>
              </a:rPr>
              <a:t>Развитие неформального и информального образова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Методы продвижения услуг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1. Трансляция опыта работ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2.Участие обучающихся в Центре в различных научных конференциях и конкурсах городского, республиканского, регионального, всероссийского и международного уровн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3. Культурно-массовая деятельность Центра как пропаганда творческой активности на площадках города и республики Хакас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4. Ежегодная кампания по набору детей в творческие объедин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736"/>
                </a:solidFill>
                <a:latin typeface="Comic Sans MS"/>
              </a:rPr>
              <a:t>5. Организация сетевого взаимодействия с учреждениями город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01:36:36Z</dcterms:created>
  <dc:creator>1</dc:creator>
  <dc:description/>
  <dc:language>en-US</dc:language>
  <cp:lastModifiedBy>1</cp:lastModifiedBy>
  <dcterms:modified xsi:type="dcterms:W3CDTF">2014-10-29T07:33:26Z</dcterms:modified>
  <cp:revision>9</cp:revision>
  <dc:subject/>
  <dc:title>Факторы образовательной среды, влияющие на развитие социальной одаренности обучающихся</dc:title>
</cp:coreProperties>
</file>