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A6DD-278A-49CA-9D83-0E63C10C52A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FC3C-0EF8-4A69-9500-B6F8D2D0C70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6F2-AEBA-4D8A-A5DE-CDE2BF8F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16F-62A7-468B-909B-C40F837B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AEF-9792-4565-AA3E-967B3DAC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90A-302B-41E8-9250-23B88FE9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0119-9AEE-42EE-8378-4FF61ECA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BC09-8B35-4F46-99F9-2552ADCF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ABCB-0E19-4A81-83B1-D94D087A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EDF3-B883-4F12-89F0-39CE5355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5370-1285-4A8F-8C23-AE12CF5E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8E44-8C51-47AA-B4B2-B5D109F8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1367-2413-4558-B560-8A1C9D24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DF3-C3DC-4493-A622-36C78ACF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2F56-BA62-4D04-930A-C01CB81D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B21E-078D-4A0F-BFD3-041B989A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2845-2FAE-497F-9F97-24AB6ED5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496E-9E2D-45B9-8021-00A530C4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2AD4-F01D-476B-BACF-CB64FEDB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90C-DDDB-49DC-B7E9-A37A5BA9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D46-36E1-4B75-BAEE-C5ECF515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BC8-9AAF-4DE9-878B-3D98E1A8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1E2-E339-4692-B428-467643D5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949-741A-4C36-83C4-7BF53E6A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3D9-273A-4FB9-80E5-54272B10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F76-33E4-46F5-9029-9AAFAE69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C19B-4BDD-4D4E-A3E1-5389FA00268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5F50-02E4-4E20-8BD2-C4EC27160C1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-30492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Cambria"/>
                <a:ea typeface="Calibri"/>
              </a:rPr>
              <a:t>Конфликтные ситуации 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Cambria"/>
                <a:ea typeface="Calibri"/>
              </a:rPr>
              <a:t>в образовательной сред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016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6" descr="https://ya-mama24.ru/wp-content/uploads/2016/01/foto_podrostkov_1-e1453912947580-1024x864.jpg"/>
          <p:cNvPicPr/>
          <p:nvPr/>
        </p:nvPicPr>
        <p:blipFill>
          <a:blip r:embed="rId1"/>
          <a:stretch/>
        </p:blipFill>
        <p:spPr>
          <a:xfrm>
            <a:off x="1828800" y="2286000"/>
            <a:ext cx="5562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Люди этого типа не умеют перестраиваться, т.е. учитывать в своем поведении изменение ситуации и обстоятельств, принимать во внимание мнения и точки зрения окружающих, честолюбивы, проявляют болезненную обидчивость, подозрительность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990720" y="30492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ae00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ИГИД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ae00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Личность "сверхточного" типа, которая всегда пунктуальна, придирчива, занудна, хоть и исполнительна, отталкивает людей от себя. Характеризуется следующими особенностями поведения. Предъявляет повышенные требования к себе. Предъявляет повышенные требования к окружающим. Обладает повышенной тревожностью. Склонен придавать излишнее значение замечаниям окружающих. Страдает от себя сам, переживает свои просчеты, неудачи, подчас расплачивается за них даже болезнями (бессонницей, головными болями и т. п.). Сдержан во внешних, особенно эмоциональных, проявлениях. Не очень хорошо чувствует реальные взаимоотношения в групп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685800" y="457200"/>
            <a:ext cx="7848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Н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Личность, сознательно уходящая, убегающая от конфликта, перекладывающая ответственность в принятии решения на других (руководитель на своего заместителя), беспринципная. Между тем конфликт нарастает как снежный ком и обрушивается на такую личность, что чревато последстви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990720" y="304920"/>
            <a:ext cx="7696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КОНФЛИКТНЫЙ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1371600" y="457200"/>
            <a:ext cx="6248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Н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136800"/>
            <a:ext cx="89154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-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это грубый, бесцеремонный человек, идущий на пролом, презирающий тонкости взаимоотношений и чужие чув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Эгоистичен и уверен в своей правот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Считает, что окружающие должны уступать ему дорог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Не любит, когда кто-то ставит под сомнение его правот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Озабочен своим авторитет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Болезненно самолюби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Настороженно относится к шуткам, которые по содержанию перекликаются с текущей ситуацией. В каждой шутке он усматривает скрытую атаку на его личность и достоинств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опытки обсудить с ним его отношение к людям (с надеждой что-то исправить) будут тщетны. Все без исключения ваши претензии будут приписаны вашему дурному характеру - ведь многие, с кем он общается, с ним соглас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Такой человек нацелен на дело, люди для него - инструмен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990720" y="380880"/>
            <a:ext cx="7086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ЯВ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66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151920"/>
            <a:ext cx="784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Пиявка" не говорит гадостей, не ругает и не оскорбляет, ни в чем прямо не обвиняет, но после общения с ним ухудшается самочувствие, снижается настроение или появляется чувство усталости, труднее направить мысли в нужное русло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Такой человек производит впечатление приятного и покладистого. Он уступчив и сговорчив. Это нравится в начале взаимодействия с ним. Но потом часто возникают проблемы: "Вата" не выполняет обещанного, соглашается сделать какую-либо работу и не делает е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У такого типа постоянно возникают непредвиденные обстоятельства, которые мешают выполнению обещанног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Не считает нужным вовремя сказать о таких обстоятельства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1219320" y="22860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А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762120" y="0"/>
            <a:ext cx="7391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ВИНИТ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09480" y="745560"/>
            <a:ext cx="8077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". Для него весь мир полон дураков, подлецов и бездельников. Но критикует он не устройство мира, а вполне конкретных людей: соседей, водителей автобусов, продавцов, врачей, сослуживцев, начальников, чиновников правительства... Критикует увлеченно, с жаром, со знанием дела, с фактами, выводами и заключениями. Имеет свои четкие суждения о том, кто как должен жить и работать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457200" y="-465120"/>
            <a:ext cx="8686800" cy="79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 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ословицы "Худой мир лучше доброй ссоры", "Из двух спорщиков умнее тот, кто первый замолчит", «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Держись подальше от людей, которые не согласны с тобой"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"Кто спорит – ни гроша не стои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 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ословицы "Мягко стелет, да жестко спать", "Не подмажешь – не поедешь", "Убивай врагов своих добротой"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"Доброе слово не требует затрат, а ценится доро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Garamond"/>
              </a:rPr>
              <a:t>  </a:t>
            </a:r>
            <a:r>
              <a:rPr b="1" lang="ru-RU" sz="2400" spc="-1" strike="noStrike">
                <a:solidFill>
                  <a:srgbClr val="33ccff"/>
                </a:solidFill>
                <a:latin typeface="Garamond"/>
              </a:rPr>
              <a:t>Пословицы "Ум хорошо, а два лучше", "Ни у кого нет полного ответа, но у каждого есть что добавить"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33ccff"/>
                </a:solidFill>
                <a:latin typeface="Garamond"/>
              </a:rPr>
              <a:t>"Выноси заботы на свет и держи с другими совет"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1981080" y="228600"/>
            <a:ext cx="502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01e0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БЕГ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01e0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1981080" y="2514600"/>
            <a:ext cx="5105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СПОСОБЛ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1752480" y="4648320"/>
            <a:ext cx="6019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ТРУДНИЧЕ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i-main-pic" descr="Картинка 668 из 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5"/>
          <p:cNvSpPr txBox="1"/>
          <p:nvPr/>
        </p:nvSpPr>
        <p:spPr>
          <a:xfrm>
            <a:off x="0" y="6095880"/>
            <a:ext cx="914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01e0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ЕНИК-УЧЕН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01e0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s://user67902.clients-cdnnow.ru/localStorage/collection/c9/08/72/af/c90872af_resizedScaled_1200to592.jpg"/>
          <p:cNvPicPr/>
          <p:nvPr/>
        </p:nvPicPr>
        <p:blipFill>
          <a:blip r:embed="rId1"/>
          <a:stretch/>
        </p:blipFill>
        <p:spPr>
          <a:xfrm>
            <a:off x="0" y="0"/>
            <a:ext cx="9352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838080" y="1447920"/>
            <a:ext cx="800100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mbria"/>
                <a:ea typeface="Calibri"/>
              </a:rPr>
              <a:t>Раздражитель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2" descr="http://demiart.ru/forum/uploads9/post-2231513-1328530420.jpg"/>
          <p:cNvPicPr/>
          <p:nvPr/>
        </p:nvPicPr>
        <p:blipFill>
          <a:blip r:embed="rId1"/>
          <a:stretch/>
        </p:blipFill>
        <p:spPr>
          <a:xfrm>
            <a:off x="2286000" y="2895480"/>
            <a:ext cx="44388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457200" y="609480"/>
            <a:ext cx="8458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Roboto"/>
              </a:rPr>
              <a:t>Сверстники зверски убили 12-летнего мальчика, а труп закопали в сугробе возле шко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inherit"/>
              </a:rPr>
              <a:t>Февраль 2017г.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inherit"/>
              </a:rPr>
              <a:t>В маленьком поселке Елецкий (полторы сотни жителей), что находится в 50 километрах от Воркуты, произошла чудовищная трагедия, вызвавшая огромный общественный резонанс</a:t>
            </a:r>
            <a:r>
              <a:rPr b="1" lang="ru-RU" sz="1800" spc="-1" strike="noStrike">
                <a:solidFill>
                  <a:srgbClr val="ffc000"/>
                </a:solidFill>
                <a:latin typeface="inheri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911520" y="228600"/>
            <a:ext cx="73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74396"/>
                </a:solidFill>
                <a:latin typeface="Cambria"/>
                <a:ea typeface="Calibri"/>
              </a:rPr>
              <a:t>.</a:t>
            </a:r>
            <a:r>
              <a:rPr b="1" lang="ru-RU" sz="2800" spc="-1" strike="noStrike">
                <a:solidFill>
                  <a:srgbClr val="ffff00"/>
                </a:solidFill>
                <a:latin typeface="Cambria"/>
                <a:ea typeface="Calibri"/>
              </a:rPr>
              <a:t>Знаете  ли  вы  свои  основные  прав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mbria"/>
                <a:ea typeface="Calibri"/>
              </a:rPr>
              <a:t>*да           *нет             *некоторы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Диаграмма 2" descr=""/>
          <p:cNvPicPr/>
          <p:nvPr/>
        </p:nvPicPr>
        <p:blipFill>
          <a:blip r:embed="rId1"/>
          <a:stretch/>
        </p:blipFill>
        <p:spPr>
          <a:xfrm>
            <a:off x="-304920" y="1066680"/>
            <a:ext cx="9753840" cy="5867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6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571680" y="248760"/>
            <a:ext cx="657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mbria"/>
                <a:ea typeface="Calibri"/>
              </a:rPr>
              <a:t>. </a:t>
            </a:r>
            <a:r>
              <a:rPr b="1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Кому  в  школе  доверяете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*учителя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*одноклассника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*директор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mbria"/>
                <a:ea typeface="Calibri"/>
              </a:rPr>
              <a:t>*ником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Диаграмма 2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9753840" cy="51818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Ink 1" descr=""/>
          <p:cNvPicPr/>
          <p:nvPr/>
        </p:nvPicPr>
        <p:blipFill>
          <a:blip r:embed="rId2"/>
          <a:stretch/>
        </p:blipFill>
        <p:spPr>
          <a:xfrm>
            <a:off x="98529840" y="80224200"/>
            <a:ext cx="360" cy="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i-main-pic" descr="Картинка 34 из 1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3" name="WordArt 5"/>
          <p:cNvSpPr txBox="1"/>
          <p:nvPr/>
        </p:nvSpPr>
        <p:spPr>
          <a:xfrm>
            <a:off x="0" y="5943600"/>
            <a:ext cx="9144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01e0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-УЧЕН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01e0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457200" y="-1151640"/>
            <a:ext cx="838188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Конфликт между педагогом и ребенком, между учителем и родителями, педагогом и коллективом — большая беда школ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Чаще всего конфликт возникает тогда, когда учитель думает о ребенке несправедливо. Думайте о ребенке справедливо — и конфликтов не будет. Умение избежать конфликта — одна из составных частей педагогической мудрости учител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                             </a:t>
            </a:r>
            <a:r>
              <a:rPr b="1" lang="ru-RU" sz="3600" spc="-1" strike="noStrike">
                <a:solidFill>
                  <a:srgbClr val="660033"/>
                </a:solidFill>
                <a:latin typeface="Garamond"/>
              </a:rPr>
              <a:t>(В.А.Сухомлинский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inherit"/>
              </a:rPr>
              <a:t>Кровавое селфи: ученик московского колледжа убил преподавателя ОБЖ (01.11.2017г.)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Open Sans"/>
              </a:rPr>
              <a:t>причина ( конфликтная ситуация - </a:t>
            </a:r>
            <a:r>
              <a:rPr b="1" lang="ru-RU" sz="3200" spc="-1" strike="noStrike">
                <a:solidFill>
                  <a:srgbClr val="ff0000"/>
                </a:solidFill>
                <a:latin typeface="Open Sans"/>
              </a:rPr>
              <a:t>по словам мальчика : Учитель занижал оценки, называл БАЛБЕСОМ в присутствии одноклассников ( МОИ НЕРВЫ НЕ ВЫДЕРЖАЛИ)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582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685800" y="609480"/>
            <a:ext cx="81532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Roboto"/>
              </a:rPr>
              <a:t>Месть отличника: ученик московской школы застрелил учителя и полицейског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Roboto"/>
              </a:rPr>
              <a:t>( пришел в школу с ружьем и застрелил учителя биологии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Roboto"/>
              </a:rPr>
              <a:t>Конфликт возник из - за  оценки по лабораторной работе ( оценка была снижена за многочисленные исправления ) ребенок пытался доказать свою правоту ( </a:t>
            </a:r>
            <a:r>
              <a:rPr b="1" lang="ru-RU" sz="2400" spc="-1" strike="noStrike">
                <a:solidFill>
                  <a:srgbClr val="ffff00"/>
                </a:solidFill>
                <a:latin typeface="Roboto"/>
              </a:rPr>
              <a:t>оценку вы должны мне поставить за правильность выполнения работы , а не за исправления  </a:t>
            </a:r>
            <a:r>
              <a:rPr b="1" lang="ru-RU" sz="3200" spc="-1" strike="noStrike">
                <a:solidFill>
                  <a:srgbClr val="ffff00"/>
                </a:solidFill>
                <a:latin typeface="Roboto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00240" y="-991080"/>
            <a:ext cx="4343400" cy="7543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de208"/>
                </a:solidFill>
                <a:latin typeface="Garamond"/>
              </a:rPr>
              <a:t>КОНФЛИКТ В ШКОЛЕ.</a:t>
            </a:r>
            <a:br>
              <a:rPr sz="4800"/>
            </a:br>
            <a:r>
              <a:rPr b="1" i="1" lang="ru-RU" sz="4800" spc="-1" strike="noStrike">
                <a:solidFill>
                  <a:srgbClr val="dde208"/>
                </a:solidFill>
                <a:latin typeface="Garamond"/>
              </a:rPr>
              <a:t>ПУТИ ВЫХОДА ИЗ КОНФЛИКТНЫХ СИТУАЦИЙ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9" name="i-main-pic" descr="Картинка 266 из 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-304920" y="4038480"/>
            <a:ext cx="100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01e0a"/>
                </a:solidFill>
                <a:latin typeface="Garamond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WordArt 6"/>
          <p:cNvSpPr txBox="1"/>
          <p:nvPr/>
        </p:nvSpPr>
        <p:spPr>
          <a:xfrm>
            <a:off x="-380880" y="5791320"/>
            <a:ext cx="9524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01e0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01e0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-УЧИТ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01e0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s://arhivurokov.ru/multiurok/f/a/5/fa545b7db56a72e7a868d8ce4fae2081238d4f8c/img19.jpg"/>
          <p:cNvPicPr/>
          <p:nvPr/>
        </p:nvPicPr>
        <p:blipFill>
          <a:blip r:embed="rId1"/>
          <a:stretch/>
        </p:blipFill>
        <p:spPr>
          <a:xfrm>
            <a:off x="-330120" y="-76320"/>
            <a:ext cx="9474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s://ds04.infourok.ru/uploads/ex/0f7e/0006781d-aef55dac/img5.jpg"/>
          <p:cNvPicPr/>
          <p:nvPr/>
        </p:nvPicPr>
        <p:blipFill>
          <a:blip r:embed="rId1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914400" y="45720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01e0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ФЛИК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01e0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28600" y="1663200"/>
            <a:ext cx="8458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(от лат. conflictus - столкновение) - в     широком смысле направленное на преодоление противоречия столкновение, противостояние двух начал, проявляющееся в активности сторон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i-main-pic" descr="Картинка 742 из 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87" name="WordArt 5"/>
          <p:cNvSpPr txBox="1"/>
          <p:nvPr/>
        </p:nvSpPr>
        <p:spPr>
          <a:xfrm>
            <a:off x="304920" y="5943600"/>
            <a:ext cx="8839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01e0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БЁНОК-РОД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01e0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https://ds02.infourok.ru/uploads/ex/0ee7/00005d06-d736ceb7/img10.jp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428760" y="500040"/>
            <a:ext cx="600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Narrow"/>
                <a:ea typeface="Calibri"/>
              </a:rPr>
              <a:t>Основная  обязанность  родителей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Narrow"/>
                <a:ea typeface="Calibri"/>
              </a:rPr>
              <a:t>*(а) следить  за  успеваемостью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Narrow"/>
                <a:ea typeface="Calibri"/>
              </a:rPr>
              <a:t>*(б) воспитание  уважения  к  учителя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Narrow"/>
                <a:ea typeface="Calibri"/>
              </a:rPr>
              <a:t>*(в) контроль  за  учебным  процесс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Диаграмма 3" descr=""/>
          <p:cNvPicPr/>
          <p:nvPr/>
        </p:nvPicPr>
        <p:blipFill>
          <a:blip r:embed="rId1"/>
          <a:stretch/>
        </p:blipFill>
        <p:spPr>
          <a:xfrm>
            <a:off x="-162000" y="1981080"/>
            <a:ext cx="8039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428760" y="357120"/>
            <a:ext cx="671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 Narrow"/>
                <a:ea typeface="Calibri"/>
              </a:rPr>
              <a:t>К  кому(куда)  бы  Вы  обратились.  Если  бы  возник  конфликт  у  ребёнка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 Narrow"/>
                <a:ea typeface="Calibri"/>
              </a:rPr>
              <a:t>               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 Narrow"/>
                <a:ea typeface="Calibri"/>
              </a:rPr>
              <a:t>*к  кл.рук.                            *ни к ком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 Narrow"/>
                <a:ea typeface="Calibri"/>
              </a:rPr>
              <a:t>               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 Narrow"/>
                <a:ea typeface="Calibri"/>
              </a:rPr>
              <a:t>*к  психологу                           *в  милицию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 Narrow"/>
                <a:ea typeface="Calibri"/>
              </a:rPr>
              <a:t>                 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 Narrow"/>
                <a:ea typeface="Calibri"/>
              </a:rPr>
              <a:t>*к  директору                    * к  психоаналитик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Диаграмма 2" descr=""/>
          <p:cNvPicPr/>
          <p:nvPr/>
        </p:nvPicPr>
        <p:blipFill>
          <a:blip r:embed="rId1"/>
          <a:stretch/>
        </p:blipFill>
        <p:spPr>
          <a:xfrm>
            <a:off x="-304920" y="1523880"/>
            <a:ext cx="97538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6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i-main-pic" descr="Картинка 338 из 1009"/>
          <p:cNvPicPr/>
          <p:nvPr/>
        </p:nvPicPr>
        <p:blipFill>
          <a:blip r:embed="rId1"/>
          <a:stretch/>
        </p:blipFill>
        <p:spPr>
          <a:xfrm>
            <a:off x="304920" y="-914400"/>
            <a:ext cx="8381880" cy="83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https://ds04.infourok.ru/uploads/ex/10cb/0015f642-86ad378f/img1.jpg"/>
          <p:cNvPicPr/>
          <p:nvPr/>
        </p:nvPicPr>
        <p:blipFill>
          <a:blip r:embed="rId1"/>
          <a:stretch/>
        </p:blipFill>
        <p:spPr>
          <a:xfrm>
            <a:off x="-17640" y="30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Темы классных часов :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1. « Конфликт и пути его решения» 9 кл.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2. « Учимся жить без конфликтов» 5-8  кл.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3. « Я умею дружить» 1-4 кл.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-992160"/>
            <a:ext cx="9144000" cy="89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Основные источники возникновения напряженности во взаимоотношениях</a:t>
            </a: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-Отсутствие взаимопонимания между людьми, наличие подчас противоположных интересов, чувство обиды, зависть или месть, низкая культура общен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Поведение "трудных" работник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Несовместимость характер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Неумение найти общий язык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Многие конфликты порождаются неурядицами в организации труда, авралами и т.д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1 конфликтный период</a:t>
            </a:r>
            <a:br>
              <a:rPr sz="40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Происходит в начальной школе, когда первоклассник переживает довольно сложный и даже болезненный этап в своей жизни: происходит смена игровой деятельности на учебную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5" descr="https://avatanplus.com/files/resources/original/5790ab9f1eb771560d1e6596.jpg"/>
          <p:cNvPicPr/>
          <p:nvPr/>
        </p:nvPicPr>
        <p:blipFill>
          <a:blip r:embed="rId1"/>
          <a:stretch/>
        </p:blipFill>
        <p:spPr>
          <a:xfrm>
            <a:off x="2057400" y="990720"/>
            <a:ext cx="4724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II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 КОНФЛИКТНЫЙ ПЕРИОД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Переход в 5-й класс. На смену одном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учителю приходят несколько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учителей-предметников, появляются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новые учебные предмет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II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КОНФЛИКТНЫЙ ПЕРИ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В начале 9 класса,когда нужно решить,что делать после его оконч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Y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КОНФЛИКТНЫЙ ПЕРИ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Окончание школы, выбор будущей профессии, экзамены, начало личной жиз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0" y="0"/>
            <a:ext cx="9144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КОНФЛИКТНЫХ ЛИЧНОСТ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i-main-pic" descr="Картинка 282 из 1009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3" marL="1455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Чаще всего это холерики, которым присуща бурная деятельность в самых разнообразных направлениях, для них конфликт, как для рыбы вода, это - жизнь, среда существования. Они любят все время быть на виду, имеют завышенную самооценк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762120" y="685800"/>
            <a:ext cx="7696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МОНСТРАТИВНЫ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8-11-23T09:11:0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