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CBD0-F27D-4CD7-842F-952496C9CC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8E54-C208-42DD-8169-04AD52A3CDF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133-E67C-45A7-9025-858F9D9C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0CC-3B3B-41C3-9604-A7E2B077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AB1-6471-450D-8C48-0A6FEE5D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A3A-66F2-43B3-B96F-3FBE7C42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F31-644B-4A51-9B6B-8A75ECDC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FA3A-E351-47DB-AAB3-40ED8BD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DC26-6CED-4081-A6C5-75C7CBB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E3DA-F2A8-4A67-BE04-17237DBE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CA80-66DB-48CF-A5F5-31ED4D1A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3FBC-D362-4FDF-9061-7A893692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8B35-D55A-4D10-91A5-D38AE447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D1A-D612-42A5-8F42-3B60AE0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C17-3BF5-4CA6-9FA3-344C47E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492-2D1E-420B-AC0F-4E6E9C6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35B4-CCF1-44AA-99C3-66597256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5691-7BD0-4DAE-81D2-7DE3D6A5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80D7-C6D3-40CF-984D-E5EE9192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F99-9F87-4B51-B372-CADF0B1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278-42E1-41F3-B486-9A35D9E8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5E9-C9F9-4F6B-A008-D2D20F3B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664-1BF2-4AD7-A4C9-3719F376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21A-442B-4FDD-9EFF-10706AD6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330-6199-4194-953F-CF98B24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45D-F8D5-4F48-BBAF-D1A7DB4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D72C-03D3-4042-B086-B09D1E1A50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9772-7317-4AF0-9D22-BA9BF90A222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-30492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Cambria"/>
                <a:ea typeface="Calibri"/>
              </a:rPr>
              <a:t>Конфликтные ситуации 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Cambria"/>
                <a:ea typeface="Calibri"/>
              </a:rPr>
              <a:t>в образовательной сред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6" descr="https://ya-mama24.ru/wp-content/uploads/2016/01/foto_podrostkov_1-e1453912947580-1024x864.jpg"/>
          <p:cNvPicPr/>
          <p:nvPr/>
        </p:nvPicPr>
        <p:blipFill>
          <a:blip r:embed="rId1"/>
          <a:stretch/>
        </p:blipFill>
        <p:spPr>
          <a:xfrm>
            <a:off x="1828800" y="228600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юди этого типа не умеют перестраиваться, т.е. учитывать в своем поведении изменение ситуации и обстоятельств, принимать во внимание мнения и точки зрения окружающих, честолюбивы, проявляют болезненную обидчивость, подозрительнос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990720" y="30492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e00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ИГИД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e00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Личность "сверхточного" типа, которая всегда пунктуальна, придирчива, занудна, хоть и исполнительна, отталкивает людей от себя. Характеризуется следующими особенностями поведения. Предъявляет повышенные требования к себе. Предъявляет повышенные требования к окружающим. Обладает повышенной тревожностью. Склонен придавать излишнее значение замечаниям окружающих. Страдает от себя сам, переживает свои просчеты, неудачи, подчас расплачивается за них даже болезнями (бессонницей, головными болями и т. п.). Сдержан во внешних, особенно эмоциональных, проявлениях. Не очень хорошо чувствует реальные взаимоотношения в групп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685800" y="457200"/>
            <a:ext cx="784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Н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Личность, сознательно уходящая, убегающая от конфликта, перекладывающая ответственность в принятии решения на других (руководитель на своего заместителя), беспринципная. Между тем конфликт нарастает как снежный ком и обрушивается на такую личность, что чревато последств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99072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КОНФЛИКТНЫЙ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371600" y="457200"/>
            <a:ext cx="6248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136800"/>
            <a:ext cx="89154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это грубый, бесцеремонный человек, идущий на пролом, презирающий тонкости взаимоотношений и чужие чув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Эгоистичен и уверен в своей правот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читает, что окружающие должны уступать ему дорог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е любит, когда кто-то ставит под сомнение его право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забочен своим авторите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Болезненно самолюби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астороженно относится к шуткам, которые по содержанию перекликаются с текущей ситуацией. В каждой шутке он усматривает скрытую атаку на его личность и достоинств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пытки обсудить с ним его отношение к людям (с надеждой что-то исправить) будут тщетны. Все без исключения ваши претензии будут приписаны вашему дурному характеру - ведь многие, с кем он общается, с ним соглас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акой человек нацелен на дело, люди для него - инстру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990720" y="380880"/>
            <a:ext cx="7086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ЯВ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5192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иявка" не говорит гадостей, не ругает и не оскорбляет, ни в чем прямо не обвиняет, но после общения с ним ухудшается самочувствие, снижается настроение или появляется чувство усталости, труднее направить мысли в нужное русл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Такой человек производит впечатление приятного и покладистого. Он уступчив и сговорчив. Это нравится в начале взаимодействия с ним. Но потом часто возникают проблемы: "Вата" не выполняет обещанного, соглашается сделать какую-либо работу и не делает е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У такого типа постоянно возникают непредвиденные обстоятельства, которые мешают выполнению обещанног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 считает нужным вовремя сказать о таких обстоятельств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219320" y="22860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762120" y="0"/>
            <a:ext cx="7391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ВИН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09480" y="74556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". Для него весь мир полон дураков, подлецов и бездельников. Но критикует он не устройство мира, а вполне конкретных людей: соседей, водителей автобусов, продавцов, врачей, сослуживцев, начальников, чиновников правительства... Критикует увлеченно, с жаром, со знанием дела, с фактами, выводами и заключениями. Имеет свои четкие суждения о том, кто как должен жить и работа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457200" y="-465120"/>
            <a:ext cx="8686800" cy="79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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словицы "Худой мир лучше доброй ссоры", "Из двух спорщиков умнее тот, кто первый замолчит", 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Держись подальше от людей, которые не согласны с тобой"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"Кто спорит – ни гроша не стои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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словицы "Мягко стелет, да жестко спать", "Не подмажешь – не поедешь", "Убивай врагов своих добротой"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"Доброе слово не требует затрат, а ценится дор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Garamond"/>
              </a:rPr>
              <a:t>  </a:t>
            </a:r>
            <a:r>
              <a:rPr b="1" lang="ru-RU" sz="2400" spc="-1" strike="noStrike">
                <a:solidFill>
                  <a:srgbClr val="33ccff"/>
                </a:solidFill>
                <a:latin typeface="Garamond"/>
              </a:rPr>
              <a:t>Пословицы "Ум хорошо, а два лучше", "Ни у кого нет полного ответа, но у каждого есть что добавить"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ccff"/>
                </a:solidFill>
                <a:latin typeface="Garamond"/>
              </a:rPr>
              <a:t>"Выноси заботы на свет и держи с другими совет"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1981080" y="228600"/>
            <a:ext cx="502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БЕГ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981080" y="2514600"/>
            <a:ext cx="5105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СПОСОБ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752480" y="4648320"/>
            <a:ext cx="6019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ТРУДНИЧ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i-main-pic" descr="Картинка 668 из 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5"/>
          <p:cNvSpPr txBox="1"/>
          <p:nvPr/>
        </p:nvSpPr>
        <p:spPr>
          <a:xfrm>
            <a:off x="0" y="609588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К-УЧЕ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s://user67902.clients-cdnnow.ru/localStorage/collection/c9/08/72/af/c90872af_resizedScaled_1200to592.jpg"/>
          <p:cNvPicPr/>
          <p:nvPr/>
        </p:nvPicPr>
        <p:blipFill>
          <a:blip r:embed="rId1"/>
          <a:stretch/>
        </p:blipFill>
        <p:spPr>
          <a:xfrm>
            <a:off x="0" y="0"/>
            <a:ext cx="9352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838080" y="1447920"/>
            <a:ext cx="80010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mbria"/>
                <a:ea typeface="Calibri"/>
              </a:rPr>
              <a:t>Раздражитель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2" descr="http://demiart.ru/forum/uploads9/post-2231513-1328530420.jpg"/>
          <p:cNvPicPr/>
          <p:nvPr/>
        </p:nvPicPr>
        <p:blipFill>
          <a:blip r:embed="rId1"/>
          <a:stretch/>
        </p:blipFill>
        <p:spPr>
          <a:xfrm>
            <a:off x="2286000" y="2895480"/>
            <a:ext cx="44388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457200" y="609480"/>
            <a:ext cx="845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Roboto"/>
              </a:rPr>
              <a:t>Сверстники зверски убили 12-летнего мальчика, а труп закопали в сугробе возле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inherit"/>
              </a:rPr>
              <a:t>Февраль 2017г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inherit"/>
              </a:rPr>
              <a:t>В маленьком поселке Елецкий (полторы сотни жителей), что находится в 50 километрах от Воркуты, произошла чудовищная трагедия, вызвавшая огромный общественный резонанс</a:t>
            </a:r>
            <a:r>
              <a:rPr b="1" lang="ru-RU" sz="1800" spc="-1" strike="noStrike">
                <a:solidFill>
                  <a:srgbClr val="ffc000"/>
                </a:solidFill>
                <a:latin typeface="inheri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911520" y="228600"/>
            <a:ext cx="73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74396"/>
                </a:solidFill>
                <a:latin typeface="Cambria"/>
                <a:ea typeface="Calibri"/>
              </a:rPr>
              <a:t>.</a:t>
            </a:r>
            <a:r>
              <a:rPr b="1" lang="ru-RU" sz="2800" spc="-1" strike="noStrike">
                <a:solidFill>
                  <a:srgbClr val="ffff00"/>
                </a:solidFill>
                <a:latin typeface="Cambria"/>
                <a:ea typeface="Calibri"/>
              </a:rPr>
              <a:t>Знаете  ли  вы  свои  основные  прав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mbria"/>
                <a:ea typeface="Calibri"/>
              </a:rPr>
              <a:t>*да           *нет             *некотор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Диаграмма 2" descr=""/>
          <p:cNvPicPr/>
          <p:nvPr/>
        </p:nvPicPr>
        <p:blipFill>
          <a:blip r:embed="rId1"/>
          <a:stretch/>
        </p:blipFill>
        <p:spPr>
          <a:xfrm>
            <a:off x="-304920" y="1066680"/>
            <a:ext cx="9753840" cy="5867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571680" y="24876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mbria"/>
                <a:ea typeface="Calibri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Кому  в  школе  доверяе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учителя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одноклассника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директор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ник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Диаграмма 2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9753840" cy="5181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Ink 1" descr=""/>
          <p:cNvPicPr/>
          <p:nvPr/>
        </p:nvPicPr>
        <p:blipFill>
          <a:blip r:embed="rId2"/>
          <a:stretch/>
        </p:blipFill>
        <p:spPr>
          <a:xfrm>
            <a:off x="98529840" y="802242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i-main-pic" descr="Картинка 34 из 1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0" y="594360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-УЧЕ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-1151640"/>
            <a:ext cx="838188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онфликт между педагогом и ребенком, между учителем и родителями, педагогом и коллективом — большая беда школ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Чаще всего конфликт возникает тогда, когда учитель думает о ребенке несправедливо. Думайте о ребенке справедливо — и конфликтов не будет. Умение избежать конфликта — одна из составных частей педагогической мудрости учите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                            </a:t>
            </a: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(В.А.Сухомлинский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inherit"/>
              </a:rPr>
              <a:t>Кровавое селфи: ученик московского колледжа убил преподавателя ОБЖ (01.11.2017г.)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Open Sans"/>
              </a:rPr>
              <a:t>причина ( конфликтная ситуация - </a:t>
            </a:r>
            <a:r>
              <a:rPr b="1" lang="ru-RU" sz="3200" spc="-1" strike="noStrike">
                <a:solidFill>
                  <a:srgbClr val="ff0000"/>
                </a:solidFill>
                <a:latin typeface="Open Sans"/>
              </a:rPr>
              <a:t>по словам мальчика : Учитель занижал оценки, называл БАЛБЕСОМ в присутствии одноклассников ( МОИ НЕРВЫ НЕ ВЫДЕРЖАЛИ)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582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685800" y="609480"/>
            <a:ext cx="81532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Месть отличника: ученик московской школы застрелил учителя и полицейс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( пришел в школу с ружьем и застрелил учителя биологи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Конфликт возник из - за  оценки по лабораторной работе ( оценка была снижена за многочисленные исправления ) ребенок пытался доказать свою правоту ( </a:t>
            </a:r>
            <a:r>
              <a:rPr b="1" lang="ru-RU" sz="2400" spc="-1" strike="noStrike">
                <a:solidFill>
                  <a:srgbClr val="ffff00"/>
                </a:solidFill>
                <a:latin typeface="Roboto"/>
              </a:rPr>
              <a:t>оценку вы должны мне поставить за правильность выполнения работы , а не за исправления  </a:t>
            </a: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00240" y="-991080"/>
            <a:ext cx="4343400" cy="7543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de208"/>
                </a:solidFill>
                <a:latin typeface="Garamond"/>
              </a:rPr>
              <a:t>КОНФЛИКТ В ШКОЛЕ.</a:t>
            </a:r>
            <a:br>
              <a:rPr sz="4800"/>
            </a:br>
            <a:r>
              <a:rPr b="1" i="1" lang="ru-RU" sz="4800" spc="-1" strike="noStrike">
                <a:solidFill>
                  <a:srgbClr val="dde208"/>
                </a:solidFill>
                <a:latin typeface="Garamond"/>
              </a:rPr>
              <a:t>ПУТИ ВЫХОДА ИЗ КОНФЛИКТНЫХ СИТУАЦИЙ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9" name="i-main-pic" descr="Картинка 266 из 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-304920" y="4038480"/>
            <a:ext cx="100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01e0a"/>
                </a:solidFill>
                <a:latin typeface="Garamond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-380880" y="5791320"/>
            <a:ext cx="9524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-УЧ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s://arhivurokov.ru/multiurok/f/a/5/fa545b7db56a72e7a868d8ce4fae2081238d4f8c/img19.jpg"/>
          <p:cNvPicPr/>
          <p:nvPr/>
        </p:nvPicPr>
        <p:blipFill>
          <a:blip r:embed="rId1"/>
          <a:stretch/>
        </p:blipFill>
        <p:spPr>
          <a:xfrm>
            <a:off x="-330120" y="-76320"/>
            <a:ext cx="9474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s://ds04.infourok.ru/uploads/ex/0f7e/0006781d-aef55dac/img5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914400" y="4572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ФЛИ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66320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(от лат. conflictus - столкновение) - в     широком смысле направленное на преодоление противоречия столкновение, противостояние двух начал, проявляющееся в активности сторон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i-main-pic" descr="Картинка 742 из 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304920" y="5943600"/>
            <a:ext cx="883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БЁНОК-РОД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s://ds02.infourok.ru/uploads/ex/0ee7/00005d06-d736ceb7/img10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428760" y="500040"/>
            <a:ext cx="60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Основная  обязанность  родителей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*(а) следить  за  успеваемость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*(б) воспитание  уважения  к  учителя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*(в) контроль  за  учебным  процесс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Диаграмма 3" descr=""/>
          <p:cNvPicPr/>
          <p:nvPr/>
        </p:nvPicPr>
        <p:blipFill>
          <a:blip r:embed="rId1"/>
          <a:stretch/>
        </p:blipFill>
        <p:spPr>
          <a:xfrm>
            <a:off x="-162000" y="1981080"/>
            <a:ext cx="8039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28760" y="357120"/>
            <a:ext cx="671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К  кому(куда)  бы  Вы  обратились.  Если  бы  возник  конфликт  у  ребёнка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  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*к  кл.рук.                            *ни к ком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  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*к  психологу                           *в  милиц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    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*к  директору                    * к  психоаналитик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Диаграмма 2" descr=""/>
          <p:cNvPicPr/>
          <p:nvPr/>
        </p:nvPicPr>
        <p:blipFill>
          <a:blip r:embed="rId1"/>
          <a:stretch/>
        </p:blipFill>
        <p:spPr>
          <a:xfrm>
            <a:off x="-304920" y="1523880"/>
            <a:ext cx="9753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i-main-pic" descr="Картинка 338 из 1009"/>
          <p:cNvPicPr/>
          <p:nvPr/>
        </p:nvPicPr>
        <p:blipFill>
          <a:blip r:embed="rId1"/>
          <a:stretch/>
        </p:blipFill>
        <p:spPr>
          <a:xfrm>
            <a:off x="304920" y="-914400"/>
            <a:ext cx="8381880" cy="83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s://ds04.infourok.ru/uploads/ex/10cb/0015f642-86ad378f/img1.jpg"/>
          <p:cNvPicPr/>
          <p:nvPr/>
        </p:nvPicPr>
        <p:blipFill>
          <a:blip r:embed="rId1"/>
          <a:stretch/>
        </p:blipFill>
        <p:spPr>
          <a:xfrm>
            <a:off x="-17640" y="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Темы классных часов :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. « Конфликт и пути его решения» 9 кл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. « Учимся жить без конфликтов» 5-8  кл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. « Я умею дружить» 1-4 кл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-992160"/>
            <a:ext cx="9144000" cy="89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сновные источники возникновения напряженности во взаимоотношениях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-Отсутствие взаимопонимания между людьми, наличие подчас противоположных интересов, чувство обиды, зависть или месть, низкая культура общ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оведение "трудных" работни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совместимость характе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умение найти общий язы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Многие конфликты порождаются неурядицами в организации труда, авралами и т.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1 конфликтный период</a:t>
            </a:r>
            <a:br>
              <a:rPr sz="40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оисходит в начальной школе, когда первоклассник переживает довольно сложный и даже болезненный этап в своей жизни: происходит смена игровой деятельности на учебну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https://avatanplus.com/files/resources/original/5790ab9f1eb771560d1e6596.jpg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II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 КОНФЛИКТНЫЙ ПЕРИОД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ереход в 5-й класс. На смену одно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ю приходят нескольк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ей-предметников, появляютс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новые учебные предмет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II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КОНФЛИКТНЫЙ ПЕРИ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 начале 9 класса,когда нужно решить,что делать после его оконч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Y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ОНФЛИКТНЫЙ ПЕРИ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Окончание школы, выбор будущей профессии, экзамены, начало личной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0" y="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КОНФЛИКТНЫХ ЛИЧНОСТ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i-main-pic" descr="Картинка 282 из 1009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3" marL="145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Чаще всего это холерики, которым присуща бурная деятельность в самых разнообразных направлениях, для них конфликт, как для рыбы вода, это - жизнь, среда существования. Они любят все время быть на виду, имеют завышенную самооценк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62120" y="68580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МОНСТРАТИВ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11-23T09:11:0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