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DDA-C4F5-44AC-B31C-1A22EF37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DC6-FBA4-4872-8849-589AA73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3A3-F627-4A36-9A92-BBBF9C9F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457-940E-44AD-9CCE-A552D929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281-B820-4939-8704-E6B038A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068-4F18-416B-95AC-7B4D0251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946-67F5-4562-A095-A6C6767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0A7-5BFC-4DA6-A4D4-8F09DD3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D4A-3985-4FA9-AEEA-D5B24793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38A-3587-419A-9930-ADAA09A0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78F-A6DD-443D-8BF3-0136C69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8A9-F6B1-4F72-8875-6CF0CE9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33B-1CB9-46A1-A061-6B225218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28760" y="404640"/>
            <a:ext cx="84294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0 «АЛЁН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627280" y="3933720"/>
            <a:ext cx="439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Шулюмова Юлия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87280" y="2060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4360" y="25876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3741120" y="3244680"/>
            <a:ext cx="1815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DSC_0263"/>
          <p:cNvPicPr/>
          <p:nvPr/>
        </p:nvPicPr>
        <p:blipFill>
          <a:blip r:embed="rId2"/>
          <a:srcRect l="46379" t="7740" r="0" b="38105"/>
          <a:stretch/>
        </p:blipFill>
        <p:spPr>
          <a:xfrm>
            <a:off x="285840" y="3571920"/>
            <a:ext cx="1903320" cy="2879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1835280" y="1773360"/>
            <a:ext cx="59054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МАСТЕР –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«ИСПОЛЬЗОВАНИЕ ТЕХНОЛОГИЧЕСКИХ КАРТ ПРИ ОРГАНИЗАЦИИ ИГРОВОЙ ДЕЯТЕЛЬНОСТИ ДЕ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989000"/>
            <a:ext cx="8462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Задачи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отработать практические навыки использования технологических карт в сюжетно- ролевых играх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способствовать включению педагогов в активную деятельн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m"/>
          <p:cNvPicPr/>
          <p:nvPr/>
        </p:nvPicPr>
        <p:blipFill>
          <a:blip r:embed="rId2"/>
          <a:stretch/>
        </p:blipFill>
        <p:spPr>
          <a:xfrm>
            <a:off x="250920" y="981000"/>
            <a:ext cx="3889440" cy="234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981000"/>
            <a:ext cx="43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оздание условий для практического применения педагогам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ехнологических карт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 организации  игровой деятельности 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Акту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84360" y="450864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Конструирование технологической карты полезно педагогам, осваивающим новые методики и технологии, так как её использование поможет определить структуру детской деятельности, выбрать оптимальную форму, наиболее эффективные методы, рационально распределить врем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hello_html_m3455f667"/>
          <p:cNvPicPr/>
          <p:nvPr/>
        </p:nvPicPr>
        <p:blipFill>
          <a:blip r:embed="rId2"/>
          <a:stretch/>
        </p:blipFill>
        <p:spPr>
          <a:xfrm>
            <a:off x="755640" y="476280"/>
            <a:ext cx="145728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611280" y="328464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684360" y="11253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49228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Сюжетно-ролевые игры способствуют формированию у дошкольников таких качеств как инициативность, самостоятельность, способность выбирать себе род занятий, участников совместной деятельности. Именно на это ориентирует педагогов федеральный государственный образовательный стандарт дошкольного образо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907920"/>
            <a:ext cx="49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«Игра есть потребность детского организма, игра для детей -  это учёба, труд и серьёзная форма воспитания»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Georgia"/>
              </a:rPr>
              <a:t> Н.К.Крупская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468360" y="21420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«Технологическая карта»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– новый вид методической продукции, обеспечивающей педагогу эффективное и качественное освоение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11280" y="27082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11280" y="27082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71680" y="271476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hello_html_10b3e1c9"/>
          <p:cNvPicPr/>
          <p:nvPr/>
        </p:nvPicPr>
        <p:blipFill>
          <a:blip r:embed="rId2"/>
          <a:stretch/>
        </p:blipFill>
        <p:spPr>
          <a:xfrm>
            <a:off x="2124000" y="3141720"/>
            <a:ext cx="4719600" cy="3394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571680" y="1500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«Технологическая карта сюжетно-ролевой игры»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это способ графического проектирования игрового сюжета, таблица, позволяющая структурировать его по выбранным параметрам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Технологическая карта позволит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11280" y="3213000"/>
            <a:ext cx="784836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тслеживать свою деятельность и      ожидаемые действ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52062145"/>
          <p:cNvPicPr/>
          <p:nvPr/>
        </p:nvPicPr>
        <p:blipFill>
          <a:blip r:embed="rId2"/>
          <a:stretch/>
        </p:blipFill>
        <p:spPr>
          <a:xfrm>
            <a:off x="6443640" y="4156200"/>
            <a:ext cx="2473200" cy="243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14130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еализовать планируемые результаты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истемно формировать у воспитанников целевые ориенти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ектировать свою деятельность на определённый пери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005360"/>
            <a:ext cx="6119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оординировать и синхронизировать действия всех субъектов игро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азвивать адекватную самооценку 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120" y="1628640"/>
            <a:ext cx="59072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Определение те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Постановка цели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Формулирование зада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Определение этап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. Примерный хронометраж этап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. Наполнение содержанием, подбор материал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9152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531f"/>
                </a:solidFill>
                <a:latin typeface="Georgia"/>
              </a:rPr>
              <a:t>Примерный алгоритм составления технологической карты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16720" y="2492280"/>
            <a:ext cx="24717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1403280" y="2708280"/>
            <a:ext cx="6408720" cy="33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первы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приглашение друзей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258920" y="3500280"/>
            <a:ext cx="662472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второ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распределение ролей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042920" y="4292640"/>
            <a:ext cx="7058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трети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выбор игровых предметов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2268360" y="5157720"/>
            <a:ext cx="439272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четверты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- игра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1619280" y="5877000"/>
            <a:ext cx="5472000" cy="37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пятый шаг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прибери игрушки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ttp://ds2445.mskobr.ru/images/cms/data/86370705.jpg"/>
          <p:cNvPicPr/>
          <p:nvPr/>
        </p:nvPicPr>
        <p:blipFill>
          <a:blip r:embed="rId2"/>
          <a:stretch/>
        </p:blipFill>
        <p:spPr>
          <a:xfrm>
            <a:off x="7164360" y="5013360"/>
            <a:ext cx="1835280" cy="13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8900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Структура технологической ка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1700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звани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8713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Технологическая кар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сюжетно – ролевой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4818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826920" y="40464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39640" y="1500120"/>
            <a:ext cx="568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рименение технологических карт способ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формированию у дошкольников навыков организации сюжетно-ролевой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формированию у дошкольников таких качеств, как инициативность и самосто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азвитию адекватной самооценки у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589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4:22:32Z</dcterms:created>
  <dc:creator>Customer</dc:creator>
  <dc:description/>
  <dc:language>en-US</dc:language>
  <cp:lastModifiedBy>Пользователь</cp:lastModifiedBy>
  <dcterms:modified xsi:type="dcterms:W3CDTF">2018-02-25T06:02:08Z</dcterms:modified>
  <cp:revision>128</cp:revision>
  <dc:subject/>
  <dc:title>Слайд 1</dc:title>
</cp:coreProperties>
</file>