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C2A-8330-4DB4-9D7E-A0E57CB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4B3-3F54-4D60-8E52-EA1F642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E7-1D37-4074-838B-A2F80D96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4BC-9147-4808-BEB8-49087F0C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F4C-ACFC-4A40-A36E-1AA80D6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D61-00F6-4A2D-9691-C23E837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CC0-9CA9-437D-B580-B8AA09E8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1F0-2286-4292-81D1-71AE398F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D29-57F1-458A-9A6B-4D4676A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173-3C88-48D9-8B1B-645846D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31A-08BF-4A9F-B9CD-1E860F3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00B-1070-4480-9A89-95A58C2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52F-CC4F-4133-83F8-7D267213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28760" y="404640"/>
            <a:ext cx="84294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КОМБИНИРОВАННОГО ВИДА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10 «АЛЁН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627280" y="3933720"/>
            <a:ext cx="439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Шулюмова Юлия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187280" y="2060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4360" y="2587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3741120" y="3244680"/>
            <a:ext cx="1815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DSC_0263"/>
          <p:cNvPicPr/>
          <p:nvPr/>
        </p:nvPicPr>
        <p:blipFill>
          <a:blip r:embed="rId2"/>
          <a:srcRect l="46379" t="7740" r="0" b="38105"/>
          <a:stretch/>
        </p:blipFill>
        <p:spPr>
          <a:xfrm>
            <a:off x="285840" y="3571920"/>
            <a:ext cx="1903320" cy="2879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1835280" y="1773360"/>
            <a:ext cx="590544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МАСТЕР –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«ИСПОЛЬЗОВАНИЕ ТЕХНОЛОГИЧЕСКИХ КАРТ ПРИ ОРГАНИЗАЦИИ ИГРОВОЙ ДЕЯТЕЛЬНОСТИ ДЕ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989000"/>
            <a:ext cx="8462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Задачи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отработать практические навыки использования технологических карт в сюжетно- ролевых играх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способствовать включению педагогов в активную деятельн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sm"/>
          <p:cNvPicPr/>
          <p:nvPr/>
        </p:nvPicPr>
        <p:blipFill>
          <a:blip r:embed="rId2"/>
          <a:stretch/>
        </p:blipFill>
        <p:spPr>
          <a:xfrm>
            <a:off x="250920" y="981000"/>
            <a:ext cx="3889440" cy="234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981000"/>
            <a:ext cx="43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оздание условий для практического применения педагогам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технологических карт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 организации  игровой деятельности  дет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Акту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84360" y="450864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Конструирование технологической карты полезно педагогам, осваивающим новые методики и технологии, так как её использование поможет определить структуру детской деятельности, выбрать оптимальную форму, наиболее эффективные методы, рационально распределить врем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hello_html_m3455f667"/>
          <p:cNvPicPr/>
          <p:nvPr/>
        </p:nvPicPr>
        <p:blipFill>
          <a:blip r:embed="rId2"/>
          <a:stretch/>
        </p:blipFill>
        <p:spPr>
          <a:xfrm>
            <a:off x="755640" y="476280"/>
            <a:ext cx="145728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611280" y="3284640"/>
            <a:ext cx="5761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684360" y="11253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49228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Сюжетно-ролевые игры способствуют формированию у дошкольников таких качеств как инициативность, самостоятельность, способность выбирать себе род занятий, участников совместной деятельности. Именно на это ориентирует педагогов федеральный государственный образовательный стандарт дошкольного образова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907920"/>
            <a:ext cx="493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Georgia"/>
              </a:rPr>
              <a:t>«Игра есть потребность детского организма, игра для детей -  это учёба, труд и серьёзная форма воспитания»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Georgia"/>
              </a:rPr>
              <a:t> Н.К.Крупская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468360" y="21420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</a:rPr>
              <a:t>«Технологическая карта»</a:t>
            </a: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 – новый вид методической продукции, обеспечивающей педагогу эффективное и качественное освоение но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611280" y="2708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11280" y="2708280"/>
            <a:ext cx="74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571680" y="2714760"/>
            <a:ext cx="7489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ello_html_10b3e1c9"/>
          <p:cNvPicPr/>
          <p:nvPr/>
        </p:nvPicPr>
        <p:blipFill>
          <a:blip r:embed="rId2"/>
          <a:stretch/>
        </p:blipFill>
        <p:spPr>
          <a:xfrm>
            <a:off x="2124000" y="3141720"/>
            <a:ext cx="4719600" cy="3394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1"/>
          <p:cNvSpPr/>
          <p:nvPr/>
        </p:nvSpPr>
        <p:spPr>
          <a:xfrm>
            <a:off x="571680" y="1500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«Технологическая карта сюжетно-ролевой игры»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это способ графического проектирования игрового сюжета, таблица, позволяющая структурировать его по выбранным параметрам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Технологическая карта позволит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11280" y="3213000"/>
            <a:ext cx="784836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тслеживать свою деятельность и      ожидаемые действ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52062145"/>
          <p:cNvPicPr/>
          <p:nvPr/>
        </p:nvPicPr>
        <p:blipFill>
          <a:blip r:embed="rId2"/>
          <a:stretch/>
        </p:blipFill>
        <p:spPr>
          <a:xfrm>
            <a:off x="6443640" y="4156200"/>
            <a:ext cx="2473200" cy="243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14130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еализовать планируемые результаты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системно формировать у воспитанников целевые ориенти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ектировать свою деятельность на определённый пери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005360"/>
            <a:ext cx="6119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координировать и синхронизировать действия всех субъектов игро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звивать адекватную самооценку  воспита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120" y="1628640"/>
            <a:ext cx="5907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Определение тем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Постановка цели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Формулирование зада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Определение этап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. Примерный хронометраж этапо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6. Наполнение содержанием, подбор материал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9152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531f"/>
                </a:solidFill>
                <a:latin typeface="Georgia"/>
              </a:rPr>
              <a:t>Примерный алгоритм составления технологической карты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16720" y="2492280"/>
            <a:ext cx="247176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1403280" y="2708280"/>
            <a:ext cx="6408720" cy="336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первы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приглашение друзей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1258920" y="3500280"/>
            <a:ext cx="66247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второ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распределение ролей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1042920" y="4292640"/>
            <a:ext cx="7058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трети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выбор игровых предметов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2268360" y="5157720"/>
            <a:ext cx="4392720" cy="3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Шаг четвертый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- игра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1619280" y="5877000"/>
            <a:ext cx="5472000" cy="3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пятый шаг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прибери игрушки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http://ds2445.mskobr.ru/images/cms/data/86370705.jpg"/>
          <p:cNvPicPr/>
          <p:nvPr/>
        </p:nvPicPr>
        <p:blipFill>
          <a:blip r:embed="rId2"/>
          <a:stretch/>
        </p:blipFill>
        <p:spPr>
          <a:xfrm>
            <a:off x="7164360" y="5013360"/>
            <a:ext cx="1835280" cy="13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18900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Структура технологической ка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1700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звани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8713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Технологическая кар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сюжетно – ролевой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4818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826920" y="40464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531f"/>
                </a:solidFill>
                <a:latin typeface="Georgia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39640" y="1500120"/>
            <a:ext cx="568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Применение технологических карт способ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ированию у дошкольников навыков организации сюжетно-ролевой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ированию у дошкольников таких качеств, как инициативность и самостояте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развитию адекватной самооценки у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5891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4:22:32Z</dcterms:created>
  <dc:creator>Customer</dc:creator>
  <dc:description/>
  <dc:language>en-US</dc:language>
  <cp:lastModifiedBy>Пользователь</cp:lastModifiedBy>
  <dcterms:modified xsi:type="dcterms:W3CDTF">2018-02-25T06:02:08Z</dcterms:modified>
  <cp:revision>128</cp:revision>
  <dc:subject/>
  <dc:title>Слайд 1</dc:title>
</cp:coreProperties>
</file>