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230-80FB-40EF-B80C-ADA508DE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144-53A3-4092-99F4-18C9D97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03A-4A24-4DD6-B4D3-A0AF086C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979-13A7-4183-A80B-7C15D213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559-A8B8-4901-ABBB-57F2BB97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B4E-A4A8-420D-89C2-FCE2964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FA0-F184-40F1-85D8-B25EB57A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382-26B5-40B6-9BD0-537D896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028-C885-4502-AA0D-EEA9FB87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DA9-5787-4A9A-B82A-BF7EA8A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6D3-C5B3-49FD-9E99-D12717A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D65-D808-42F1-A16A-D751AFE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3EFC-9F8D-4686-B4E3-4648956D4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900000" y="981000"/>
            <a:ext cx="73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Homework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нструкция к применени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ли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помочь ребенк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полненное с ошибками, лучш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чем невыполненное домашнее зад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08000" y="1988640"/>
            <a:ext cx="60580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труктура раздела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Unit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раздел) содержит 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lesson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ждый раздел имеет свою общую т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исок слов по этой те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грамматический матери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екс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лова) вводится в 1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Граммати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водится во 2,3 уроке раз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 помощь ребенку и родите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ловарь в учеб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ческий справочник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амятки в конце учеб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лектронный словарь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://www.multitra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арианты домашнего зад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late –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вод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g-R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заполнить пропус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ексика пройд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ll in the gap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крыть скоб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мматика пройден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Выучить слова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. Проект по 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 выполнения домашнего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15920"/>
            <a:ext cx="82072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. Открыть тетрадь, учеб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. Приготовить словар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. Просмотреть классную работу, прочитать слова по теме (учебник, тетрад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. Разобрать задание (что требуется выполн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Если требуется, прочитать грамматический справочник или памятку в конце учеб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Приступить  к выпол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Translation.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ере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268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here are chairs in the kitch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Там есть стул в кухня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 кухне есть стул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cycle old clothes. Take them to charity s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отка старый одежда. Брать их в благотворительность магаз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рабатывайте старую одежду. Относите ее в благотворительный магаз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Заполнить пропуски. Лекс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      environment     recycle      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щищать                       окружающая среда               перерабатывать         мусорный ба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on’t throw things if you can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them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nature. Take care of th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________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Always put the garbage into the garbage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940360" y="278136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111600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32720" y="3357720"/>
            <a:ext cx="1511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7885080" y="4005360"/>
            <a:ext cx="8985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Fill in the gaps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Заполнить пропуски. Грам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636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u _____________ (buy) new furni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e _________________(decorate) the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________________ (help) my 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___________ (see) his grandpa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619280" y="2637000"/>
            <a:ext cx="25210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bou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979640" y="3284640"/>
            <a:ext cx="266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deco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547640" y="3860640"/>
            <a:ext cx="230364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ve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63640" y="4437000"/>
            <a:ext cx="180036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s s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ject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ирайтесь на план, данный учител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йте слова и грамматический материал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зьмите за пример тексты из учебника по данной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ли не можете написать текст, нарисуйте рисунок и под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Зинаида</cp:lastModifiedBy>
  <dcterms:modified xsi:type="dcterms:W3CDTF">2018-11-15T10:28:27Z</dcterms:modified>
  <cp:revision>50</cp:revision>
  <dc:subject/>
  <dc:title>Заголовок слайда</dc:title>
</cp:coreProperties>
</file>