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2A7-DBDF-4DDD-87DA-88DBF35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E29-884E-40A1-A970-53ACB46E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8C8-D7CB-4C9D-9837-2BB7BD19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0D0-DC48-4816-9775-63A131A0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6C3-89AA-4AEC-B6BD-03BB8AC3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C98-9B08-45E2-96CD-D92C47E5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CAD-7574-49F4-B6A7-E365420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16C-563E-45BF-BDCE-0A3322B4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356-E625-445F-938B-73F317F2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04C-B259-4A61-B6D9-BA19F2B7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202-0D36-475E-B55E-7577B830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9EE-6262-4A9E-9D38-B483F9A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24A1-2273-485E-B827-05AA8C241B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900000" y="981000"/>
            <a:ext cx="73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Homework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нструкция к применению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ли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ак помочь ребенк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полненное с ошибками, лучш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чем невыполненное домашнее зад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908000" y="1988640"/>
            <a:ext cx="60580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труктура раздела учеб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Unit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раздел) содержит 1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esson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ждый раздел имеет свою общую те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писок слов по этой тем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грамматический матери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Лекси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слова) вводится в 1 уроке раз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Граммати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вводится во 2,3 уроке раз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помощь ребенку и родите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ловарь в учеб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мматический справочник в конце учеб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амятки в конце учеб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Электронный словарь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multitran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арианты домашнего зад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late –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вод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g-R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gap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заполнить пропус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ксика пройденного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gap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крыть скоб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мматика пройденн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 Выучить слова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5. Проект по 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 выполнения домашнего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915920"/>
            <a:ext cx="82072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Открыть тетрадь, учеб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Приготовить слов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Просмотреть классную работу, прочитать слова по теме (учебник, тетрад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Разобрать задание (что требуется выполни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требуется, прочитать грамматический справочник или памятку в конце учеб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Приступить  к выполн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ranslation.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е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268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here are chairs in the kitchen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Там есть стул в кухня.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а кухне есть стул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cycle old clothes. Take them to charity sh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работка старый одежда. Брать их в благотворительность магаз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рабатывайте старую одежду. Относите ее в благотворительный магаз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Fill in the gaps.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Заполнить пропуски. Лекс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      environment     recycle      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щищать                       окружающая среда               перерабатывать         мусорный ба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n’t throw things if you can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____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them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nature. Take care of the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________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Always put the garbage into the garbage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940360" y="278136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1116000" y="335772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732720" y="335772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7885080" y="4005360"/>
            <a:ext cx="8985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Fill in the gaps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Заполнить пропуски. Грам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_____________ (buy) new furni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e _________________(decorate) the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________________ (help) my 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___________ (see) his grandpa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619280" y="2637000"/>
            <a:ext cx="25210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b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979640" y="3284640"/>
            <a:ext cx="266364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decor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547640" y="3860640"/>
            <a:ext cx="230364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763640" y="4437000"/>
            <a:ext cx="180036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s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oject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 Про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ирайтесь на план, данный учите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уйте слова и грамматический материал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зьмите за пример тексты из учебника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ли не можете написать текст, нарисуйте рисунок и подпиши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Зинаида</cp:lastModifiedBy>
  <dcterms:modified xsi:type="dcterms:W3CDTF">2018-11-15T10:28:27Z</dcterms:modified>
  <cp:revision>50</cp:revision>
  <dc:subject/>
  <dc:title>Заголовок слайда</dc:title>
</cp:coreProperties>
</file>