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8DA-1C78-48FF-9976-301DD4B4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17E-5620-4DAE-8363-BDEB4E5D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81D-6144-4D33-B14C-3CDDA819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F42-CBD6-4CC0-8FBE-E9DAEF75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E3E-5103-4D7B-ADAF-5C8CD0E2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E4E-2D27-44EB-A651-E98D5014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819-65FA-4E10-A61E-78FDA1A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53D-B284-42E4-8912-34A4EB6F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9C9-1B14-429A-94A9-478F8FCF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345-56C0-4D97-897E-0C4A207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509-2A4B-43F1-A07B-1B07147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94D-5697-4718-9FBB-21E3B5E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9259-8895-4FDF-849A-E8AA9C7E4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900000" y="981000"/>
            <a:ext cx="73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Homework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нструкция к применению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ли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помочь ребенк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полненное с ошибками, лучш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ем невыполненное домашнее зад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08000" y="1988640"/>
            <a:ext cx="60580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труктура раздела учеб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Unit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раздел) содержит 1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esson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ждый раздел имеет свою общую те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исок слов по этой те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грамматический матери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Лекс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слова) вводится в 1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Граммат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вводится во 2,3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помощь ребенку и родите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оварь в учеб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ческий справочник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амятки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Электронный словарь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multitra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арианты домашнего зад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late –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вод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g-R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заполнить пропус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ксика пройденно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крыть скоб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ка пройден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Выучить слова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. Проект по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 выполнения домашнего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915920"/>
            <a:ext cx="82072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Открыть тетрадь, учеб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Приготовить слов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Просмотреть классную работу, прочитать слова по теме (учебник, тетрад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Разобрать задание (что требуется выполн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требуется, прочитать грамматический справочник или памятку в конце учеб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Приступить  к выполн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ranslation.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е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ere are chairs in the kitchen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Там есть стул в кухня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 кухне есть стул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cycle old clothes. Take them to charity sh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отка старый одежда. Брать их в благотворительность магаз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атывайте старую одежду. Относите ее в благотворительный магаз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Заполнить пропуски. Лекс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      environment     recycle      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щищать                       окружающая среда               перерабатывать         мусорный ба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throw things if you can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them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nature. Take care of the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________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Always put the garbage into the garbage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940360" y="278136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11600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73272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7885080" y="4005360"/>
            <a:ext cx="8985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полнить пропуски. Грам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_____________ (buy) new furni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 _________________(decorate) the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________________ (help) my 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___________ (see) his grandpa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619280" y="2637000"/>
            <a:ext cx="25210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b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979640" y="3284640"/>
            <a:ext cx="266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deco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547640" y="3860640"/>
            <a:ext cx="230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763640" y="4437000"/>
            <a:ext cx="180036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s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ject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 Про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ирайтесь на план, данный учите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йте слова и грамматический материал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зьмите за пример тексты из учебника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ли не можете написать текст, нарисуйте рисунок и подпиши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Зинаида</cp:lastModifiedBy>
  <dcterms:modified xsi:type="dcterms:W3CDTF">2018-11-15T10:28:27Z</dcterms:modified>
  <cp:revision>50</cp:revision>
  <dc:subject/>
  <dc:title>Заголовок слайда</dc:title>
</cp:coreProperties>
</file>