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63A-39B7-4B92-BB41-2A190538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190-3D1B-42ED-BCFA-10E7CF63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99C-DC63-4EA0-BDC5-2F13CF32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9A4-DD41-4EC8-8B65-E18330C5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696-4DA4-48B3-B338-DD2FBD9F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BCE-1FBE-46A2-B939-6E34F55A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758-BF93-43EE-A6A1-D8BFB17D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F78-219C-4354-AFA4-3AC06C5B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244-8749-4007-B7C6-DF9DB8B0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BD2-1BFF-4FDB-B1E3-E31D9927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B55-B988-4461-B8B3-04711D5C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271-8CA4-4225-90E6-868C3DC1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2067-7EE9-45BE-974D-F672F059F6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12A3-5ACC-4FD8-83B0-747A43460C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Monotype Corsiva"/>
              </a:rPr>
              <a:t>Знаете ли вы сказки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8920" y="3645000"/>
            <a:ext cx="5400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 Antiqua"/>
              </a:rPr>
              <a:t>Шаповаленко Ирина Васи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 Antiqua"/>
              </a:rPr>
              <a:t>Воспитатель ГП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 Antiqua"/>
              </a:rPr>
              <a:t>ГБОУ СОШ №39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 Antiqua"/>
              </a:rPr>
              <a:t>Красносельского рай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Book Antiqua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1149480" y="227664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Verdana"/>
                <a:ea typeface="Verdana"/>
              </a:rPr>
              <a:t>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Verdana"/>
                <a:ea typeface="Verdan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7D1F-766E-46E4-9742-3083BF5C0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395280" y="40464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н живет в глуши лесной,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ердца моего герой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Он костями громыхает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И в округе всех пуг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613A-D167-477A-87C3-381123230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3900600" y="1844640"/>
            <a:ext cx="44812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3635280" y="404640"/>
            <a:ext cx="49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Берегись болезнь любая: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Грипп, ангина и бронхит.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Всех на бой вас вызывает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Славный доктор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4500720" y="2781360"/>
            <a:ext cx="35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Человек немолодой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 усами и бородой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Любит ребят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Любит зверят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импатичный на вид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А зовется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629D-58B8-45B7-B619-C722B8204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900000" y="2036880"/>
            <a:ext cx="302436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4716360" y="874800"/>
            <a:ext cx="39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Мальчик-луковка зна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Очень просто, хоть и длин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Он зоветс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3460680" cy="494964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A976-F894-475D-A537-B48F9E484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995640" y="1211040"/>
            <a:ext cx="46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 ступе лет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Детей похища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 избе на кури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Ноге проживаю, Красавица златокудр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А зовут меня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асилиса Премудр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0" t="0" r="0" b="3223"/>
          <a:stretch/>
        </p:blipFill>
        <p:spPr>
          <a:xfrm>
            <a:off x="1258920" y="2276640"/>
            <a:ext cx="22320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D060-4A8B-42BE-8DE8-30A9DAD1D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5"/>
          <p:cNvSpPr/>
          <p:nvPr/>
        </p:nvSpPr>
        <p:spPr>
          <a:xfrm>
            <a:off x="395280" y="476280"/>
            <a:ext cx="50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Формой он похож на мяч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Был когда-то он горяч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Спрыгнул со стола на пол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И от бабушки ушел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У него румяный бок…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Вы, узн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E919-FA0D-4238-8BC5-E1EE181A8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916360" y="2954160"/>
            <a:ext cx="53625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4857840" y="1413000"/>
            <a:ext cx="385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Не хожу и не летаю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А попробуй догони!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Я бываю золотая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Ну-ка, в сказку заглян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1066-7242-46E4-9262-E7428B951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984400" cy="4081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3492360" y="1268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У отца есть мальчик странный,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Необычный, деревянный,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На земле и под водой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Ищет ключик золотой,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Всюду нос сует свой длинный...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Кто же это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18C1-AB49-4D0D-BB9E-64A07846A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468360" y="981000"/>
            <a:ext cx="50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Бабушка девочку очень любила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Шапочку красную ей подарила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Девочка имя забыла свое.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Bookman Old Style"/>
              </a:rPr>
              <a:t>А ну, подскажите имя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F3C2-5012-45DB-9261-D197EFA48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475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44:57Z</dcterms:created>
  <dc:creator>Я</dc:creator>
  <dc:description/>
  <dc:language>en-US</dc:language>
  <cp:lastModifiedBy>Игорь</cp:lastModifiedBy>
  <dcterms:modified xsi:type="dcterms:W3CDTF">2019-05-30T18:28:18Z</dcterms:modified>
  <cp:revision>12</cp:revision>
  <dc:subject/>
  <dc:title>Слайд 1</dc:title>
</cp:coreProperties>
</file>