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1FB-A76A-4813-AB5E-360112EB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930-A90B-4AC0-A632-B97A848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F58-C8F0-4AF2-A24E-F4AD0A83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CE2-074B-4D59-A659-EAD356CE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163-F6D2-4823-85BA-BECB7DE4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72F-17F2-4082-9CEF-633AEF2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847-7F03-4B9B-B9C0-A3B719C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91F-B4CC-4C20-BABB-86B502F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CBB-7942-45B6-A958-5FCB61C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B14-5924-47FA-9056-A8597DA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CB3-1FE1-4DD7-A8EC-680D300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435-5513-483A-921F-C26E187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A23-1CE6-4B11-9743-A84B552B75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CF2-41FC-4DCD-9D1E-18AEAB404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Monotype Corsiva"/>
              </a:rPr>
              <a:t>Знаете ли вы сказк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3645000"/>
            <a:ext cx="540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Шаповаленко Ирин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Воспитатель ГП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ГБОУ СОШ №3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149480" y="2276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Verdana"/>
                <a:ea typeface="Verdana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Verdana"/>
                <a:ea typeface="Verdan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1D8-5882-48AF-BA1A-FB7AB3CB5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95280" y="40464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н живет в глуши лесной,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ердца моего герой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н костями громыхает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И в округе всех пуг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CCCC-B562-4509-9B10-C95920AEA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3900600" y="1844640"/>
            <a:ext cx="4481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635280" y="40464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Берегись болезнь любая: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Грипп, ангина и бронхит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сех на бой вас вызывает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Славный доктор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4500720" y="278136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Человек немолодо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 усами и бородой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Любит ребят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Любит зверят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импатичный на вид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А зовется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7412-4127-4D6A-8F29-E21049839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900000" y="2036880"/>
            <a:ext cx="30243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4716360" y="874800"/>
            <a:ext cx="39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Мальчик-луковка зна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чень просто, хоть и длин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н зове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460680" cy="494964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4B3-EE0E-4537-968C-99E7E1753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995640" y="1211040"/>
            <a:ext cx="46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ступе лет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Детей похища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избе на кури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Ноге проживаю, Красавица златокудр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А зовут меня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асилиса Премудр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0" r="0" b="3223"/>
          <a:stretch/>
        </p:blipFill>
        <p:spPr>
          <a:xfrm>
            <a:off x="1258920" y="2276640"/>
            <a:ext cx="22320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0379-B45C-4FBA-A8DB-7CA59A978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95280" y="47628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Формой он похож на мяч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Был когда-то он горяч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Спрыгнул со стола на пол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И от бабушки ушел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У него румяный бок…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ы, узн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915-D99F-4EF1-9D22-BDF122BE1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916360" y="2954160"/>
            <a:ext cx="53625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4857840" y="1413000"/>
            <a:ext cx="385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е хожу и не летаю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А попробуй догони!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Я бываю золотая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у-ка, в сказку заглян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B56-F8F3-4D65-9BAA-ABC3E4A2A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984400" cy="4081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492360" y="1268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У отца есть мальчик странны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Необычный, деревянны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На земле и под водой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Ищет ключик золото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сюду нос сует свой длинный..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Кто же это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6ADC-EC0F-4189-8F9B-A7620111C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468360" y="981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Бабушка девочку очень любила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Шапочку красную ей подарила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Девочка имя забыла свое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А ну, подскажите имя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0A02-E9BE-4674-9A57-47621FEA3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475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44:57Z</dcterms:created>
  <dc:creator>Я</dc:creator>
  <dc:description/>
  <dc:language>en-US</dc:language>
  <cp:lastModifiedBy>Игорь</cp:lastModifiedBy>
  <dcterms:modified xsi:type="dcterms:W3CDTF">2019-05-30T18:28:18Z</dcterms:modified>
  <cp:revision>12</cp:revision>
  <dc:subject/>
  <dc:title>Слайд 1</dc:title>
</cp:coreProperties>
</file>