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4DC-7F33-4FF9-9E79-EAF5901E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A32-63B1-4881-8EAD-D863EDC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67A-E980-413A-8057-B9C4CBD5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947-078A-4305-BA7F-E79AEE61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53B-E694-4880-888A-B950CEAD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D04-8EE2-44DF-A9F3-03CA367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227-6714-4E4F-A94D-DF0E1DB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42F-E9BC-4A78-A616-C6E162FA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837-392A-4456-B428-C271FF88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C8A-7336-4981-89EE-3625837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BFE-8C63-403D-92D7-A1397C4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831-9564-4FC8-AE38-D396B7D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A0FA-A18D-4BCE-BEB1-47DB92A8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Роль педагога дополнительного образования в формировании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гражданско-патриотических качеств личности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лыгина Т.П., зам.директора по НМР МБУДО Центр детского творчества МО г.Саяно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pbs.twimg.com/media/CDMUCXhUgAAi6ug.jpg: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«…необходимы совершенствование законодательства Российской Федерации в этой области, модернизация материально-технической базы патриотического воспитания, повышение уровня его организационно-методического обеспечения, повышение уровня профессиональной подготовки организаторов и специалистов патриотического воспитан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сударственная программа «Патриотическое воспитание граждан Российской Федерации на 2016-2020 годы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«Как нет человека без самолюбия, так нет человека без любви к Отечеству, и эта любовь дает воспитанию верный ключ к сердцу человека и могущественную опору для борьбы с его дурными природными, личными, семейными и родовыми наклонностями»</a:t>
            </a: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«…одной из главных воспитательных задач школы является подготовка учащихся к простому, будничному, повседневному труду для общества, как к патриотической деятельности, причем сама деятельность детей, организуемая педагогом с данной целью, представляет движущую силу формирования личности растущего гражданин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А. Сухомли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c2"/>
                </a:solidFill>
                <a:latin typeface="Arial"/>
              </a:rPr>
              <a:t>Педагог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профессионал, который для многих детей является образцом в выбранном им виде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личность, способная помочь обучающемуся стать самостоятельным и творческим челове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руководитель детского коллектива, который способствует эффективному социальному становлению каждого его ч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воспитатель, который способен оказать значительное позитивное влияние на формирование лич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c2"/>
                </a:solidFill>
                <a:latin typeface="Arial"/>
              </a:rPr>
              <a:t>Основные средства, методы и формы патриотического вос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беседы, положительный пример, создание воспитывающих ситу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убеждение, поощрение, дискусс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подбор репертуара патриотической направленности, изучение традиций и культуры своего народа;</a:t>
            </a:r>
            <a:r>
              <a:rPr b="0" i="1" lang="en-US" sz="2800" spc="-1" strike="noStrike">
                <a:solidFill>
                  <a:srgbClr val="96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участие в социально-значимых акциях, трудовых десантах, концер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учебно-исследовательская деятельность, участие в разработке и реализации социальных и учебных проектов и т.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820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b2"/>
                </a:solidFill>
                <a:latin typeface="Arial"/>
              </a:rPr>
              <a:t>Задачи гражданско-патриотического воспитания в Центр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определение приоритетов в вопросах воспитания гражданственности, патриотизма, чувства товарищества, возрождения национального самосознания с учетом возрастных особенностей обучающихся и создание условий для их реализ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содействие сохранению преемственности культурных ценностей, обогащению воспитанников общечеловеческими нравственными ценностями, корректировке жизненных ориентиров лич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проведение мероприятий народно-культурной, патриотической, воспитательной и образовательной направленности, включающих формирование у детей уважения к старшему поколению, гордости за историю и достижения своей Род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разработка комплектов учебно-методических материалов для организации и проведения урочной и внеурочной деятельности в сфере гражданско-патриотического вос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a116.mycdn.me/image?t=3&amp;bid=804914972041&amp;id=804914972041&amp;plc=WEB&amp;tkn=*kuVk4HYNn0sOVWykLIML3QhJqic"/>
          <p:cNvPicPr/>
          <p:nvPr/>
        </p:nvPicPr>
        <p:blipFill>
          <a:blip r:embed="rId1">
            <a:lum bright="6000"/>
          </a:blip>
          <a:srcRect l="8097" t="0" r="2826" b="2159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00" y="5805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ab2"/>
                </a:solidFill>
                <a:latin typeface="Comic Sans MS"/>
              </a:rPr>
              <a:t>С ДНЕМ УЧИ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004 -0.62431 E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10:46:30Z</dcterms:created>
  <dc:creator>1</dc:creator>
  <dc:description/>
  <dc:language>en-US</dc:language>
  <cp:lastModifiedBy>1</cp:lastModifiedBy>
  <dcterms:modified xsi:type="dcterms:W3CDTF">2015-09-30T07:11:02Z</dcterms:modified>
  <cp:revision>4</cp:revision>
  <dc:subject/>
  <dc:title>Роль педагога дополнительного образования в формировании гражданско-патриотических качеств личности обучающихся</dc:title>
</cp:coreProperties>
</file>