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4CA-9CD3-4165-BCA2-C0E486CC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C73-6210-428A-BE41-707D5EAB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901-3D23-407A-9902-255C4CD2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56F-5D24-4729-AA36-3EB072BD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FA0-4ADA-4A08-97F6-7AFD7FBF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9E5-84BA-4A03-B188-B1E453B7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3EA-D619-4766-8CB4-F014CB64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E09-B03F-43A4-8799-EA5C928D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ED0-1F37-4791-83F5-AC6E0133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698-104C-4F26-A4C8-BF58D265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3BD-4EEC-47D9-9116-2AA7E5F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1875-89BA-4769-BB27-3310FCDE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F825-D962-4890-AF60-595414BC5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Роль педагога дополнительного образования в формировании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гражданско-патриотических качеств личности обучаю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улыгина Т.П., зам.директора по НМР МБУДО Центр детского творчества МО г.Саяногор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pbs.twimg.com/media/CDMUCXhUgAAi6ug.jpg: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60000"/>
                </a:solidFill>
                <a:latin typeface="Arial"/>
              </a:rPr>
              <a:t>«…необходимы совершенствование законодательства Российской Федерации в этой области, модернизация материально-технической базы патриотического воспитания, повышение уровня его организационно-методического обеспечения, повышение уровня профессиональной подготовки организаторов и специалистов патриотического воспитания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сударственная программа «Патриотическое воспитание граждан Российской Федерации на 2016-2020 годы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«Как нет человека без самолюбия, так нет человека без любви к Отечеству, и эта любовь дает воспитанию верный ключ к сердцу человека и могущественную опору для борьбы с его дурными природными, личными, семейными и родовыми наклонностями»</a:t>
            </a:r>
            <a:r>
              <a:rPr b="0" lang="en-US" sz="3200" spc="-1" strike="noStrike">
                <a:solidFill>
                  <a:srgbClr val="96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.Д.Уш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«…одной из главных воспитательных задач школы является подготовка учащихся к простому, будничному, повседневному труду для общества, как к патриотической деятельности, причем сама деятельность детей, организуемая педагогом с данной целью, представляет движущую силу формирования личности растущего гражданина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.А. Сухомлин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c2"/>
                </a:solidFill>
                <a:latin typeface="Arial"/>
              </a:rPr>
              <a:t>Педагог эт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профессионал, который для многих детей является образцом в выбранном им виде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личность, способная помочь обучающемуся стать самостоятельным и творческим челове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руководитель детского коллектива, который способствует эффективному социальному становлению каждого его ч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воспитатель, который способен оказать значительное позитивное влияние на формирование личност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c2"/>
                </a:solidFill>
                <a:latin typeface="Arial"/>
              </a:rPr>
              <a:t>Основные средства, методы и формы патриотического воспит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беседы, положительный пример, создание воспитывающих ситуа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убеждение, поощрение, дискусс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подбор репертуара патриотической направленности, изучение традиций и культуры своего народа;</a:t>
            </a:r>
            <a:r>
              <a:rPr b="0" i="1" lang="en-US" sz="2800" spc="-1" strike="noStrike">
                <a:solidFill>
                  <a:srgbClr val="96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участие в социально-значимых акциях, трудовых десантах, концерт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Arial"/>
              </a:rPr>
              <a:t>учебно-исследовательская деятельность, участие в разработке и реализации социальных и учебных проектов и т.д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820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b2"/>
                </a:solidFill>
                <a:latin typeface="Arial"/>
              </a:rPr>
              <a:t>Задачи гражданско-патриотического воспитания в Центре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0000"/>
                </a:solidFill>
                <a:latin typeface="Arial"/>
              </a:rPr>
              <a:t>определение приоритетов в вопросах воспитания гражданственности, патриотизма, чувства товарищества, возрождения национального самосознания с учетом возрастных особенностей обучающихся и создание условий для их реализ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0000"/>
                </a:solidFill>
                <a:latin typeface="Arial"/>
              </a:rPr>
              <a:t>содействие сохранению преемственности культурных ценностей, обогащению воспитанников общечеловеческими нравственными ценностями, корректировке жизненных ориентиров лич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0000"/>
                </a:solidFill>
                <a:latin typeface="Arial"/>
              </a:rPr>
              <a:t>проведение мероприятий народно-культурной, патриотической, воспитательной и образовательной направленности, включающих формирование у детей уважения к старшему поколению, гордости за историю и достижения своей Родин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0000"/>
                </a:solidFill>
                <a:latin typeface="Arial"/>
              </a:rPr>
              <a:t>разработка комплектов учебно-методических материалов для организации и проведения урочной и внеурочной деятельности в сфере гражданско-патриотического вос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793db"/>
            </a:gs>
            <a:gs pos="50000">
              <a:srgbClr val="ffffff"/>
            </a:gs>
            <a:gs pos="100000">
              <a:srgbClr val="6793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ia116.mycdn.me/image?t=3&amp;bid=804914972041&amp;id=804914972041&amp;plc=WEB&amp;tkn=*kuVk4HYNn0sOVWykLIML3QhJqic"/>
          <p:cNvPicPr/>
          <p:nvPr/>
        </p:nvPicPr>
        <p:blipFill>
          <a:blip r:embed="rId1">
            <a:lum bright="6000"/>
          </a:blip>
          <a:srcRect l="8097" t="0" r="2826" b="2159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16000" y="58053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0ab2"/>
                </a:solidFill>
                <a:latin typeface="Comic Sans MS"/>
              </a:rPr>
              <a:t>С ДНЕМ УЧИТЕЛ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0.004 -0.62431 E"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9T10:46:30Z</dcterms:created>
  <dc:creator>1</dc:creator>
  <dc:description/>
  <dc:language>en-US</dc:language>
  <cp:lastModifiedBy>1</cp:lastModifiedBy>
  <dcterms:modified xsi:type="dcterms:W3CDTF">2015-09-30T07:11:02Z</dcterms:modified>
  <cp:revision>4</cp:revision>
  <dc:subject/>
  <dc:title>Роль педагога дополнительного образования в формировании гражданско-патриотических качеств личности обучающихся</dc:title>
</cp:coreProperties>
</file>