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F13-C2C7-4776-850C-095A4C7B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8480" y="455400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A5C-2498-441C-9974-7E957E98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5580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3B0-26C7-4C44-B089-3C56E61E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7180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4476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9848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7180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4476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B98-F1B2-4E40-99C9-9BE9A840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809A-BAC6-4E3C-B26C-96B1A6C5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E704-5F8B-415F-8FCD-30B1FF09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1056-5B70-4366-B801-A2BEB44C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C304-3768-4052-B2AB-A424CF5C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FD32-3EC9-4E0F-86AB-EEEF78C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8120" y="671400"/>
            <a:ext cx="94489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EA72-F4AC-43EC-A691-2C6C2F25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85B9-67D4-4FAA-841B-9D3F4C2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705-1A2B-44EF-AC21-EE1152F9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5580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A58C-4D89-4765-BE2F-CE2033AB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DA30-FFEF-490D-AC4B-48249B9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8480" y="455400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2B37-3902-43EE-8EF9-502B57E2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5580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E990-6DAB-42D0-BB4D-FB1D6296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7180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44760" y="218412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848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7180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44760" y="4554000"/>
            <a:ext cx="292644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5BA7-94E8-40EB-84DD-38AA3DE2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C56-A27F-4641-95BB-D3DD96F8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197-FC3C-4315-B256-1E211CD4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96C-940D-4176-B052-A6BDF95C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98120" y="671400"/>
            <a:ext cx="94489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945-9BE1-4752-AE08-A7C59C18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F19E-E24C-45AC-890E-C074BE3B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55800" y="455400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6E3-D418-4672-9FD8-C7D18BAE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55800" y="2184120"/>
            <a:ext cx="443520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8480" y="4554000"/>
            <a:ext cx="9088560" cy="216396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indent="0">
              <a:lnSpc>
                <a:spcPct val="90000"/>
              </a:lnSpc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CC6F-F645-402D-8251-8DE83145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829440" y="4680"/>
            <a:ext cx="20509920" cy="30189960"/>
            <a:chOff x="-9829440" y="4680"/>
            <a:chExt cx="20509920" cy="30189960"/>
          </a:xfrm>
        </p:grpSpPr>
        <p:sp>
          <p:nvSpPr>
            <p:cNvPr id="1" name=""/>
            <p:cNvSpPr/>
            <p:nvPr/>
          </p:nvSpPr>
          <p:spPr>
            <a:xfrm>
              <a:off x="6301440" y="1747800"/>
              <a:ext cx="4379040" cy="580068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829440" y="4680"/>
              <a:ext cx="773094112920" cy="301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47800" indent="-32544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2" marL="1303200" indent="-26028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5560" indent="-2602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Times New Roman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4" marL="2346480" indent="-26064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5" marL="2346480" indent="-26064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6" marL="2346480" indent="-26064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Times New Roma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437320" y="7102080"/>
            <a:ext cx="2227320" cy="42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98480" y="7017840"/>
            <a:ext cx="4989600" cy="5050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18240" y="6778800"/>
            <a:ext cx="2228760" cy="420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0" bIns="0" anchor="b">
            <a:noAutofit/>
          </a:bodyPr>
          <a:lstStyle>
            <a:lvl1pPr lvl="1" marL="522360"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522360"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F8A9A00-EAD4-48E3-BFAF-F5C3FE600E07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9638720" y="1614600"/>
            <a:ext cx="201131640" cy="23801400"/>
            <a:chOff x="-109638720" y="1614600"/>
            <a:chExt cx="201131640" cy="23801400"/>
          </a:xfrm>
        </p:grpSpPr>
        <p:sp>
          <p:nvSpPr>
            <p:cNvPr id="45" name=""/>
            <p:cNvSpPr/>
            <p:nvPr/>
          </p:nvSpPr>
          <p:spPr>
            <a:xfrm>
              <a:off x="3825720" y="2988000"/>
              <a:ext cx="6867360" cy="45730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9638720" y="1614600"/>
              <a:ext cx="201131640" cy="238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2360" y="839520"/>
            <a:ext cx="9090360" cy="126036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437320" y="7102080"/>
            <a:ext cx="2227320" cy="4208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14520" y="7017840"/>
            <a:ext cx="4991040" cy="5050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418240" y="6778800"/>
            <a:ext cx="2228760" cy="42048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0" bIns="0" anchor="b">
            <a:noAutofit/>
          </a:bodyPr>
          <a:lstStyle>
            <a:lvl1pPr lvl="1" marL="522360"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522360" indent="0" algn="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8613DF8-CA32-4FDD-81B5-A53936969D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522360" indent="0" algn="ctr"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2920" algn="ctr"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5280" algn="ctr"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4" marL="2085840" algn="ctr">
              <a:spcBef>
                <a:spcPts val="575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5" marL="2085840"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6" marL="2085840">
              <a:spcBef>
                <a:spcPts val="5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36520" y="842760"/>
            <a:ext cx="9088560" cy="25398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4300" spc="-1" strike="noStrike">
                <a:solidFill>
                  <a:srgbClr val="ffcc66"/>
                </a:solidFill>
                <a:latin typeface="Arial"/>
              </a:rPr>
              <a:t>Социальная одаренность как предпосылка успешности в различных сферах деятельности</a:t>
            </a:r>
            <a:endParaRPr b="0" lang="en-US" sz="43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8960" y="5686200"/>
            <a:ext cx="6594480" cy="114444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t">
            <a:noAutofit/>
          </a:bodyPr>
          <a:p>
            <a:pPr indent="0">
              <a:lnSpc>
                <a:spcPct val="70000"/>
              </a:lnSpc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Булыгина Т.П., зам.директора ЦДТ г. Саяногорска по НМР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ffcc66"/>
                </a:solidFill>
                <a:latin typeface="Arial"/>
              </a:rPr>
              <a:t>Информационное общество:</a:t>
            </a:r>
            <a:endParaRPr b="0" lang="en-US" sz="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увеличение роли информации и знаний в жизни общества;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возрастание доли информационных коммуникаций, продуктов и услуг в валовом внутреннем продукте;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создание глобального информационного пространства.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98120" y="671400"/>
            <a:ext cx="9448920" cy="126072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4600" spc="-1" strike="noStrike">
                <a:solidFill>
                  <a:srgbClr val="ffcc66"/>
                </a:solidFill>
                <a:latin typeface="Arial"/>
              </a:rPr>
              <a:t>Смена парадигмы образования</a:t>
            </a:r>
            <a:endParaRPr b="0" lang="en-US" sz="4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98480" y="2184120"/>
            <a:ext cx="9088560" cy="453708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От образования на всю жизнь к образованию в течение всей жизни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Ориентация на формирование «человека культуры»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181080"/>
          <a:ext cx="10693440" cy="7245360"/>
        </p:xfrm>
        <a:graphic>
          <a:graphicData uri="http://schemas.openxmlformats.org/drawingml/2006/table">
            <a:tbl>
              <a:tblPr/>
              <a:tblGrid>
                <a:gridCol w="1749600"/>
                <a:gridCol w="3759120"/>
                <a:gridCol w="5184720"/>
              </a:tblGrid>
              <a:tr h="653400">
                <a:tc>
                  <a:txBody>
                    <a:bodyPr lIns="104400" rIns="104400" tIns="52200" bIns="52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оненты парадиг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устриальное общ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индустриальное общ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 для общественного производств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 для самореализации человека в жизни, образование в интересах обществ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040"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ти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ние как обязанность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педагога как исполнение профессионального дол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интересованность обучающихся в учении, удовольствие от достижения результатов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интересованность педагога в развитии обучающихся, удовольствие от общения с н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ость за учение обучающихся несет педагог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ающиеся принимают на себя ответственность за свое учени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ность учения на приобретение научных знаний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ние как «запас на всю жизнь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ность учения на овладение основами человеческой культуры и компетенциями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ние в течение всей жиз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104400" rIns="104400" tIns="52200" bIns="52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иции участников УВ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агог передает знания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педагог над обучающими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агог создает условия для учения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агог вместе с обучающимися, взаимное партнер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720">
                <a:tc>
                  <a:txBody>
                    <a:bodyPr lIns="104400" rIns="104400" tIns="52200" bIns="52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и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 на аудиторные занятия под руководством педаго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кратический и эгалитарный (построенный на равенстве) методы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 на самостоятельную работу обучаю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104400" rIns="104400" tIns="52200" bIns="52200" anchor="ctr">
                      <a:noAutofit/>
                    </a:bodyPr>
                    <a:p>
                      <a:pPr marL="390600" indent="-390600"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м средством обучения является учебная кни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ая книга дополняется мощнейшими ресурсами 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104400" rIns="104400" tIns="52200" bIns="52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 и оце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 и оценка производятся преимущественно педагог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щение акцента на самоконтроль и самооценку обучаю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54000" y="539640"/>
            <a:ext cx="9088560" cy="6553440"/>
          </a:xfrm>
          <a:prstGeom prst="rect">
            <a:avLst/>
          </a:prstGeom>
          <a:noFill/>
          <a:ln w="0">
            <a:noFill/>
          </a:ln>
        </p:spPr>
        <p:txBody>
          <a:bodyPr lIns="208080" rIns="208080" tIns="52560" bIns="52560" anchor="t">
            <a:normAutofit/>
          </a:bodyPr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оциальная одаренность определяется как высокий уровень развития социальных способностей, умение устанавливать зрелые, конструктивные, характеризующиеся глубиной и продуктивностью взаимоотношения с другими людьми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Н.С. Лейтес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Основа успешности в социальной среде во многом зависит от социальной одарённости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А.А. Бодалев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-39060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Креативность является одним из компонентов социальной одарённости и выступает как оригинальность мышления, способность принимать решения в нестандартных ситуациях взаимодействия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.Б. Богоявленская, А.М. Матюшкин,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9060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.А. Пономарёв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2:15:35Z</dcterms:created>
  <dc:creator>1</dc:creator>
  <dc:description/>
  <dc:language>en-US</dc:language>
  <cp:lastModifiedBy>1</cp:lastModifiedBy>
  <dcterms:modified xsi:type="dcterms:W3CDTF">2015-02-26T09:03:33Z</dcterms:modified>
  <cp:revision>5</cp:revision>
  <dc:subject/>
  <dc:title>Социальная одаренность как предпосылка успешности в различных сферах деятельности</dc:title>
</cp:coreProperties>
</file>