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B94-ADA5-44A8-9FCD-F58152A2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908856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8480" y="4554000"/>
            <a:ext cx="908856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719-22E4-4D68-9EA1-3842D69F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5580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8480" y="455400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55800" y="455400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4A3-A275-42AE-B63F-F2588564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71800" y="218412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44760" y="218412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98480" y="455400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71800" y="455400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44760" y="455400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18A7-EF26-4B46-8F92-DFCB062C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871D-D672-488D-9CF6-7D28D87F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8480" y="2184120"/>
            <a:ext cx="90885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8A5C-6C73-4181-8190-8D724408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908856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3961-EA24-4684-A8A6-AB5C5957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443520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55800" y="2184120"/>
            <a:ext cx="443520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03ED-F8EB-4BDB-9E0E-63E83C5A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FBD4-135A-4A38-A91A-9C596BC7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8120" y="671400"/>
            <a:ext cx="94489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B3DE-7D1D-4C1B-9BD9-22A5F9D5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55800" y="2184120"/>
            <a:ext cx="443520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8480" y="455400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0C2B-9917-49B3-95BA-77344986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98480" y="2184120"/>
            <a:ext cx="90885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A6C-D8A5-422E-8CEA-87C38922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443520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5580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455800" y="455400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AFD2-BED9-4113-A9C3-574734D1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580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8480" y="4554000"/>
            <a:ext cx="908856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9C20-6C95-41BE-A898-10E8DCD9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908856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8480" y="4554000"/>
            <a:ext cx="908856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3526-0B4C-4691-A0AC-2E9DB9AA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5580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8480" y="455400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55800" y="455400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DED4-6CBE-43BC-AC35-20F3C913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71800" y="218412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44760" y="218412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8480" y="455400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71800" y="455400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44760" y="455400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AB61-0884-4AA6-86E1-39CCA6A4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908856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4F9-7AC4-4DC8-A264-AC24559D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443520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55800" y="2184120"/>
            <a:ext cx="443520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350-E128-4C4D-88E1-54EA282A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30F-3088-40F0-B1B7-ED2EAD93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98120" y="671400"/>
            <a:ext cx="94489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61B-E492-4A05-84D1-EFC5C27B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55800" y="2184120"/>
            <a:ext cx="443520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98480" y="455400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B2F-20AE-404C-9A43-18E2EA85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443520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5580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55800" y="455400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A7C-51D5-497C-B30A-B4B70C2F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5580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98480" y="4554000"/>
            <a:ext cx="908856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056-5FBC-41CD-A4C0-6FB0090A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829440" y="4680"/>
            <a:ext cx="20509920" cy="30189960"/>
            <a:chOff x="-9829440" y="4680"/>
            <a:chExt cx="20509920" cy="30189960"/>
          </a:xfrm>
        </p:grpSpPr>
        <p:sp>
          <p:nvSpPr>
            <p:cNvPr id="1" name=""/>
            <p:cNvSpPr/>
            <p:nvPr/>
          </p:nvSpPr>
          <p:spPr>
            <a:xfrm>
              <a:off x="6301440" y="1747800"/>
              <a:ext cx="4379040" cy="580068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829440" y="4680"/>
              <a:ext cx="773094112920" cy="3018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98480" y="2184120"/>
            <a:ext cx="908856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marL="390600" indent="-39060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47800" indent="-32544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2" marL="1303200" indent="-260280">
              <a:lnSpc>
                <a:spcPct val="90000"/>
              </a:lnSpc>
              <a:spcBef>
                <a:spcPts val="924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5560" indent="-2602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4" marL="2346480" indent="-260640">
              <a:lnSpc>
                <a:spcPct val="90000"/>
              </a:lnSpc>
              <a:spcBef>
                <a:spcPts val="924"/>
              </a:spcBef>
              <a:buClr>
                <a:srgbClr val="00ccff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5" marL="2346480" indent="-26064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6" marL="2346480" indent="-26064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437320" y="7102080"/>
            <a:ext cx="2227320" cy="42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98480" y="7017840"/>
            <a:ext cx="4989600" cy="50508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18240" y="6778800"/>
            <a:ext cx="2228760" cy="42048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0" bIns="0" anchor="b">
            <a:noAutofit/>
          </a:bodyPr>
          <a:lstStyle>
            <a:lvl1pPr lvl="1" marL="522360" indent="0" algn="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522360" indent="0" algn="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3B65E46-A1FD-4A13-9CAA-F0CB432D1C25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09638720" y="1614600"/>
            <a:ext cx="201131640" cy="23801400"/>
            <a:chOff x="-109638720" y="1614600"/>
            <a:chExt cx="201131640" cy="23801400"/>
          </a:xfrm>
        </p:grpSpPr>
        <p:sp>
          <p:nvSpPr>
            <p:cNvPr id="45" name=""/>
            <p:cNvSpPr/>
            <p:nvPr/>
          </p:nvSpPr>
          <p:spPr>
            <a:xfrm>
              <a:off x="3825720" y="2988000"/>
              <a:ext cx="6867360" cy="45730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09638720" y="1614600"/>
              <a:ext cx="201131640" cy="238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2360" y="839520"/>
            <a:ext cx="9090360" cy="126036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437320" y="7102080"/>
            <a:ext cx="2227320" cy="42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14520" y="7017840"/>
            <a:ext cx="4991040" cy="50508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418240" y="6778800"/>
            <a:ext cx="2228760" cy="42048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0" bIns="0" anchor="b">
            <a:noAutofit/>
          </a:bodyPr>
          <a:lstStyle>
            <a:lvl1pPr lvl="1" marL="522360" indent="0" algn="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522360" indent="0" algn="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55DF6C3-6294-47C6-A8E3-019FFC2D56C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522360" indent="0" algn="ctr">
              <a:spcBef>
                <a:spcPts val="7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2920" algn="ctr"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5280" algn="ctr"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4" marL="2085840" algn="ctr">
              <a:spcBef>
                <a:spcPts val="575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5" marL="2085840"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6" marL="2085840"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36520" y="842760"/>
            <a:ext cx="9088560" cy="25398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4300" spc="-1" strike="noStrike">
                <a:solidFill>
                  <a:srgbClr val="ffcc66"/>
                </a:solidFill>
                <a:latin typeface="Arial"/>
              </a:rPr>
              <a:t>Социальная одаренность как предпосылка успешности в различных сферах деятельности</a:t>
            </a:r>
            <a:endParaRPr b="0" lang="en-US" sz="43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8960" y="5686200"/>
            <a:ext cx="6594480" cy="11444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lnSpc>
                <a:spcPct val="70000"/>
              </a:lnSpc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Булыгина Т.П., зам.директора ЦДТ г. Саяногорска по НМР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ffcc66"/>
                </a:solidFill>
                <a:latin typeface="Arial"/>
              </a:rPr>
              <a:t>Информационное общество:</a:t>
            </a: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908856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marL="390600" indent="-39060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увеличение роли информации и знаний в жизни общества; 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возрастание доли информационных коммуникаций, продуктов и услуг в валовом внутреннем продукте; 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создание глобального информационного пространства. 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4600" spc="-1" strike="noStrike">
                <a:solidFill>
                  <a:srgbClr val="ffcc66"/>
                </a:solidFill>
                <a:latin typeface="Arial"/>
              </a:rPr>
              <a:t>Смена парадигмы образования</a:t>
            </a:r>
            <a:endParaRPr b="0" lang="en-US" sz="4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908856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marL="390600" indent="-39060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От образования на всю жизнь к образованию в течение всей жизни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Ориентация на формирование «человека культуры»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181080"/>
          <a:ext cx="10693440" cy="7245360"/>
        </p:xfrm>
        <a:graphic>
          <a:graphicData uri="http://schemas.openxmlformats.org/drawingml/2006/table">
            <a:tbl>
              <a:tblPr/>
              <a:tblGrid>
                <a:gridCol w="1749600"/>
                <a:gridCol w="3759120"/>
                <a:gridCol w="5184720"/>
              </a:tblGrid>
              <a:tr h="653400">
                <a:tc>
                  <a:txBody>
                    <a:bodyPr lIns="104400" rIns="104400" tIns="52200" bIns="52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ненты парадиг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 marL="390600" indent="-390600"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устриальное обще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 marL="390600" indent="-390600"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индустриальное обще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104400" rIns="104400" tIns="52200" bIns="52200" anchor="ctr">
                      <a:noAutofit/>
                    </a:bodyPr>
                    <a:p>
                      <a:pPr marL="390600" indent="-390600"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ние для общественного производства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ние для самореализации человека в жизни, образование в интересах общества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2040">
                <a:tc>
                  <a:txBody>
                    <a:bodyPr lIns="104400" rIns="104400" tIns="52200" bIns="52200" anchor="ctr">
                      <a:noAutofit/>
                    </a:bodyPr>
                    <a:p>
                      <a:pPr marL="390600" indent="-390600"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ние как обязанность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педагога как исполнение профессионального дол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интересованность обучающихся в учении, удовольствие от достижения результатов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интересованность педагога в развитии обучающихся, удовольствие от общения с ни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104400" rIns="104400" tIns="52200" bIns="52200" anchor="ctr">
                      <a:noAutofit/>
                    </a:bodyPr>
                    <a:p>
                      <a:pPr marL="390600" indent="-390600"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ость за учение обучающихся несет педагог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ающиеся принимают на себя ответственность за свое учение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720">
                <a:tc>
                  <a:txBody>
                    <a:bodyPr lIns="104400" rIns="104400" tIns="52200" bIns="52200" anchor="ctr">
                      <a:noAutofit/>
                    </a:bodyPr>
                    <a:p>
                      <a:pPr marL="390600" indent="-390600"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ность учения на приобретение научных знаний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ние как «запас на всю жизнь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ность учения на овладение основами человеческой культуры и компетенциями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ние в течение всей жиз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720">
                <a:tc>
                  <a:txBody>
                    <a:bodyPr lIns="104400" rIns="104400" tIns="52200" bIns="52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иции участников УВ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 marL="390600" indent="-390600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дагог передает знания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педагог над обучающими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дагог создает условия для учения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дагог вместе с обучающимися, взаимное партнер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720">
                <a:tc>
                  <a:txBody>
                    <a:bodyPr lIns="104400" rIns="104400" tIns="52200" bIns="52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ы и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цент на аудиторные занятия под руководством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мократический и эгалитарный (построенный на равенстве) методы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цент на самостоятельную работу обучаю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104400" rIns="104400" tIns="52200" bIns="52200" anchor="ctr">
                      <a:noAutofit/>
                    </a:bodyPr>
                    <a:p>
                      <a:pPr marL="390600" indent="-390600"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ым средством обучения является учебная кни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ая книга дополняется мощнейшими ресурсами 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104400" rIns="104400" tIns="52200" bIns="52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 и оц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 и оценка производятся преимущественно педагог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ещение акцента на самоконтроль и самооценку обучаю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54000" y="539640"/>
            <a:ext cx="9088560" cy="655344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marL="390600" indent="-39060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Социальная одаренность определяется как высокий уровень развития социальных способностей, умение устанавливать зрелые, конструктивные, характеризующиеся глубиной и продуктивностью взаимоотношения с другими людьми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Н.С. Лейтес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Основа успешности в социальной среде во многом зависит от социальной одарённости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А.А. Бодалев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Креативность является одним из компонентов социальной одарённости и выступает как оригинальность мышления, способность принимать решения в нестандартных ситуациях взаимодействия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Д.Б. Богоявленская, А.М. Матюшкин,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Я.А. Пономарёв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2:15:35Z</dcterms:created>
  <dc:creator>1</dc:creator>
  <dc:description/>
  <dc:language>en-US</dc:language>
  <cp:lastModifiedBy>1</cp:lastModifiedBy>
  <dcterms:modified xsi:type="dcterms:W3CDTF">2015-02-26T09:03:33Z</dcterms:modified>
  <cp:revision>5</cp:revision>
  <dc:subject/>
  <dc:title>Социальная одаренность как предпосылка успешности в различных сферах деятельности</dc:title>
</cp:coreProperties>
</file>