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8900-72FD-4D75-A612-01028F3E2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969C-737C-4E5B-B158-9685DA70A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E7F4-9C5B-420E-BE73-8047A4788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C740-1E4D-4F58-AD21-5613D13ED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BFB07-E595-45D3-8B5B-266FF43F7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FF538-7938-46B2-828F-632E861A6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B9CAF-6459-4CBC-BA57-C105EBF0F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39616-ECC4-422E-9041-AB25579B7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6C57D-21E6-49D2-A29E-9C3A1DCDF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340FA-70CA-41E7-AAFC-29E2E9070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69802-6EAD-4C0D-A96A-79FD9E1C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3922-8E52-4D91-A5FD-CE9597380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A0B26-C46B-4788-AC41-452D55E45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BBEC8-88BF-45B8-A90A-B1049B476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65D59-A9A6-4367-A2A4-7C6E0327C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CCBBF-9B1B-44A5-AA62-654B01B6C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CD0A9-BFFF-47E0-A15D-F943F9408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3DE7-54C9-4057-A9DE-F209DCD06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9FB6-B0D3-4955-A943-0B90CA72C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E86D-41EC-4B2E-B9F4-BC8E71926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3DDC-E14E-41C5-A838-F5E70EDD0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D9AE-B3DA-408F-B92C-EDF3C4865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80D7-60C6-41A2-B649-4DCE6B23E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7D9C-C908-4845-B8EA-B9A8F9C3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f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B891F-0232-4DA5-9C60-1FC1EF70A3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f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4B880-BAD2-4B7D-BA6D-F0FA56E2CE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f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Bookman Old Style"/>
              </a:rPr>
              <a:t>СОЦИАЛЬНЫЕ ПРАКТИКИ КАК ОБРАЗОВАТЕЛЬНЫЙ И ВОСПИТАТЕЛЬНЫЙ РЕСУРС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61928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Т.П. Булыгина, методис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ЦДТ г.Саяногор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f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«…использовать в образовательном процессе различные формы социальных практик как одного из основных средств, способствующих самоопределению старшеклассника и приобретению им социальных компетенций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нцепция модернизации содерж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щего образо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f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Социальная практика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ид практики, в ходе которой конкретно-исторический субъект, используя общественные институты, организации и учреждения, воздействуя на систему общественных отношений, изменяет общество и развивается са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f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циальная практика в учреждениях Д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оуправл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ревнование; – соотнесение собственных результатов с результатами других, рейтинг (наш Лучший воспитанник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лонтерская деятельность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ллектуальное творчество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фессионально-ролевая деятельность;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доровьесбереж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f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Социальная практика помогает школьнику :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идеть социальные проблем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знакомиться с различными способами делового обще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нять взаимодействие между представителями власти и общественност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обрести опыт поиска рабочего места и навык работы с документаци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учиться кооперироваться с другими людьми и делать совместное дело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пределять цели, средства осуществления и результаты своего социального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f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циальная практи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то образовательная деятельность, направленная на развитие социальной компетентности, социальных навыков, формирование и отработку индивидуальной модели социального поведения, получение опыта социального действ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25T03:42:59Z</dcterms:created>
  <dc:creator>1</dc:creator>
  <dc:description/>
  <dc:language>en-US</dc:language>
  <cp:lastModifiedBy>1</cp:lastModifiedBy>
  <dcterms:modified xsi:type="dcterms:W3CDTF">2017-10-25T11:49:02Z</dcterms:modified>
  <cp:revision>3</cp:revision>
  <dc:subject/>
  <dc:title>СОЦИАЛЬНЫЕ ПРАКТИКИ КАК ОБРАЗОВАТЕЛЬНЫЙ И ВОСПИТАТЕЛЬНЫЙ РЕСУРС</dc:title>
</cp:coreProperties>
</file>