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3C9-9C7B-4994-B805-55131BEF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F5B-D04D-467F-8F8F-88F56CA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064-F582-4440-88D0-88E6AABB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823-83F0-4AC4-813B-48F16546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60AE-D891-4607-9CE8-B19BF897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CA1-9664-492A-85F5-80C588F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AF17-828A-4490-9AE6-9AFDA8E3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FB6E-6F0C-403A-A7F0-5DAAB9AD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001E-9269-47D8-9326-51222E94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DB53-AC6F-4704-B33F-5990370D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0FAA-EDAE-4DEF-A659-49DE059E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817-0045-4860-9C79-539CB02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D06-6C42-4536-8E18-42D3EF5F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30C4-B6EA-4891-BDF4-6F245AA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1BB3-5F01-429C-8ECA-212B6010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D45C-84A6-4865-AF3D-C574FB30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AE60-EE17-4E5D-95C5-721AA0A4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096-CE8A-43E7-8112-D44F8500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206-4508-4B4D-A5EA-0316C8DA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AF4-64AC-4EC2-B47E-0BD7972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BE8-EE6A-4A98-BFAF-BA1C04C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F6A-C83C-4233-A53A-A3DAE38B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4F9-F4FE-4008-9856-364D43B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991-3B91-48D6-BDB9-DB7F253C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DE72-8269-43A4-8293-6DB5A8235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FEAC-FEDC-4271-ADC6-7F57B4F53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Bookman Old Style"/>
              </a:rPr>
              <a:t>СОЦИАЛЬНЫЕ ПРАКТИКИ КАК ОБРАЗОВАТЕЛЬНЫЙ И ВОСПИТАТЕЛЬНЫЙ РЕСУР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19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.П. Булыгина, методи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ЦДТ г.Саяно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«…использовать в образовательном процессе различные формы социальных практик как одного из основных средств, способствующих самоопределению старшеклассника и приобретению им социальных компетенц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пция модернизации содерж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9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оциальная практик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 практики, в ходе которой конкретно-исторический субъект, используя общественные институты, организации и учреждения, воздействуя на систему общественных отношений, изменяет общество и развивается 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практика в учреждениях 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правл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евнование; – соотнесение собственных результатов с результатами других, рейтинг (наш Лучший воспитанник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онтерская деятель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уальное творч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о-ролевая деятельность;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ьесбере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альная практика помогает школьнику :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еть социальные пробл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ся с различными способами делового общ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ь взаимодействие между представителями власти и обществ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брести опыт поиска рабочего места и навык работы с документ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иться кооперироваться с другими людьми и делать совместное дел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ять цели, средства осуществления и результаты своего социального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альная прак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разовательная деятельность, направленная на развитие социальной компетентности, социальных навыков, формирование и отработку индивидуальной модели социального поведения, получение опыта социального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3:42:59Z</dcterms:created>
  <dc:creator>1</dc:creator>
  <dc:description/>
  <dc:language>en-US</dc:language>
  <cp:lastModifiedBy>1</cp:lastModifiedBy>
  <dcterms:modified xsi:type="dcterms:W3CDTF">2017-10-25T11:49:02Z</dcterms:modified>
  <cp:revision>3</cp:revision>
  <dc:subject/>
  <dc:title>СОЦИАЛЬНЫЕ ПРАКТИКИ КАК ОБРАЗОВАТЕЛЬНЫЙ И ВОСПИТАТЕЛЬНЫЙ РЕСУРС</dc:title>
</cp:coreProperties>
</file>