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61108-271A-4585-ABF2-B59EA789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D9F16-DACA-4310-BFCA-DEC7167C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59222-BE0B-4E53-858C-BB9C584AE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7F909-4AC9-4E0D-A7CD-29CE61B0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FF0E-CE28-40A2-874C-27592A607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F60C-3479-4A65-A371-FF306CE0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D714-6671-4869-AC2E-6E230954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8B67-DF13-4617-BB69-A6D11353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74CB-953D-4A8B-B739-A02DCBD2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1920-9463-4BFE-B73A-185FBDCD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53F6-E7F7-4DE2-AA6D-39CC5646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CAFAD-85D4-426E-8C47-DDE6F789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5A79-088A-4857-8538-0EEE6767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9615-1A40-4980-9AF3-81004C46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8F4B-383C-449F-AD08-268AF878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66B5-70FB-4E34-9AED-E3095BC0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D067-C6C0-4D15-AB01-13268FE4C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CF46B-DE44-43E8-904F-82379B5F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B9377-BA88-4672-8D2A-CF399A10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E85FA-6688-421E-B8D8-894E1E8F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E6F0A-B826-4110-B9E7-42ED5E18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58435-760D-4787-91D6-E44E1409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BFFCC-3373-4B57-BBD4-21D8E25C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7341D-EDC7-4C39-8F81-A6BF3C50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C498-1E09-43FF-9D01-16BAC7CA9BF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28E6-1898-44FE-A547-576D287EDCD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bf25a"/>
                </a:solidFill>
                <a:latin typeface="Tahoma"/>
              </a:rPr>
              <a:t>Стыд и совесть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лкова Надежда Григорьевна, учитель биологии МКОУ СОШ № 251 ГО ЗАТО город Фокино Приморского кр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   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ль: уточнить значение таких нравственных категорий, как совесть, стыд, раскаяние; формировать умение критически относиться к себе, давать честную оценку своих поступков; учиться искать  высокие нравственные идеал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bf25a"/>
                </a:solidFill>
                <a:latin typeface="Tahoma"/>
              </a:rPr>
              <a:t>Стыд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ознание вины за свой поступок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bf25a"/>
                </a:solidFill>
                <a:latin typeface="Tahoma"/>
              </a:rPr>
              <a:t>Совесть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ш внутренний судь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ОСЛОВИЦЫ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ни мудри, а совести не перемудриш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весть без зубов загрызё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 человека утаишь , от совести не утаиш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учш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ить бедняком, чем разбогатеть со грех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да как оса , - лезет в глаз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прос – тест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ставьте себе, что вы совершили очень плохой поступок. За это учитель может вызвать родителей, а может просто при всём классе сказать: «Ни стыда ,ни совести у тебя нет!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вы думаете ,что страшне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несметном нашем богатств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ова драгоценные ест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ечество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нос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ратств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есть ещё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ес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ександр  Яши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bf25a"/>
                </a:solidFill>
                <a:latin typeface="Tahoma"/>
              </a:rPr>
              <a:t>Совесть – внутреннее сознание добра и зла, « тайник души», в котором отзывается одобрение или осуждение каждого поступка, способность распознавать качество поступ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bf25a"/>
                </a:solidFill>
                <a:latin typeface="Tahoma"/>
              </a:rPr>
              <a:t>                     </a:t>
            </a:r>
            <a:r>
              <a:rPr b="1" i="1" lang="ru-RU" sz="2800" spc="-1" strike="noStrike">
                <a:solidFill>
                  <a:srgbClr val="ebf25a"/>
                </a:solidFill>
                <a:latin typeface="Tahoma"/>
              </a:rPr>
              <a:t>Ожег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bf25a"/>
                </a:solidFill>
                <a:latin typeface="Tahoma"/>
              </a:rPr>
              <a:t>  </a:t>
            </a:r>
            <a:r>
              <a:rPr b="1" i="1" lang="ru-RU" sz="2800" spc="-1" strike="noStrike">
                <a:solidFill>
                  <a:srgbClr val="ebf25a"/>
                </a:solidFill>
                <a:latin typeface="Tahoma"/>
              </a:rPr>
              <a:t>Стыд – это чувство сильного смущения, самоосуждения от сознания предосудительности поступка, ви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Люди говорят: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Грызёт совесть», «мучает совесть», «совесть спать не даёт», «угрызения совести» , «совесть заговорила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чень хорошо , когда что – то делаешь «со спокойной совестью», с «чистой совестью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Чего нужно стыдиться?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физические недостат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некрасивые поступ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поношенная, но аккуратная одежд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старомодная одежд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неряшливый вид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твоё «простое» происхожде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невежество, необразованность, безграмотность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непрестижная работа родител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вульгарная внешность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грубое, бездушное отношение к людя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рг</cp:lastModifiedBy>
  <dcterms:modified xsi:type="dcterms:W3CDTF">2019-05-30T06:31:0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