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F8772-EABC-4861-A7AD-348D117A1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48CA7-AA00-415B-B8A1-310D0A8EB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21068-8986-4B66-94BD-302FC03C0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246C5-A74F-4CF8-BD77-B79ED1097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18697-6BD1-468F-9CE3-7E95E4F55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7D196-1658-456E-AD96-8829277BF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3C6BE-C55E-447E-9C9C-F1F1FAA84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18699-A54F-4C82-A6AC-BCE34FCC3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5B972-B13A-42A4-BF4C-172191B6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AE119-EE2F-4682-AEF4-5BF0D6CE2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12273-6CEE-47A5-8F5A-4F6BB7EC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15B01-0F5B-4B47-91A2-95254340A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770AC-AF61-432A-B5A9-73EB526D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FBC5E-BD9E-4D9A-9F4F-10BECD6B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15CA0-727A-45B8-966F-2E4EAD820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39709-C7F7-4C70-B9DC-56F90DDFD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B6388-FDFF-4FAA-86EA-BFEDFCC2E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4BBAC-3EEA-4851-8773-F8931CC31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18E4E-291B-45EC-B59D-7D07D2D63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2CCAA-9A5F-44CB-929A-728D3B342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CF271-AA62-4B9E-B2B5-A653ADECC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1622C-7ADC-4879-BE9A-48CBFBDA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49F9A-784F-4DC9-871F-D09321C3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AFBC5-C06B-440F-877C-293E36603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7DDB1-7FA6-4827-A055-4E1C19F9CC3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53121-D114-4B0A-9B12-A3DBA98F98B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ebf25a"/>
                </a:solidFill>
                <a:latin typeface="Tahoma"/>
              </a:rPr>
              <a:t>Стыд и совесть.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41907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лкова Надежда Григорьевна, учитель биологии МКОУ СОШ № 251 ГО ЗАТО город Фокино Приморского кр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   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ель: уточнить значение таких нравственных категорий, как совесть, стыд, раскаяние; формировать умение критически относиться к себе, давать честную оценку своих поступков; учиться искать  высокие нравственные идеал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bf25a"/>
                </a:solidFill>
                <a:latin typeface="Tahoma"/>
              </a:rPr>
              <a:t>Стыд –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ознание вины за свой поступок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bf25a"/>
                </a:solidFill>
                <a:latin typeface="Tahoma"/>
              </a:rPr>
              <a:t>Совесть –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ш внутренний судь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ПОСЛОВИЦЫ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ни мудри, а совести не перемудриш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весть без зубов загрызё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 человека утаишь , от совести не утаиш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учше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жить бедняком, чем разбогатеть со грех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авда как оса , - лезет в глаз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опрос – тест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дставьте себе, что вы совершили очень плохой поступок. За это учитель может вызвать родителей, а может просто при всём классе сказать: «Ни стыда ,ни совести у тебя нет!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вы думаете ,что страшне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несметном нашем богатств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лова драгоценные есть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ечество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рност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ратств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 есть ещё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вест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ес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лександр  Яши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bf25a"/>
                </a:solidFill>
                <a:latin typeface="Tahoma"/>
              </a:rPr>
              <a:t>Совесть – внутреннее сознание добра и зла, « тайник души», в котором отзывается одобрение или осуждение каждого поступка, способность распознавать качество поступ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bf25a"/>
                </a:solidFill>
                <a:latin typeface="Tahoma"/>
              </a:rPr>
              <a:t>                     </a:t>
            </a:r>
            <a:r>
              <a:rPr b="1" i="1" lang="ru-RU" sz="2800" spc="-1" strike="noStrike">
                <a:solidFill>
                  <a:srgbClr val="ebf25a"/>
                </a:solidFill>
                <a:latin typeface="Tahoma"/>
              </a:rPr>
              <a:t>Ожег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bf25a"/>
                </a:solidFill>
                <a:latin typeface="Tahoma"/>
              </a:rPr>
              <a:t>  </a:t>
            </a:r>
            <a:r>
              <a:rPr b="1" i="1" lang="ru-RU" sz="2800" spc="-1" strike="noStrike">
                <a:solidFill>
                  <a:srgbClr val="ebf25a"/>
                </a:solidFill>
                <a:latin typeface="Tahoma"/>
              </a:rPr>
              <a:t>Стыд – это чувство сильного смущения, самоосуждения от сознания предосудительности поступка, вин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Tahoma"/>
              </a:rPr>
              <a:t>Люди говорят: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Грызёт совесть», «мучает совесть», «совесть спать не даёт», «угрызения совести» , «совесть заговорила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чень хорошо , когда что – то делаешь «со спокойной совестью», с «чистой совестью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Чего нужно стыдиться?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физические недостатк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некрасивые поступк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поношенная, но аккуратная одежд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старомодная одежд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неряшливый вид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твоё «простое» происхождени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невежество, необразованность, безграмотность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непрестижная работа родителе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вульгарная внешность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грубое, бездушное отношение к людя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рг</cp:lastModifiedBy>
  <dcterms:modified xsi:type="dcterms:W3CDTF">2019-05-30T06:31:05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