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8B1-36DE-4013-9889-99109116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F94-349E-44BC-A3DF-A8A83CF5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DD7-1A8F-46FB-A422-19039854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E49-9BD1-4979-A3BB-1CB76783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999-397C-4674-8136-2D6BFBDC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FF2-0F60-418D-9222-1143CB8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FE7-12DC-4AA7-83CE-55905A03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472-A1BD-4BC0-B042-B7700564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96A-D21A-4BC2-BDF6-C54BF5EB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E1C-C125-41FD-9EB6-2DFDFB3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9E7-5D76-494E-A682-A3AD97E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D18-3DA0-4FEE-A4B8-C256D8E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93A2-9835-4EBB-95B8-BD050658EE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37044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453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 would like to present of the United Kingdom of Great Britain and Northern Ireland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4"/>
          <p:cNvSpPr txBox="1"/>
          <p:nvPr/>
        </p:nvSpPr>
        <p:spPr>
          <a:xfrm rot="19708200">
            <a:off x="5815080" y="5027400"/>
            <a:ext cx="3300480" cy="104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6450000"/>
                </a:gradFill>
                <a:latin typeface="Brush Script MT"/>
              </a:rPr>
              <a:t>Engl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6450000"/>
              </a:gradFill>
              <a:latin typeface="Brush Script MT"/>
              <a:ea typeface="Brush Script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324000" y="4797360"/>
            <a:ext cx="352728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Bodoni MT Condensed"/>
              </a:rPr>
              <a:t>Wal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Bodoni MT Condensed"/>
              <a:ea typeface="Bodoni MT Condensed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4859280" y="189000"/>
            <a:ext cx="37242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87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Northern Ireland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Majesty the Queen of Great Britain and  her family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Рисунок 14" descr="C:\Users\Анастасия\Desktop\955fe109c7b6.jpg"/>
          <p:cNvPicPr/>
          <p:nvPr/>
        </p:nvPicPr>
        <p:blipFill>
          <a:blip r:embed="rId1"/>
          <a:stretch/>
        </p:blipFill>
        <p:spPr>
          <a:xfrm>
            <a:off x="1428840" y="1428840"/>
            <a:ext cx="685008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ondon5"/>
          <p:cNvPicPr/>
          <p:nvPr/>
        </p:nvPicPr>
        <p:blipFill>
          <a:blip r:embed="rId1"/>
          <a:stretch/>
        </p:blipFill>
        <p:spPr>
          <a:xfrm>
            <a:off x="4859280" y="765000"/>
            <a:ext cx="4284720" cy="3706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6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ondon is the capital of  Great Britain.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Picture 6" descr="engl_4"/>
          <p:cNvPicPr/>
          <p:nvPr/>
        </p:nvPicPr>
        <p:blipFill>
          <a:blip r:embed="rId2"/>
          <a:stretch/>
        </p:blipFill>
        <p:spPr>
          <a:xfrm>
            <a:off x="0" y="1692360"/>
            <a:ext cx="5041800" cy="51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_19609508"/>
          <p:cNvPicPr/>
          <p:nvPr/>
        </p:nvPicPr>
        <p:blipFill>
          <a:blip r:embed="rId1"/>
          <a:stretch/>
        </p:blipFill>
        <p:spPr>
          <a:xfrm>
            <a:off x="0" y="0"/>
            <a:ext cx="9074160" cy="378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12307018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1175157018_5"/>
          <p:cNvPicPr/>
          <p:nvPr/>
        </p:nvPicPr>
        <p:blipFill>
          <a:blip r:embed="rId1"/>
          <a:stretch/>
        </p:blipFill>
        <p:spPr>
          <a:xfrm>
            <a:off x="3564000" y="22860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6553080" cy="2374920"/>
          </a:xfrm>
          <a:prstGeom prst="rect">
            <a:avLst/>
          </a:prstGeom>
          <a:solidFill>
            <a:srgbClr val="468a4b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ig cities of the United Kingdom …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2" name="Picture 8" descr="42342819"/>
          <p:cNvPicPr/>
          <p:nvPr/>
        </p:nvPicPr>
        <p:blipFill>
          <a:blip r:embed="rId2"/>
          <a:stretch/>
        </p:blipFill>
        <p:spPr>
          <a:xfrm rot="21223800">
            <a:off x="250560" y="3789360"/>
            <a:ext cx="3744720" cy="287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_15237951"/>
          <p:cNvPicPr/>
          <p:nvPr/>
        </p:nvPicPr>
        <p:blipFill>
          <a:blip r:embed="rId3"/>
          <a:stretch/>
        </p:blipFill>
        <p:spPr>
          <a:xfrm rot="204000">
            <a:off x="5292360" y="4220640"/>
            <a:ext cx="3708360" cy="24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irmingham-city-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60480" y="-360"/>
            <a:ext cx="5483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Birmingham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25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radisson-sas-birmingham-birmingham_030320091500255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0"/>
            <a:ext cx="52671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Liverpool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astle-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1423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dinburgh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81342613"/>
          <p:cNvPicPr/>
          <p:nvPr/>
        </p:nvPicPr>
        <p:blipFill>
          <a:blip r:embed="rId1"/>
          <a:stretch/>
        </p:blipFill>
        <p:spPr>
          <a:xfrm>
            <a:off x="1238400" y="1916280"/>
            <a:ext cx="7365960" cy="3736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903600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The United Kingdom of Great Britain and Northern Ireland (commonly known as the United Kingdom, the UK, or Britain) is a sovereign state located off the Northwestern of Euro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5670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t is an island nation, spanning an archipelago including Great Britain, the northeastern part of the island of Ireland, and many smaller islands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175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175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_my_photographs_edinburgh_-_castle_and_new_town_1zm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Newcastle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n Great Britain many beautiful places and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sigh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Рисунок 4" descr="C:\Users\Анастасия\Desktop\25088_800_600.jpg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42920" y="980640"/>
            <a:ext cx="4211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omic Sans MS"/>
              </a:rPr>
              <a:t>Big Ben</a:t>
            </a:r>
            <a:br>
              <a:rPr sz="6600"/>
            </a:b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ower bridge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826200" y="476280"/>
            <a:ext cx="764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estminster 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bb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419280" y="0"/>
            <a:ext cx="52671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London Eye</a:t>
            </a:r>
            <a:endParaRPr b="0" lang="en-US" sz="7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1283873142_normal_888810001"/>
          <p:cNvPicPr/>
          <p:nvPr/>
        </p:nvPicPr>
        <p:blipFill>
          <a:blip r:embed="rId1"/>
          <a:stretch/>
        </p:blipFill>
        <p:spPr>
          <a:xfrm>
            <a:off x="0" y="2133720"/>
            <a:ext cx="352440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5640" y="1267920"/>
            <a:ext cx="77612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Thanks fo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oodb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550a396d73c7t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66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reat Britain occupies the territory of 244 thousand sq km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nspi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0920" y="5229360"/>
            <a:ext cx="6193080" cy="1628640"/>
          </a:xfrm>
          <a:prstGeom prst="rect">
            <a:avLst/>
          </a:prstGeom>
          <a:solidFill>
            <a:srgbClr val="33ccff">
              <a:alpha val="62000"/>
            </a:srgbClr>
          </a:solidFill>
          <a:ln w="9360">
            <a:solidFill>
              <a:srgbClr val="3366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pulation i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eat Britain is 59 million people.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PBCAsqaIkyirh6vtRg7gGMIo1_500"/>
          <p:cNvPicPr/>
          <p:nvPr/>
        </p:nvPicPr>
        <p:blipFill>
          <a:blip r:embed="rId1"/>
          <a:stretch/>
        </p:blipFill>
        <p:spPr>
          <a:xfrm>
            <a:off x="3419640" y="3324240"/>
            <a:ext cx="5483160" cy="353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writing"/>
          <p:cNvPicPr/>
          <p:nvPr/>
        </p:nvPicPr>
        <p:blipFill>
          <a:blip r:embed="rId2"/>
          <a:stretch/>
        </p:blipFill>
        <p:spPr>
          <a:xfrm>
            <a:off x="0" y="189000"/>
            <a:ext cx="5183280" cy="3875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76720" y="404280"/>
            <a:ext cx="406728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is the official language of the UK. Great Britain is one of five English speaking count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lingva"/>
          <p:cNvPicPr/>
          <p:nvPr/>
        </p:nvPicPr>
        <p:blipFill>
          <a:blip r:embed="rId1"/>
          <a:stretch/>
        </p:blipFill>
        <p:spPr>
          <a:xfrm rot="335400">
            <a:off x="5003280" y="178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46818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flag of Great Britain has the name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"the Union Jack". Consists of many crosses on a dark blue background. It means association under the power of Great Britain many reg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big_union_jack"/>
          <p:cNvPicPr/>
          <p:nvPr/>
        </p:nvPicPr>
        <p:blipFill>
          <a:blip r:embed="rId2"/>
          <a:stretch/>
        </p:blipFill>
        <p:spPr>
          <a:xfrm rot="253800">
            <a:off x="178920" y="3860640"/>
            <a:ext cx="4824360" cy="283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stle_large"/>
          <p:cNvPicPr/>
          <p:nvPr/>
        </p:nvPicPr>
        <p:blipFill>
          <a:blip r:embed="rId3"/>
          <a:stretch/>
        </p:blipFill>
        <p:spPr>
          <a:xfrm rot="21158400">
            <a:off x="5143680" y="4000320"/>
            <a:ext cx="3817800" cy="26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75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625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625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Великобритания"/>
          <p:cNvPicPr/>
          <p:nvPr/>
        </p:nvPicPr>
        <p:blipFill>
          <a:blip r:embed="rId1"/>
          <a:stretch/>
        </p:blipFill>
        <p:spPr>
          <a:xfrm rot="361800">
            <a:off x="3995280" y="549360"/>
            <a:ext cx="4945320" cy="356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283873212_x_d6d1f600"/>
          <p:cNvPicPr/>
          <p:nvPr/>
        </p:nvPicPr>
        <p:blipFill>
          <a:blip r:embed="rId2"/>
          <a:stretch/>
        </p:blipFill>
        <p:spPr>
          <a:xfrm rot="21090000">
            <a:off x="395280" y="2923920"/>
            <a:ext cx="5113440" cy="3435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508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rect wide cross - a symbol of England . The white slanting cross - symbolizes Scotland . The dark blue background too was earlier on a flag of Scotland, but here it is more dark. A red slanting cross - a symbol of Irelan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reat Britain is divided at the 4 his topic parts 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5148360" cy="544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00680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1042920" y="5445000"/>
            <a:ext cx="32925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ell MT"/>
              </a:rPr>
              <a:t>Scotlan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ell MT"/>
              <a:ea typeface="Bell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0:41:57Z</dcterms:created>
  <dc:creator>User</dc:creator>
  <dc:description/>
  <dc:language>en-US</dc:language>
  <cp:lastModifiedBy>User</cp:lastModifiedBy>
  <dcterms:modified xsi:type="dcterms:W3CDTF">2019-05-30T14:26:40Z</dcterms:modified>
  <cp:revision>13</cp:revision>
  <dc:subject/>
  <dc:title>Слайд 1</dc:title>
</cp:coreProperties>
</file>