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9E5-2B30-4FFB-AA07-C5EE2316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4F98-CEFE-477E-85FF-97D8F9DB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A95-7F62-4049-A798-41F9FD25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7A89-CDE8-4103-ACCB-3A116A79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0B5C-48BF-4F62-A2CC-4C55E840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42C6-331E-4AE3-9E2A-F102024F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6F4F-8C6F-4933-9F91-D5A00161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1497-729B-49EF-9967-B817308B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710E-1ABB-4216-B553-7412297C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CC7E-52D4-4D63-A6BC-488244BD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8CFB-8778-4110-B09D-904C947E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98F7-050F-4397-9AC6-EEC9F001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F7F9-51B0-4E28-B144-7102A021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D9BB-BABE-4FC4-A2DB-F697976E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C6ED-9873-45A3-93F1-E54CDCC1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BBD0-B7BE-4ED8-AECB-5185FDF7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8864-A9DA-4754-B6E0-88B68C7E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02E8-60E5-4BFB-B5BC-AA6EBC7B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62EB-4682-4994-BF81-054CCD1E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9673-FC42-4005-8AB6-78C9D917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DAB-94E7-4026-8E70-34642E2B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B78E-3993-4278-A880-8E17C962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3C3-0CE0-47E4-B068-458C3A5D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8891-8144-4BAD-956F-8B48F525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DAE1-25F3-4B93-8CA0-BCBB41C4399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203040" y="6388200"/>
            <a:ext cx="533520" cy="279360"/>
          </a:xfrm>
          <a:custGeom>
            <a:avLst/>
            <a:gdLst>
              <a:gd name="textAreaLeft" fmla="*/ 18000 w 533520"/>
              <a:gd name="textAreaRight" fmla="*/ 515520 w 5335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41226" h="21600">
                <a:moveTo>
                  <a:pt x="0" y="0"/>
                </a:moveTo>
                <a:lnTo>
                  <a:pt x="41226" y="0"/>
                </a:lnTo>
                <a:lnTo>
                  <a:pt x="41226" y="21600"/>
                </a:lnTo>
                <a:lnTo>
                  <a:pt x="0" y="21600"/>
                </a:lnTo>
                <a:close/>
              </a:path>
              <a:path fill="lightenLess" w="41226" h="21600">
                <a:moveTo>
                  <a:pt x="0" y="0"/>
                </a:moveTo>
                <a:lnTo>
                  <a:pt x="41226" y="0"/>
                </a:lnTo>
                <a:lnTo>
                  <a:pt x="39826" y="1400"/>
                </a:lnTo>
                <a:lnTo>
                  <a:pt x="1400" y="1400"/>
                </a:lnTo>
                <a:close/>
              </a:path>
              <a:path fill="darken" w="41226" h="21600">
                <a:moveTo>
                  <a:pt x="41226" y="0"/>
                </a:moveTo>
                <a:lnTo>
                  <a:pt x="41226" y="21600"/>
                </a:lnTo>
                <a:lnTo>
                  <a:pt x="39826" y="20200"/>
                </a:lnTo>
                <a:lnTo>
                  <a:pt x="39826" y="1400"/>
                </a:lnTo>
                <a:close/>
              </a:path>
              <a:path fill="darkenLess" w="41226" h="21600">
                <a:moveTo>
                  <a:pt x="41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6" y="20200"/>
                </a:lnTo>
                <a:close/>
              </a:path>
              <a:path fill="lighten" w="41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6" h="21600">
                <a:moveTo>
                  <a:pt x="13607" y="10800"/>
                </a:moveTo>
                <a:lnTo>
                  <a:pt x="27620" y="3794"/>
                </a:lnTo>
                <a:lnTo>
                  <a:pt x="27620" y="17806"/>
                </a:lnTo>
                <a:close/>
              </a:path>
            </a:pathLst>
          </a:cu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787320" y="6388200"/>
            <a:ext cx="533520" cy="279360"/>
          </a:xfrm>
          <a:custGeom>
            <a:avLst/>
            <a:gdLst>
              <a:gd name="textAreaLeft" fmla="*/ 18000 w 533520"/>
              <a:gd name="textAreaRight" fmla="*/ 515520 w 5335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41226" h="21600">
                <a:moveTo>
                  <a:pt x="0" y="0"/>
                </a:moveTo>
                <a:lnTo>
                  <a:pt x="41226" y="0"/>
                </a:lnTo>
                <a:lnTo>
                  <a:pt x="41226" y="21600"/>
                </a:lnTo>
                <a:lnTo>
                  <a:pt x="0" y="21600"/>
                </a:lnTo>
                <a:close/>
              </a:path>
              <a:path fill="lightenLess" w="41226" h="21600">
                <a:moveTo>
                  <a:pt x="0" y="0"/>
                </a:moveTo>
                <a:lnTo>
                  <a:pt x="41226" y="0"/>
                </a:lnTo>
                <a:lnTo>
                  <a:pt x="39826" y="1400"/>
                </a:lnTo>
                <a:lnTo>
                  <a:pt x="1400" y="1400"/>
                </a:lnTo>
                <a:close/>
              </a:path>
              <a:path fill="darken" w="41226" h="21600">
                <a:moveTo>
                  <a:pt x="41226" y="0"/>
                </a:moveTo>
                <a:lnTo>
                  <a:pt x="41226" y="21600"/>
                </a:lnTo>
                <a:lnTo>
                  <a:pt x="39826" y="20200"/>
                </a:lnTo>
                <a:lnTo>
                  <a:pt x="39826" y="1400"/>
                </a:lnTo>
                <a:close/>
              </a:path>
              <a:path fill="darkenLess" w="41226" h="21600">
                <a:moveTo>
                  <a:pt x="41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6" y="20200"/>
                </a:lnTo>
                <a:close/>
              </a:path>
              <a:path fill="lighten" w="41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6" h="21600">
                <a:moveTo>
                  <a:pt x="13607" y="3794"/>
                </a:moveTo>
                <a:lnTo>
                  <a:pt x="27620" y="10800"/>
                </a:lnTo>
                <a:lnTo>
                  <a:pt x="13607" y="17806"/>
                </a:lnTo>
                <a:close/>
              </a:path>
            </a:pathLst>
          </a:cu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6769080" y="6362640"/>
            <a:ext cx="2133720" cy="330120"/>
          </a:xfrm>
          <a:custGeom>
            <a:avLst/>
            <a:gdLst>
              <a:gd name="textAreaLeft" fmla="*/ 21240 w 2133720"/>
              <a:gd name="textAreaRight" fmla="*/ 2112480 w 213372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139482" h="21600">
                <a:moveTo>
                  <a:pt x="0" y="0"/>
                </a:moveTo>
                <a:lnTo>
                  <a:pt x="139482" y="0"/>
                </a:lnTo>
                <a:lnTo>
                  <a:pt x="139482" y="21600"/>
                </a:lnTo>
                <a:lnTo>
                  <a:pt x="0" y="21600"/>
                </a:lnTo>
                <a:close/>
              </a:path>
              <a:path fill="lightenLess" w="139482" h="21600">
                <a:moveTo>
                  <a:pt x="0" y="0"/>
                </a:moveTo>
                <a:lnTo>
                  <a:pt x="139482" y="0"/>
                </a:lnTo>
                <a:lnTo>
                  <a:pt x="138082" y="1400"/>
                </a:lnTo>
                <a:lnTo>
                  <a:pt x="1400" y="1400"/>
                </a:lnTo>
                <a:close/>
              </a:path>
              <a:path fill="darken" w="139482" h="21600">
                <a:moveTo>
                  <a:pt x="139482" y="0"/>
                </a:moveTo>
                <a:lnTo>
                  <a:pt x="139482" y="21600"/>
                </a:lnTo>
                <a:lnTo>
                  <a:pt x="138082" y="20200"/>
                </a:lnTo>
                <a:lnTo>
                  <a:pt x="138082" y="1400"/>
                </a:lnTo>
                <a:close/>
              </a:path>
              <a:path fill="darkenLess" w="139482" h="21600">
                <a:moveTo>
                  <a:pt x="1394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082" y="20200"/>
                </a:lnTo>
                <a:close/>
              </a:path>
              <a:path fill="lighten" w="1394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содержание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7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7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0197-7516-411C-BA17-FC4A6FDAC3A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ahoma"/>
              </a:rPr>
              <a:t>Click to edit the outline text format</a:t>
            </a: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&#1082;&#1086;&#1090;&#1072;&#1085;&#1075;&#1077;&#1085;...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2.png"/><Relationship Id="rId6" Type="http://schemas.openxmlformats.org/officeDocument/2006/relationships/slide" Target="slide9.xml"/><Relationship Id="rId7" Type="http://schemas.openxmlformats.org/officeDocument/2006/relationships/image" Target="../media/image2.png"/><Relationship Id="rId8" Type="http://schemas.openxmlformats.org/officeDocument/2006/relationships/slide" Target="slide10.xml"/><Relationship Id="rId9" Type="http://schemas.openxmlformats.org/officeDocument/2006/relationships/image" Target="../media/image2.png"/><Relationship Id="rId10" Type="http://schemas.openxmlformats.org/officeDocument/2006/relationships/slide" Target="slide11.xml"/><Relationship Id="rId11" Type="http://schemas.openxmlformats.org/officeDocument/2006/relationships/image" Target="../media/image2.png"/><Relationship Id="rId12" Type="http://schemas.openxmlformats.org/officeDocument/2006/relationships/slide" Target="slide13.xml"/><Relationship Id="rId13" Type="http://schemas.openxmlformats.org/officeDocument/2006/relationships/image" Target="../media/image2.png"/><Relationship Id="rId14" Type="http://schemas.openxmlformats.org/officeDocument/2006/relationships/slide" Target="slide14.xml"/><Relationship Id="rId15" Type="http://schemas.openxmlformats.org/officeDocument/2006/relationships/slide" Target="slide14.xml"/><Relationship Id="rId16" Type="http://schemas.openxmlformats.org/officeDocument/2006/relationships/image" Target="../media/image2.png"/><Relationship Id="rId17" Type="http://schemas.openxmlformats.org/officeDocument/2006/relationships/slide" Target="slide16.xml"/><Relationship Id="rId18" Type="http://schemas.openxmlformats.org/officeDocument/2006/relationships/image" Target="../media/image2.png"/><Relationship Id="rId19" Type="http://schemas.openxmlformats.org/officeDocument/2006/relationships/slide" Target="slide17.xml"/><Relationship Id="rId20" Type="http://schemas.openxmlformats.org/officeDocument/2006/relationships/slide" Target="slide17.xml"/><Relationship Id="rId21" Type="http://schemas.openxmlformats.org/officeDocument/2006/relationships/slide" Target="slide13.xml"/><Relationship Id="rId2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ahoma"/>
              </a:rPr>
              <a:t>Преобразование тригонометрических выражений</a:t>
            </a:r>
            <a:endParaRPr b="1" i="1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ahoma"/>
              </a:rPr>
              <a:t>Формулы</a:t>
            </a: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ahoma"/>
              </a:rPr>
              <a:t>Тригонометрии</a:t>
            </a: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716360" y="3213000"/>
            <a:ext cx="323064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4360" y="3357720"/>
            <a:ext cx="5111640" cy="502920"/>
          </a:xfrm>
          <a:prstGeom prst="wedgeRectCallout">
            <a:avLst>
              <a:gd name="adj1" fmla="val 96212"/>
              <a:gd name="adj2" fmla="val -182175"/>
            </a:avLst>
          </a:prstGeom>
          <a:gradFill rotWithShape="0">
            <a:gsLst>
              <a:gs pos="0">
                <a:srgbClr val="ffcffe"/>
              </a:gs>
              <a:gs pos="50000">
                <a:srgbClr val="ffffff"/>
              </a:gs>
              <a:gs pos="100000">
                <a:srgbClr val="ffcf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Формулы приведения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372360" y="4581360"/>
                <a:ext cx="10332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±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51" name=""/>
          <p:cNvGrpSpPr/>
          <p:nvPr/>
        </p:nvGrpSpPr>
        <p:grpSpPr>
          <a:xfrm>
            <a:off x="5580000" y="1052640"/>
            <a:ext cx="2944800" cy="2952360"/>
            <a:chOff x="5580000" y="1052640"/>
            <a:chExt cx="2944800" cy="2952360"/>
          </a:xfrm>
        </p:grpSpPr>
        <p:sp>
          <p:nvSpPr>
            <p:cNvPr id="352" name=""/>
            <p:cNvSpPr/>
            <p:nvPr/>
          </p:nvSpPr>
          <p:spPr>
            <a:xfrm>
              <a:off x="5815800" y="1513800"/>
              <a:ext cx="2394000" cy="225828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80000" y="2640960"/>
              <a:ext cx="2944800" cy="108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017120" y="1146600"/>
              <a:ext cx="0" cy="28584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694200" y="1052640"/>
              <a:ext cx="23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280720" y="2574000"/>
              <a:ext cx="21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55400" y="2338200"/>
              <a:ext cx="2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40458c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280280" y="893880"/>
                <a:ext cx="361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7093080" y="3716280"/>
                <a:ext cx="517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8244000" y="2205000"/>
                <a:ext cx="46656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13320" y="2300400"/>
                <a:ext cx="3110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7596360" y="4581360"/>
                <a:ext cx="122364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±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755640" y="1628640"/>
            <a:ext cx="4032360" cy="1922760"/>
            <a:chOff x="755640" y="1628640"/>
            <a:chExt cx="4032360" cy="1922760"/>
          </a:xfrm>
        </p:grpSpPr>
        <p:sp>
          <p:nvSpPr>
            <p:cNvPr id="364" name=""/>
            <p:cNvSpPr/>
            <p:nvPr/>
          </p:nvSpPr>
          <p:spPr>
            <a:xfrm>
              <a:off x="755640" y="1628640"/>
              <a:ext cx="4032360" cy="1922760"/>
            </a:xfrm>
            <a:prstGeom prst="rect">
              <a:avLst/>
            </a:prstGeom>
            <a:gradFill rotWithShape="0">
              <a:gsLst>
                <a:gs pos="0">
                  <a:srgbClr val="e8eefe"/>
                </a:gs>
                <a:gs pos="50000">
                  <a:srgbClr val="ffffff"/>
                </a:gs>
                <a:gs pos="100000">
                  <a:srgbClr val="e8e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Определить знак функции в той четверти, которой принадлежит аргумент (угол      считаем </a:t>
              </a:r>
              <a:r>
                <a:rPr b="0" lang="ru-RU" sz="2400" spc="-1" strike="noStrike">
                  <a:solidFill>
                    <a:srgbClr val="ff0066"/>
                  </a:solidFill>
                  <a:latin typeface="Tahoma"/>
                </a:rPr>
                <a:t>острым</a:t>
              </a: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)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"/>
                <p:cNvSpPr txBox="1"/>
                <p:nvPr/>
              </p:nvSpPr>
              <p:spPr>
                <a:xfrm>
                  <a:off x="1692360" y="2852640"/>
                  <a:ext cx="3254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" name=""/>
          <p:cNvSpPr/>
          <p:nvPr/>
        </p:nvSpPr>
        <p:spPr>
          <a:xfrm>
            <a:off x="5753160" y="2565360"/>
            <a:ext cx="142920" cy="142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143920" y="2565360"/>
            <a:ext cx="142920" cy="142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48360" y="1441440"/>
            <a:ext cx="142920" cy="142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62760" y="3701880"/>
            <a:ext cx="142920" cy="14292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" y="3357720"/>
            <a:ext cx="5256000" cy="502920"/>
          </a:xfrm>
          <a:prstGeom prst="wedgeRectCallout">
            <a:avLst>
              <a:gd name="adj1" fmla="val 46648"/>
              <a:gd name="adj2" fmla="val -179337"/>
            </a:avLst>
          </a:prstGeom>
          <a:gradFill rotWithShape="0">
            <a:gsLst>
              <a:gs pos="0">
                <a:srgbClr val="ffcffe"/>
              </a:gs>
              <a:gs pos="50000">
                <a:srgbClr val="ffffff"/>
              </a:gs>
              <a:gs pos="100000">
                <a:srgbClr val="ffcf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«Горизонтальные» – «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спящи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» углы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4360" y="4005360"/>
            <a:ext cx="5256000" cy="358560"/>
          </a:xfrm>
          <a:prstGeom prst="wedgeRectCallout">
            <a:avLst>
              <a:gd name="adj1" fmla="val 69509"/>
              <a:gd name="adj2" fmla="val -102212"/>
            </a:avLst>
          </a:prstGeom>
          <a:gradFill rotWithShape="0">
            <a:gsLst>
              <a:gs pos="0">
                <a:srgbClr val="ffcffe"/>
              </a:gs>
              <a:gs pos="50000">
                <a:srgbClr val="ffffff"/>
              </a:gs>
              <a:gs pos="100000">
                <a:srgbClr val="ffcf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4360" y="4005360"/>
            <a:ext cx="5256000" cy="431640"/>
          </a:xfrm>
          <a:prstGeom prst="wedgeRectCallout">
            <a:avLst>
              <a:gd name="adj1" fmla="val 68180"/>
              <a:gd name="adj2" fmla="val -600365"/>
            </a:avLst>
          </a:prstGeom>
          <a:gradFill rotWithShape="0">
            <a:gsLst>
              <a:gs pos="0">
                <a:srgbClr val="ffcffe"/>
              </a:gs>
              <a:gs pos="50000">
                <a:srgbClr val="ffffff"/>
              </a:gs>
              <a:gs pos="100000">
                <a:srgbClr val="ffcf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«Вертикальные» – «</a:t>
            </a: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рабочи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» углы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4360" y="5229360"/>
            <a:ext cx="5184720" cy="101592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звание функции 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меняем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на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функцию, если аргумент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4581360"/>
            <a:ext cx="5688000" cy="82548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Не изменяем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функцию, если аргумент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524720" y="5300640"/>
                <a:ext cx="129528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6372360" y="5300640"/>
                <a:ext cx="1079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1619280" y="907920"/>
            <a:ext cx="2592360" cy="45972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«Правило»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826920" y="1557360"/>
                <a:ext cx="80647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484360" y="2133720"/>
                <a:ext cx="41086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55640" y="2708280"/>
                <a:ext cx="8064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2411280" y="3429000"/>
                <a:ext cx="4176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908000" y="4149720"/>
                <a:ext cx="5281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xtg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3492360" y="5229360"/>
                <a:ext cx="21067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Формулы двойного угла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268360" y="1773360"/>
                <a:ext cx="41767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859280" y="4565520"/>
                <a:ext cx="36147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755640" y="4581360"/>
                <a:ext cx="3581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971640" y="2997360"/>
                <a:ext cx="24494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6372360" y="2924280"/>
                <a:ext cx="24494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 rot="17998200">
            <a:off x="2628000" y="3285360"/>
            <a:ext cx="2232000" cy="360360"/>
          </a:xfrm>
          <a:prstGeom prst="leftArrow">
            <a:avLst>
              <a:gd name="adj1" fmla="val 50000"/>
              <a:gd name="adj2" fmla="val 154845"/>
            </a:avLst>
          </a:prstGeom>
          <a:solidFill>
            <a:srgbClr val="e8eefe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4762400">
            <a:off x="5220720" y="3283920"/>
            <a:ext cx="2087640" cy="360360"/>
          </a:xfrm>
          <a:prstGeom prst="leftArrow">
            <a:avLst>
              <a:gd name="adj1" fmla="val 50000"/>
              <a:gd name="adj2" fmla="val 144830"/>
            </a:avLst>
          </a:prstGeom>
          <a:solidFill>
            <a:srgbClr val="e8eefe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Формулы двойного угла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 rot="16200000">
            <a:off x="2412000" y="3054960"/>
            <a:ext cx="1368720" cy="360360"/>
          </a:xfrm>
          <a:prstGeom prst="leftArrow">
            <a:avLst>
              <a:gd name="adj1" fmla="val 50000"/>
              <a:gd name="adj2" fmla="val 94955"/>
            </a:avLst>
          </a:prstGeom>
          <a:solidFill>
            <a:srgbClr val="e8eefe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042920" y="4149720"/>
                <a:ext cx="33688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146560" y="1612800"/>
                <a:ext cx="36147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042920" y="1628640"/>
                <a:ext cx="3581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rot="16200000">
            <a:off x="6516000" y="3069000"/>
            <a:ext cx="1368360" cy="360360"/>
          </a:xfrm>
          <a:prstGeom prst="leftArrow">
            <a:avLst>
              <a:gd name="adj1" fmla="val 50000"/>
              <a:gd name="adj2" fmla="val 94930"/>
            </a:avLst>
          </a:prstGeom>
          <a:solidFill>
            <a:srgbClr val="e8eefe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202360" y="4149720"/>
                <a:ext cx="340344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5189400" y="2997360"/>
            <a:ext cx="1727280" cy="45972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ыразим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7564320" y="2997360"/>
                <a:ext cx="8953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1085760" y="2997360"/>
            <a:ext cx="1727280" cy="45972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ыразим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460680" y="2997360"/>
                <a:ext cx="8953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Формулы понижения степени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684360" y="2708280"/>
            <a:ext cx="5832360" cy="1008000"/>
            <a:chOff x="684360" y="2708280"/>
            <a:chExt cx="5832360" cy="1008000"/>
          </a:xfrm>
        </p:grpSpPr>
        <p:sp>
          <p:nvSpPr>
            <p:cNvPr id="405" name=""/>
            <p:cNvSpPr/>
            <p:nvPr/>
          </p:nvSpPr>
          <p:spPr>
            <a:xfrm>
              <a:off x="684360" y="2708280"/>
              <a:ext cx="5832360" cy="1008000"/>
            </a:xfrm>
            <a:prstGeom prst="rect">
              <a:avLst/>
            </a:prstGeom>
            <a:gradFill rotWithShape="0">
              <a:gsLst>
                <a:gs pos="0">
                  <a:srgbClr val="ffcffe"/>
                </a:gs>
                <a:gs pos="50000">
                  <a:srgbClr val="ffffff"/>
                </a:gs>
                <a:gs pos="100000">
                  <a:srgbClr val="ffcffe"/>
                </a:gs>
              </a:gsLst>
              <a:lin ang="5400000"/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750600" y="2741400"/>
              <a:ext cx="5579640" cy="855720"/>
              <a:chOff x="750600" y="2741400"/>
              <a:chExt cx="5579640" cy="85572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750600" y="2988360"/>
                    <a:ext cx="1989000" cy="420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2688120" y="3011760"/>
                    <a:ext cx="627840" cy="343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9" name=""/>
                  <p:cNvSpPr txBox="1"/>
                  <p:nvPr/>
                </p:nvSpPr>
                <p:spPr>
                  <a:xfrm>
                    <a:off x="3268800" y="2752560"/>
                    <a:ext cx="1517040" cy="84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10" name=""/>
                  <p:cNvSpPr txBox="1"/>
                  <p:nvPr/>
                </p:nvSpPr>
                <p:spPr>
                  <a:xfrm>
                    <a:off x="4784760" y="2741400"/>
                    <a:ext cx="1545480" cy="845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411" name=""/>
          <p:cNvGrpSpPr/>
          <p:nvPr/>
        </p:nvGrpSpPr>
        <p:grpSpPr>
          <a:xfrm>
            <a:off x="684360" y="1628640"/>
            <a:ext cx="5832360" cy="993960"/>
            <a:chOff x="684360" y="1628640"/>
            <a:chExt cx="5832360" cy="993960"/>
          </a:xfrm>
        </p:grpSpPr>
        <p:sp>
          <p:nvSpPr>
            <p:cNvPr id="412" name=""/>
            <p:cNvSpPr/>
            <p:nvPr/>
          </p:nvSpPr>
          <p:spPr>
            <a:xfrm>
              <a:off x="684360" y="1628640"/>
              <a:ext cx="5832360" cy="993960"/>
            </a:xfrm>
            <a:prstGeom prst="rect">
              <a:avLst/>
            </a:prstGeom>
            <a:gradFill rotWithShape="0">
              <a:gsLst>
                <a:gs pos="0">
                  <a:srgbClr val="ffcffe"/>
                </a:gs>
                <a:gs pos="50000">
                  <a:srgbClr val="ffffff"/>
                </a:gs>
                <a:gs pos="100000">
                  <a:srgbClr val="ffcffe"/>
                </a:gs>
              </a:gsLst>
              <a:lin ang="5400000"/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750600" y="1905120"/>
                  <a:ext cx="1988640" cy="41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2687760" y="1927800"/>
                  <a:ext cx="627840" cy="33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3268440" y="1672200"/>
                  <a:ext cx="151740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4784760" y="1661400"/>
                  <a:ext cx="1545120" cy="83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7" name=""/>
          <p:cNvGrpSpPr/>
          <p:nvPr/>
        </p:nvGrpSpPr>
        <p:grpSpPr>
          <a:xfrm>
            <a:off x="684360" y="3803760"/>
            <a:ext cx="5832360" cy="1008000"/>
            <a:chOff x="684360" y="3803760"/>
            <a:chExt cx="5832360" cy="1008000"/>
          </a:xfrm>
        </p:grpSpPr>
        <p:sp>
          <p:nvSpPr>
            <p:cNvPr id="418" name=""/>
            <p:cNvSpPr/>
            <p:nvPr/>
          </p:nvSpPr>
          <p:spPr>
            <a:xfrm>
              <a:off x="684360" y="3803760"/>
              <a:ext cx="5832360" cy="1008000"/>
            </a:xfrm>
            <a:prstGeom prst="rect">
              <a:avLst/>
            </a:prstGeom>
            <a:gradFill rotWithShape="0">
              <a:gsLst>
                <a:gs pos="0">
                  <a:srgbClr val="ffcffe"/>
                </a:gs>
                <a:gs pos="50000">
                  <a:srgbClr val="ffffff"/>
                </a:gs>
                <a:gs pos="100000">
                  <a:srgbClr val="ffcffe"/>
                </a:gs>
              </a:gsLst>
              <a:lin ang="5400000"/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9" name=""/>
                <p:cNvSpPr txBox="1"/>
                <p:nvPr/>
              </p:nvSpPr>
              <p:spPr>
                <a:xfrm>
                  <a:off x="719280" y="4110120"/>
                  <a:ext cx="205236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0" name=""/>
                <p:cNvSpPr txBox="1"/>
                <p:nvPr/>
              </p:nvSpPr>
              <p:spPr>
                <a:xfrm>
                  <a:off x="2687760" y="4106880"/>
                  <a:ext cx="6285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1" name=""/>
                <p:cNvSpPr txBox="1"/>
                <p:nvPr/>
              </p:nvSpPr>
              <p:spPr>
                <a:xfrm>
                  <a:off x="3252960" y="3848040"/>
                  <a:ext cx="15490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2" name=""/>
                <p:cNvSpPr txBox="1"/>
                <p:nvPr/>
              </p:nvSpPr>
              <p:spPr>
                <a:xfrm>
                  <a:off x="4784760" y="3836880"/>
                  <a:ext cx="1546200" cy="84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3" name=""/>
          <p:cNvGrpSpPr/>
          <p:nvPr/>
        </p:nvGrpSpPr>
        <p:grpSpPr>
          <a:xfrm>
            <a:off x="684360" y="4898880"/>
            <a:ext cx="5832360" cy="1008000"/>
            <a:chOff x="684360" y="4898880"/>
            <a:chExt cx="5832360" cy="1008000"/>
          </a:xfrm>
        </p:grpSpPr>
        <p:sp>
          <p:nvSpPr>
            <p:cNvPr id="424" name=""/>
            <p:cNvSpPr/>
            <p:nvPr/>
          </p:nvSpPr>
          <p:spPr>
            <a:xfrm>
              <a:off x="684360" y="4898880"/>
              <a:ext cx="5832360" cy="1008000"/>
            </a:xfrm>
            <a:prstGeom prst="rect">
              <a:avLst/>
            </a:prstGeom>
            <a:gradFill rotWithShape="0">
              <a:gsLst>
                <a:gs pos="0">
                  <a:srgbClr val="ffcffe"/>
                </a:gs>
                <a:gs pos="50000">
                  <a:srgbClr val="ffffff"/>
                </a:gs>
                <a:gs pos="100000">
                  <a:srgbClr val="ffcffe"/>
                </a:gs>
              </a:gsLst>
              <a:lin ang="5400000"/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719280" y="5217840"/>
                  <a:ext cx="20523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2577960" y="5202000"/>
                  <a:ext cx="84780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3268800" y="4943160"/>
                  <a:ext cx="151740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4799160" y="4932000"/>
                  <a:ext cx="1515960" cy="84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Преобразование сумм тригонометрических функций в произведение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771640" y="1268280"/>
            <a:ext cx="5256360" cy="45972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Решите уравнение: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sin17x=sin7x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483000" y="2016000"/>
                <a:ext cx="275112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755640" y="2637000"/>
            <a:ext cx="3095640" cy="45972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Применим формулу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067280" y="2565360"/>
            <a:ext cx="3384360" cy="576360"/>
            <a:chOff x="4067280" y="2565360"/>
            <a:chExt cx="3384360" cy="576360"/>
          </a:xfrm>
        </p:grpSpPr>
        <p:sp>
          <p:nvSpPr>
            <p:cNvPr id="434" name=""/>
            <p:cNvSpPr/>
            <p:nvPr/>
          </p:nvSpPr>
          <p:spPr>
            <a:xfrm>
              <a:off x="4067280" y="2565360"/>
              <a:ext cx="3384360" cy="576360"/>
            </a:xfrm>
            <a:prstGeom prst="rect">
              <a:avLst/>
            </a:prstGeom>
            <a:gradFill rotWithShape="0">
              <a:gsLst>
                <a:gs pos="0">
                  <a:srgbClr val="ffcffe"/>
                </a:gs>
                <a:gs pos="50000">
                  <a:srgbClr val="ffffff"/>
                </a:gs>
                <a:gs pos="100000">
                  <a:srgbClr val="ffcffe"/>
                </a:gs>
              </a:gsLst>
              <a:lin ang="5400000"/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105440" y="2584080"/>
              <a:ext cx="3237480" cy="488880"/>
              <a:chOff x="4105440" y="2584080"/>
              <a:chExt cx="3237480" cy="488880"/>
            </a:xfrm>
          </p:grpSpPr>
          <mc:AlternateContent>
            <mc:Choice xmlns:a14="http://schemas.microsoft.com/office/drawing/2010/main" Requires="a14">
              <p:sp>
                <p:nvSpPr>
                  <p:cNvPr id="436" name=""/>
                  <p:cNvSpPr txBox="1"/>
                  <p:nvPr/>
                </p:nvSpPr>
                <p:spPr>
                  <a:xfrm>
                    <a:off x="4105440" y="2725200"/>
                    <a:ext cx="1154160" cy="240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7" name=""/>
                  <p:cNvSpPr txBox="1"/>
                  <p:nvPr/>
                </p:nvSpPr>
                <p:spPr>
                  <a:xfrm>
                    <a:off x="5229720" y="2738520"/>
                    <a:ext cx="364320" cy="196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8" name=""/>
                  <p:cNvSpPr txBox="1"/>
                  <p:nvPr/>
                </p:nvSpPr>
                <p:spPr>
                  <a:xfrm>
                    <a:off x="5566680" y="2590200"/>
                    <a:ext cx="880200" cy="482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9" name=""/>
                  <p:cNvSpPr txBox="1"/>
                  <p:nvPr/>
                </p:nvSpPr>
                <p:spPr>
                  <a:xfrm>
                    <a:off x="6446160" y="2584080"/>
                    <a:ext cx="896760" cy="483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3505320" y="3357720"/>
                <a:ext cx="272412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2195640" y="3933720"/>
                <a:ext cx="14428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4211640" y="3860640"/>
            <a:ext cx="863640" cy="45972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или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5724360" y="3933720"/>
                <a:ext cx="15782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os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1979640" y="4581360"/>
                <a:ext cx="20415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141880" y="4276800"/>
                <a:ext cx="27766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050920" y="5084640"/>
                <a:ext cx="195912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148360" y="5013360"/>
                <a:ext cx="26668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324000" y="5300640"/>
            <a:ext cx="1511280" cy="45972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Ответ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Преобразование суммы тригонометрических функций в произведение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84360" y="4081320"/>
            <a:ext cx="8064360" cy="115092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84360" y="2857680"/>
            <a:ext cx="8064360" cy="115092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84360" y="1633680"/>
            <a:ext cx="8064360" cy="115092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3851280" y="1835280"/>
                <a:ext cx="48340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059280" y="1560600"/>
                <a:ext cx="87768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684360" y="1992240"/>
                <a:ext cx="2396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780000" y="3000240"/>
                <a:ext cx="4833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2987640" y="2725560"/>
                <a:ext cx="87804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52320" y="3098880"/>
                <a:ext cx="23180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890880" y="4297320"/>
                <a:ext cx="47545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059280" y="4022640"/>
                <a:ext cx="87768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779480" y="4486320"/>
                <a:ext cx="1319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755640" y="4368960"/>
                <a:ext cx="1119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Преобразование произведений тригонометрических функций в суммы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826920" y="4938840"/>
                <a:ext cx="749016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684360" y="1341360"/>
                <a:ext cx="806436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711360" y="2881440"/>
                <a:ext cx="216216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276720" y="3284640"/>
                <a:ext cx="29527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tg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8" name=""/>
          <p:cNvSpPr/>
          <p:nvPr/>
        </p:nvSpPr>
        <p:spPr>
          <a:xfrm>
            <a:off x="2987640" y="3097080"/>
            <a:ext cx="0" cy="129564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Преобразование выражения </a:t>
            </a: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Asinx+Bcosx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556000" y="1125360"/>
                <a:ext cx="583236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684360" y="2276640"/>
            <a:ext cx="7991280" cy="39888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Найдите наибольшее и наименьшее значение функции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4360" y="3357720"/>
            <a:ext cx="2735280" cy="398880"/>
          </a:xfrm>
          <a:prstGeom prst="rect">
            <a:avLst/>
          </a:prstGeom>
          <a:gradFill rotWithShape="0">
            <a:gsLst>
              <a:gs pos="0">
                <a:srgbClr val="e8eefe"/>
              </a:gs>
              <a:gs pos="50000">
                <a:srgbClr val="ffffff"/>
              </a:gs>
              <a:gs pos="100000">
                <a:srgbClr val="e8eefe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58c"/>
                </a:solidFill>
                <a:latin typeface="Tahoma"/>
              </a:rPr>
              <a:t>Применим формулу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635280" y="3068640"/>
                <a:ext cx="36212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3276720" y="2708280"/>
                <a:ext cx="28591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708360" y="4221000"/>
                <a:ext cx="3267000" cy="4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2,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835280" y="5013360"/>
                <a:ext cx="6315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-1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&l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,   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им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  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иб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763640" y="5734080"/>
                <a:ext cx="4654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твет:  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им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  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иб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Преобразование выражения </a:t>
            </a: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Asinx+Bcosx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78422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Содержание</a:t>
            </a: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solidFill>
            <a:srgbClr val="e8eef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Зависимость между синусом, косинусом, тангенсом и котангенсом одного и того же угла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Синус и косинус суммы и разности 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Тангенс суммы и разности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f89f7"/>
                </a:solidFill>
                <a:uFillTx/>
                <a:latin typeface="Tahoma"/>
                <a:hlinkClick r:id="rId8" action="ppaction://hlinksldjump"/>
              </a:rPr>
              <a:t>Формулы приведения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f89f7"/>
                </a:solidFill>
                <a:uFillTx/>
                <a:latin typeface="Tahoma"/>
                <a:hlinkClick r:id="rId10" action="ppaction://hlinksldjump"/>
              </a:rPr>
              <a:t>Формулы двойного угла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f89f7"/>
                </a:solidFill>
                <a:uFillTx/>
                <a:latin typeface="Tahoma"/>
                <a:hlinkClick r:id="rId12" action="ppaction://hlinksldjump"/>
              </a:rPr>
              <a:t>Формулы понижения степени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f89f7"/>
                </a:solidFill>
                <a:uFillTx/>
                <a:latin typeface="Tahoma"/>
                <a:hlinkClick r:id="rId14" action="ppaction://hlinksldjump"/>
              </a:rPr>
              <a:t>Преобразование сумм тригонометрических функций в произведение</a:t>
            </a:r>
            <a:r>
              <a:rPr b="1" i="1" lang="en-US" sz="2000" spc="-1" strike="noStrike" u="sng">
                <a:solidFill>
                  <a:srgbClr val="6f89f7"/>
                </a:solidFill>
                <a:uFillTx/>
                <a:latin typeface="Tahoma"/>
                <a:hlinkClick r:id="rId15" action="ppaction://hlinksldjump"/>
              </a:rPr>
              <a:t> 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f89f7"/>
                </a:solidFill>
                <a:uFillTx/>
                <a:latin typeface="Tahoma"/>
                <a:hlinkClick r:id="rId17" action="ppaction://hlinksldjump"/>
              </a:rPr>
              <a:t>Преобразование произведений тригонометрических функций в суммы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f89f7"/>
                </a:solidFill>
                <a:uFillTx/>
                <a:latin typeface="Tahoma"/>
                <a:hlinkClick r:id="rId19" action="ppaction://hlinksldjump"/>
              </a:rPr>
              <a:t>Преобразование выражения </a:t>
            </a:r>
            <a:r>
              <a:rPr b="1" i="1" lang="en-US" sz="2000" spc="-1" strike="noStrike" u="sng">
                <a:solidFill>
                  <a:srgbClr val="6f89f7"/>
                </a:solidFill>
                <a:uFillTx/>
                <a:latin typeface="Tahoma"/>
                <a:hlinkClick r:id="rId20" action="ppaction://hlinksldjump"/>
              </a:rPr>
              <a:t>Asinx+Bcosx</a:t>
            </a:r>
            <a:endParaRPr b="1" i="1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">
            <a:hlinkClick r:id="rId21" action="ppaction://hlinksldjump"/>
          </p:cNvPr>
          <p:cNvSpPr/>
          <p:nvPr/>
        </p:nvSpPr>
        <p:spPr>
          <a:xfrm>
            <a:off x="6783480" y="6369120"/>
            <a:ext cx="2133360" cy="330120"/>
          </a:xfrm>
          <a:custGeom>
            <a:avLst/>
            <a:gdLst>
              <a:gd name="textAreaLeft" fmla="*/ 21240 w 2133360"/>
              <a:gd name="textAreaRight" fmla="*/ 2112120 w 21333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139459" h="21600">
                <a:moveTo>
                  <a:pt x="0" y="0"/>
                </a:moveTo>
                <a:lnTo>
                  <a:pt x="139459" y="0"/>
                </a:lnTo>
                <a:lnTo>
                  <a:pt x="139459" y="21600"/>
                </a:lnTo>
                <a:lnTo>
                  <a:pt x="0" y="21600"/>
                </a:lnTo>
                <a:close/>
              </a:path>
              <a:path fill="lightenLess" w="139459" h="21600">
                <a:moveTo>
                  <a:pt x="0" y="0"/>
                </a:moveTo>
                <a:lnTo>
                  <a:pt x="139459" y="0"/>
                </a:lnTo>
                <a:lnTo>
                  <a:pt x="138059" y="1400"/>
                </a:lnTo>
                <a:lnTo>
                  <a:pt x="1400" y="1400"/>
                </a:lnTo>
                <a:close/>
              </a:path>
              <a:path fill="darken" w="139459" h="21600">
                <a:moveTo>
                  <a:pt x="139459" y="0"/>
                </a:moveTo>
                <a:lnTo>
                  <a:pt x="139459" y="21600"/>
                </a:lnTo>
                <a:lnTo>
                  <a:pt x="138059" y="20200"/>
                </a:lnTo>
                <a:lnTo>
                  <a:pt x="138059" y="1400"/>
                </a:lnTo>
                <a:close/>
              </a:path>
              <a:path fill="darkenLess" w="139459" h="21600">
                <a:moveTo>
                  <a:pt x="139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059" y="20200"/>
                </a:lnTo>
                <a:close/>
              </a:path>
              <a:path fill="lighten" w="139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462560" y="2014560"/>
            <a:ext cx="3527280" cy="720720"/>
          </a:xfrm>
          <a:prstGeom prst="rect">
            <a:avLst/>
          </a:prstGeom>
          <a:gradFill rotWithShape="0">
            <a:gsLst>
              <a:gs pos="0">
                <a:srgbClr val="ffcffe"/>
              </a:gs>
              <a:gs pos="50000">
                <a:srgbClr val="ffffff"/>
              </a:gs>
              <a:gs pos="100000">
                <a:srgbClr val="ffcf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1400" y="44280"/>
            <a:ext cx="79866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Зависимость между синусом, косинусом, тангенсом и котангенсом одного и того же угла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1239840" y="2484360"/>
            <a:ext cx="2803680" cy="278280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63720" y="3873600"/>
            <a:ext cx="344808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646360" y="2031840"/>
            <a:ext cx="0" cy="352296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68360" y="1916280"/>
            <a:ext cx="2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40360" y="335772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644920" y="2687400"/>
            <a:ext cx="755640" cy="1189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rot="6918600">
            <a:off x="2502000" y="3277800"/>
            <a:ext cx="602640" cy="82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111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0360" y="342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90840" y="2708280"/>
            <a:ext cx="0" cy="1152360"/>
          </a:xfrm>
          <a:prstGeom prst="line">
            <a:avLst/>
          </a:prstGeom>
          <a:ln w="2844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626920" y="2722680"/>
            <a:ext cx="792360" cy="0"/>
          </a:xfrm>
          <a:prstGeom prst="line">
            <a:avLst/>
          </a:prstGeom>
          <a:ln w="2844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27640" y="148428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По теореме Пифагора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86160" y="2717640"/>
            <a:ext cx="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3860640"/>
            <a:ext cx="77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17760" y="3220920"/>
            <a:ext cx="74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sin</a:t>
            </a:r>
            <a:r>
              <a:rPr b="1" i="1" lang="en-US" sz="16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00360" y="39337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cos</a:t>
            </a:r>
            <a:r>
              <a:rPr b="1" i="1" lang="en-US" sz="16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572000" y="2060640"/>
                <a:ext cx="1152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236000" y="2133720"/>
                <a:ext cx="6426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651640" y="2060640"/>
                <a:ext cx="14904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843280" y="2997360"/>
                <a:ext cx="20484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4427640" y="280044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Разделим обе части равенства на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410160" y="3049560"/>
                <a:ext cx="1474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4427640" y="445608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Разделим обе части равенства на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396120" y="4705200"/>
                <a:ext cx="1503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859280" y="3519360"/>
                <a:ext cx="27720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906800" y="5248440"/>
                <a:ext cx="27608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500"/>
                            </p:stCondLst>
                            <p:childTnLst>
                              <p:par>
                                <p:cTn id="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500"/>
                            </p:stCondLst>
                            <p:childTnLst>
                              <p:par>
                                <p:cTn id="43" nodeType="afterEffect" fill="hold" presetClass="emph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50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Зависимость между синусом, косинусом, тангенсом и котангенсом одного и того же угла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84360" y="1628640"/>
                <a:ext cx="395892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84360" y="3884760"/>
                <a:ext cx="3958920" cy="18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284720" y="1844640"/>
                <a:ext cx="1081080" cy="410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435640" y="3284640"/>
                <a:ext cx="2903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8244000" y="2924280"/>
                <a:ext cx="645840" cy="13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317080" y="3287880"/>
                <a:ext cx="4968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203640" y="260280"/>
                <a:ext cx="54957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и</m:t>
                    </m:r>
                    <m:r>
                      <m:rPr>
                        <m:lit/>
                        <m:nor/>
                      </m:rPr>
                      <m:t xml:space="preserve">  0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Найти</m:t>
                    </m:r>
                    <m:r>
                      <m:rPr>
                        <m:lit/>
                        <m:nor/>
                      </m:rPr>
                      <m:t xml:space="preserve">  cost,   tgt,   ctg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24476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Пример 1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704000" y="4221000"/>
                <a:ext cx="1440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69960" y="1514520"/>
                <a:ext cx="531648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27120" y="2565360"/>
                <a:ext cx="43117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или 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11280" y="3284640"/>
                <a:ext cx="832464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0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 четверть, cos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rPr>
                        <m:lit/>
                        <m:nor/>
                      </m:rPr>
                      <m:t xml:space="preserve">  c</m:t>
                    </m:r>
                    <m:r>
                      <m:rPr>
                        <m:lit/>
                        <m:nor/>
                      </m:rPr>
                      <m:t xml:space="preserve">os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84360" y="1268280"/>
                <a:ext cx="2736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755640" y="4221000"/>
                <a:ext cx="1440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643280" y="5229360"/>
                <a:ext cx="13528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55640" y="5157720"/>
                <a:ext cx="239076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411280" y="222120"/>
                <a:ext cx="63849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и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Найти</m:t>
                    </m:r>
                    <m:r>
                      <m:rPr>
                        <m:lit/>
                        <m:nor/>
                      </m:rPr>
                      <m:t xml:space="preserve">  sint,  cost,   ctg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755640" y="5300640"/>
                <a:ext cx="14400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938760" y="1125360"/>
                <a:ext cx="4278240" cy="116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826920" y="2421000"/>
                <a:ext cx="46879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или 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793800" y="3270240"/>
                <a:ext cx="8236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I четверть, cos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rPr>
                        <m:lit/>
                        <m:nor/>
                      </m:rPr>
                      <m:t xml:space="preserve">  c</m:t>
                    </m:r>
                    <m:r>
                      <m:rPr>
                        <m:lit/>
                        <m:nor/>
                      </m:rPr>
                      <m:t xml:space="preserve">os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55640" y="4292640"/>
                <a:ext cx="1440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556000" y="5229360"/>
                <a:ext cx="182556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t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556000" y="4149720"/>
                <a:ext cx="61038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900000" y="1268280"/>
                <a:ext cx="244980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281016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Пример 2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Синус и косинус суммы и разности  аргументов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826920" y="1628640"/>
            <a:ext cx="6266160" cy="720720"/>
          </a:xfrm>
          <a:prstGeom prst="rect">
            <a:avLst/>
          </a:prstGeom>
          <a:gradFill rotWithShape="0">
            <a:gsLst>
              <a:gs pos="0">
                <a:srgbClr val="ffcffe"/>
              </a:gs>
              <a:gs pos="50000">
                <a:srgbClr val="ffffff"/>
              </a:gs>
              <a:gs pos="100000">
                <a:srgbClr val="ffcf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900000" y="1700280"/>
                <a:ext cx="1764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743200" y="1844640"/>
                <a:ext cx="3715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3059280" y="1701720"/>
                <a:ext cx="9507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924360" y="1801800"/>
                <a:ext cx="9824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879560" y="1801800"/>
                <a:ext cx="371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162400" y="1806480"/>
                <a:ext cx="9828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6026040" y="1709640"/>
                <a:ext cx="9511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855720" y="2463840"/>
            <a:ext cx="6265800" cy="720720"/>
          </a:xfrm>
          <a:prstGeom prst="rect">
            <a:avLst/>
          </a:prstGeom>
          <a:gradFill rotWithShape="0">
            <a:gsLst>
              <a:gs pos="0">
                <a:srgbClr val="ffcffe"/>
              </a:gs>
              <a:gs pos="50000">
                <a:srgbClr val="ffffff"/>
              </a:gs>
              <a:gs pos="100000">
                <a:srgbClr val="ffcf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928800" y="2535120"/>
                <a:ext cx="1763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771640" y="2679840"/>
                <a:ext cx="3715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087720" y="2536920"/>
                <a:ext cx="9507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952800" y="2637000"/>
                <a:ext cx="98280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908000" y="2749680"/>
                <a:ext cx="371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5191200" y="2641680"/>
                <a:ext cx="98244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6054840" y="2544840"/>
                <a:ext cx="9507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826920" y="3286080"/>
            <a:ext cx="6266160" cy="720720"/>
          </a:xfrm>
          <a:prstGeom prst="rect">
            <a:avLst/>
          </a:prstGeom>
          <a:gradFill rotWithShape="0">
            <a:gsLst>
              <a:gs pos="0">
                <a:srgbClr val="ffcffe"/>
              </a:gs>
              <a:gs pos="50000">
                <a:srgbClr val="ffffff"/>
              </a:gs>
              <a:gs pos="100000">
                <a:srgbClr val="ffcf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743200" y="3502080"/>
                <a:ext cx="3715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191200" y="3357720"/>
                <a:ext cx="9507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924360" y="3459240"/>
                <a:ext cx="9824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044880" y="3457440"/>
                <a:ext cx="9824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6026040" y="3367080"/>
                <a:ext cx="9511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855720" y="4121280"/>
            <a:ext cx="6265800" cy="720720"/>
          </a:xfrm>
          <a:prstGeom prst="rect">
            <a:avLst/>
          </a:prstGeom>
          <a:gradFill rotWithShape="0">
            <a:gsLst>
              <a:gs pos="0">
                <a:srgbClr val="ffcffe"/>
              </a:gs>
              <a:gs pos="50000">
                <a:srgbClr val="ffffff"/>
              </a:gs>
              <a:gs pos="100000">
                <a:srgbClr val="ffcffe"/>
              </a:gs>
            </a:gsLst>
            <a:lin ang="5400000"/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71640" y="4336920"/>
                <a:ext cx="3715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162400" y="4192560"/>
                <a:ext cx="9511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952800" y="4294080"/>
                <a:ext cx="9828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908000" y="3559320"/>
                <a:ext cx="371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089160" y="4278240"/>
                <a:ext cx="9828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054840" y="4202280"/>
                <a:ext cx="9507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71560" y="3357720"/>
                <a:ext cx="17953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79560" y="4313160"/>
                <a:ext cx="3715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871560" y="4192560"/>
                <a:ext cx="1795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26 0.00023 L 0.32726 0.00023 E">
                                      <p:cBhvr>
                                        <p:cTn id="153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26 0.00023 L 0.32726 0.00023 E">
                                      <p:cBhvr>
                                        <p:cTn id="157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26 0.00023 L 0.32726 0.00023 E">
                                      <p:cBhvr>
                                        <p:cTn id="161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26 2.94798E-006 L 0.32726 0.00023 E">
                                      <p:cBhvr>
                                        <p:cTn id="170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11280" y="-3996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Синус и косинус суммы и разности  аргументов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84360" y="1627200"/>
            <a:ext cx="4103640" cy="506520"/>
            <a:chOff x="684360" y="1627200"/>
            <a:chExt cx="4103640" cy="506520"/>
          </a:xfrm>
        </p:grpSpPr>
        <p:sp>
          <p:nvSpPr>
            <p:cNvPr id="306" name=""/>
            <p:cNvSpPr/>
            <p:nvPr/>
          </p:nvSpPr>
          <p:spPr>
            <a:xfrm>
              <a:off x="684360" y="1627200"/>
              <a:ext cx="4103640" cy="506520"/>
            </a:xfrm>
            <a:prstGeom prst="rect">
              <a:avLst/>
            </a:prstGeom>
            <a:gradFill rotWithShape="0">
              <a:gsLst>
                <a:gs pos="0">
                  <a:srgbClr val="ffcffe"/>
                </a:gs>
                <a:gs pos="50000">
                  <a:srgbClr val="ffffff"/>
                </a:gs>
                <a:gs pos="100000">
                  <a:srgbClr val="ffcffe"/>
                </a:gs>
              </a:gsLst>
              <a:lin ang="5400000"/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731880" y="1677240"/>
                  <a:ext cx="115524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1910880" y="1788840"/>
                  <a:ext cx="243000" cy="19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2145960" y="1678320"/>
                  <a:ext cx="62244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0" name=""/>
                <p:cNvSpPr txBox="1"/>
                <p:nvPr/>
              </p:nvSpPr>
              <p:spPr>
                <a:xfrm>
                  <a:off x="2712600" y="1748880"/>
                  <a:ext cx="643680" cy="30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3523680" y="1752120"/>
                  <a:ext cx="643320" cy="26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4089240" y="1684080"/>
                  <a:ext cx="622800" cy="38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3306240" y="1822320"/>
                  <a:ext cx="243000" cy="14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4" name=""/>
          <p:cNvGrpSpPr/>
          <p:nvPr/>
        </p:nvGrpSpPr>
        <p:grpSpPr>
          <a:xfrm>
            <a:off x="684360" y="2205000"/>
            <a:ext cx="4105080" cy="503280"/>
            <a:chOff x="684360" y="2205000"/>
            <a:chExt cx="4105080" cy="503280"/>
          </a:xfrm>
        </p:grpSpPr>
        <p:sp>
          <p:nvSpPr>
            <p:cNvPr id="315" name=""/>
            <p:cNvSpPr/>
            <p:nvPr/>
          </p:nvSpPr>
          <p:spPr>
            <a:xfrm>
              <a:off x="684360" y="2205000"/>
              <a:ext cx="4105080" cy="503280"/>
            </a:xfrm>
            <a:prstGeom prst="rect">
              <a:avLst/>
            </a:prstGeom>
            <a:gradFill rotWithShape="0">
              <a:gsLst>
                <a:gs pos="0">
                  <a:srgbClr val="ffcffe"/>
                </a:gs>
                <a:gs pos="50000">
                  <a:srgbClr val="ffffff"/>
                </a:gs>
                <a:gs pos="100000">
                  <a:srgbClr val="ffcffe"/>
                </a:gs>
              </a:gsLst>
              <a:lin ang="5400000"/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1911600" y="2365560"/>
                  <a:ext cx="243360" cy="18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3506040" y="2254680"/>
                  <a:ext cx="622800" cy="33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2713680" y="2325600"/>
                  <a:ext cx="64332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2147760" y="2324520"/>
                  <a:ext cx="643320" cy="26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4090680" y="2261520"/>
                  <a:ext cx="622800" cy="37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694440" y="2254680"/>
                  <a:ext cx="1176480" cy="40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3307320" y="2316600"/>
                  <a:ext cx="243000" cy="25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971640" y="596880"/>
                <a:ext cx="66927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ешить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уравнение</m:t>
                    </m:r>
                    <m:r>
                      <m:t xml:space="preserve">: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39640" y="4508640"/>
                <a:ext cx="19162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95440" y="2755800"/>
                <a:ext cx="69847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84360" y="3573360"/>
                <a:ext cx="51894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84360" y="5157720"/>
                <a:ext cx="12301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23880" y="5702400"/>
                <a:ext cx="2160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348000" y="6165720"/>
                <a:ext cx="27273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0" name=""/>
          <p:cNvGrpSpPr/>
          <p:nvPr/>
        </p:nvGrpSpPr>
        <p:grpSpPr>
          <a:xfrm>
            <a:off x="5796000" y="3284640"/>
            <a:ext cx="2944800" cy="2952360"/>
            <a:chOff x="5796000" y="3284640"/>
            <a:chExt cx="2944800" cy="2952360"/>
          </a:xfrm>
        </p:grpSpPr>
        <p:sp>
          <p:nvSpPr>
            <p:cNvPr id="331" name=""/>
            <p:cNvSpPr/>
            <p:nvPr/>
          </p:nvSpPr>
          <p:spPr>
            <a:xfrm>
              <a:off x="6031800" y="3745800"/>
              <a:ext cx="2394000" cy="225828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96000" y="4872960"/>
              <a:ext cx="2944800" cy="108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7233120" y="3378600"/>
              <a:ext cx="0" cy="28584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10200" y="3284640"/>
              <a:ext cx="23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у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496720" y="4806000"/>
              <a:ext cx="21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40458c"/>
                  </a:solidFill>
                  <a:latin typeface="Times New Roman"/>
                </a:rPr>
                <a:t>х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71400" y="4570200"/>
              <a:ext cx="2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40458c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8388360" y="4292640"/>
                <a:ext cx="5936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244000" y="4724280"/>
            <a:ext cx="345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Тангенс суммы и разности  аргументов</a:t>
            </a:r>
            <a:endParaRPr b="1" i="1" lang="en-US" sz="2400" spc="-1" strike="noStrike">
              <a:solidFill>
                <a:srgbClr val="ff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826920" y="1700280"/>
                <a:ext cx="6048720" cy="18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xtg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826920" y="3716280"/>
                <a:ext cx="6048720" cy="18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xtg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124000" y="2320920"/>
                <a:ext cx="609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124000" y="2349360"/>
                <a:ext cx="609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4384800" y="4854600"/>
                <a:ext cx="609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124000" y="4508640"/>
                <a:ext cx="6098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2125800" y="4494240"/>
                <a:ext cx="6094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413240" y="2997360"/>
                <a:ext cx="6094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4624E-007 L 0.32882 -0.06543 E">
                                      <p:cBhvr>
                                        <p:cTn id="246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64162E-006 L 0.32101 -0.06589 E">
                                      <p:cBhvr>
                                        <p:cTn id="259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8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1:52:17Z</dcterms:created>
  <dc:creator>Dmitriy Slobozhaninov</dc:creator>
  <dc:description/>
  <dc:language>en-US</dc:language>
  <cp:lastModifiedBy>.</cp:lastModifiedBy>
  <dcterms:modified xsi:type="dcterms:W3CDTF">2012-06-05T11:34:04Z</dcterms:modified>
  <cp:revision>18</cp:revision>
  <dc:subject/>
  <dc:title>Определение синуса, косинуса и тангенса угла</dc:title>
</cp:coreProperties>
</file>