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F514-822D-4A87-B58A-F87760A9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3A9-5BE9-420B-BE02-87AFFE43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9A2-AF81-4C12-A6D8-184806FF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E7E-B82D-4738-B44F-E9CFE8A4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BB93-845E-4049-8E2F-2855C96A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9B17-AFA6-4AC5-B794-32228337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8664-7E1A-43A1-BCBF-676FBADF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65EC-31D0-4BE9-BBE6-F189BE7C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2AD4-63AC-4205-AE71-E7AFA5CF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ADBB-196C-4C8A-8C14-E4BD4218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7E93-EFA7-4D63-9DD1-420B838D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E48-12FC-4D6E-BCD9-555FAEF6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E4AD-EDCE-4793-872E-42E542CF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E815-62D2-4ED2-A8EE-224C866A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5E95-457C-4B3C-84E4-18D783C3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1CEC-1D64-49BD-A006-EC676652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218E-FC9F-4ECB-8AD4-C7B3852B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0A0-CF11-4DE1-8A9B-BDF75FBE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A32-F4DC-477F-9BFD-CE4F165A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2822-50A7-4EBF-AF61-903F23E9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0CE-FF10-4EEC-AC77-BBADE477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66B-8287-4E65-8465-58E4C58C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0AD-BE03-4FF5-8F1A-646E136B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203-8DDB-4808-812E-B7CCD33F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1112c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0DDE-7B08-4209-B4C2-4BF4ED01DFC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203040" y="6388200"/>
            <a:ext cx="533520" cy="279360"/>
          </a:xfrm>
          <a:custGeom>
            <a:avLst/>
            <a:gdLst>
              <a:gd name="textAreaLeft" fmla="*/ 18000 w 533520"/>
              <a:gd name="textAreaRight" fmla="*/ 515520 w 5335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41226" h="21600">
                <a:moveTo>
                  <a:pt x="0" y="0"/>
                </a:moveTo>
                <a:lnTo>
                  <a:pt x="41226" y="0"/>
                </a:lnTo>
                <a:lnTo>
                  <a:pt x="41226" y="21600"/>
                </a:lnTo>
                <a:lnTo>
                  <a:pt x="0" y="21600"/>
                </a:lnTo>
                <a:close/>
              </a:path>
              <a:path fill="lightenLess" w="41226" h="21600">
                <a:moveTo>
                  <a:pt x="0" y="0"/>
                </a:moveTo>
                <a:lnTo>
                  <a:pt x="41226" y="0"/>
                </a:lnTo>
                <a:lnTo>
                  <a:pt x="39826" y="1400"/>
                </a:lnTo>
                <a:lnTo>
                  <a:pt x="1400" y="1400"/>
                </a:lnTo>
                <a:close/>
              </a:path>
              <a:path fill="darken" w="41226" h="21600">
                <a:moveTo>
                  <a:pt x="41226" y="0"/>
                </a:moveTo>
                <a:lnTo>
                  <a:pt x="41226" y="21600"/>
                </a:lnTo>
                <a:lnTo>
                  <a:pt x="39826" y="20200"/>
                </a:lnTo>
                <a:lnTo>
                  <a:pt x="39826" y="1400"/>
                </a:lnTo>
                <a:close/>
              </a:path>
              <a:path fill="darkenLess" w="41226" h="21600">
                <a:moveTo>
                  <a:pt x="41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6" y="20200"/>
                </a:lnTo>
                <a:close/>
              </a:path>
              <a:path fill="lighten" w="41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6" h="21600">
                <a:moveTo>
                  <a:pt x="13607" y="10800"/>
                </a:moveTo>
                <a:lnTo>
                  <a:pt x="27620" y="3794"/>
                </a:lnTo>
                <a:lnTo>
                  <a:pt x="27620" y="17806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787320" y="6388200"/>
            <a:ext cx="533520" cy="279360"/>
          </a:xfrm>
          <a:custGeom>
            <a:avLst/>
            <a:gdLst>
              <a:gd name="textAreaLeft" fmla="*/ 18000 w 533520"/>
              <a:gd name="textAreaRight" fmla="*/ 515520 w 5335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41226" h="21600">
                <a:moveTo>
                  <a:pt x="0" y="0"/>
                </a:moveTo>
                <a:lnTo>
                  <a:pt x="41226" y="0"/>
                </a:lnTo>
                <a:lnTo>
                  <a:pt x="41226" y="21600"/>
                </a:lnTo>
                <a:lnTo>
                  <a:pt x="0" y="21600"/>
                </a:lnTo>
                <a:close/>
              </a:path>
              <a:path fill="lightenLess" w="41226" h="21600">
                <a:moveTo>
                  <a:pt x="0" y="0"/>
                </a:moveTo>
                <a:lnTo>
                  <a:pt x="41226" y="0"/>
                </a:lnTo>
                <a:lnTo>
                  <a:pt x="39826" y="1400"/>
                </a:lnTo>
                <a:lnTo>
                  <a:pt x="1400" y="1400"/>
                </a:lnTo>
                <a:close/>
              </a:path>
              <a:path fill="darken" w="41226" h="21600">
                <a:moveTo>
                  <a:pt x="41226" y="0"/>
                </a:moveTo>
                <a:lnTo>
                  <a:pt x="41226" y="21600"/>
                </a:lnTo>
                <a:lnTo>
                  <a:pt x="39826" y="20200"/>
                </a:lnTo>
                <a:lnTo>
                  <a:pt x="39826" y="1400"/>
                </a:lnTo>
                <a:close/>
              </a:path>
              <a:path fill="darkenLess" w="41226" h="21600">
                <a:moveTo>
                  <a:pt x="41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6" y="20200"/>
                </a:lnTo>
                <a:close/>
              </a:path>
              <a:path fill="lighten" w="41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6" h="21600">
                <a:moveTo>
                  <a:pt x="13607" y="3794"/>
                </a:moveTo>
                <a:lnTo>
                  <a:pt x="27620" y="10800"/>
                </a:lnTo>
                <a:lnTo>
                  <a:pt x="13607" y="17806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6769080" y="6362640"/>
            <a:ext cx="2133720" cy="330120"/>
          </a:xfrm>
          <a:custGeom>
            <a:avLst/>
            <a:gdLst>
              <a:gd name="textAreaLeft" fmla="*/ 21240 w 2133720"/>
              <a:gd name="textAreaRight" fmla="*/ 2112480 w 213372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139482" h="21600">
                <a:moveTo>
                  <a:pt x="0" y="0"/>
                </a:moveTo>
                <a:lnTo>
                  <a:pt x="139482" y="0"/>
                </a:lnTo>
                <a:lnTo>
                  <a:pt x="139482" y="21600"/>
                </a:lnTo>
                <a:lnTo>
                  <a:pt x="0" y="21600"/>
                </a:lnTo>
                <a:close/>
              </a:path>
              <a:path fill="lightenLess" w="139482" h="21600">
                <a:moveTo>
                  <a:pt x="0" y="0"/>
                </a:moveTo>
                <a:lnTo>
                  <a:pt x="139482" y="0"/>
                </a:lnTo>
                <a:lnTo>
                  <a:pt x="138082" y="1400"/>
                </a:lnTo>
                <a:lnTo>
                  <a:pt x="1400" y="1400"/>
                </a:lnTo>
                <a:close/>
              </a:path>
              <a:path fill="darken" w="139482" h="21600">
                <a:moveTo>
                  <a:pt x="139482" y="0"/>
                </a:moveTo>
                <a:lnTo>
                  <a:pt x="139482" y="21600"/>
                </a:lnTo>
                <a:lnTo>
                  <a:pt x="138082" y="20200"/>
                </a:lnTo>
                <a:lnTo>
                  <a:pt x="138082" y="1400"/>
                </a:lnTo>
                <a:close/>
              </a:path>
              <a:path fill="darkenLess" w="139482" h="21600">
                <a:moveTo>
                  <a:pt x="139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082" y="20200"/>
                </a:lnTo>
                <a:close/>
              </a:path>
              <a:path fill="lighten" w="139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содержание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7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7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02f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e02f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000D-ECFE-4D3A-8CEC-5208B4916FB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112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1112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1" i="1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2.png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1993680"/>
            <a:ext cx="51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e02fc"/>
                </a:solidFill>
                <a:latin typeface="Tahoma"/>
              </a:rPr>
              <a:t>Единичная окружность</a:t>
            </a:r>
            <a:endParaRPr b="0" lang="en-US" sz="5400" spc="-1" strike="noStrike">
              <a:solidFill>
                <a:srgbClr val="0e02fc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788000" y="3141720"/>
            <a:ext cx="32306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150840" y="1509840"/>
            <a:ext cx="4109760" cy="3957120"/>
            <a:chOff x="150840" y="1509840"/>
            <a:chExt cx="4109760" cy="3957120"/>
          </a:xfrm>
        </p:grpSpPr>
        <p:sp>
          <p:nvSpPr>
            <p:cNvPr id="394" name=""/>
            <p:cNvSpPr/>
            <p:nvPr/>
          </p:nvSpPr>
          <p:spPr>
            <a:xfrm>
              <a:off x="475920" y="2158920"/>
              <a:ext cx="3307680" cy="29984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0840" y="365616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2135520" y="1670760"/>
              <a:ext cx="0" cy="3796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53280" y="15098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89520" y="362484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727520" y="1527120"/>
            <a:ext cx="4109760" cy="3957840"/>
            <a:chOff x="4727520" y="1527120"/>
            <a:chExt cx="4109760" cy="3957840"/>
          </a:xfrm>
        </p:grpSpPr>
        <p:sp>
          <p:nvSpPr>
            <p:cNvPr id="400" name=""/>
            <p:cNvSpPr/>
            <p:nvPr/>
          </p:nvSpPr>
          <p:spPr>
            <a:xfrm>
              <a:off x="5052600" y="2176560"/>
              <a:ext cx="3307680" cy="29988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27520" y="367344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712200" y="1688400"/>
              <a:ext cx="0" cy="3796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29960" y="152712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566200" y="3642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179280" y="4724280"/>
                <a:ext cx="59868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7885080" y="1125360"/>
                <a:ext cx="9320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3749760" y="32767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13840" y="33098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340000" y="5300640"/>
                <a:ext cx="1440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427640" y="5300640"/>
                <a:ext cx="19461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6719760" y="3679920"/>
            <a:ext cx="1381320" cy="7570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40240" y="2862360"/>
            <a:ext cx="0" cy="79200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128320" y="2871720"/>
            <a:ext cx="1403640" cy="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1835280" y="2565360"/>
                <a:ext cx="2174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3716280"/>
                <a:ext cx="309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564000" y="2205000"/>
                <a:ext cx="13096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7658280" y="4560840"/>
                <a:ext cx="14572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 flipH="1">
            <a:off x="6732720" y="4437000"/>
            <a:ext cx="1403280" cy="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139240" y="3645000"/>
            <a:ext cx="0" cy="79200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337440" y="4149720"/>
                <a:ext cx="3808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7918560" y="3132000"/>
                <a:ext cx="309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985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 на угол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2133720" y="2852280"/>
            <a:ext cx="1403280" cy="8017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733920" y="361008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10600" y="362736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C -0.00017 -0.0051 -3.61111000000004E-006 -0.02153 -0.00086 -0.03125 C -0.00173 -0.04098 -0.00329 -0.04954 -0.00573 -0.05903 C -0.00816 -0.06852 -0.01215 -0.07987 -0.01545 -0.08866 C -0.01875 -0.09746 -0.02378 -0.10695 -0.02586 -0.11181 E">
                                      <p:cBhvr>
                                        <p:cTn id="384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0046 C 0.0007 0.00301 0.00191 0.01204 0.00139 0.01991 C 0.00087 0.02778 -0.00052 0.03866 -0.00208 0.04676 C -0.00364 0.05486 -0.00572 0.0625 -0.00763 0.06898 C -0.00954 0.07547 -0.01041 0.07847 -0.01319 0.08565 C -0.01597 0.09283 -0.02013 0.10209 -0.0243 0.11158 E">
                                      <p:cBhvr>
                                        <p:cTn id="419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5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500"/>
                            </p:stCondLst>
                            <p:childTnLst>
                              <p:par>
                                <p:cTn id="4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150840" y="1509840"/>
            <a:ext cx="4109760" cy="3957120"/>
            <a:chOff x="150840" y="1509840"/>
            <a:chExt cx="4109760" cy="3957120"/>
          </a:xfrm>
        </p:grpSpPr>
        <p:sp>
          <p:nvSpPr>
            <p:cNvPr id="427" name=""/>
            <p:cNvSpPr/>
            <p:nvPr/>
          </p:nvSpPr>
          <p:spPr>
            <a:xfrm>
              <a:off x="475920" y="2158920"/>
              <a:ext cx="3307680" cy="29984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0840" y="365616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135520" y="1670760"/>
              <a:ext cx="0" cy="3796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53280" y="15098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89520" y="362484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727520" y="1527120"/>
            <a:ext cx="4109760" cy="3957840"/>
            <a:chOff x="4727520" y="1527120"/>
            <a:chExt cx="4109760" cy="3957840"/>
          </a:xfrm>
        </p:grpSpPr>
        <p:sp>
          <p:nvSpPr>
            <p:cNvPr id="433" name=""/>
            <p:cNvSpPr/>
            <p:nvPr/>
          </p:nvSpPr>
          <p:spPr>
            <a:xfrm>
              <a:off x="5052600" y="2176560"/>
              <a:ext cx="3307680" cy="29988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27520" y="367344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712200" y="1688400"/>
              <a:ext cx="0" cy="3796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29960" y="152712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566200" y="3642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79280" y="4724280"/>
                <a:ext cx="59868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885080" y="1125360"/>
                <a:ext cx="9320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3749760" y="32767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313840" y="33098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2340000" y="5300640"/>
                <a:ext cx="1440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427640" y="5300640"/>
                <a:ext cx="19461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6726240" y="3673440"/>
            <a:ext cx="1079640" cy="10796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28840" y="2558880"/>
            <a:ext cx="0" cy="107964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136240" y="2546280"/>
            <a:ext cx="1079640" cy="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828800" y="2298600"/>
                <a:ext cx="266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3102120" y="3716280"/>
                <a:ext cx="2664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348000" y="1989000"/>
                <a:ext cx="15001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7667640" y="4757760"/>
                <a:ext cx="13604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 flipH="1">
            <a:off x="6678360" y="4768920"/>
            <a:ext cx="1152360" cy="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837560" y="3678120"/>
            <a:ext cx="0" cy="108108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6294600" y="4521240"/>
                <a:ext cx="396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7667640" y="3141720"/>
                <a:ext cx="309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985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 на угол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152800" y="2545920"/>
            <a:ext cx="1069920" cy="10890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3920" y="361008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10600" y="362736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C -3.61111E-006 -0.00371 0.00052 -0.01297 -0.00017 -0.02199 C -0.00086 -0.03102 -0.00191 -0.04352 -0.00434 -0.0544 C -0.00677 -0.06528 -0.01145 -0.07824 -0.01475 -0.08774 C -0.01805 -0.09723 -0.021 -0.10463 -0.02448 -0.11181 C -0.02795 -0.11899 -0.03194 -0.12454 -0.03559 -0.13033 C -0.03923 -0.13612 -0.04184 -0.14051 -0.046 -0.14607 C -0.05017 -0.15162 -0.05798 -0.16019 -0.06111 -0.16389 E">
                                      <p:cBhvr>
                                        <p:cTn id="458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0046 C 0.00053 0.00764 0.00105 0.01574 0.0007 0.02269 C 0.00035 0.02963 -0.00086 0.03472 -0.00208 0.04121 C -0.00329 0.04769 -0.00468 0.05486 -0.00625 0.06158 C -0.00781 0.06829 -0.0092 0.07523 -0.01111 0.08102 C -0.01302 0.08681 -0.01545 0.09144 -0.01736 0.09584 C -0.01927 0.10023 -0.021 0.10347 -0.02291 0.10787 C -0.02482 0.11227 -0.02638 0.11783 -0.02916 0.12269 C -0.03194 0.12755 -0.03645 0.13264 -0.03958 0.1375 C -0.0427 0.14236 -0.04513 0.14792 -0.04791 0.15139 C -0.05069 0.15486 -0.05347 0.15672 -0.05625 0.1588 E">
                                      <p:cBhvr>
                                        <p:cTn id="493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150840" y="1509840"/>
            <a:ext cx="4109760" cy="3957120"/>
            <a:chOff x="150840" y="1509840"/>
            <a:chExt cx="4109760" cy="3957120"/>
          </a:xfrm>
        </p:grpSpPr>
        <p:sp>
          <p:nvSpPr>
            <p:cNvPr id="460" name=""/>
            <p:cNvSpPr/>
            <p:nvPr/>
          </p:nvSpPr>
          <p:spPr>
            <a:xfrm>
              <a:off x="475920" y="2158920"/>
              <a:ext cx="3307680" cy="29984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0840" y="365616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2135520" y="1670760"/>
              <a:ext cx="0" cy="3796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53280" y="15098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89520" y="362484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727520" y="1527120"/>
            <a:ext cx="4109760" cy="3957840"/>
            <a:chOff x="4727520" y="1527120"/>
            <a:chExt cx="4109760" cy="3957840"/>
          </a:xfrm>
        </p:grpSpPr>
        <p:sp>
          <p:nvSpPr>
            <p:cNvPr id="466" name=""/>
            <p:cNvSpPr/>
            <p:nvPr/>
          </p:nvSpPr>
          <p:spPr>
            <a:xfrm>
              <a:off x="5052600" y="2176560"/>
              <a:ext cx="3307680" cy="29988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27520" y="367344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712200" y="1688400"/>
              <a:ext cx="0" cy="3796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29960" y="152712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566200" y="3642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9280" y="4724280"/>
                <a:ext cx="59868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7885080" y="1125360"/>
                <a:ext cx="9320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3749760" y="32767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313840" y="33098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340000" y="5300640"/>
                <a:ext cx="1440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4427640" y="5300640"/>
                <a:ext cx="19461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6707160" y="3660840"/>
            <a:ext cx="804960" cy="13334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123640" y="2336760"/>
            <a:ext cx="792360" cy="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03400" y="2333520"/>
            <a:ext cx="6480" cy="131148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2843280" y="3716280"/>
                <a:ext cx="189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763640" y="2276640"/>
                <a:ext cx="30960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916360" y="1770120"/>
                <a:ext cx="1150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658280" y="4560840"/>
                <a:ext cx="14572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 flipH="1">
            <a:off x="6706800" y="4987800"/>
            <a:ext cx="792360" cy="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7505280" y="3657600"/>
            <a:ext cx="19080" cy="133020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265800" y="4678200"/>
                <a:ext cx="4017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451640" y="3141720"/>
                <a:ext cx="1778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985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 на угол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146320" y="2342880"/>
            <a:ext cx="755640" cy="13050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33920" y="361008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0600" y="362736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C 0.00018 -0.00348 0.00174 -0.01412 0.00122 -0.02107 C 0.0007 -0.02801 -0.00173 -0.03565 -0.00295 -0.04237 C -0.00416 -0.04908 -0.00503 -0.05533 -0.00642 -0.06181 C -0.00781 -0.06829 -0.00937 -0.075 -0.01128 -0.08125 C -0.01319 -0.0875 -0.01545 -0.0926 -0.01823 -0.09885 C -0.021 -0.1051 -0.0243 -0.11297 -0.02795 -0.11922 C -0.03159 -0.12547 -0.03541 -0.13056 -0.03975 -0.13681 C -0.04409 -0.14306 -0.04948 -0.15139 -0.05434 -0.15718 C -0.0592 -0.16297 -0.06406 -0.1669 -0.06875 -0.1713 C -0.07343 -0.1757 -0.07777 -0.17963 -0.08194 -0.18334 C -0.08611 -0.18704 -0.09149 -0.1919 -0.09392 -0.19422 E">
                                      <p:cBhvr>
                                        <p:cTn id="532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22222E-006 C -4.44444E-006 0.00417 0.00053 0.01759 -4.44444E-006 0.02547 C -0.00052 0.03334 -0.00156 0.04005 -0.00277 0.04769 C -0.00399 0.05533 -0.0052 0.06273 -0.00763 0.07084 C -0.01006 0.07894 -0.01336 0.08681 -0.01736 0.09584 C -0.02135 0.10486 -0.02638 0.11644 -0.03125 0.12547 C -0.03611 0.13449 -0.04079 0.14213 -0.04652 0.14954 C -0.05225 0.15695 -0.0592 0.16412 -0.06527 0.16991 C -0.07135 0.1757 -0.07899 0.18125 -0.08333 0.18472 C -0.08767 0.1882 -0.08941 0.18982 -0.09097 0.19121 E">
                                      <p:cBhvr>
                                        <p:cTn id="567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500"/>
                            </p:stCondLst>
                            <p:childTnLst>
                              <p:par>
                                <p:cTn id="5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150840" y="1509840"/>
            <a:ext cx="4109760" cy="3957120"/>
            <a:chOff x="150840" y="1509840"/>
            <a:chExt cx="4109760" cy="3957120"/>
          </a:xfrm>
        </p:grpSpPr>
        <p:sp>
          <p:nvSpPr>
            <p:cNvPr id="493" name=""/>
            <p:cNvSpPr/>
            <p:nvPr/>
          </p:nvSpPr>
          <p:spPr>
            <a:xfrm>
              <a:off x="475920" y="2158920"/>
              <a:ext cx="3307680" cy="29984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0840" y="365616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135520" y="1670760"/>
              <a:ext cx="0" cy="3796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53280" y="15098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89520" y="362484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3733920" y="361008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727520" y="1527120"/>
            <a:ext cx="4109760" cy="3957840"/>
            <a:chOff x="4727520" y="1527120"/>
            <a:chExt cx="4109760" cy="3957840"/>
          </a:xfrm>
        </p:grpSpPr>
        <p:sp>
          <p:nvSpPr>
            <p:cNvPr id="500" name=""/>
            <p:cNvSpPr/>
            <p:nvPr/>
          </p:nvSpPr>
          <p:spPr>
            <a:xfrm>
              <a:off x="5052600" y="2176560"/>
              <a:ext cx="3307680" cy="29988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27520" y="367344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6712200" y="1688400"/>
              <a:ext cx="0" cy="3796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29960" y="152712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566200" y="3642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8310600" y="362736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985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 на угол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3203640" y="1125360"/>
                <a:ext cx="7351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7740720" y="1125360"/>
                <a:ext cx="106524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3749760" y="32767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313840" y="33098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971640" y="5229360"/>
                <a:ext cx="2520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148360" y="5229360"/>
                <a:ext cx="30240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C 4.16667E-006 -0.12223 -0.08039 -0.22107 -0.17987 -0.21783 C -0.27726 -0.22084 -0.36146 -0.1213 -0.36146 4.81481E-006 C -0.36059 0.12152 -0.2783 0.21944 -0.18073 0.21944 C -0.08177 0.21944 4.16667E-006 0.12083 4.16667E-006 4.81481E-006 Z">
                                      <p:cBhvr>
                                        <p:cTn id="606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7 C 2.77778E-006 -0.1206 -0.08125 -0.21852 -0.18073 -0.21852 C -0.28021 -0.21852 -0.36146 -0.1206 -0.36146 3.7037E-007 C -0.36129 0.12083 -0.28038 0.22014 -0.18073 0.22014 C -0.08125 0.22014 2.77778E-006 0.12083 2.77778E-006 3.7037E-007 Z">
                                      <p:cBhvr>
                                        <p:cTn id="609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C -3.61111E-006 -0.00463 0.00035 -0.01945 -0.00017 -0.02755 C -0.00069 -0.03565 -0.00173 -0.04051 -0.00347 -0.04815 C -0.0052 -0.05579 -0.00781 -0.06598 -0.01041 -0.07408 C -0.01302 -0.08218 -0.01562 -0.08959 -0.01875 -0.09723 C -0.02187 -0.10487 -0.02552 -0.11274 -0.02916 -0.11945 C -0.03281 -0.12616 -0.03576 -0.13125 -0.04027 -0.13797 C -0.04479 -0.14468 -0.05086 -0.15348 -0.05642 -0.15996 C -0.06198 -0.16644 -0.06718 -0.17176 -0.07309 -0.17662 C -0.07899 -0.18149 -0.08541 -0.18588 -0.09166 -0.18982 C -0.09791 -0.19375 -0.10364 -0.19653 -0.11041 -0.2 C -0.11718 -0.20348 -0.12517 -0.20741 -0.13264 -0.21019 C -0.1401 -0.21297 -0.14878 -0.21505 -0.15573 -0.21644 C -0.16267 -0.21783 -0.17014 -0.21829 -0.1743 -0.21852 C -0.17847 -0.21875 -0.17968 -0.21875 -0.18055 -0.21852 E">
                                      <p:cBhvr>
                                        <p:cTn id="612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C 4.16667E-006 -0.12223 -0.08039 -0.22107 -0.17987 -0.21783 C -0.27726 -0.22084 -0.36146 -0.1213 -0.36146 4.81481E-006 C -0.36059 0.12152 -0.2783 0.21944 -0.18073 0.21944 C -0.08177 0.21944 4.16667E-006 0.12083 4.16667E-006 4.81481E-006 Z">
                                      <p:cBhvr>
                                        <p:cTn id="621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46 C -0.00034 0.12037 -0.08072 0.21991 -0.17916 0.21991 C -0.27795 0.21991 -0.36111 0.1213 -0.36111 0.00047 C -0.36111 -0.1206 -0.27795 -0.21944 -0.17916 -0.21944 C -0.08072 -0.21944 -0.00034 -0.12153 -0.00034 -0.00046 Z">
                                      <p:cBhvr>
                                        <p:cTn id="624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22222E-006 C 0.00018 0.00417 0.00157 0.01528 0.0007 0.02454 C -0.00017 0.0338 -0.0026 0.04491 -0.00486 0.05509 C -0.00711 0.06528 -0.00902 0.07431 -0.01319 0.08565 C -0.01736 0.09699 -0.02309 0.11065 -0.02986 0.12269 C -0.03663 0.13472 -0.046 0.14815 -0.05347 0.15741 C -0.06093 0.16667 -0.06718 0.17199 -0.075 0.17871 C -0.08281 0.18542 -0.09114 0.19283 -0.1 0.19815 C -0.10885 0.20347 -0.11875 0.20695 -0.12777 0.21019 C -0.1368 0.21343 -0.14566 0.21528 -0.15416 0.21713 C -0.16267 0.21898 -0.17395 0.22014 -0.17916 0.22084 E">
                                      <p:cBhvr>
                                        <p:cTn id="627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№ </a:t>
            </a: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235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2119320" y="1911240"/>
            <a:ext cx="1758960" cy="165276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46160" y="2735280"/>
            <a:ext cx="216396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002040" y="1641600"/>
            <a:ext cx="0" cy="20923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894120" y="2685960"/>
            <a:ext cx="2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48040" y="2697120"/>
            <a:ext cx="68400" cy="6516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05600" y="1920960"/>
            <a:ext cx="1758960" cy="165240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932440" y="2744640"/>
            <a:ext cx="216396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6988320" y="1650960"/>
            <a:ext cx="0" cy="20923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880400" y="269568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834320" y="2706840"/>
            <a:ext cx="68400" cy="648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58920" y="4363920"/>
            <a:ext cx="1758960" cy="165276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86120" y="5187960"/>
            <a:ext cx="216360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041640" y="4094280"/>
            <a:ext cx="0" cy="20923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00360" y="393372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933720" y="5138640"/>
            <a:ext cx="2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87640" y="5149800"/>
            <a:ext cx="68400" cy="6516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1187280" y="1844640"/>
                <a:ext cx="409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859280" y="1844640"/>
                <a:ext cx="6732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923760" y="3933720"/>
                <a:ext cx="6494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 flipV="1">
            <a:off x="3002040" y="2133720"/>
            <a:ext cx="611280" cy="5983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88080" y="2506680"/>
            <a:ext cx="288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1112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3390840" y="2330280"/>
                <a:ext cx="157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6986520" y="2741760"/>
            <a:ext cx="433440" cy="7207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7065000" y="2413800"/>
            <a:ext cx="288000" cy="68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1112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7335720" y="2862360"/>
                <a:ext cx="2588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 flipH="1" flipV="1">
            <a:off x="2464920" y="4584240"/>
            <a:ext cx="576360" cy="5986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60920" y="4800600"/>
            <a:ext cx="144072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1112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224160" y="4584600"/>
                <a:ext cx="223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6135840" y="4346640"/>
            <a:ext cx="1758960" cy="165240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62680" y="5170320"/>
            <a:ext cx="2163600" cy="180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018200" y="4076640"/>
            <a:ext cx="1800" cy="20923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910640" y="5121360"/>
            <a:ext cx="2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864560" y="5132520"/>
            <a:ext cx="68040" cy="648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5207040" y="3959280"/>
                <a:ext cx="8492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 flipH="1">
            <a:off x="6516720" y="5167440"/>
            <a:ext cx="503280" cy="6969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6166080" y="4757400"/>
            <a:ext cx="1152000" cy="81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1112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174080" y="5359320"/>
                <a:ext cx="3254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700360" y="148428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94560" y="151920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19760" y="394164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3.33333E-006 C -0.00069 -0.00556 -0.00034 -0.01088 -0.00087 -0.01598 C -0.00139 -0.02107 -0.00278 -0.02616 -0.00399 -0.03125 C -0.00521 -0.03635 -0.00642 -0.04144 -0.00816 -0.04653 C -0.00989 -0.05162 -0.01198 -0.05672 -0.01441 -0.06181 C -0.01684 -0.0669 -0.02066 -0.07361 -0.02326 -0.07778 C -0.02587 -0.08195 -0.02795 -0.08449 -0.03003 -0.08681 E">
                                      <p:cBhvr>
                                        <p:cTn id="633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7 C -3.61110999999998E-006 0.00486 -0.00034 0.01041 -0.00121 0.01666 C -0.00208 0.02291 -0.00295 0.03009 -0.00486 0.0375 C -0.00677 0.0449 -0.00954 0.05347 -0.01267 0.06041 C -0.01579 0.06736 -0.01961 0.07384 -0.02361 0.07986 C -0.0276 0.08588 -0.03281 0.09143 -0.03715 0.09583 C -0.04149 0.10023 -0.04531 0.10277 -0.04913 0.10555 E">
                                      <p:cBhvr>
                                        <p:cTn id="651" dur="2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092 C -0.00052 -0.00949 -0.00104 -0.01805 -0.00243 -0.02592 C -0.00382 -0.03379 -0.0059 -0.0412 -0.00816 -0.04815 C -0.01041 -0.05509 -0.01319 -0.06134 -0.01597 -0.0669 C -0.01875 -0.07245 -0.02257 -0.07778 -0.02482 -0.08078 C -0.02708 -0.08379 -0.02864 -0.08472 -0.03003 -0.08565 E">
                                      <p:cBhvr>
                                        <p:cTn id="669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03 -0.08565 C -0.03194 -0.0875 -0.03715 -0.09352 -0.04097 -0.09676 C -0.04479 -0.1 -0.04913 -0.10301 -0.05347 -0.10578 C -0.05781 -0.10856 -0.06232 -0.11134 -0.06701 -0.11342 C -0.0717 -0.11551 -0.07725 -0.11736 -0.08159 -0.11828 C -0.08594 -0.11921 -0.09114 -0.11875 -0.09357 -0.11898 C -0.096 -0.11921 -0.096 -0.12014 -0.0967 -0.12037 E">
                                      <p:cBhvr>
                                        <p:cTn id="673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7 -0.12036 C -0.10121 -0.12036 -0.10573 -0.12036 -0.11128 -0.11897 C -0.11684 -0.11759 -0.125 -0.11411 -0.13003 -0.11203 C -0.13507 -0.10995 -0.13802 -0.10786 -0.14149 -0.10578 C -0.14496 -0.1037 -0.14809 -0.10161 -0.15139 -0.09884 C -0.15469 -0.09606 -0.15798 -0.09259 -0.16128 -0.08911 E">
                                      <p:cBhvr>
                                        <p:cTn id="677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93 C 1.38888999999998E-006 0.00579 -0.00035 0.0125 -0.00122 0.01921 C -0.00208 0.02593 -0.00365 0.0331 -0.00538 0.03935 C -0.00712 0.0456 -0.0092 0.05185 -0.01163 0.05741 C -0.01406 0.06296 -0.01788 0.06782 -0.02049 0.07268 C -0.02309 0.07755 -0.02517 0.08356 -0.02778 0.08727 C -0.03038 0.09097 -0.03299 0.09213 -0.03611 0.09491 C -0.03924 0.09768 -0.04288 0.10116 -0.04653 0.10463 E">
                                      <p:cBhvr>
                                        <p:cTn id="695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0.10462 C -0.05069 0.10787 -0.05486 0.11134 -0.05955 0.11365 C -0.06424 0.11597 -0.06979 0.11712 -0.07465 0.11851 C -0.07951 0.1199 -0.08385 0.12129 -0.08872 0.12199 C -0.09358 0.12268 -0.09913 0.12222 -0.10382 0.12199 C -0.10851 0.12175 -0.11319 0.12175 -0.11736 0.1206 C -0.12153 0.11944 -0.12517 0.11689 -0.12882 0.11504 C -0.13247 0.11319 -0.13629 0.11111 -0.13924 0.10949 C -0.14219 0.10787 -0.14479 0.10578 -0.14653 0.10462 C -0.14826 0.10347 -0.14931 0.10254 -0.15017 0.10185 E">
                                      <p:cBhvr>
                                        <p:cTn id="699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№ </a:t>
            </a: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235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2166840" y="1916280"/>
            <a:ext cx="1758960" cy="165240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94040" y="2739960"/>
            <a:ext cx="216360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049560" y="1646280"/>
            <a:ext cx="0" cy="20923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941640" y="2690640"/>
            <a:ext cx="2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95560" y="2701800"/>
            <a:ext cx="68400" cy="6516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05600" y="1920960"/>
            <a:ext cx="1758960" cy="165240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32440" y="2744640"/>
            <a:ext cx="216396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988320" y="1650960"/>
            <a:ext cx="0" cy="20923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880400" y="269568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34320" y="2706840"/>
            <a:ext cx="68400" cy="648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24440" y="282600"/>
            <a:ext cx="18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158920" y="4363920"/>
            <a:ext cx="1758960" cy="165276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86120" y="5187960"/>
            <a:ext cx="216360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041640" y="4094280"/>
            <a:ext cx="0" cy="20923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00360" y="393372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933720" y="5138640"/>
            <a:ext cx="2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887640" y="5149800"/>
            <a:ext cx="68400" cy="6516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684360" y="1628640"/>
                <a:ext cx="12236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4284720" y="1628640"/>
                <a:ext cx="158256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84360" y="3645000"/>
                <a:ext cx="14396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3106800" y="1488960"/>
                <a:ext cx="156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781600" y="2535120"/>
                <a:ext cx="34920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3061440" y="4941720"/>
            <a:ext cx="430560" cy="4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1112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708360" y="4221000"/>
                <a:ext cx="157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6135840" y="4346640"/>
            <a:ext cx="1758960" cy="165240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62680" y="5170320"/>
            <a:ext cx="2163600" cy="180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7018200" y="4076640"/>
            <a:ext cx="1800" cy="20923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910640" y="5121360"/>
            <a:ext cx="2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864560" y="5132520"/>
            <a:ext cx="68040" cy="648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284720" y="3645000"/>
                <a:ext cx="165564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7020000" y="5167440"/>
            <a:ext cx="431640" cy="7095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050240" y="4757400"/>
            <a:ext cx="431280" cy="81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1112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7524720" y="5805360"/>
                <a:ext cx="2588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2747880" y="148896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88000" y="148428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719760" y="394164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2614320" y="2347920"/>
            <a:ext cx="817200" cy="804240"/>
            <a:chOff x="2614320" y="2347920"/>
            <a:chExt cx="817200" cy="804240"/>
          </a:xfrm>
        </p:grpSpPr>
        <p:sp>
          <p:nvSpPr>
            <p:cNvPr id="592" name=""/>
            <p:cNvSpPr/>
            <p:nvPr/>
          </p:nvSpPr>
          <p:spPr>
            <a:xfrm>
              <a:off x="2767320" y="2444760"/>
              <a:ext cx="57384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2766960" y="2444760"/>
              <a:ext cx="57744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rot="10487400">
              <a:off x="2638440" y="2456640"/>
              <a:ext cx="768240" cy="57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0800000">
              <a:off x="2767320" y="2451600"/>
              <a:ext cx="57384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rot="5203200">
              <a:off x="2692800" y="2423160"/>
              <a:ext cx="768240" cy="65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588360" y="2363400"/>
            <a:ext cx="795600" cy="767880"/>
            <a:chOff x="6588360" y="2363400"/>
            <a:chExt cx="795600" cy="767880"/>
          </a:xfrm>
        </p:grpSpPr>
        <p:sp>
          <p:nvSpPr>
            <p:cNvPr id="598" name=""/>
            <p:cNvSpPr/>
            <p:nvPr/>
          </p:nvSpPr>
          <p:spPr>
            <a:xfrm flipV="1">
              <a:off x="6667920" y="2404440"/>
              <a:ext cx="666000" cy="6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6659640" y="2404440"/>
              <a:ext cx="666000" cy="6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6659640" y="2406600"/>
              <a:ext cx="666000" cy="6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3040" y="2411280"/>
              <a:ext cx="786960" cy="6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6588360" y="2372400"/>
              <a:ext cx="786960" cy="75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6597720" y="2363040"/>
              <a:ext cx="786240" cy="75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1112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 flipV="1">
            <a:off x="3059280" y="4581000"/>
            <a:ext cx="576000" cy="5763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rot="6744000">
            <a:off x="2895480" y="4738320"/>
            <a:ext cx="748440" cy="82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24" y="88"/>
                </a:moveTo>
                <a:arcTo wR="10800" hR="10800" stAng="-5839037" swAng="5839037"/>
                <a:lnTo>
                  <a:pt x="10800" y="10800"/>
                </a:lnTo>
                <a:close/>
              </a:path>
              <a:path fill="none" w="21600" h="21600">
                <a:moveTo>
                  <a:pt x="9424" y="88"/>
                </a:moveTo>
                <a:arcTo wR="10800" hR="10800" stAng="-5839037" swAng="5839037"/>
              </a:path>
            </a:pathLst>
          </a:custGeom>
          <a:noFill/>
          <a:ln w="12600">
            <a:solidFill>
              <a:srgbClr val="f1112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rot="3155400">
            <a:off x="6707160" y="4798800"/>
            <a:ext cx="7898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1112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33333E-006 C -0.00052 -0.00811 -0.00087 -0.01598 -0.00208 -0.02361 C -0.0033 -0.03125 -0.00521 -0.03912 -0.00781 -0.04653 C -0.01042 -0.05394 -0.01389 -0.06181 -0.01771 -0.06875 C -0.02153 -0.0757 -0.02622 -0.08241 -0.03125 -0.0882 C -0.03629 -0.09398 -0.04184 -0.09861 -0.04792 -0.10278 C -0.05399 -0.10695 -0.06181 -0.11042 -0.06771 -0.1132 C -0.07361 -0.11598 -0.07865 -0.11783 -0.08333 -0.11875 C -0.08802 -0.11968 -0.09219 -0.11968 -0.09635 -0.11945 E">
                                      <p:cBhvr>
                                        <p:cTn id="719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36 -0.11945 C -0.10208 -0.11922 -0.11059 -0.11875 -0.11667 -0.11736 C -0.12274 -0.11598 -0.12795 -0.1132 -0.13333 -0.11042 C -0.13872 -0.10764 -0.1441 -0.10417 -0.14896 -0.1 C -0.15382 -0.09584 -0.15886 -0.09051 -0.16302 -0.08542 C -0.16719 -0.08033 -0.17031 -0.07662 -0.17396 -0.07014 C -0.17761 -0.06366 -0.18177 -0.05463 -0.18438 -0.04723 C -0.18698 -0.03982 -0.1882 -0.03241 -0.18958 -0.0257 C -0.19097 -0.01898 -0.19184 -0.0125 -0.19219 -0.00695 C -0.19254 -0.00139 -0.19236 0.00092 -0.19167 0.00833 C -0.19097 0.01574 -0.19063 0.02801 -0.18802 0.03819 C -0.18542 0.04838 -0.18125 0.05995 -0.17656 0.06875 C -0.17188 0.07754 -0.16528 0.08495 -0.1599 0.09097 C -0.15452 0.09699 -0.14983 0.10069 -0.14427 0.10486 C -0.13872 0.10902 -0.13351 0.1125 -0.12656 0.11527 C -0.11962 0.11805 -0.11007 0.12129 -0.10261 0.12222 C -0.09514 0.12314 -0.08802 0.12268 -0.08125 0.12152 C -0.07448 0.12037 -0.06823 0.11828 -0.06146 0.11458 C -0.05469 0.11088 -0.0467 0.10463 -0.04011 0.09861 C -0.03351 0.09259 -0.02795 0.08703 -0.0224 0.07847 C -0.01684 0.0699 -0.0099 0.05625 -0.00625 0.04652 C -0.00261 0.0368 -0.00156 0.02777 -0.00052 0.01944 C 0.00052 0.01111 0.00104 0.00532 0.00052 -0.00348 C 8.33332999999967E-007 -0.01227 -0.00087 -0.02385 -0.00313 -0.03334 C -0.00538 -0.04283 -0.00868 -0.05255 -0.01302 -0.06111 C -0.01736 -0.06968 -0.02327 -0.07848 -0.02865 -0.08473 C -0.03403 -0.09098 -0.03872 -0.09468 -0.04479 -0.09931 C -0.05087 -0.10394 -0.05886 -0.10949 -0.06511 -0.1125 C -0.07136 -0.11551 -0.07726 -0.11713 -0.08229 -0.11806 C -0.08733 -0.11898 -0.09063 -0.11968 -0.09636 -0.11945 Z">
                                      <p:cBhvr>
                                        <p:cTn id="723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-0.00035 0.01041 -0.0007 0.02106 -0.00313 0.03194 C -0.00556 0.04282 -0.00973 0.05578 -0.01511 0.06597 C -0.02049 0.07615 -0.02865 0.08634 -0.03542 0.09375 C -0.04219 0.10115 -0.04896 0.10601 -0.05625 0.11041 C -0.06354 0.11481 -0.0724 0.11759 -0.07917 0.11944 C -0.08594 0.12129 -0.08941 0.12199 -0.09688 0.12152 C -0.10434 0.12106 -0.11511 0.1206 -0.12396 0.11736 C -0.13282 0.11412 -0.14236 0.10763 -0.15 0.10138 C -0.15764 0.09513 -0.16389 0.09027 -0.17032 0.07916 C -0.17674 0.06805 -0.18473 0.04861 -0.18854 0.03541 C -0.19236 0.02222 -0.19219 0.00671 -0.19323 -0.0007 E">
                                      <p:cBhvr>
                                        <p:cTn id="738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323 -0.0007 C -0.19271 -0.00625 -0.19184 -0.02014 -0.19011 -0.02917 C -0.18837 -0.0382 -0.18594 -0.04723 -0.18229 -0.05556 C -0.17865 -0.06389 -0.17344 -0.072 -0.16823 -0.07917 C -0.16302 -0.08635 -0.15764 -0.09375 -0.15104 -0.09931 C -0.14445 -0.10487 -0.13664 -0.10973 -0.12865 -0.1132 C -0.12066 -0.11667 -0.10782 -0.11922 -0.10313 -0.12014 C -0.09844 -0.12107 -0.1033 -0.11899 -0.10052 -0.11875 C -0.09775 -0.11852 -0.0915 -0.11968 -0.08594 -0.11875 C -0.08039 -0.11783 -0.07361 -0.11598 -0.06667 -0.1132 C -0.05973 -0.11042 -0.05139 -0.10718 -0.04427 -0.10139 C -0.03716 -0.09561 -0.03021 -0.0875 -0.02448 -0.07917 C -0.01875 -0.07084 -0.0132 -0.06181 -0.00938 -0.0507 C -0.00556 -0.03959 -0.00226 -0.02408 -0.00104 -0.0125 C 0.00017 -0.00093 -0.00035 0.0081 -0.00209 0.01944 C -0.00382 0.03078 -0.00816 0.04675 -0.01146 0.05625 C -0.01476 0.06574 -0.01771 0.0699 -0.02188 0.07638 C -0.02604 0.08287 -0.03125 0.09004 -0.03698 0.09583 C -0.04271 0.10162 -0.04931 0.10648 -0.05625 0.11041 C -0.0632 0.11435 -0.07066 0.11782 -0.07865 0.11944 C -0.08664 0.12106 -0.09427 0.12268 -0.10469 0.12083 C -0.11511 0.11898 -0.13177 0.11412 -0.14167 0.10833 C -0.15157 0.10254 -0.15764 0.09421 -0.16407 0.08611 C -0.17049 0.078 -0.17622 0.06828 -0.18021 0.05972 C -0.1842 0.05115 -0.18646 0.04398 -0.18854 0.03472 C -0.19063 0.02546 -0.19236 0.01088 -0.19323 0.00486 C -0.1941 -0.00116 -0.19375 0.00486 -0.19323 -0.0007 Z">
                                      <p:cBhvr>
                                        <p:cTn id="742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07 C -0.00087 -0.00764 -0.00139 -0.01459 -0.00226 -0.02084 C -0.00313 -0.02709 -0.00434 -0.03264 -0.0059 -0.0382 C -0.00747 -0.04375 -0.00955 -0.04908 -0.01163 -0.05417 C -0.01372 -0.05926 -0.01545 -0.06459 -0.01788 -0.06875 C -0.02031 -0.07292 -0.02413 -0.07616 -0.02622 -0.07917 C -0.0283 -0.08218 -0.02969 -0.0845 -0.0309 -0.08681 E">
                                      <p:cBhvr>
                                        <p:cTn id="751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1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9 -0.08681 C -0.0283 -0.08334 -0.0224 -0.07709 -0.01892 -0.07153 C -0.01545 -0.06598 -0.0125 -0.05973 -0.01007 -0.05348 C -0.00764 -0.04723 -0.00538 -0.04051 -0.00382 -0.03403 C -0.00226 -0.02755 -0.00104 -0.01922 -0.00017 -0.01389 C 0.00069 -0.00857 0.00139 -0.00625 0.00139 -0.00139 C 0.00139 0.00347 0.00017 0.01041 -0.00069 0.01597 C -0.00156 0.02152 -0.0026 0.02708 -0.00382 0.03263 C -0.00504 0.03819 -0.0059 0.04351 -0.00799 0.0493 C -0.01007 0.05509 -0.01319 0.06088 -0.01632 0.06666 C -0.01944 0.07245 -0.02257 0.07824 -0.02674 0.08402 C -0.0309 0.08981 -0.03681 0.09699 -0.04184 0.10138 C -0.04688 0.10578 -0.05139 0.1081 -0.05694 0.11111 C -0.0625 0.11412 -0.06927 0.11851 -0.07517 0.12013 C -0.08108 0.12175 -0.08785 0.12129 -0.09288 0.12152 C -0.09792 0.12175 -0.10069 0.12222 -0.10538 0.12152 C -0.11007 0.12083 -0.11597 0.11921 -0.12101 0.11736 C -0.12604 0.1155 -0.1309 0.11273 -0.13559 0.11041 C -0.14028 0.1081 -0.14497 0.10625 -0.14913 0.10277 C -0.1533 0.0993 -0.15712 0.09444 -0.16111 0.08958 C -0.1651 0.08472 -0.16875 0.08101 -0.17257 0.0743 C -0.17639 0.06759 -0.18142 0.05879 -0.18455 0.0493 C -0.18767 0.03981 -0.19028 0.02893 -0.19132 0.01805 C -0.19236 0.00717 -0.19271 -0.0044 -0.19132 -0.01598 C -0.18993 -0.02755 -0.18611 -0.04098 -0.18247 -0.05139 C -0.17882 -0.06181 -0.17483 -0.06991 -0.16944 -0.07778 C -0.16406 -0.08565 -0.15712 -0.09352 -0.15017 -0.09931 C -0.14323 -0.1051 -0.13524 -0.10926 -0.12726 -0.1125 C -0.11927 -0.11575 -0.10938 -0.11783 -0.10226 -0.11875 C -0.09514 -0.11968 -0.09045 -0.11968 -0.08455 -0.11875 C -0.07865 -0.11783 -0.07257 -0.11551 -0.06684 -0.1132 C -0.06111 -0.11088 -0.05556 -0.10764 -0.05017 -0.10417 C -0.04479 -0.1007 -0.03767 -0.09514 -0.03455 -0.09237 C -0.03142 -0.08959 -0.03351 -0.09028 -0.0309 -0.08681 Z">
                                      <p:cBhvr>
                                        <p:cTn id="778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3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500"/>
                            </p:stCondLst>
                            <p:childTnLst>
                              <p:par>
                                <p:cTn id="7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9 -0.08681 C -0.02691 -0.08195 -0.02274 -0.07662 -0.01892 -0.07014 C -0.0151 -0.06366 -0.01094 -0.05579 -0.00799 -0.04723 C -0.00504 -0.03866 -0.00295 -0.02963 -0.00174 -0.01945 C -0.00052 -0.00926 -0.00017 0.00486 -0.00069 0.01458 C -0.00122 0.0243 -0.00226 0.03009 -0.00486 0.03888 C -0.00747 0.04768 -0.01215 0.05949 -0.01632 0.06805 C -0.02049 0.07662 -0.02344 0.0831 -0.02986 0.09027 C -0.03629 0.09745 -0.0474 0.10601 -0.05538 0.11111 C -0.06337 0.1162 -0.07135 0.11898 -0.0783 0.12083 C -0.08524 0.12268 -0.08976 0.12245 -0.09653 0.12222 C -0.1033 0.12199 -0.11267 0.1206 -0.11944 0.11875 C -0.12622 0.11689 -0.1316 0.11365 -0.13715 0.11041 C -0.14271 0.10717 -0.14792 0.1037 -0.15278 0.0993 C -0.15764 0.0949 -0.16267 0.08935 -0.16684 0.08333 C -0.17101 0.07731 -0.17413 0.07152 -0.17778 0.06388 C -0.18142 0.05625 -0.18629 0.0493 -0.18872 0.03819 C -0.19115 0.02708 -0.19271 0.00995 -0.19236 -0.00278 C -0.19201 -0.01551 -0.19045 -0.02686 -0.18715 -0.0382 C -0.18385 -0.04954 -0.17899 -0.06112 -0.17257 -0.07153 C -0.16615 -0.08195 -0.15747 -0.09352 -0.14861 -0.1007 C -0.13976 -0.10787 -0.12951 -0.11227 -0.11944 -0.11528 C -0.10938 -0.11829 -0.09792 -0.11945 -0.08819 -0.11875 C -0.07847 -0.11806 -0.06858 -0.11436 -0.06111 -0.11112 C -0.05365 -0.10787 -0.04844 -0.10348 -0.0434 -0.09931 C -0.03837 -0.09514 -0.0349 -0.09167 -0.0309 -0.08681 Z">
                                      <p:cBhvr>
                                        <p:cTn id="787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0093 C -0.00035 0.00787 -0.00105 0.01667 -0.00226 0.02477 C -0.00348 0.03287 -0.00469 0.04005 -0.00747 0.04768 C -0.01025 0.05532 -0.01476 0.06343 -0.01841 0.06991 C -0.02205 0.07639 -0.02553 0.08171 -0.02934 0.08657 C -0.03316 0.09143 -0.0382 0.09653 -0.04132 0.09977 C -0.04445 0.10301 -0.04636 0.10417 -0.04809 0.10532 E">
                                      <p:cBhvr>
                                        <p:cTn id="791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1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09 0.10532 C -0.04132 0.10069 -0.03803 0.09653 -0.03299 0.09074 C -0.02796 0.08495 -0.02223 0.0787 -0.01789 0.0713 C -0.01355 0.06389 -0.00973 0.05532 -0.00695 0.0463 C -0.00417 0.03727 -0.00226 0.02662 -0.00122 0.01713 C -0.00018 0.00764 4.72221999999996E-006 -0.00139 -0.0007 -0.01065 C -0.00139 -0.01991 -0.00348 -0.03032 -0.00591 -0.03912 C -0.00834 -0.04792 -0.01146 -0.05509 -0.0158 -0.06343 C -0.02014 -0.07176 -0.0257 -0.08195 -0.03195 -0.08912 C -0.0382 -0.0963 -0.04462 -0.10162 -0.0533 -0.10648 C -0.06198 -0.11134 -0.07362 -0.11736 -0.08455 -0.11898 C -0.09549 -0.1206 -0.10764 -0.1206 -0.11893 -0.1169 C -0.13021 -0.1132 -0.14289 -0.10579 -0.15278 -0.09676 C -0.16268 -0.08773 -0.17205 -0.075 -0.1783 -0.06273 C -0.18455 -0.05046 -0.18872 -0.0382 -0.1908 -0.02315 C -0.19289 -0.0081 -0.19358 0.01227 -0.1908 0.02824 C -0.18803 0.04421 -0.18004 0.06088 -0.17362 0.07268 C -0.16719 0.08449 -0.16198 0.0919 -0.15174 0.09977 C -0.1415 0.10764 -0.12466 0.11759 -0.11164 0.1206 C -0.09862 0.12361 -0.08421 0.12106 -0.07362 0.11852 C -0.06303 0.11597 -0.0533 0.1081 -0.04809 0.10532 Z">
                                      <p:cBhvr>
                                        <p:cTn id="819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3000"/>
                            </p:stCondLst>
                            <p:childTnLst>
                              <p:par>
                                <p:cTn id="8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09 0.10532 C -0.04375 0.10162 -0.03959 0.09745 -0.03507 0.09213 C -0.03056 0.0868 -0.025 0.08055 -0.02101 0.07338 C -0.01702 0.0662 -0.01372 0.0581 -0.01059 0.04907 C -0.00747 0.04005 -0.0033 0.02893 -0.00174 0.01921 C -0.00018 0.00949 -0.00035 -0.000229999999999999 -0.00122 -0.00995 C -0.00209 -0.01968 -0.00469 -0.03148 -0.00695 -0.03982 C -0.0092 -0.04815 -0.01233 -0.05463 -0.01528 -0.06065 C -0.01823 -0.06667 -0.02153 -0.0713 -0.02465 -0.07593 C -0.02778 -0.08056 -0.02986 -0.08403 -0.03351 -0.08843 C -0.03715 -0.09282 -0.04167 -0.09838 -0.04705 -0.10232 C -0.05243 -0.10625 -0.0599 -0.10949 -0.06528 -0.11204 C -0.07066 -0.11458 -0.07431 -0.1162 -0.07934 -0.11759 C -0.08438 -0.11898 -0.09011 -0.12037 -0.09549 -0.12037 C -0.10087 -0.12037 -0.1059 -0.11968 -0.11215 -0.11829 C -0.1184 -0.1169 -0.12674 -0.11482 -0.13299 -0.11204 C -0.13924 -0.10926 -0.14445 -0.10579 -0.14965 -0.10162 C -0.15486 -0.09745 -0.15955 -0.09352 -0.16476 -0.08634 C -0.16997 -0.07917 -0.17709 -0.06736 -0.18143 -0.05857 C -0.18577 -0.04977 -0.18854 -0.04144 -0.1908 -0.03287 C -0.19306 -0.02431 -0.19427 -0.01829 -0.19445 -0.00787 C -0.19462 0.00255 -0.19375 0.01829 -0.19184 0.02963 C -0.18993 0.04097 -0.18733 0.04977 -0.18247 0.06018 C -0.17761 0.0706 -0.17031 0.08356 -0.16268 0.09213 C -0.15504 0.10069 -0.14653 0.10718 -0.13611 0.11227 C -0.1257 0.11736 -0.1132 0.12292 -0.1007 0.12338 C -0.0882 0.12384 -0.06979 0.11736 -0.06111 0.11435 C -0.05243 0.11134 -0.05243 0.10903 -0.04809 0.10532 Z">
                                      <p:cBhvr>
                                        <p:cTn id="828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0"/>
                            </p:stCondLst>
                            <p:childTnLst>
                              <p:par>
                                <p:cTn id="8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09 0.10532 C -0.04028 0.09977 -0.03247 0.09074 -0.02674 0.0831 C -0.02101 0.07546 -0.0165 0.06713 -0.0132 0.05949 C -0.0099 0.05185 -0.00834 0.04398 -0.00643 0.03727 C -0.00452 0.03055 -0.00313 0.02662 -0.00226 0.01991 C -0.00139 0.01319 -0.00087 0.00509 -0.00122 -0.00301 C -0.00157 -0.01111 -0.00226 -0.0206 -0.00382 -0.0287 C -0.00538 -0.03681 -0.00816 -0.04421 -0.01111 -0.05162 C -0.01407 -0.05903 -0.01806 -0.06713 -0.02205 -0.07384 C -0.02604 -0.08056 -0.03038 -0.08634 -0.03559 -0.0919 C -0.0408 -0.09745 -0.04757 -0.10232 -0.05382 -0.10648 C -0.06007 -0.11065 -0.06667 -0.11412 -0.07309 -0.1162 C -0.07952 -0.11829 -0.08577 -0.11921 -0.09288 -0.11968 C -0.1 -0.12014 -0.10816 -0.12014 -0.1158 -0.11829 C -0.12344 -0.11644 -0.13125 -0.1132 -0.13872 -0.10857 C -0.14618 -0.10394 -0.154 -0.09792 -0.16059 -0.09051 C -0.16719 -0.0831 -0.17379 -0.07315 -0.17882 -0.06343 C -0.18386 -0.0537 -0.1882 -0.04236 -0.1908 -0.03148 C -0.19341 -0.0206 -0.19462 -0.00972 -0.19445 0.00116 C -0.19427 0.01204 -0.19236 0.02384 -0.19028 0.0338 C -0.1882 0.04375 -0.18594 0.05278 -0.18195 0.06157 C -0.17795 0.07037 -0.17223 0.08009 -0.16632 0.08727 C -0.16042 0.09444 -0.1533 0.10046 -0.14653 0.10532 C -0.13976 0.11018 -0.13351 0.11389 -0.1257 0.11643 C -0.11788 0.11898 -0.10782 0.12106 -0.09913 0.1213 C -0.09045 0.12153 -0.08177 0.11921 -0.07361 0.11713 C -0.06545 0.11505 -0.05591 0.11088 -0.04809 0.10532 Z">
                                      <p:cBhvr>
                                        <p:cTn id="831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Список литературы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Алгебра: учебник для 9 кл.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Ш.А.Алимов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М., Просвещение, 2006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Изучение алгебры 7-9, Ю.М.Колягин, М., Просвещение, 2002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4249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Содержание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129440" cy="4114800"/>
          </a:xfrm>
          <a:prstGeom prst="rect">
            <a:avLst/>
          </a:prstGeom>
          <a:solidFill>
            <a:srgbClr val="ecf1fe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Числовая окружность 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Поворот точки вокруг начала координат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Поворот точки на 360</a:t>
            </a:r>
            <a:r>
              <a:rPr b="1" i="1" lang="en-US" sz="2400" spc="-1" strike="noStrike" u="sng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°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Поворот точки на 180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°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Поворот точки на 90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°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Поворот точки на 270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°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Поворот точки на 30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°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Поворот точки на 45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°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Поворот точки на 60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°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Поворот точки на 810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°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Упражнение № 235</a:t>
            </a: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6770520" y="6356520"/>
            <a:ext cx="2133720" cy="330120"/>
          </a:xfrm>
          <a:custGeom>
            <a:avLst/>
            <a:gdLst>
              <a:gd name="textAreaLeft" fmla="*/ 21240 w 2133720"/>
              <a:gd name="textAreaRight" fmla="*/ 2112480 w 213372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139482" h="21600">
                <a:moveTo>
                  <a:pt x="0" y="0"/>
                </a:moveTo>
                <a:lnTo>
                  <a:pt x="139482" y="0"/>
                </a:lnTo>
                <a:lnTo>
                  <a:pt x="139482" y="21600"/>
                </a:lnTo>
                <a:lnTo>
                  <a:pt x="0" y="21600"/>
                </a:lnTo>
                <a:close/>
              </a:path>
              <a:path fill="lightenLess" w="139482" h="21600">
                <a:moveTo>
                  <a:pt x="0" y="0"/>
                </a:moveTo>
                <a:lnTo>
                  <a:pt x="139482" y="0"/>
                </a:lnTo>
                <a:lnTo>
                  <a:pt x="138082" y="1400"/>
                </a:lnTo>
                <a:lnTo>
                  <a:pt x="1400" y="1400"/>
                </a:lnTo>
                <a:close/>
              </a:path>
              <a:path fill="darken" w="139482" h="21600">
                <a:moveTo>
                  <a:pt x="139482" y="0"/>
                </a:moveTo>
                <a:lnTo>
                  <a:pt x="139482" y="21600"/>
                </a:lnTo>
                <a:lnTo>
                  <a:pt x="138082" y="20200"/>
                </a:lnTo>
                <a:lnTo>
                  <a:pt x="138082" y="1400"/>
                </a:lnTo>
                <a:close/>
              </a:path>
              <a:path fill="darkenLess" w="139482" h="21600">
                <a:moveTo>
                  <a:pt x="139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082" y="20200"/>
                </a:lnTo>
                <a:close/>
              </a:path>
              <a:path fill="lighten" w="139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95640" y="1916280"/>
            <a:ext cx="720720" cy="865080"/>
          </a:xfrm>
          <a:prstGeom prst="wedgeEllipseCallout">
            <a:avLst>
              <a:gd name="adj1" fmla="val -125990"/>
              <a:gd name="adj2" fmla="val 87615"/>
            </a:avLst>
          </a:pr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40000" y="1413000"/>
            <a:ext cx="576360" cy="431640"/>
          </a:xfrm>
          <a:prstGeom prst="wedgeEllipseCallout">
            <a:avLst>
              <a:gd name="adj1" fmla="val 121625"/>
              <a:gd name="adj2" fmla="val 8087"/>
            </a:avLst>
          </a:pr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35040" y="3678120"/>
            <a:ext cx="1836720" cy="180504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92400" y="4565520"/>
            <a:ext cx="2342880" cy="180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448000" y="3338640"/>
            <a:ext cx="1440" cy="23479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97000" y="3182760"/>
            <a:ext cx="2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52760" y="455148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Числовая окружность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381480" y="1095120"/>
            <a:ext cx="0" cy="561636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21000" y="3589200"/>
            <a:ext cx="108000" cy="108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21000" y="5411880"/>
            <a:ext cx="108000" cy="108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21000" y="4505400"/>
            <a:ext cx="108000" cy="108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21000" y="2679840"/>
            <a:ext cx="108000" cy="10764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21000" y="6338880"/>
            <a:ext cx="108000" cy="108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22800" y="1773360"/>
            <a:ext cx="107640" cy="108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484360" y="1484280"/>
                <a:ext cx="3589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419640" y="3421080"/>
            <a:ext cx="3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19640" y="2492280"/>
            <a:ext cx="3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162864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140360" y="1916280"/>
                <a:ext cx="344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276720" y="1709640"/>
            <a:ext cx="21564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3166920"/>
            <a:ext cx="21564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27480" y="1641600"/>
            <a:ext cx="108000" cy="108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4508640"/>
            <a:ext cx="576000" cy="431640"/>
          </a:xfrm>
          <a:prstGeom prst="wedgeEllipseCallout">
            <a:avLst>
              <a:gd name="adj1" fmla="val 154685"/>
              <a:gd name="adj2" fmla="val -27203"/>
            </a:avLst>
          </a:pr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68360" y="4579920"/>
                <a:ext cx="3585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3327480" y="3116160"/>
            <a:ext cx="108000" cy="108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87280" y="2492280"/>
            <a:ext cx="720720" cy="865440"/>
          </a:xfrm>
          <a:prstGeom prst="wedgeEllipseCallout">
            <a:avLst>
              <a:gd name="adj1" fmla="val 115416"/>
              <a:gd name="adj2" fmla="val 80273"/>
            </a:avLst>
          </a:pr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332000" y="2492280"/>
                <a:ext cx="344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 flipH="1" flipV="1">
            <a:off x="323640" y="2492280"/>
            <a:ext cx="2376360" cy="12240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0" y="5457960"/>
            <a:ext cx="2649600" cy="6825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219640" y="1268280"/>
                <a:ext cx="30974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≈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003640" y="2708280"/>
                <a:ext cx="34560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ра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991040" y="4581360"/>
                <a:ext cx="35053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рад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3492360" y="5300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92360" y="6237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5480" y="3670200"/>
            <a:ext cx="216036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310680" y="5445000"/>
            <a:ext cx="2135160" cy="46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-0.00139 L -0.054 0.01991 E">
                                      <p:cBhvr>
                                        <p:cTn id="78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0278 L -0.05018 -0.0162 E">
                                      <p:cBhvr>
                                        <p:cTn id="8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00486 L -0.10226 0.07407 E">
                                      <p:cBhvr>
                                        <p:cTn id="103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-0.129 0.14329 E">
                                      <p:cBhvr>
                                        <p:cTn id="114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0209 L -0.15261 -0.1507 E">
                                      <p:cBhvr>
                                        <p:cTn id="117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81481E-006 L -0.2 0.37013 E">
                                      <p:cBhvr>
                                        <p:cTn id="119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-0.00208 L -0.20312 0.41875 E">
                                      <p:cBhvr>
                                        <p:cTn id="124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079640" y="2268360"/>
            <a:ext cx="2747880" cy="278316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443320" y="2471400"/>
            <a:ext cx="741240" cy="1189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9695600">
            <a:off x="3708360" y="2203200"/>
            <a:ext cx="182520" cy="1450800"/>
          </a:xfrm>
          <a:custGeom>
            <a:avLst/>
            <a:gdLst>
              <a:gd name="textAreaLeft" fmla="*/ 0 w 182520"/>
              <a:gd name="textAreaRight" fmla="*/ 65880 w 182520"/>
              <a:gd name="textAreaTop" fmla="*/ 37800 h 1450800"/>
              <a:gd name="textAreaBottom" fmla="*/ 1413000 h 14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11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90800" y="2467080"/>
            <a:ext cx="5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1112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Угол в один радиан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2711520" y="3789360"/>
            <a:ext cx="5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1112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22440" y="2421000"/>
            <a:ext cx="5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1112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40080" y="3645000"/>
            <a:ext cx="1411200" cy="144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60600" y="2486160"/>
            <a:ext cx="1370160" cy="1168200"/>
          </a:xfrm>
          <a:custGeom>
            <a:avLst/>
            <a:gdLst/>
            <a:ahLst/>
            <a:rect l="l" t="t" r="r" b="b"/>
            <a:pathLst>
              <a:path w="880" h="736">
                <a:moveTo>
                  <a:pt x="0" y="729"/>
                </a:moveTo>
                <a:cubicBezTo>
                  <a:pt x="4" y="722"/>
                  <a:pt x="17" y="700"/>
                  <a:pt x="27" y="684"/>
                </a:cubicBezTo>
                <a:cubicBezTo>
                  <a:pt x="37" y="668"/>
                  <a:pt x="51" y="648"/>
                  <a:pt x="63" y="630"/>
                </a:cubicBezTo>
                <a:cubicBezTo>
                  <a:pt x="75" y="612"/>
                  <a:pt x="84" y="595"/>
                  <a:pt x="96" y="576"/>
                </a:cubicBezTo>
                <a:cubicBezTo>
                  <a:pt x="108" y="557"/>
                  <a:pt x="117" y="543"/>
                  <a:pt x="135" y="516"/>
                </a:cubicBezTo>
                <a:cubicBezTo>
                  <a:pt x="153" y="489"/>
                  <a:pt x="186" y="445"/>
                  <a:pt x="204" y="417"/>
                </a:cubicBezTo>
                <a:cubicBezTo>
                  <a:pt x="222" y="389"/>
                  <a:pt x="231" y="365"/>
                  <a:pt x="243" y="345"/>
                </a:cubicBezTo>
                <a:cubicBezTo>
                  <a:pt x="255" y="325"/>
                  <a:pt x="265" y="312"/>
                  <a:pt x="276" y="294"/>
                </a:cubicBezTo>
                <a:cubicBezTo>
                  <a:pt x="287" y="276"/>
                  <a:pt x="295" y="259"/>
                  <a:pt x="309" y="237"/>
                </a:cubicBezTo>
                <a:cubicBezTo>
                  <a:pt x="323" y="215"/>
                  <a:pt x="345" y="186"/>
                  <a:pt x="363" y="159"/>
                </a:cubicBezTo>
                <a:cubicBezTo>
                  <a:pt x="381" y="132"/>
                  <a:pt x="403" y="97"/>
                  <a:pt x="420" y="72"/>
                </a:cubicBezTo>
                <a:cubicBezTo>
                  <a:pt x="437" y="47"/>
                  <a:pt x="453" y="18"/>
                  <a:pt x="468" y="9"/>
                </a:cubicBezTo>
                <a:cubicBezTo>
                  <a:pt x="483" y="0"/>
                  <a:pt x="494" y="8"/>
                  <a:pt x="513" y="21"/>
                </a:cubicBezTo>
                <a:cubicBezTo>
                  <a:pt x="532" y="34"/>
                  <a:pt x="564" y="70"/>
                  <a:pt x="582" y="87"/>
                </a:cubicBezTo>
                <a:cubicBezTo>
                  <a:pt x="600" y="104"/>
                  <a:pt x="610" y="113"/>
                  <a:pt x="621" y="123"/>
                </a:cubicBezTo>
                <a:cubicBezTo>
                  <a:pt x="632" y="133"/>
                  <a:pt x="642" y="140"/>
                  <a:pt x="651" y="150"/>
                </a:cubicBezTo>
                <a:cubicBezTo>
                  <a:pt x="660" y="160"/>
                  <a:pt x="665" y="167"/>
                  <a:pt x="675" y="180"/>
                </a:cubicBezTo>
                <a:cubicBezTo>
                  <a:pt x="685" y="193"/>
                  <a:pt x="697" y="208"/>
                  <a:pt x="712" y="231"/>
                </a:cubicBezTo>
                <a:cubicBezTo>
                  <a:pt x="727" y="254"/>
                  <a:pt x="752" y="290"/>
                  <a:pt x="768" y="318"/>
                </a:cubicBezTo>
                <a:cubicBezTo>
                  <a:pt x="784" y="346"/>
                  <a:pt x="796" y="377"/>
                  <a:pt x="807" y="402"/>
                </a:cubicBezTo>
                <a:cubicBezTo>
                  <a:pt x="818" y="427"/>
                  <a:pt x="827" y="445"/>
                  <a:pt x="834" y="468"/>
                </a:cubicBezTo>
                <a:cubicBezTo>
                  <a:pt x="841" y="491"/>
                  <a:pt x="846" y="516"/>
                  <a:pt x="852" y="543"/>
                </a:cubicBezTo>
                <a:cubicBezTo>
                  <a:pt x="858" y="570"/>
                  <a:pt x="869" y="608"/>
                  <a:pt x="873" y="633"/>
                </a:cubicBezTo>
                <a:cubicBezTo>
                  <a:pt x="877" y="658"/>
                  <a:pt x="880" y="677"/>
                  <a:pt x="876" y="693"/>
                </a:cubicBezTo>
                <a:cubicBezTo>
                  <a:pt x="872" y="709"/>
                  <a:pt x="868" y="724"/>
                  <a:pt x="848" y="730"/>
                </a:cubicBezTo>
                <a:cubicBezTo>
                  <a:pt x="828" y="736"/>
                  <a:pt x="787" y="730"/>
                  <a:pt x="757" y="730"/>
                </a:cubicBezTo>
                <a:cubicBezTo>
                  <a:pt x="727" y="730"/>
                  <a:pt x="705" y="730"/>
                  <a:pt x="667" y="730"/>
                </a:cubicBezTo>
                <a:cubicBezTo>
                  <a:pt x="629" y="730"/>
                  <a:pt x="569" y="730"/>
                  <a:pt x="531" y="730"/>
                </a:cubicBezTo>
                <a:cubicBezTo>
                  <a:pt x="493" y="730"/>
                  <a:pt x="470" y="730"/>
                  <a:pt x="440" y="730"/>
                </a:cubicBezTo>
                <a:cubicBezTo>
                  <a:pt x="410" y="730"/>
                  <a:pt x="387" y="730"/>
                  <a:pt x="349" y="730"/>
                </a:cubicBezTo>
                <a:cubicBezTo>
                  <a:pt x="311" y="730"/>
                  <a:pt x="251" y="730"/>
                  <a:pt x="213" y="730"/>
                </a:cubicBezTo>
                <a:cubicBezTo>
                  <a:pt x="175" y="730"/>
                  <a:pt x="152" y="730"/>
                  <a:pt x="122" y="730"/>
                </a:cubicBezTo>
                <a:cubicBezTo>
                  <a:pt x="92" y="730"/>
                  <a:pt x="47" y="730"/>
                  <a:pt x="32" y="730"/>
                </a:cubicBezTo>
              </a:path>
            </a:pathLst>
          </a:cu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30480" y="3645000"/>
            <a:ext cx="3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8091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3357720"/>
            <a:ext cx="3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80910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8120" y="1989000"/>
            <a:ext cx="3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8091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94040" y="3603600"/>
            <a:ext cx="66600" cy="7452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08400" y="3594240"/>
            <a:ext cx="66600" cy="7452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44960" y="2438280"/>
            <a:ext cx="66600" cy="7488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91040" y="4572000"/>
            <a:ext cx="31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1 рад ≈ 57,3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524560" y="2940120"/>
                <a:ext cx="21146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рад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130720" y="1981080"/>
            <a:ext cx="48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919240" y="5423040"/>
                <a:ext cx="27576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49800" y="1920960"/>
            <a:ext cx="2954520" cy="459720"/>
            <a:chOff x="5149800" y="1920960"/>
            <a:chExt cx="2954520" cy="459720"/>
          </a:xfrm>
        </p:grpSpPr>
        <p:grpSp>
          <p:nvGrpSpPr>
            <p:cNvPr id="274" name=""/>
            <p:cNvGrpSpPr/>
            <p:nvPr/>
          </p:nvGrpSpPr>
          <p:grpSpPr>
            <a:xfrm>
              <a:off x="5149800" y="1920960"/>
              <a:ext cx="2954520" cy="459720"/>
              <a:chOff x="5149800" y="1920960"/>
              <a:chExt cx="2954520" cy="459720"/>
            </a:xfrm>
          </p:grpSpPr>
          <p:sp>
            <p:nvSpPr>
              <p:cNvPr id="275" name=""/>
              <p:cNvSpPr/>
              <p:nvPr/>
            </p:nvSpPr>
            <p:spPr>
              <a:xfrm>
                <a:off x="5149800" y="1920960"/>
                <a:ext cx="295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40458c"/>
                    </a:solidFill>
                    <a:latin typeface="Tahoma"/>
                  </a:rPr>
                  <a:t>      </a:t>
                </a:r>
                <a:r>
                  <a:rPr b="1" i="1" lang="ru-RU" sz="2400" spc="-1" strike="noStrike">
                    <a:solidFill>
                      <a:srgbClr val="40458c"/>
                    </a:solidFill>
                    <a:latin typeface="Tahoma"/>
                  </a:rPr>
                  <a:t>РОМ = 1 рад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6514920" y="1965600"/>
                    <a:ext cx="23040" cy="9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5464080" y="2014560"/>
                  <a:ext cx="42552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747720" y="1666800"/>
            <a:ext cx="3484080" cy="3671640"/>
            <a:chOff x="747720" y="1666800"/>
            <a:chExt cx="3484080" cy="3671640"/>
          </a:xfrm>
        </p:grpSpPr>
        <p:sp>
          <p:nvSpPr>
            <p:cNvPr id="279" name=""/>
            <p:cNvSpPr/>
            <p:nvPr/>
          </p:nvSpPr>
          <p:spPr>
            <a:xfrm>
              <a:off x="1023480" y="2269080"/>
              <a:ext cx="2804400" cy="278208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7720" y="3658320"/>
              <a:ext cx="34477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2430360" y="1816200"/>
              <a:ext cx="0" cy="35222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90960" y="1666800"/>
              <a:ext cx="27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03200" y="3629160"/>
              <a:ext cx="2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 flipV="1">
            <a:off x="2428920" y="2471400"/>
            <a:ext cx="755640" cy="1189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rot="6918600">
            <a:off x="2286000" y="3061800"/>
            <a:ext cx="602640" cy="82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111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00240" y="3076560"/>
            <a:ext cx="4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90800" y="3619440"/>
            <a:ext cx="68400" cy="7452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9695600">
            <a:off x="3642840" y="2169720"/>
            <a:ext cx="184320" cy="1451160"/>
          </a:xfrm>
          <a:custGeom>
            <a:avLst/>
            <a:gdLst>
              <a:gd name="textAreaLeft" fmla="*/ 0 w 184320"/>
              <a:gd name="textAreaRight" fmla="*/ 66600 w 184320"/>
              <a:gd name="textAreaTop" fmla="*/ 37800 h 1451160"/>
              <a:gd name="textAreaBottom" fmla="*/ 1413360 h 145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11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73600" y="2573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1112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1112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1112c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965840" y="1725480"/>
            <a:ext cx="3589200" cy="3587760"/>
            <a:chOff x="4965840" y="1725480"/>
            <a:chExt cx="3589200" cy="3587760"/>
          </a:xfrm>
        </p:grpSpPr>
        <p:sp>
          <p:nvSpPr>
            <p:cNvPr id="291" name=""/>
            <p:cNvSpPr/>
            <p:nvPr/>
          </p:nvSpPr>
          <p:spPr>
            <a:xfrm>
              <a:off x="5249880" y="2314080"/>
              <a:ext cx="2888640" cy="271836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65840" y="3671280"/>
              <a:ext cx="355140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698880" y="1871640"/>
              <a:ext cx="0" cy="34416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51560" y="1725480"/>
              <a:ext cx="28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18160" y="3641760"/>
              <a:ext cx="23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6696000" y="3666960"/>
            <a:ext cx="779400" cy="11559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 rot="14681400">
            <a:off x="6580080" y="3429000"/>
            <a:ext cx="589680" cy="85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111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4360" y="38606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99280" y="3633840"/>
            <a:ext cx="71640" cy="7308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1908000">
            <a:off x="7948440" y="3692160"/>
            <a:ext cx="189000" cy="1417680"/>
          </a:xfrm>
          <a:custGeom>
            <a:avLst/>
            <a:gdLst>
              <a:gd name="textAreaLeft" fmla="*/ 0 w 189000"/>
              <a:gd name="textAreaRight" fmla="*/ 68040 w 189000"/>
              <a:gd name="textAreaTop" fmla="*/ 36720 h 1417680"/>
              <a:gd name="textAreaBottom" fmla="*/ 1380960 h 141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111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185320" y="428148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1112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1112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1112c"/>
                </a:solidFill>
                <a:latin typeface="Times New Roman"/>
              </a:rPr>
              <a:t>&lt; 0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C 0.00052 -0.00671 0.00104 -0.01342 -1.66667E-006 -0.02291 C -0.00104 -0.0324 -0.00399 -0.04606 -0.00677 -0.05694 C -0.00955 -0.06782 -0.01302 -0.07893 -0.01667 -0.08889 C -0.02031 -0.09884 -0.02361 -0.1074 -0.02864 -0.11666 C -0.03368 -0.12592 -0.03993 -0.13541 -0.04687 -0.14444 C -0.05382 -0.15347 -0.06597 -0.1662 -0.07031 -0.17083 E">
                                      <p:cBhvr>
                                        <p:cTn id="225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023 C -0.00121 0.01388 -0.00225 0.02777 -0.00312 0.03703 C -0.00399 0.04629 -0.00382 0.04837 -0.00573 0.05648 C -0.00764 0.06458 -0.01041 0.07546 -0.01458 0.08564 C -0.01875 0.09583 -0.02395 0.10717 -0.0302 0.11759 C -0.03645 0.128 -0.04548 0.1405 -0.0526 0.14884 C -0.05972 0.15717 -0.06632 0.16226 -0.07291 0.16759 E">
                                      <p:cBhvr>
                                        <p:cTn id="251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150840" y="1509840"/>
            <a:ext cx="4109760" cy="3957120"/>
            <a:chOff x="150840" y="1509840"/>
            <a:chExt cx="4109760" cy="3957120"/>
          </a:xfrm>
        </p:grpSpPr>
        <p:sp>
          <p:nvSpPr>
            <p:cNvPr id="304" name=""/>
            <p:cNvSpPr/>
            <p:nvPr/>
          </p:nvSpPr>
          <p:spPr>
            <a:xfrm>
              <a:off x="475920" y="2158920"/>
              <a:ext cx="3307680" cy="29984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0840" y="365616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135520" y="1670760"/>
              <a:ext cx="0" cy="3796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53280" y="15098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89520" y="362484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733920" y="361008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727520" y="1527120"/>
            <a:ext cx="4109760" cy="3957840"/>
            <a:chOff x="4727520" y="1527120"/>
            <a:chExt cx="4109760" cy="3957840"/>
          </a:xfrm>
        </p:grpSpPr>
        <p:sp>
          <p:nvSpPr>
            <p:cNvPr id="311" name=""/>
            <p:cNvSpPr/>
            <p:nvPr/>
          </p:nvSpPr>
          <p:spPr>
            <a:xfrm>
              <a:off x="5052600" y="2176560"/>
              <a:ext cx="3307680" cy="29988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7520" y="367344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712200" y="1688400"/>
              <a:ext cx="0" cy="3796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29960" y="152712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566200" y="3642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8310600" y="362736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985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 на угол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700360" y="1341360"/>
                <a:ext cx="863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451640" y="1341360"/>
                <a:ext cx="12956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3749760" y="32767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313840" y="33098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187280" y="5445000"/>
                <a:ext cx="2590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76720" y="5445000"/>
                <a:ext cx="3357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C 4.16667E-006 -0.12223 -0.08039 -0.22107 -0.17987 -0.21783 C -0.27726 -0.22084 -0.36146 -0.1213 -0.36146 4.81481E-006 C -0.36059 0.12152 -0.2783 0.21944 -0.18073 0.21944 C -0.08177 0.21944 4.16667E-006 0.12083 4.16667E-006 4.81481E-006 Z">
                                      <p:cBhvr>
                                        <p:cTn id="279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C 4.16667E-006 -0.12223 -0.08039 -0.22107 -0.17987 -0.21783 C -0.27726 -0.22084 -0.36146 -0.1213 -0.36146 4.81481E-006 C -0.36059 0.12152 -0.2783 0.21944 -0.18073 0.21944 C -0.08177 0.21944 4.16667E-006 0.12083 4.16667E-006 4.81481E-006 Z">
                                      <p:cBhvr>
                                        <p:cTn id="286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150840" y="1509840"/>
            <a:ext cx="4109760" cy="3957120"/>
            <a:chOff x="150840" y="1509840"/>
            <a:chExt cx="4109760" cy="3957120"/>
          </a:xfrm>
        </p:grpSpPr>
        <p:sp>
          <p:nvSpPr>
            <p:cNvPr id="325" name=""/>
            <p:cNvSpPr/>
            <p:nvPr/>
          </p:nvSpPr>
          <p:spPr>
            <a:xfrm>
              <a:off x="475920" y="2158920"/>
              <a:ext cx="3307680" cy="29984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0840" y="365616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135520" y="1670760"/>
              <a:ext cx="0" cy="3796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53280" y="15098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89520" y="362484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3733920" y="361008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727520" y="1527120"/>
            <a:ext cx="4109760" cy="3957840"/>
            <a:chOff x="4727520" y="1527120"/>
            <a:chExt cx="4109760" cy="3957840"/>
          </a:xfrm>
        </p:grpSpPr>
        <p:sp>
          <p:nvSpPr>
            <p:cNvPr id="332" name=""/>
            <p:cNvSpPr/>
            <p:nvPr/>
          </p:nvSpPr>
          <p:spPr>
            <a:xfrm>
              <a:off x="5052600" y="2176560"/>
              <a:ext cx="3307680" cy="29988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27520" y="367344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712200" y="1688400"/>
              <a:ext cx="0" cy="3796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29960" y="152712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566200" y="3642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8310600" y="362736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059280" y="1522440"/>
                <a:ext cx="731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7596360" y="1557360"/>
                <a:ext cx="11523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3749760" y="32767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13840" y="33098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187280" y="5516640"/>
                <a:ext cx="2256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003640" y="5445000"/>
                <a:ext cx="3021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611280" y="321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К(-1; 0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38560" y="3284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К(-1; 0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985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 на угол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23 C 0.00052 -0.00834 0.0007 -0.01667 -0.00017 -0.0257 C -0.00104 -0.03473 -0.00243 -0.04445 -0.00434 -0.05348 C -0.00625 -0.0625 -0.00868 -0.0713 -0.01198 -0.08033 C -0.01527 -0.08936 -0.02014 -0.1 -0.02378 -0.10811 C -0.02743 -0.11621 -0.02916 -0.12223 -0.0335 -0.1294 C -0.03784 -0.13658 -0.04375 -0.14468 -0.04948 -0.15162 C -0.0552 -0.15857 -0.06059 -0.16482 -0.0677 -0.17107 C -0.07448 -0.17732 -0.08229 -0.1838 -0.09114 -0.18959 C -0.1 -0.19537 -0.11111 -0.20116 -0.121 -0.20533 C -0.13107 -0.20949 -0.14045 -0.2125 -0.15017 -0.21459 C -0.15989 -0.21667 -0.16996 -0.21806 -0.17934 -0.21829 C -0.18871 -0.21852 -0.19739 -0.21713 -0.20642 -0.21551 C -0.21545 -0.21389 -0.22395 -0.21274 -0.2335 -0.20903 C -0.24305 -0.20533 -0.25573 -0.19838 -0.26406 -0.19329 C -0.27239 -0.1882 -0.27743 -0.1838 -0.2835 -0.17848 C -0.28958 -0.17315 -0.29496 -0.16829 -0.30086 -0.16181 C -0.30677 -0.15533 -0.31354 -0.14723 -0.31892 -0.13959 C -0.3243 -0.13195 -0.32812 -0.12477 -0.33281 -0.11551 C -0.3375 -0.10625 -0.34323 -0.09306 -0.3467 -0.08403 C -0.35017 -0.075 -0.35173 -0.06899 -0.35364 -0.06088 C -0.35555 -0.05278 -0.35729 -0.04306 -0.3585 -0.03496 C -0.35972 -0.02686 -0.36024 -0.01852 -0.36059 -0.01274 C -0.36093 -0.00695 -0.36076 -0.00348 -0.36059 0.00023 E">
                                      <p:cBhvr>
                                        <p:cTn id="295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0046 C 0.00053 0.00371 0.00087 0.01459 -4.44444E-006 0.02454 C -0.00086 0.03449 -0.0026 0.04838 -0.00486 0.0588 C -0.00711 0.06922 -0.00989 0.07847 -0.01319 0.0875 C -0.01649 0.09653 -0.01996 0.10417 -0.0243 0.1125 C -0.02864 0.12084 -0.03298 0.12894 -0.03888 0.1375 C -0.04479 0.14607 -0.05225 0.15533 -0.05972 0.16343 C -0.06718 0.17153 -0.075 0.18009 -0.08333 0.18658 C -0.09166 0.19306 -0.10104 0.19792 -0.10972 0.20232 C -0.1184 0.20672 -0.12691 0.20972 -0.13541 0.2125 C -0.14392 0.21528 -0.15364 0.21783 -0.16111 0.21898 C -0.16857 0.22014 -0.17274 0.22014 -0.17986 0.21991 C -0.18697 0.21968 -0.19531 0.21945 -0.20347 0.21806 C -0.21163 0.21667 -0.22135 0.21412 -0.22916 0.21158 C -0.23697 0.20903 -0.2434 0.20625 -0.25069 0.20232 C -0.25798 0.19838 -0.26579 0.19375 -0.27291 0.18843 C -0.28003 0.1831 -0.28767 0.1757 -0.29375 0.16991 C -0.29982 0.16412 -0.30381 0.16042 -0.30902 0.15417 C -0.31423 0.14792 -0.32066 0.13959 -0.325 0.13287 C -0.32934 0.12616 -0.33211 0.12014 -0.33541 0.11343 C -0.33871 0.10672 -0.34149 0.09977 -0.34444 0.09213 C -0.34739 0.08449 -0.35052 0.07547 -0.35277 0.06713 C -0.35503 0.0588 -0.35642 0.05093 -0.35763 0.04213 C -0.35885 0.03334 -0.35989 0.0213 -0.36041 0.01435 C -0.36093 0.00741 -0.36059 0.00371 -0.36041 0.00047 E">
                                      <p:cBhvr>
                                        <p:cTn id="308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50840" y="1509840"/>
            <a:ext cx="4109760" cy="3957120"/>
            <a:chOff x="150840" y="1509840"/>
            <a:chExt cx="4109760" cy="3957120"/>
          </a:xfrm>
        </p:grpSpPr>
        <p:sp>
          <p:nvSpPr>
            <p:cNvPr id="348" name=""/>
            <p:cNvSpPr/>
            <p:nvPr/>
          </p:nvSpPr>
          <p:spPr>
            <a:xfrm>
              <a:off x="475920" y="2158920"/>
              <a:ext cx="3307680" cy="29984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0840" y="365616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135520" y="1670760"/>
              <a:ext cx="0" cy="3796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53280" y="15098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89520" y="362484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3733920" y="361008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727520" y="1527120"/>
            <a:ext cx="4109760" cy="3957840"/>
            <a:chOff x="4727520" y="1527120"/>
            <a:chExt cx="4109760" cy="3957840"/>
          </a:xfrm>
        </p:grpSpPr>
        <p:sp>
          <p:nvSpPr>
            <p:cNvPr id="355" name=""/>
            <p:cNvSpPr/>
            <p:nvPr/>
          </p:nvSpPr>
          <p:spPr>
            <a:xfrm>
              <a:off x="5052600" y="2176560"/>
              <a:ext cx="3307680" cy="29988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27520" y="367344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712200" y="1688400"/>
              <a:ext cx="0" cy="3796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29960" y="152712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566200" y="3642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8310600" y="362736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564000" y="1268280"/>
                <a:ext cx="58428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7885080" y="1125360"/>
                <a:ext cx="9320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3749760" y="32767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313840" y="33098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340000" y="5300640"/>
                <a:ext cx="1440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427640" y="5300640"/>
                <a:ext cx="19461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2170080" y="17478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М(0; 1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04000" y="51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(0; -1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985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 на угол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162 C 0.00122 -0.00556 0.00018 -0.0169 -0.00069 -0.02524 C -0.00156 -0.03357 -0.0026 -0.04306 -0.00434 -0.05162 C -0.00607 -0.06019 -0.0085 -0.06875 -0.01111 -0.07732 C -0.01371 -0.08588 -0.01649 -0.09422 -0.02048 -0.10301 C -0.02448 -0.11181 -0.02882 -0.12037 -0.03454 -0.1294 C -0.04027 -0.13843 -0.04826 -0.14977 -0.05538 -0.15787 C -0.0625 -0.16598 -0.06944 -0.17199 -0.07777 -0.17871 C -0.08611 -0.18542 -0.096 -0.19283 -0.10538 -0.19815 C -0.11475 -0.20348 -0.12448 -0.20764 -0.13454 -0.21065 C -0.14461 -0.21366 -0.15833 -0.21551 -0.16579 -0.2169 C -0.17326 -0.21829 -0.17656 -0.21806 -0.17934 -0.21829 E">
                                      <p:cBhvr>
                                        <p:cTn id="323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69 C 0.00053 0.00509 0.0007 0.01088 0.00035 0.01806 C -4.44444000000002E-006 0.02523 -4.44443999999991E-006 0.03264 -0.00173 0.04236 C -0.00347 0.05209 -0.00625 0.06482 -0.01006 0.07709 C -0.01388 0.08935 -0.0177 0.10232 -0.02517 0.11597 C -0.03263 0.12963 -0.04618 0.14838 -0.05538 0.15972 C -0.06458 0.17107 -0.07274 0.17778 -0.08038 0.18403 C -0.08802 0.19028 -0.09322 0.19283 -0.10121 0.19722 C -0.1092 0.20162 -0.11979 0.20718 -0.12829 0.21042 C -0.1368 0.21366 -0.14548 0.21574 -0.15277 0.21736 C -0.16006 0.21898 -0.16805 0.21968 -0.17256 0.22014 C -0.17708 0.2206 -0.17847 0.22037 -0.17986 0.22014 E">
                                      <p:cBhvr>
                                        <p:cTn id="336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50840" y="1509840"/>
            <a:ext cx="4109760" cy="3957120"/>
            <a:chOff x="150840" y="1509840"/>
            <a:chExt cx="4109760" cy="3957120"/>
          </a:xfrm>
        </p:grpSpPr>
        <p:sp>
          <p:nvSpPr>
            <p:cNvPr id="371" name=""/>
            <p:cNvSpPr/>
            <p:nvPr/>
          </p:nvSpPr>
          <p:spPr>
            <a:xfrm>
              <a:off x="475920" y="2158920"/>
              <a:ext cx="3307680" cy="29984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0840" y="365616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135520" y="1670760"/>
              <a:ext cx="0" cy="37962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53280" y="150984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89520" y="362484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733920" y="361008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727520" y="1527120"/>
            <a:ext cx="4109760" cy="3957840"/>
            <a:chOff x="4727520" y="1527120"/>
            <a:chExt cx="4109760" cy="3957840"/>
          </a:xfrm>
        </p:grpSpPr>
        <p:sp>
          <p:nvSpPr>
            <p:cNvPr id="378" name=""/>
            <p:cNvSpPr/>
            <p:nvPr/>
          </p:nvSpPr>
          <p:spPr>
            <a:xfrm>
              <a:off x="5052600" y="2176560"/>
              <a:ext cx="3307680" cy="29988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27520" y="3673440"/>
              <a:ext cx="406692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712200" y="1688400"/>
              <a:ext cx="0" cy="3796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29960" y="1527120"/>
              <a:ext cx="3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566200" y="3642480"/>
              <a:ext cx="27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8310600" y="3627360"/>
            <a:ext cx="81000" cy="81000"/>
          </a:xfrm>
          <a:prstGeom prst="ellipse">
            <a:avLst/>
          </a:prstGeom>
          <a:solidFill>
            <a:srgbClr val="f1112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492360" y="1197000"/>
                <a:ext cx="85428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7740720" y="1197000"/>
                <a:ext cx="1103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3749760" y="327672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313840" y="330984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Tahoma"/>
              </a:rPr>
              <a:t>Р(1; 0)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124000" y="5589720"/>
                <a:ext cx="15829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427640" y="5556240"/>
                <a:ext cx="20174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2131920" y="51530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М(0; -1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59640" y="1773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(0; 1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6985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112c"/>
                </a:solidFill>
                <a:latin typeface="Tahoma"/>
              </a:rPr>
              <a:t>Поворот точки на угол</a:t>
            </a:r>
            <a:endParaRPr b="1" i="1" lang="en-US" sz="4400" spc="-1" strike="noStrike">
              <a:solidFill>
                <a:srgbClr val="f1112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07 C 0.00018 -0.01412 -3.61110999999993E-006 -0.02732 -0.00156 -0.03866 C -0.00312 -0.05 -0.00555 -0.05787 -0.0085 -0.06829 C -0.01145 -0.07871 -0.01493 -0.09074 -0.01892 -0.1007 C -0.02291 -0.11065 -0.0276 -0.11991 -0.03281 -0.12848 C -0.03802 -0.13704 -0.04375 -0.14491 -0.05017 -0.15255 C -0.05659 -0.16019 -0.06441 -0.16737 -0.0717 -0.17385 C -0.07899 -0.18033 -0.0868 -0.18658 -0.09392 -0.19144 C -0.10104 -0.1963 -0.10694 -0.19885 -0.11475 -0.20255 C -0.12257 -0.20625 -0.13281 -0.21135 -0.14045 -0.21366 C -0.14809 -0.21598 -0.15399 -0.21574 -0.16059 -0.21644 C -0.16718 -0.21713 -0.17222 -0.21829 -0.18003 -0.21829 C -0.18784 -0.21829 -0.19861 -0.21806 -0.20781 -0.21644 C -0.21701 -0.21482 -0.22639 -0.21227 -0.23489 -0.20903 C -0.2434 -0.20579 -0.25156 -0.20162 -0.2592 -0.19699 C -0.26684 -0.19237 -0.27361 -0.1875 -0.28073 -0.18125 C -0.28784 -0.175 -0.29566 -0.16737 -0.30225 -0.15996 C -0.30885 -0.15255 -0.31406 -0.1463 -0.32031 -0.13681 C -0.32656 -0.12732 -0.33489 -0.11297 -0.33975 -0.10255 C -0.34461 -0.09213 -0.34635 -0.08612 -0.34948 -0.07477 C -0.3526 -0.06343 -0.35659 -0.04653 -0.3585 -0.03403 C -0.36041 -0.02153 -0.36041 -0.01112 -0.36059 0.00023 C -0.36076 0.01157 -0.36059 0.02291 -0.3592 0.03449 C -0.35781 0.04606 -0.35538 0.0581 -0.35225 0.06967 C -0.34913 0.08125 -0.34514 0.09328 -0.34045 0.10393 C -0.33576 0.11458 -0.33055 0.12338 -0.32378 0.13356 C -0.31701 0.14375 -0.30868 0.15578 -0.30017 0.16504 C -0.29166 0.1743 -0.28298 0.18217 -0.27309 0.18912 C -0.26319 0.19606 -0.25208 0.20185 -0.24045 0.20671 C -0.22882 0.21157 -0.21389 0.21643 -0.20364 0.21875 C -0.1934 0.22106 -0.18611 0.2206 -0.17864 0.2206 E">
                                      <p:cBhvr>
                                        <p:cTn id="351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047 C 0.00087 0.00533 0.00122 0.01019 0.0007 0.01713 C 0.00018 0.02408 -0.00052 0.03264 -0.00208 0.04213 C -0.00364 0.05162 -0.00625 0.06366 -0.00902 0.07361 C -0.0118 0.08357 -0.01441 0.09236 -0.01875 0.10232 C -0.02309 0.11227 -0.02934 0.12431 -0.03541 0.1338 C -0.04149 0.14329 -0.04809 0.15116 -0.05486 0.1588 C -0.06163 0.16644 -0.06753 0.17315 -0.07569 0.18009 C -0.08385 0.18704 -0.09461 0.19514 -0.10416 0.20047 C -0.11371 0.20579 -0.12378 0.20949 -0.13333 0.2125 C -0.14288 0.21551 -0.15416 0.21736 -0.1618 0.21898 C -0.16944 0.2206 -0.1717 0.22199 -0.17916 0.22176 C -0.18663 0.22153 -0.19809 0.21922 -0.20694 0.21713 C -0.21579 0.21505 -0.2243 0.21273 -0.23263 0.20972 C -0.24097 0.20672 -0.24947 0.20324 -0.25763 0.19861 C -0.26579 0.19398 -0.27447 0.18797 -0.28194 0.18195 C -0.28941 0.17593 -0.29583 0.16945 -0.30208 0.1625 C -0.30833 0.15556 -0.31354 0.14931 -0.31944 0.14028 C -0.32534 0.13125 -0.33229 0.12014 -0.3375 0.1088 C -0.3427 0.09746 -0.34739 0.08449 -0.35069 0.07269 C -0.35399 0.06088 -0.3559 0.0507 -0.35763 0.03843 C -0.35937 0.02616 -0.36093 0.01181 -0.36111 -0.00046 C -0.36128 -0.01273 -0.36006 -0.02245 -0.35833 -0.03472 C -0.35659 -0.04699 -0.35451 -0.06088 -0.35069 -0.07361 C -0.34687 -0.08634 -0.34079 -0.10092 -0.33541 -0.11157 C -0.33003 -0.12222 -0.32465 -0.12893 -0.31875 -0.1375 C -0.31284 -0.14606 -0.30746 -0.15532 -0.3 -0.16342 C -0.29253 -0.17153 -0.28333 -0.17986 -0.2743 -0.18657 C -0.26527 -0.19328 -0.25607 -0.19953 -0.24583 -0.20416 C -0.23559 -0.20879 -0.22204 -0.21203 -0.2125 -0.21435 C -0.20295 -0.21666 -0.19392 -0.21713 -0.18819 -0.21805 C -0.18246 -0.21898 -0.1802 -0.21944 -0.17777 -0.21991 E">
                                      <p:cBhvr>
                                        <p:cTn id="364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06:30:28Z</dcterms:created>
  <dc:creator>Dmitriy Slobozhaninov</dc:creator>
  <dc:description/>
  <dc:language>en-US</dc:language>
  <cp:lastModifiedBy>.</cp:lastModifiedBy>
  <dcterms:modified xsi:type="dcterms:W3CDTF">2012-06-05T11:32:41Z</dcterms:modified>
  <cp:revision>13</cp:revision>
  <dc:subject/>
  <dc:title>Слайд 1</dc:title>
</cp:coreProperties>
</file>