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DEE-1AAD-4923-ADE9-330CF1ED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77B-D75F-4C87-8847-C1F91C5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733-CD6C-4595-87C9-8466213A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89E-DBA1-4504-885D-5A33D10A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5532-694D-4625-AC2B-918DAA4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AEA8-84B5-409C-B063-439E396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215A-0638-4D77-BBF1-A70F6F0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46B-A4FE-47C5-B7AA-EAB7609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AC4C-B589-41F1-B4F2-B3240DD7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AB29-A9D8-4140-8EBC-0202734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206-7EBA-4D16-B9F4-47EABE9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AD5-37E3-4C69-8813-BA6EB5D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2AD4-F80F-45AF-B42D-5D0035A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648-8E0E-48D7-8454-C436D7B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1288-9998-4704-8969-75668FD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FC52-EFBF-4547-98A4-BB54AE41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DE73-BDEA-4AFA-A7D7-CEA3FF2F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55E-7386-42C7-A534-D576BF25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58E-A097-4588-94BD-4FEBE7EF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DE2-90BC-4344-9657-EF9140FD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60E-FB8E-4987-A181-A8172973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225-F4F2-4F56-987A-29001C3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4B0-FD62-4A35-9C66-FAF078C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D75-2E9A-46DB-A8F9-3FC9EB5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1F0-7D87-476E-864D-02599E3F02E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D5F-723E-4C05-B634-B2DEC4D0E28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0560" y="2708280"/>
            <a:ext cx="87850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Презентация предназначена для дете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старшего дошкольного возраста 5 -7лет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енний ден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од корми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то весною потрудится, тот осенью повеселит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ле самой лютой зимы все равно придет вес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ной трех погожих дней подряд не бывает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1"/>
          <p:cNvPicPr/>
          <p:nvPr/>
        </p:nvPicPr>
        <p:blipFill>
          <a:blip r:embed="rId1"/>
          <a:stretch/>
        </p:blipFill>
        <p:spPr>
          <a:xfrm>
            <a:off x="7020000" y="1989000"/>
            <a:ext cx="1838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видел грача – весну встречай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4" descr="Грач на снегу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2405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Грач"/>
          <p:cNvPicPr/>
          <p:nvPr/>
        </p:nvPicPr>
        <p:blipFill>
          <a:blip r:embed="rId2"/>
          <a:stretch/>
        </p:blipFill>
        <p:spPr>
          <a:xfrm>
            <a:off x="468360" y="1628640"/>
            <a:ext cx="41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Грачи"/>
          <p:cNvPicPr/>
          <p:nvPr/>
        </p:nvPicPr>
        <p:blipFill>
          <a:blip r:embed="rId3"/>
          <a:stretch/>
        </p:blipFill>
        <p:spPr>
          <a:xfrm>
            <a:off x="2771640" y="4076640"/>
            <a:ext cx="3600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102960"/>
            <a:ext cx="7570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колько проталинок, столько и жаворонк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4" descr="1568858440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253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32491"/>
          <p:cNvPicPr/>
          <p:nvPr/>
        </p:nvPicPr>
        <p:blipFill>
          <a:blip r:embed="rId2"/>
          <a:stretch/>
        </p:blipFill>
        <p:spPr>
          <a:xfrm>
            <a:off x="5076720" y="1484280"/>
            <a:ext cx="3708360" cy="231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полевой-жаворонок1"/>
          <p:cNvPicPr/>
          <p:nvPr/>
        </p:nvPicPr>
        <p:blipFill>
          <a:blip r:embed="rId3"/>
          <a:stretch/>
        </p:blipFill>
        <p:spPr>
          <a:xfrm>
            <a:off x="3348000" y="3789360"/>
            <a:ext cx="28083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440" y="475920"/>
            <a:ext cx="80168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Без первой ласточки весна не обходитс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Picture 4" descr="Ласточка"/>
          <p:cNvPicPr/>
          <p:nvPr/>
        </p:nvPicPr>
        <p:blipFill>
          <a:blip r:embed="rId1"/>
          <a:stretch/>
        </p:blipFill>
        <p:spPr>
          <a:xfrm>
            <a:off x="3419640" y="2637000"/>
            <a:ext cx="2663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Апрельский цветок ломает снеж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         Апрель с водою – май с травою.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4" descr="flower_22"/>
          <p:cNvPicPr/>
          <p:nvPr/>
        </p:nvPicPr>
        <p:blipFill>
          <a:blip r:embed="rId1"/>
          <a:stretch/>
        </p:blipFill>
        <p:spPr>
          <a:xfrm rot="1906200">
            <a:off x="5148000" y="2781000"/>
            <a:ext cx="3456000" cy="19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look"/>
          <p:cNvPicPr/>
          <p:nvPr/>
        </p:nvPicPr>
        <p:blipFill>
          <a:blip r:embed="rId2"/>
          <a:stretch/>
        </p:blipFill>
        <p:spPr>
          <a:xfrm rot="19582200">
            <a:off x="879480" y="2873160"/>
            <a:ext cx="33829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словицы и поговорки о весн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стория появле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словиц и поговорок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старые времена наш народ устно выражал все свое творчество используя для этого всевозможное пословицы и поговорки. Каждая пословица или поговорка представляет собой очень яркое высказывание, и такие пословицы зачастую очень коротенькие и благодаря этому многие их очень легко запоминают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родных пословиц существует большое количество, однако многие из них уже были позабыты на сегодняшний день. В пословицах зачастую отражается ценный опыт других людей, которые хотят передать свой опыт и мудрость другим именно таким способом. В поговорках можно также встретить много чего из жизни челове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62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 для того чтобы найти наиболее крылатые выражения нужно отправиться в прошл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стати, самыми древними пословицами считаются, те которые были найдены археологами в Египте. Эти пословицы вошли в жизнь многих людей, однако не всем людям удалось понять, что за мысли были изложены в каждой пословиц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поэтому у нас сейчас очень популярны старые пословицы нашего народа, потому что они наиболее понятливы для наших людей. В современных сборниках пословиц, можно найти мудрые высказывания различных философов всех времен. И в наши дни люди все еще не перестают придумывать новые более современные пословиц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ловиц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ложившиеся в народе пословицы – это своеобразные притчи, уложенные в формат коротенького афоризм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учительные истории. Они являют собой определенны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вод или суждение, поучение или приговор, которо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сказывается обиняком, но между тем остается кристально ясным. Богатейший их запас в народной сокровищнице позволяет подобрать выразительную, подходящую идеально для конкретного случая пословицу при любом повороте разговора, подытоживая поток предшествующих мысл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5" descr="Пословицы"/>
          <p:cNvPicPr/>
          <p:nvPr/>
        </p:nvPicPr>
        <p:blipFill>
          <a:blip r:embed="rId1"/>
          <a:stretch/>
        </p:blipFill>
        <p:spPr>
          <a:xfrm>
            <a:off x="5364000" y="0"/>
            <a:ext cx="3422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928000" cy="741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говор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зываемые поговорками словосочет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являют собой специфический оборот речи, которы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пособен в афористично – сжатой форме отобража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ределенное явление жизни. Относясь к числ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лых жанров фольклора, поговорки зачастую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ладают юмористическим характеро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Поговорки"/>
          <p:cNvPicPr/>
          <p:nvPr/>
        </p:nvPicPr>
        <p:blipFill>
          <a:blip r:embed="rId1"/>
          <a:stretch/>
        </p:blipFill>
        <p:spPr>
          <a:xfrm>
            <a:off x="4932360" y="103320"/>
            <a:ext cx="38876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Пословицы и поговорки о весн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ною сверху печет, а снизу морози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тушка весна всем крас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зиму кончает, весну начин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ухой март, а май мокрый делают хлеб добры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— не весна, а предвесень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с водой, апрель с травой, а май с цвета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679663570"/>
          <p:cNvPicPr/>
          <p:nvPr/>
        </p:nvPicPr>
        <p:blipFill>
          <a:blip r:embed="rId1"/>
          <a:stretch/>
        </p:blipFill>
        <p:spPr>
          <a:xfrm>
            <a:off x="6300720" y="1700280"/>
            <a:ext cx="24386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0:04:06Z</dcterms:created>
  <dc:creator>Admin</dc:creator>
  <dc:description/>
  <dc:language>en-US</dc:language>
  <cp:lastModifiedBy>Admin</cp:lastModifiedBy>
  <dcterms:modified xsi:type="dcterms:W3CDTF">2019-05-31T12:04:38Z</dcterms:modified>
  <cp:revision>8</cp:revision>
  <dc:subject/>
  <dc:title>Пословицы и поговорки о весне</dc:title>
</cp:coreProperties>
</file>