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860-3888-4DF9-A21E-8EA2A679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113-C349-4C3D-A053-B3D604B5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FB8-4DA6-4A53-8E12-FF9FEDC2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FEA-814D-4B32-A0E0-71F0594E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5E29-15AE-41C0-A1DF-657FA356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6B07-03ED-453A-A1E4-414F1814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DC79-28C9-4C3B-BDC3-1CC4B114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20E1-828D-4EFC-8535-1DEEED00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6CE0-0704-4FF8-9143-E6B8F447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12B8-8BA2-4E2B-9436-A8595DC9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1122-E792-4685-AAF1-CD2D2936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931-81EF-41B8-AA78-7C085646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E358-97D4-475C-9B59-92332BBA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C160-7DB0-4AD4-A45D-5254A123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EDFE-C277-4177-B44E-494A8A5A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E060-90CF-4FE6-B515-E4EF36B6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38CB-64B0-4829-B604-78BFBF65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2CB-5F76-4497-837C-2F418679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B13-6D7E-48DB-9F5F-C5382B57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ED0-96F7-44A5-81EE-01A3DBB2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BE1-F5EF-4B31-B8F1-5D80A9EE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76C-2685-48AE-B351-DBD23F45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CA7-F739-41AF-9E4E-46B3D872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94B-4731-4B65-A92B-0F4DE60C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C65C-A953-4DED-A462-429BCDB1DC8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6CEF-6B31-4076-968A-E80831C41A7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50560" y="2708280"/>
            <a:ext cx="87850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4d"/>
                </a:solidFill>
                <a:latin typeface="Times New Roman"/>
                <a:ea typeface="Times New Roman"/>
              </a:rPr>
              <a:t>Презентация предназначена для детей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4d"/>
                </a:solidFill>
                <a:latin typeface="Times New Roman"/>
                <a:ea typeface="Times New Roman"/>
              </a:rPr>
              <a:t>старшего дошкольного возраста 5 -7лет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сенний день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од корми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то весною потрудится, тот осенью повеселитс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сле самой лютой зимы все равно придет весн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сной трех погожих дней подряд не бывает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7" descr="1"/>
          <p:cNvPicPr/>
          <p:nvPr/>
        </p:nvPicPr>
        <p:blipFill>
          <a:blip r:embed="rId1"/>
          <a:stretch/>
        </p:blipFill>
        <p:spPr>
          <a:xfrm>
            <a:off x="7020000" y="1989000"/>
            <a:ext cx="1838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404640"/>
            <a:ext cx="82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Увидел грача – весну встречай.</a:t>
            </a:r>
            <a:r>
              <a:rPr b="0" lang="ru-RU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Picture 4" descr="Грач на снегу"/>
          <p:cNvPicPr/>
          <p:nvPr/>
        </p:nvPicPr>
        <p:blipFill>
          <a:blip r:embed="rId1"/>
          <a:stretch/>
        </p:blipFill>
        <p:spPr>
          <a:xfrm>
            <a:off x="4859280" y="1628640"/>
            <a:ext cx="3745080" cy="2405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Грач"/>
          <p:cNvPicPr/>
          <p:nvPr/>
        </p:nvPicPr>
        <p:blipFill>
          <a:blip r:embed="rId2"/>
          <a:stretch/>
        </p:blipFill>
        <p:spPr>
          <a:xfrm>
            <a:off x="468360" y="1628640"/>
            <a:ext cx="41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Грачи"/>
          <p:cNvPicPr/>
          <p:nvPr/>
        </p:nvPicPr>
        <p:blipFill>
          <a:blip r:embed="rId3"/>
          <a:stretch/>
        </p:blipFill>
        <p:spPr>
          <a:xfrm>
            <a:off x="2771640" y="4076640"/>
            <a:ext cx="36007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102960"/>
            <a:ext cx="75708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Сколько проталинок, столько и жаворонков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Picture 4" descr="1568858440"/>
          <p:cNvPicPr/>
          <p:nvPr/>
        </p:nvPicPr>
        <p:blipFill>
          <a:blip r:embed="rId1"/>
          <a:stretch/>
        </p:blipFill>
        <p:spPr>
          <a:xfrm>
            <a:off x="611280" y="1557360"/>
            <a:ext cx="3816360" cy="2535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32491"/>
          <p:cNvPicPr/>
          <p:nvPr/>
        </p:nvPicPr>
        <p:blipFill>
          <a:blip r:embed="rId2"/>
          <a:stretch/>
        </p:blipFill>
        <p:spPr>
          <a:xfrm>
            <a:off x="5076720" y="1484280"/>
            <a:ext cx="3708360" cy="231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полевой-жаворонок1"/>
          <p:cNvPicPr/>
          <p:nvPr/>
        </p:nvPicPr>
        <p:blipFill>
          <a:blip r:embed="rId3"/>
          <a:stretch/>
        </p:blipFill>
        <p:spPr>
          <a:xfrm>
            <a:off x="3348000" y="3789360"/>
            <a:ext cx="28083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440" y="475920"/>
            <a:ext cx="801684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Без первой ласточки весна не обходитс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1" name="Picture 4" descr="Ласточка"/>
          <p:cNvPicPr/>
          <p:nvPr/>
        </p:nvPicPr>
        <p:blipFill>
          <a:blip r:embed="rId1"/>
          <a:stretch/>
        </p:blipFill>
        <p:spPr>
          <a:xfrm>
            <a:off x="3419640" y="2637000"/>
            <a:ext cx="2663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Апрельский цветок ломает снеж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              Апрель с водою – май с травою.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Picture 4" descr="flower_22"/>
          <p:cNvPicPr/>
          <p:nvPr/>
        </p:nvPicPr>
        <p:blipFill>
          <a:blip r:embed="rId1"/>
          <a:stretch/>
        </p:blipFill>
        <p:spPr>
          <a:xfrm rot="1906200">
            <a:off x="5148000" y="2781000"/>
            <a:ext cx="3456000" cy="1957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look"/>
          <p:cNvPicPr/>
          <p:nvPr/>
        </p:nvPicPr>
        <p:blipFill>
          <a:blip r:embed="rId2"/>
          <a:stretch/>
        </p:blipFill>
        <p:spPr>
          <a:xfrm rot="19582200">
            <a:off x="879480" y="2873160"/>
            <a:ext cx="338292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ословицы и поговорки о весне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        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История появлени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ословиц и поговорок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старые времена наш народ устно выражал все свое творчество используя для этого всевозможное пословицы и поговорки. Каждая пословица или поговорка представляет собой очень яркое высказывание, и такие пословицы зачастую очень коротенькие и благодаря этому многие их очень легко запоминают. 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родных пословиц существует большое количество, однако многие из них уже были позабыты на сегодняшний день. В пословицах зачастую отражается ценный опыт других людей, которые хотят передать свой опыт и мудрость другим именно таким способом. В поговорках можно также встретить много чего из жизни человек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3628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о для того чтобы найти наиболее крылатые выражения нужно отправиться в прошло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стати, самыми древними пословицами считаются, те которые были найдены археологами в Египте. Эти пословицы вошли в жизнь многих людей, однако не всем людям удалось понять, что за мысли были изложены в каждой пословиц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поэтому у нас сейчас очень популярны старые пословицы нашего народа, потому что они наиболее понятливы для наших людей. В современных сборниках пословиц, можно найти мудрые высказывания различных философов всех времен. И в наши дни люди все еще не перестают придумывать новые более современные пословиц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словиц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ложившиеся в народе пословицы – это своеобразные притчи, уложенные в формат коротенького афоризм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учительные истории. Они являют собой определенный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ывод или суждение, поучение или приговор, которо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ысказывается обиняком, но между тем остается кристально ясным. Богатейший их запас в народной сокровищнице позволяет подобрать выразительную, подходящую идеально для конкретного случая пословицу при любом повороте разговора, подытоживая поток предшествующих мысле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5" descr="Пословицы"/>
          <p:cNvPicPr/>
          <p:nvPr/>
        </p:nvPicPr>
        <p:blipFill>
          <a:blip r:embed="rId1"/>
          <a:stretch/>
        </p:blipFill>
        <p:spPr>
          <a:xfrm>
            <a:off x="5364000" y="0"/>
            <a:ext cx="3422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928000" cy="741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говор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зываемые поговорками словосочета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являют собой специфический оборот речи, который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пособен в афористично – сжатой форме отобража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пределенное явление жизни. Относясь к числ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алых жанров фольклора, поговорки зачастую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бладают юмористическим характеро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Поговорки"/>
          <p:cNvPicPr/>
          <p:nvPr/>
        </p:nvPicPr>
        <p:blipFill>
          <a:blip r:embed="rId1"/>
          <a:stretch/>
        </p:blipFill>
        <p:spPr>
          <a:xfrm>
            <a:off x="4932360" y="103320"/>
            <a:ext cx="38876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6666"/>
                </a:solidFill>
                <a:uFillTx/>
                <a:latin typeface="Verdana"/>
              </a:rPr>
              <a:t>Пословицы и поговорки о весне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 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сною сверху печет, а снизу морози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тушка весна всем красн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рт зиму кончает, весну начин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ухой март, а май мокрый делают хлеб добры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рт — не весна, а предвесень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арт с водой, апрель с травой, а май с цветам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5" descr="679663570"/>
          <p:cNvPicPr/>
          <p:nvPr/>
        </p:nvPicPr>
        <p:blipFill>
          <a:blip r:embed="rId1"/>
          <a:stretch/>
        </p:blipFill>
        <p:spPr>
          <a:xfrm>
            <a:off x="6300720" y="1700280"/>
            <a:ext cx="24386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0:04:06Z</dcterms:created>
  <dc:creator>Admin</dc:creator>
  <dc:description/>
  <dc:language>en-US</dc:language>
  <cp:lastModifiedBy>Admin</cp:lastModifiedBy>
  <dcterms:modified xsi:type="dcterms:W3CDTF">2019-05-31T12:04:38Z</dcterms:modified>
  <cp:revision>8</cp:revision>
  <dc:subject/>
  <dc:title>Пословицы и поговорки о весне</dc:title>
</cp:coreProperties>
</file>