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49C-B37C-44E7-A4B8-489CC239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8AF-ABAD-4585-864D-2EC68798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498-706A-4B6F-848B-F0EF815E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02B-9239-47D8-B83A-2B0432CF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1818-B758-47D7-9F13-ACFBC824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A640-E52C-4D7C-8EDE-DDBE2C74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19CE-D274-4DFF-8EE1-E891BC9A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862E-0A25-4EDD-A58C-92116FF8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05D9-3BF1-4CEF-A75D-4C3BE900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BA00-F87B-4797-AE00-438A6364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09AB-0882-47D0-85C1-A7C619DC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18FC-57B2-43E6-8206-7010ADC9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6EEB-A8E0-4A98-9C9D-67C6458D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A16B-B5EF-4CDB-9FC9-DCC01FC4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1C93-AC08-4142-99E1-D8153ABD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3D96-C074-4D69-B1DF-83ED43FE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361D-D978-4510-A6E4-6FD69CA7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DDB-F2A2-4871-9EF9-8955F160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EB2A-70A3-44C7-8C83-68B4EE7F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124-2664-4698-889C-F08C8967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ED9-7DE8-4E4B-BC19-D28C9DD2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A07-D7FF-40A5-A3CD-05249FE4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3CC-D045-4671-87E8-6BF51F5C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240-E3AE-43F4-A6D3-A1A8F556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1" i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B10E-5CD6-4BC4-938C-D4F4976A4D7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203040" y="6388200"/>
            <a:ext cx="533520" cy="279360"/>
          </a:xfrm>
          <a:custGeom>
            <a:avLst/>
            <a:gdLst>
              <a:gd name="textAreaLeft" fmla="*/ 18000 w 533520"/>
              <a:gd name="textAreaRight" fmla="*/ 515520 w 5335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41226" h="21600">
                <a:moveTo>
                  <a:pt x="0" y="0"/>
                </a:moveTo>
                <a:lnTo>
                  <a:pt x="41226" y="0"/>
                </a:lnTo>
                <a:lnTo>
                  <a:pt x="41226" y="21600"/>
                </a:lnTo>
                <a:lnTo>
                  <a:pt x="0" y="21600"/>
                </a:lnTo>
                <a:close/>
              </a:path>
              <a:path fill="lightenLess" w="41226" h="21600">
                <a:moveTo>
                  <a:pt x="0" y="0"/>
                </a:moveTo>
                <a:lnTo>
                  <a:pt x="41226" y="0"/>
                </a:lnTo>
                <a:lnTo>
                  <a:pt x="39826" y="1400"/>
                </a:lnTo>
                <a:lnTo>
                  <a:pt x="1400" y="1400"/>
                </a:lnTo>
                <a:close/>
              </a:path>
              <a:path fill="darken" w="41226" h="21600">
                <a:moveTo>
                  <a:pt x="41226" y="0"/>
                </a:moveTo>
                <a:lnTo>
                  <a:pt x="41226" y="21600"/>
                </a:lnTo>
                <a:lnTo>
                  <a:pt x="39826" y="20200"/>
                </a:lnTo>
                <a:lnTo>
                  <a:pt x="39826" y="1400"/>
                </a:lnTo>
                <a:close/>
              </a:path>
              <a:path fill="darkenLess" w="41226" h="21600">
                <a:moveTo>
                  <a:pt x="41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6" y="20200"/>
                </a:lnTo>
                <a:close/>
              </a:path>
              <a:path fill="lighten" w="41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6" h="21600">
                <a:moveTo>
                  <a:pt x="13607" y="10800"/>
                </a:moveTo>
                <a:lnTo>
                  <a:pt x="27620" y="3794"/>
                </a:lnTo>
                <a:lnTo>
                  <a:pt x="27620" y="17806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787320" y="6388200"/>
            <a:ext cx="533520" cy="279360"/>
          </a:xfrm>
          <a:custGeom>
            <a:avLst/>
            <a:gdLst>
              <a:gd name="textAreaLeft" fmla="*/ 18000 w 533520"/>
              <a:gd name="textAreaRight" fmla="*/ 515520 w 5335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41226" h="21600">
                <a:moveTo>
                  <a:pt x="0" y="0"/>
                </a:moveTo>
                <a:lnTo>
                  <a:pt x="41226" y="0"/>
                </a:lnTo>
                <a:lnTo>
                  <a:pt x="41226" y="21600"/>
                </a:lnTo>
                <a:lnTo>
                  <a:pt x="0" y="21600"/>
                </a:lnTo>
                <a:close/>
              </a:path>
              <a:path fill="lightenLess" w="41226" h="21600">
                <a:moveTo>
                  <a:pt x="0" y="0"/>
                </a:moveTo>
                <a:lnTo>
                  <a:pt x="41226" y="0"/>
                </a:lnTo>
                <a:lnTo>
                  <a:pt x="39826" y="1400"/>
                </a:lnTo>
                <a:lnTo>
                  <a:pt x="1400" y="1400"/>
                </a:lnTo>
                <a:close/>
              </a:path>
              <a:path fill="darken" w="41226" h="21600">
                <a:moveTo>
                  <a:pt x="41226" y="0"/>
                </a:moveTo>
                <a:lnTo>
                  <a:pt x="41226" y="21600"/>
                </a:lnTo>
                <a:lnTo>
                  <a:pt x="39826" y="20200"/>
                </a:lnTo>
                <a:lnTo>
                  <a:pt x="39826" y="1400"/>
                </a:lnTo>
                <a:close/>
              </a:path>
              <a:path fill="darkenLess" w="41226" h="21600">
                <a:moveTo>
                  <a:pt x="41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6" y="20200"/>
                </a:lnTo>
                <a:close/>
              </a:path>
              <a:path fill="lighten" w="41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6" h="21600">
                <a:moveTo>
                  <a:pt x="13607" y="3794"/>
                </a:moveTo>
                <a:lnTo>
                  <a:pt x="27620" y="10800"/>
                </a:lnTo>
                <a:lnTo>
                  <a:pt x="13607" y="17806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6769080" y="6362640"/>
            <a:ext cx="2133720" cy="330120"/>
          </a:xfrm>
          <a:custGeom>
            <a:avLst/>
            <a:gdLst>
              <a:gd name="textAreaLeft" fmla="*/ 21240 w 2133720"/>
              <a:gd name="textAreaRight" fmla="*/ 2112480 w 213372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139482" h="21600">
                <a:moveTo>
                  <a:pt x="0" y="0"/>
                </a:moveTo>
                <a:lnTo>
                  <a:pt x="139482" y="0"/>
                </a:lnTo>
                <a:lnTo>
                  <a:pt x="139482" y="21600"/>
                </a:lnTo>
                <a:lnTo>
                  <a:pt x="0" y="21600"/>
                </a:lnTo>
                <a:close/>
              </a:path>
              <a:path fill="lightenLess" w="139482" h="21600">
                <a:moveTo>
                  <a:pt x="0" y="0"/>
                </a:moveTo>
                <a:lnTo>
                  <a:pt x="139482" y="0"/>
                </a:lnTo>
                <a:lnTo>
                  <a:pt x="138082" y="1400"/>
                </a:lnTo>
                <a:lnTo>
                  <a:pt x="1400" y="1400"/>
                </a:lnTo>
                <a:close/>
              </a:path>
              <a:path fill="darken" w="139482" h="21600">
                <a:moveTo>
                  <a:pt x="139482" y="0"/>
                </a:moveTo>
                <a:lnTo>
                  <a:pt x="139482" y="21600"/>
                </a:lnTo>
                <a:lnTo>
                  <a:pt x="138082" y="20200"/>
                </a:lnTo>
                <a:lnTo>
                  <a:pt x="138082" y="1400"/>
                </a:lnTo>
                <a:close/>
              </a:path>
              <a:path fill="darkenLess" w="139482" h="21600">
                <a:moveTo>
                  <a:pt x="1394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082" y="20200"/>
                </a:lnTo>
                <a:close/>
              </a:path>
              <a:path fill="lighten" w="1394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fdbfd"/>
              </a:gs>
              <a:gs pos="50000">
                <a:srgbClr val="ffffff"/>
              </a:gs>
              <a:gs pos="100000">
                <a:srgbClr val="cfd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содержание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7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7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F3A0-A133-4FF9-B8E6-94392054926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ahoma"/>
              </a:rPr>
              <a:t>Click to edit the outline text format</a:t>
            </a: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38000" y="1577520"/>
            <a:ext cx="815148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ahoma"/>
              </a:rPr>
              <a:t>Решение тригонометрических неравенств</a:t>
            </a:r>
            <a:endParaRPr b="1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254772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Список литературы</a:t>
            </a: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1557360"/>
            <a:ext cx="820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58c"/>
                </a:solidFill>
                <a:latin typeface="Tahoma"/>
              </a:rPr>
              <a:t>Алгебра: учебник для 10-11 кл.</a:t>
            </a: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1" i="1" lang="ru-RU" sz="3200" spc="-1" strike="noStrike">
                <a:solidFill>
                  <a:srgbClr val="40458c"/>
                </a:solidFill>
                <a:latin typeface="Tahoma"/>
              </a:rPr>
              <a:t>Ш.А.Алимов и др.</a:t>
            </a: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1" i="1" lang="ru-RU" sz="3200" spc="-1" strike="noStrike">
                <a:solidFill>
                  <a:srgbClr val="40458c"/>
                </a:solidFill>
                <a:latin typeface="Tahoma"/>
              </a:rPr>
              <a:t>М., Просвещение, 2003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58c"/>
                </a:solidFill>
                <a:latin typeface="Tahoma"/>
              </a:rPr>
              <a:t>Изучение алгебры 10-11: кн. Для учителя</a:t>
            </a: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1" i="1" lang="ru-RU" sz="3200" spc="-1" strike="noStrike">
                <a:solidFill>
                  <a:srgbClr val="40458c"/>
                </a:solidFill>
                <a:latin typeface="Tahoma"/>
              </a:rPr>
              <a:t>Н.Е.Федорова</a:t>
            </a: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1" i="1" lang="ru-RU" sz="3200" spc="-1" strike="noStrike">
                <a:solidFill>
                  <a:srgbClr val="40458c"/>
                </a:solidFill>
                <a:latin typeface="Tahoma"/>
              </a:rPr>
              <a:t> М., Просвещение, 2004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ahoma"/>
              </a:rPr>
              <a:t>Тригонометрические неравенства</a:t>
            </a: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102280" y="743040"/>
                <a:ext cx="3095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942840" y="1859040"/>
            <a:ext cx="3598920" cy="359892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28800" y="1495440"/>
            <a:ext cx="0" cy="4267080"/>
          </a:xfrm>
          <a:prstGeom prst="line">
            <a:avLst/>
          </a:prstGeom>
          <a:ln w="28440">
            <a:solidFill>
              <a:srgbClr val="40458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7360" y="3673440"/>
            <a:ext cx="426708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62120" y="370368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56160" y="386064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08400" y="137160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76720" y="1844640"/>
            <a:ext cx="3829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. На оси абсцисс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          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6720" y="278136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. Соответствующая дуга окружности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3716280"/>
            <a:ext cx="38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3. Числовые значения граничных точек дуги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0" y="5013360"/>
            <a:ext cx="38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Решение неравенства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28960" y="362916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44600" y="1800360"/>
            <a:ext cx="0" cy="39034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52640" y="1495440"/>
            <a:ext cx="3808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0360" y="5324400"/>
            <a:ext cx="609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-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7360" y="37051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97560" y="367668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93840" y="3629160"/>
            <a:ext cx="76320" cy="75960"/>
          </a:xfrm>
          <a:prstGeom prst="flowChartConnector">
            <a:avLst/>
          </a:prstGeom>
          <a:solidFill>
            <a:srgbClr val="cfdbfd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70160" y="3573360"/>
            <a:ext cx="2489040" cy="9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70200" y="1838160"/>
            <a:ext cx="3609360" cy="3625560"/>
            <a:chOff x="970200" y="1838160"/>
            <a:chExt cx="3609360" cy="3625560"/>
          </a:xfrm>
        </p:grpSpPr>
        <p:grpSp>
          <p:nvGrpSpPr>
            <p:cNvPr id="234" name=""/>
            <p:cNvGrpSpPr/>
            <p:nvPr/>
          </p:nvGrpSpPr>
          <p:grpSpPr>
            <a:xfrm>
              <a:off x="970200" y="1850760"/>
              <a:ext cx="3609360" cy="3606120"/>
              <a:chOff x="970200" y="1850760"/>
              <a:chExt cx="3609360" cy="3606120"/>
            </a:xfrm>
          </p:grpSpPr>
          <p:sp>
            <p:nvSpPr>
              <p:cNvPr id="235" name=""/>
              <p:cNvSpPr/>
              <p:nvPr/>
            </p:nvSpPr>
            <p:spPr>
              <a:xfrm flipV="1">
                <a:off x="970200" y="1856520"/>
                <a:ext cx="3600000" cy="359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04760">
                <a:solidFill>
                  <a:srgbClr val="ff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980280" y="1850760"/>
                <a:ext cx="3599280" cy="36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04760">
                <a:solidFill>
                  <a:srgbClr val="ff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flipH="1" flipV="1">
              <a:off x="2257560" y="5197320"/>
              <a:ext cx="96768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04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257560" y="1838160"/>
              <a:ext cx="96768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04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 flipV="1">
            <a:off x="559080" y="1506240"/>
            <a:ext cx="4316760" cy="431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74" y="1113"/>
                </a:moveTo>
                <a:arcTo wR="10800" hR="10800" stAng="-3825833" swAng="2697214"/>
                <a:lnTo>
                  <a:pt x="10800" y="10800"/>
                </a:lnTo>
                <a:close/>
              </a:path>
              <a:path fill="none" w="21600" h="21600">
                <a:moveTo>
                  <a:pt x="15574" y="1113"/>
                </a:moveTo>
                <a:arcTo wR="10800" hR="10800" stAng="-3825833" swAng="2697214"/>
              </a:path>
            </a:pathLst>
          </a:custGeom>
          <a:noFill/>
          <a:ln w="28440">
            <a:solidFill>
              <a:srgbClr val="ff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564000" y="5661000"/>
                <a:ext cx="5292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084720" y="2349360"/>
                <a:ext cx="116388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&g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2181240" y="1876320"/>
            <a:ext cx="111240" cy="11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81240" y="5318280"/>
            <a:ext cx="111240" cy="11088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5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55640" y="3551400"/>
            <a:ext cx="1573200" cy="87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14480" y="1830240"/>
            <a:ext cx="3598920" cy="359892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00440" y="1467000"/>
            <a:ext cx="0" cy="4267080"/>
          </a:xfrm>
          <a:prstGeom prst="line">
            <a:avLst/>
          </a:prstGeom>
          <a:ln w="1260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28640" y="3645000"/>
            <a:ext cx="42670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33760" y="367524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364500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38360" y="137304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19640" y="1844640"/>
            <a:ext cx="30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. На оси абсцисс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62400" y="2751120"/>
            <a:ext cx="38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. Соответствующая дуга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72120" y="3429000"/>
            <a:ext cx="38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3. Числовые значения граничных точек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00240" y="360036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11560" y="1901880"/>
            <a:ext cx="0" cy="34574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52520" y="1847880"/>
            <a:ext cx="111240" cy="11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52520" y="5289480"/>
            <a:ext cx="111240" cy="11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19240" y="1414440"/>
            <a:ext cx="3812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85880" y="5319720"/>
            <a:ext cx="852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π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-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28640" y="367668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91160" y="367668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65480" y="3600360"/>
            <a:ext cx="75960" cy="76320"/>
          </a:xfrm>
          <a:prstGeom prst="flowChartConnector">
            <a:avLst/>
          </a:prstGeom>
          <a:solidFill>
            <a:srgbClr val="40458c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956880" y="1828440"/>
            <a:ext cx="3599640" cy="3609360"/>
            <a:chOff x="956880" y="1828440"/>
            <a:chExt cx="3599640" cy="3609360"/>
          </a:xfrm>
        </p:grpSpPr>
        <p:sp>
          <p:nvSpPr>
            <p:cNvPr id="264" name=""/>
            <p:cNvSpPr/>
            <p:nvPr/>
          </p:nvSpPr>
          <p:spPr>
            <a:xfrm flipH="1" flipV="1">
              <a:off x="956160" y="1828440"/>
              <a:ext cx="3599640" cy="360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81" y="479"/>
                  </a:moveTo>
                  <a:arcTo wR="10800" hR="10800" stAng="-4372201" swAng="43722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81" y="479"/>
                  </a:moveTo>
                  <a:arcTo wR="10800" hR="10800" stAng="-4372201" swAng="4372201"/>
                </a:path>
              </a:pathLst>
            </a:custGeom>
            <a:noFill/>
            <a:ln w="104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956520" y="1839240"/>
              <a:ext cx="3599640" cy="359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67" y="445"/>
                  </a:moveTo>
                  <a:arcTo wR="10800" hR="10800" stAng="-4410273" swAng="44102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67" y="445"/>
                  </a:moveTo>
                  <a:arcTo wR="10800" hR="10800" stAng="-4410273" swAng="4410273"/>
                </a:path>
              </a:pathLst>
            </a:custGeom>
            <a:noFill/>
            <a:ln w="104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 flipV="1" rot="10482600">
            <a:off x="627120" y="1409400"/>
            <a:ext cx="4316040" cy="43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74" y="1113"/>
                </a:moveTo>
                <a:arcTo wR="10800" hR="10800" stAng="-3825833" swAng="2697214"/>
                <a:lnTo>
                  <a:pt x="10800" y="10800"/>
                </a:lnTo>
                <a:close/>
              </a:path>
              <a:path fill="none" w="21600" h="21600">
                <a:moveTo>
                  <a:pt x="15574" y="1113"/>
                </a:moveTo>
                <a:arcTo wR="10800" hR="10800" stAng="-3825833" swAng="2697214"/>
              </a:path>
            </a:pathLst>
          </a:custGeom>
          <a:noFill/>
          <a:ln w="28440">
            <a:solidFill>
              <a:srgbClr val="ff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435640" y="831960"/>
                <a:ext cx="30589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4788000" y="5013360"/>
            <a:ext cx="38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Решение неравенства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276720" y="5589720"/>
                <a:ext cx="5573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227640" y="2311560"/>
                <a:ext cx="10796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&l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ahoma"/>
              </a:rPr>
              <a:t>Тригонометрические неравенства</a:t>
            </a: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763720" y="1481040"/>
            <a:ext cx="0" cy="4267440"/>
          </a:xfrm>
          <a:prstGeom prst="line">
            <a:avLst/>
          </a:prstGeom>
          <a:ln w="28440">
            <a:solidFill>
              <a:srgbClr val="40458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2084040" y="2307960"/>
            <a:ext cx="1452600" cy="93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707080" y="806400"/>
                <a:ext cx="2303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977760" y="1844640"/>
            <a:ext cx="3598920" cy="359892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2280" y="3659040"/>
            <a:ext cx="426708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40040" y="368928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16600" y="367344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368440" y="1176480"/>
            <a:ext cx="381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15040" y="1700280"/>
            <a:ext cx="33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На оси ординат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                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15040" y="2708280"/>
            <a:ext cx="38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. Соответствующая дуга окружности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15040" y="3716280"/>
            <a:ext cx="38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3. Числовые значения граничных точек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01960" y="300528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087200" y="3068640"/>
            <a:ext cx="3368520" cy="126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8480" y="2624040"/>
            <a:ext cx="3808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2643120"/>
            <a:ext cx="9237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π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-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40040" y="550404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01960" y="15001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36720" y="3068640"/>
            <a:ext cx="76320" cy="76320"/>
          </a:xfrm>
          <a:prstGeom prst="flowChartConnector">
            <a:avLst/>
          </a:prstGeom>
          <a:solidFill>
            <a:srgbClr val="ff0066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964440" y="1788840"/>
            <a:ext cx="3609360" cy="3599640"/>
            <a:chOff x="964440" y="1788840"/>
            <a:chExt cx="3609360" cy="3599640"/>
          </a:xfrm>
        </p:grpSpPr>
        <p:sp>
          <p:nvSpPr>
            <p:cNvPr id="291" name=""/>
            <p:cNvSpPr/>
            <p:nvPr/>
          </p:nvSpPr>
          <p:spPr>
            <a:xfrm flipH="1" flipV="1" rot="5400000">
              <a:off x="973440" y="1787760"/>
              <a:ext cx="3599640" cy="360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81" y="479"/>
                  </a:moveTo>
                  <a:arcTo wR="10800" hR="10800" stAng="-4372201" swAng="43722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81" y="479"/>
                  </a:moveTo>
                  <a:arcTo wR="10800" hR="10800" stAng="-4372201" swAng="4372201"/>
                </a:path>
              </a:pathLst>
            </a:custGeom>
            <a:noFill/>
            <a:ln w="104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rot="5400000">
              <a:off x="963720" y="1789200"/>
              <a:ext cx="3599640" cy="359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67" y="445"/>
                  </a:moveTo>
                  <a:arcTo wR="10800" hR="10800" stAng="-4410273" swAng="44102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67" y="445"/>
                  </a:moveTo>
                  <a:arcTo wR="10800" hR="10800" stAng="-4410273" swAng="4410273"/>
                </a:path>
              </a:pathLst>
            </a:custGeom>
            <a:noFill/>
            <a:ln w="104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V="1" rot="15555600">
            <a:off x="645840" y="1528920"/>
            <a:ext cx="4316760" cy="431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74" y="1113"/>
                </a:moveTo>
                <a:arcTo wR="10800" hR="10800" stAng="-3825833" swAng="2697214"/>
                <a:lnTo>
                  <a:pt x="10800" y="10800"/>
                </a:lnTo>
                <a:close/>
              </a:path>
              <a:path fill="none" w="21600" h="21600">
                <a:moveTo>
                  <a:pt x="15574" y="1113"/>
                </a:moveTo>
                <a:arcTo wR="10800" hR="10800" stAng="-3825833" swAng="2697214"/>
              </a:path>
            </a:pathLst>
          </a:custGeom>
          <a:noFill/>
          <a:ln w="12600">
            <a:solidFill>
              <a:srgbClr val="6699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425760" y="5445000"/>
                <a:ext cx="56023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757840" y="819000"/>
                <a:ext cx="23036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372360" y="2205000"/>
                <a:ext cx="11649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&g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5435640" y="4797360"/>
            <a:ext cx="34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Решение неравенства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09800" y="3030480"/>
            <a:ext cx="110880" cy="11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25840" y="3046320"/>
            <a:ext cx="111240" cy="11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ahoma"/>
              </a:rPr>
              <a:t>Тригонометрические неравенства</a:t>
            </a: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500"/>
                            </p:stCondLst>
                            <p:childTnLst>
                              <p:par>
                                <p:cTn id="2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630760" y="790560"/>
                <a:ext cx="23767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42960" y="1830240"/>
            <a:ext cx="3598920" cy="359892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28920" y="1467000"/>
            <a:ext cx="0" cy="4267080"/>
          </a:xfrm>
          <a:prstGeom prst="line">
            <a:avLst/>
          </a:prstGeom>
          <a:ln w="28440">
            <a:solidFill>
              <a:srgbClr val="40458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7120" y="3645000"/>
            <a:ext cx="426744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67160" y="367524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1440" y="3659040"/>
            <a:ext cx="38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09960" y="123840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03640" y="1557360"/>
            <a:ext cx="38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. На оси ординат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22720" y="2428920"/>
            <a:ext cx="38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. Соответствующая дуга окружности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03640" y="3327480"/>
            <a:ext cx="38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3. Числовые значения граничных точек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85920" y="3067200"/>
            <a:ext cx="38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684360" y="3141720"/>
            <a:ext cx="352728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67360" y="2781360"/>
            <a:ext cx="8190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π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-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1160" y="2685960"/>
            <a:ext cx="609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554688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90840" y="160344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9320" y="3117960"/>
            <a:ext cx="75960" cy="75960"/>
          </a:xfrm>
          <a:prstGeom prst="flowChartConnector">
            <a:avLst/>
          </a:prstGeom>
          <a:solidFill>
            <a:srgbClr val="40458c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1228320" y="4362480"/>
            <a:ext cx="2362320" cy="7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24240" y="1868760"/>
            <a:ext cx="3625560" cy="3609360"/>
            <a:chOff x="624240" y="1868760"/>
            <a:chExt cx="3625560" cy="3609360"/>
          </a:xfrm>
        </p:grpSpPr>
        <p:grpSp>
          <p:nvGrpSpPr>
            <p:cNvPr id="320" name=""/>
            <p:cNvGrpSpPr/>
            <p:nvPr/>
          </p:nvGrpSpPr>
          <p:grpSpPr>
            <a:xfrm>
              <a:off x="631080" y="1868760"/>
              <a:ext cx="3606120" cy="3609360"/>
              <a:chOff x="631080" y="1868760"/>
              <a:chExt cx="3606120" cy="3609360"/>
            </a:xfrm>
          </p:grpSpPr>
          <p:sp>
            <p:nvSpPr>
              <p:cNvPr id="321" name=""/>
              <p:cNvSpPr/>
              <p:nvPr/>
            </p:nvSpPr>
            <p:spPr>
              <a:xfrm flipV="1" rot="5400000">
                <a:off x="630720" y="1868760"/>
                <a:ext cx="3600000" cy="359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04760">
                <a:solidFill>
                  <a:srgbClr val="ff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5400000">
                <a:off x="637200" y="1878120"/>
                <a:ext cx="3599280" cy="36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04760">
                <a:solidFill>
                  <a:srgbClr val="ff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 flipH="1" flipV="1" rot="5400000">
              <a:off x="273600" y="3506760"/>
              <a:ext cx="96768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04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rot="5400000">
              <a:off x="3632400" y="3506760"/>
              <a:ext cx="96768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04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 flipV="1" rot="5400000">
            <a:off x="235800" y="1521000"/>
            <a:ext cx="4316040" cy="431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74" y="1113"/>
                </a:moveTo>
                <a:arcTo wR="10800" hR="10800" stAng="-3825833" swAng="2697214"/>
                <a:lnTo>
                  <a:pt x="10800" y="10800"/>
                </a:lnTo>
                <a:close/>
              </a:path>
              <a:path fill="none" w="21600" h="21600">
                <a:moveTo>
                  <a:pt x="15574" y="1113"/>
                </a:moveTo>
                <a:arcTo wR="10800" hR="10800" stAng="-3825833" swAng="2697214"/>
              </a:path>
            </a:pathLst>
          </a:custGeom>
          <a:noFill/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132000" y="5661000"/>
                <a:ext cx="5827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940360" y="1989000"/>
                <a:ext cx="1152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&l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5076720" y="4797360"/>
            <a:ext cx="34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Решение неравенства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62040" y="3092400"/>
            <a:ext cx="111240" cy="11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19480" y="3092400"/>
            <a:ext cx="111240" cy="11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ahoma"/>
              </a:rPr>
              <a:t>Тригонометрические неравенства</a:t>
            </a:r>
            <a:endParaRPr b="1" i="1" lang="en-US" sz="3200" spc="-1" strike="noStrike">
              <a:solidFill>
                <a:srgbClr val="ff0066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500"/>
                            </p:stCondLst>
                            <p:childTnLst>
                              <p:par>
                                <p:cTn id="2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500"/>
                            </p:stCondLst>
                            <p:childTnLst>
                              <p:par>
                                <p:cTn id="2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48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Примеры</a:t>
            </a: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942840" y="1557360"/>
            <a:ext cx="3598920" cy="359892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728800" y="1176480"/>
            <a:ext cx="0" cy="4267080"/>
          </a:xfrm>
          <a:prstGeom prst="line">
            <a:avLst/>
          </a:prstGeom>
          <a:ln w="28440">
            <a:solidFill>
              <a:srgbClr val="40458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57360" y="3371760"/>
            <a:ext cx="426708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62120" y="340200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81680" y="338616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43280" y="105264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89400" y="2014560"/>
            <a:ext cx="0" cy="27176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57360" y="340344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19520" y="340344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9400" y="3289320"/>
            <a:ext cx="469800" cy="7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218960" y="1382760"/>
            <a:ext cx="4314600" cy="431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09" y="4844"/>
                </a:moveTo>
                <a:arcTo wR="10800" hR="10800" stAng="-2008039" swAng="4183538"/>
                <a:lnTo>
                  <a:pt x="10800" y="10800"/>
                </a:lnTo>
                <a:close/>
              </a:path>
              <a:path fill="none" w="21600" h="21600">
                <a:moveTo>
                  <a:pt x="19809" y="4844"/>
                </a:moveTo>
                <a:arcTo wR="10800" hR="10800" stAng="-2008039" swAng="4183538"/>
              </a:path>
            </a:pathLst>
          </a:custGeom>
          <a:noFill/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28440" y="1563840"/>
            <a:ext cx="3600360" cy="360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75" y="5439"/>
                </a:moveTo>
                <a:arcTo wR="10800" hR="10800" stAng="-1785741" swAng="3519594"/>
                <a:lnTo>
                  <a:pt x="10800" y="10800"/>
                </a:lnTo>
                <a:close/>
              </a:path>
              <a:path fill="none" w="21600" h="21600">
                <a:moveTo>
                  <a:pt x="20175" y="5439"/>
                </a:moveTo>
                <a:arcTo wR="10800" hR="10800" stAng="-1785741" swAng="3519594"/>
              </a:path>
            </a:pathLst>
          </a:custGeom>
          <a:noFill/>
          <a:ln w="7632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51240" y="3327480"/>
            <a:ext cx="76320" cy="75960"/>
          </a:xfrm>
          <a:prstGeom prst="flowChartConnector">
            <a:avLst/>
          </a:prstGeom>
          <a:solidFill>
            <a:srgbClr val="cfdbfd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29280" y="4229280"/>
            <a:ext cx="110880" cy="11088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226040" y="2378160"/>
            <a:ext cx="110880" cy="11088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026040" y="1197000"/>
                <a:ext cx="2833920" cy="17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&gt;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635280" y="5373720"/>
                <a:ext cx="52894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4416480" y="1944720"/>
                <a:ext cx="377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343400" y="3962520"/>
                <a:ext cx="620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908520" y="3371760"/>
                <a:ext cx="3729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5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257480" y="1844640"/>
            <a:ext cx="3598560" cy="359892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43080" y="1463760"/>
            <a:ext cx="0" cy="4267080"/>
          </a:xfrm>
          <a:prstGeom prst="line">
            <a:avLst/>
          </a:prstGeom>
          <a:ln w="28440">
            <a:solidFill>
              <a:srgbClr val="40458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71640" y="3659040"/>
            <a:ext cx="426708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76400" y="368928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5960" y="367344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00360" y="133812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09720" y="2111400"/>
            <a:ext cx="271800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62240" y="548640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2000" y="1554120"/>
            <a:ext cx="3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1407240" y="3758400"/>
            <a:ext cx="3294000" cy="7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 rot="10800000">
            <a:off x="972360" y="1484280"/>
            <a:ext cx="4315680" cy="43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09" y="4844"/>
                </a:moveTo>
                <a:arcTo wR="10800" hR="10800" stAng="-2008039" swAng="1703333"/>
                <a:lnTo>
                  <a:pt x="10800" y="10800"/>
                </a:lnTo>
                <a:close/>
              </a:path>
              <a:path fill="none" w="21600" h="21600">
                <a:moveTo>
                  <a:pt x="19809" y="4844"/>
                </a:moveTo>
                <a:arcTo wR="10800" hR="10800" stAng="-2008039" swAng="1703333"/>
              </a:path>
            </a:pathLst>
          </a:custGeom>
          <a:noFill/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44520" y="1851480"/>
            <a:ext cx="3600000" cy="359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92" y="1684"/>
                </a:moveTo>
                <a:arcTo wR="10800" hR="10800" stAng="-3454272" swAng="17705505"/>
                <a:lnTo>
                  <a:pt x="10800" y="10800"/>
                </a:lnTo>
                <a:close/>
              </a:path>
              <a:path fill="none" w="21600" h="21600">
                <a:moveTo>
                  <a:pt x="16592" y="1684"/>
                </a:moveTo>
                <a:arcTo wR="10800" hR="10800" stAng="-3454272" swAng="17705505"/>
              </a:path>
            </a:pathLst>
          </a:custGeom>
          <a:noFill/>
          <a:ln w="7632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016080" y="2073240"/>
            <a:ext cx="76320" cy="76320"/>
          </a:xfrm>
          <a:prstGeom prst="flowChartConnector">
            <a:avLst/>
          </a:prstGeom>
          <a:solidFill>
            <a:srgbClr val="40458c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041560" y="2060640"/>
            <a:ext cx="111240" cy="111240"/>
          </a:xfrm>
          <a:prstGeom prst="flowChartConnector">
            <a:avLst/>
          </a:prstGeom>
          <a:solidFill>
            <a:srgbClr val="ff00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943440" y="2038320"/>
            <a:ext cx="110880" cy="111240"/>
          </a:xfrm>
          <a:prstGeom prst="flowChartConnector">
            <a:avLst/>
          </a:prstGeom>
          <a:solidFill>
            <a:srgbClr val="ff00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482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Примеры</a:t>
            </a: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084720" y="692280"/>
                <a:ext cx="2783160" cy="17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≤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4067280" y="5300640"/>
                <a:ext cx="48402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592280" y="1338120"/>
                <a:ext cx="495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140360" y="1411200"/>
                <a:ext cx="1052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3132000" y="1785960"/>
                <a:ext cx="3733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64310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Система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неравенств:</a:t>
            </a:r>
            <a:endParaRPr b="1" i="1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514440" y="2144880"/>
            <a:ext cx="3598920" cy="359856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300400" y="1781280"/>
            <a:ext cx="0" cy="4267080"/>
          </a:xfrm>
          <a:prstGeom prst="line">
            <a:avLst/>
          </a:prstGeom>
          <a:ln w="28440">
            <a:solidFill>
              <a:srgbClr val="40458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3959280"/>
            <a:ext cx="426708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33720" y="3989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27640" y="400536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981080" y="1476360"/>
            <a:ext cx="381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3914640"/>
            <a:ext cx="3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16200" y="2085840"/>
            <a:ext cx="0" cy="39038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52480" y="2162160"/>
            <a:ext cx="111240" cy="111240"/>
          </a:xfrm>
          <a:prstGeom prst="flowChartConnector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5603760"/>
            <a:ext cx="111240" cy="111240"/>
          </a:xfrm>
          <a:prstGeom prst="flowChartConnector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704960"/>
            <a:ext cx="3808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71600" y="5610240"/>
            <a:ext cx="609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-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399096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191120" y="399096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65440" y="3914640"/>
            <a:ext cx="75960" cy="76320"/>
          </a:xfrm>
          <a:prstGeom prst="flowChartConnector">
            <a:avLst/>
          </a:prstGeom>
          <a:solidFill>
            <a:srgbClr val="40458c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41400" y="3876840"/>
            <a:ext cx="2362320" cy="75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80880" y="3444840"/>
            <a:ext cx="390384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5400000">
            <a:off x="1581120" y="2706480"/>
            <a:ext cx="137160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11280" y="3429000"/>
            <a:ext cx="38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114800" y="2924280"/>
            <a:ext cx="3808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320" y="2943360"/>
            <a:ext cx="852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π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-t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87720" y="3384720"/>
            <a:ext cx="111240" cy="11088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3394080"/>
            <a:ext cx="110880" cy="111240"/>
          </a:xfrm>
          <a:prstGeom prst="flowChartConnector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362320" y="178128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362320" y="58039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60440" y="3419640"/>
            <a:ext cx="76320" cy="75960"/>
          </a:xfrm>
          <a:prstGeom prst="flowChartConnector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789440" y="2308320"/>
            <a:ext cx="38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. Отметить решение первого неравенства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788000" y="3103560"/>
            <a:ext cx="38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. Отметить решение второго неравенства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788000" y="3824280"/>
            <a:ext cx="410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3. Выделить общее решение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(пересечение дуг)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4903920"/>
            <a:ext cx="39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4. Записать общее решение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74840" y="2123640"/>
            <a:ext cx="3671280" cy="366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32" y="361"/>
                </a:moveTo>
                <a:arcTo wR="10800" hR="10800" stAng="-6291166" swAng="12578586"/>
                <a:lnTo>
                  <a:pt x="10800" y="10800"/>
                </a:lnTo>
                <a:close/>
              </a:path>
              <a:path fill="none" w="21600" h="21600">
                <a:moveTo>
                  <a:pt x="8032" y="361"/>
                </a:moveTo>
                <a:arcTo wR="10800" hR="10800" stAng="-6291166" swAng="12578586"/>
              </a:path>
            </a:pathLst>
          </a:cu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200" y="2178000"/>
            <a:ext cx="3527640" cy="35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2" y="7188"/>
                </a:moveTo>
                <a:arcTo wR="10800" hR="10800" stAng="-9627763" swAng="8443187"/>
                <a:lnTo>
                  <a:pt x="10800" y="10800"/>
                </a:lnTo>
                <a:close/>
              </a:path>
              <a:path fill="none" w="21600" h="21600">
                <a:moveTo>
                  <a:pt x="622" y="7188"/>
                </a:moveTo>
                <a:arcTo wR="10800" hR="10800" stAng="-9627763" swAng="8443187"/>
              </a:path>
            </a:pathLst>
          </a:cu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 flipV="1" rot="15010800">
            <a:off x="505440" y="2161800"/>
            <a:ext cx="3636720" cy="363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" y="9995"/>
                </a:moveTo>
                <a:arcTo wR="10800" hR="10800" stAng="-10543651" swAng="5181141"/>
                <a:lnTo>
                  <a:pt x="10800" y="10800"/>
                </a:lnTo>
                <a:close/>
              </a:path>
              <a:path fill="none" w="21600" h="21600">
                <a:moveTo>
                  <a:pt x="30" y="9995"/>
                </a:moveTo>
                <a:arcTo wR="10800" hR="10800" stAng="-10543651" swAng="5181141"/>
              </a:path>
            </a:pathLst>
          </a:cu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35520" y="3325680"/>
            <a:ext cx="179280" cy="179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52480" y="2143080"/>
            <a:ext cx="179640" cy="179280"/>
          </a:xfrm>
          <a:prstGeom prst="ellipse">
            <a:avLst/>
          </a:prstGeom>
          <a:solidFill>
            <a:srgbClr val="ff00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6588000" y="620640"/>
                <a:ext cx="227808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t</m:t>
                            </m:r>
                            <m:r>
                              <m:t xml:space="preserve">≥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492360" y="5516640"/>
                <a:ext cx="53866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1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6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6100"/>
                            </p:stCondLst>
                            <p:childTnLst>
                              <p:par>
                                <p:cTn id="429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6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1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26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4100"/>
                            </p:stCondLst>
                            <p:childTnLst>
                              <p:par>
                                <p:cTn id="4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91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600"/>
                            </p:stCondLst>
                            <p:childTnLst>
                              <p:par>
                                <p:cTn id="4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1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6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6100"/>
                            </p:stCondLst>
                            <p:childTnLst>
                              <p:par>
                                <p:cTn id="47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86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1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26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4100"/>
                            </p:stCondLst>
                            <p:childTnLst>
                              <p:par>
                                <p:cTn id="4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91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600"/>
                            </p:stCondLst>
                            <p:childTnLst>
                              <p:par>
                                <p:cTn id="4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300"/>
                            </p:stCondLst>
                            <p:childTnLst>
                              <p:par>
                                <p:cTn id="50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8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83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332000" y="189000"/>
            <a:ext cx="2901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Пример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52560" y="1658880"/>
            <a:ext cx="3598920" cy="359892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2738160" y="1244520"/>
            <a:ext cx="11160" cy="4318200"/>
          </a:xfrm>
          <a:prstGeom prst="line">
            <a:avLst/>
          </a:prstGeom>
          <a:ln w="28440">
            <a:solidFill>
              <a:srgbClr val="40458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66720" y="3473280"/>
            <a:ext cx="426708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571840" y="3503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91040" y="3487680"/>
            <a:ext cx="38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62320" y="1143000"/>
            <a:ext cx="38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66720" y="35053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29240" y="35053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00440" y="1244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800440" y="531828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273560" y="3429000"/>
            <a:ext cx="71280" cy="71280"/>
          </a:xfrm>
          <a:prstGeom prst="flowChartConnector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316400" y="3390840"/>
            <a:ext cx="915840" cy="7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711520" y="3429000"/>
            <a:ext cx="75960" cy="76320"/>
          </a:xfrm>
          <a:prstGeom prst="flowChartConnector">
            <a:avLst/>
          </a:prstGeom>
          <a:solidFill>
            <a:srgbClr val="40458c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1736640" y="2442960"/>
            <a:ext cx="196524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305240" y="1582560"/>
            <a:ext cx="0" cy="39038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609480" y="3449520"/>
            <a:ext cx="461808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96840" y="1708200"/>
            <a:ext cx="3526920" cy="35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51"/>
                </a:moveTo>
                <a:arcTo wR="10800" hR="10800" stAng="-10752544" swAng="10615292"/>
                <a:lnTo>
                  <a:pt x="10800" y="10800"/>
                </a:lnTo>
                <a:close/>
              </a:path>
              <a:path fill="none" w="21600" h="21600">
                <a:moveTo>
                  <a:pt x="1" y="10651"/>
                </a:moveTo>
                <a:arcTo wR="10800" hR="10800" stAng="-10752544" swAng="10615292"/>
              </a:path>
            </a:pathLst>
          </a:cu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173480" y="2440080"/>
            <a:ext cx="179280" cy="179280"/>
          </a:xfrm>
          <a:prstGeom prst="ellipse">
            <a:avLst/>
          </a:prstGeom>
          <a:solidFill>
            <a:srgbClr val="ff00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 rot="21460200">
            <a:off x="668880" y="1594800"/>
            <a:ext cx="3930120" cy="36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33" y="5365"/>
                </a:moveTo>
                <a:arcTo wR="10800" hR="10800" stAng="-1813051" swAng="3404299"/>
                <a:lnTo>
                  <a:pt x="10800" y="10800"/>
                </a:lnTo>
                <a:close/>
              </a:path>
              <a:path fill="none" w="21600" h="21600">
                <a:moveTo>
                  <a:pt x="20133" y="5365"/>
                </a:moveTo>
                <a:arcTo wR="10800" hR="10800" stAng="-1813051" swAng="3404299"/>
              </a:path>
            </a:pathLst>
          </a:custGeom>
          <a:noFill/>
          <a:ln w="763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81640" y="3367080"/>
            <a:ext cx="179280" cy="17928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 rot="15010800">
            <a:off x="654480" y="1541520"/>
            <a:ext cx="3753720" cy="4132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82" y="230"/>
                </a:moveTo>
                <a:arcTo wR="10800" hR="10800" stAng="-6110989" swAng="1611427"/>
                <a:lnTo>
                  <a:pt x="10800" y="10800"/>
                </a:lnTo>
                <a:close/>
              </a:path>
              <a:path fill="none" w="21600" h="21600">
                <a:moveTo>
                  <a:pt x="8582" y="230"/>
                </a:moveTo>
                <a:arcTo wR="10800" hR="10800" stAng="-6110989" swAng="1611427"/>
              </a:path>
            </a:pathLst>
          </a:cu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084720" y="333360"/>
                <a:ext cx="2784600" cy="22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t</m:t>
                            </m:r>
                            <m:r>
                              <m:t xml:space="preserve">≥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3635280" y="5084640"/>
                <a:ext cx="52149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427640" y="1844640"/>
                <a:ext cx="295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4716360" y="3068640"/>
            <a:ext cx="50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30305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24360" y="3500280"/>
                <a:ext cx="3747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6000"/>
                            </p:stCondLst>
                            <p:childTnLst>
                              <p:par>
                                <p:cTn id="5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6500"/>
                            </p:stCondLst>
                            <p:childTnLst>
                              <p:par>
                                <p:cTn id="568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9000"/>
                            </p:stCondLst>
                            <p:childTnLst>
                              <p:par>
                                <p:cTn id="57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500"/>
                            </p:stCondLst>
                            <p:childTnLst>
                              <p:par>
                                <p:cTn id="58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9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0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70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1:52:17Z</dcterms:created>
  <dc:creator>Dmitriy Slobozhaninov</dc:creator>
  <dc:description/>
  <dc:language>en-US</dc:language>
  <cp:lastModifiedBy>.</cp:lastModifiedBy>
  <dcterms:modified xsi:type="dcterms:W3CDTF">2012-06-05T11:34:24Z</dcterms:modified>
  <cp:revision>8</cp:revision>
  <dc:subject/>
  <dc:title>Определение синуса, косинуса и тангенса угла</dc:title>
</cp:coreProperties>
</file>