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026-4E84-4836-A4C7-DF3D67C4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A8A-8615-4781-8495-35E01A63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558-2995-4D10-9CD1-70A1CCB4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D83-B5A4-4C0D-BA06-3114D6AE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DD2E-E093-4E17-A776-DA3D6EEC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7A46-ADCB-4696-944F-42DB4B9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DEB1-FFA2-4BA8-AC16-EB7D0FC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06BA-0DAF-452F-B4D6-4A82F30D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EB6C-3A62-4D73-B485-854FD02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FFC4-A9C0-4CF8-BB42-CD5A047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BA91-8435-4616-9958-261CAD33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8FB-6F60-4336-AE16-5B554192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A08E-7B1C-4CC9-B437-67E7A91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9180-DC02-4380-981C-7A9DF96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ABE0-8224-4D2E-AEC2-A462BCC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6275-B9BA-41AB-B26B-7A6D0B44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A8DD-6473-4216-BDB1-5A24DAD5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965-63D2-4A7A-BA17-9FC263AB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44E-CF4A-4A91-B578-AD5FAA7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527-CED0-4498-9CC8-A8276A0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8CE-F0E6-4535-87D1-17B5D2D6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D4D-1B98-4374-8B63-BB08A33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610-7045-4AAA-ACE5-AD2637C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E5A-8872-443F-BF04-95CDDD0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60D-03DB-4C62-B8DE-DBA4BFB7C8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8D68-AC37-40ED-8795-BFDE98539E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Мини-проект</a:t>
            </a:r>
            <a:br>
              <a:rPr sz="24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«Государственная система охраны материнства и детства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6920" y="3886200"/>
            <a:ext cx="453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Кляйн В.В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16ЗНПСм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истеме охраны материнства и детства первичная медико-санитарная помощь занимала и занимает важное место. В настоящее время планируется возрастание роли амбулаторно-поликлинического звена, перенос части функций стационара в поликлин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следние годы расширяется объем оздоровительных и превентивных мероприятий в образовательных учреждениях. Во всех регионах России формируется сеть школ, содействующих укреплению здоровья обучающихся, где, помимо создания благоприятных условий среды, активно используются современные оздоровительные технологии, в том числе и в самом образовательном процесс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Для снижения уровня заболеваемости школьников необходимо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ершенствование деятельности детских амбулаторно-поликлинических учреждений по оптимизации медико-социальной помощи и медицинскому обеспечению детей в образовательных учреждения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широкое использование возможностей и базы образовательных учреждений для проведения работы по сохранению и укреплению здоровья де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межведомственного подхода к охране здоровья де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иление интеграции медицинских и педагогических работников образовательных учреждений в деле улучшения здоровья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лечение родителей, общественных организаций, средств массовой информации к формированию здорового образа жизни подрастающего поко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ое внимание необходимо уделить медицинским и социально-психологическим аспектам здоровья детей из многодетных и неполных семей, семей с детьми, имеющими физические и психические ограничения, семей из районов экологических катастроф, беспризорных и безнадзорных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и-сироты и дети, оставшиеся без попечения родителей, воспитываются в домах ребенка. Заболеваемость в этих учреждениях остается высокой, а 27% воспитанников составляют дети-инвалиды. Структура инвалидности у детей, находящихся в домах ребенка, позволяет планировать мероприятия по ее профилактике, своевременной диагностике и реабилитаци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им из основных механизмов повышения эффективности и качества медицинской помощи женщинам и детям является разработка нормативных документов по организации службы охраны здоровья матери и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ечение 2007 г. было издано 13 приказов Минздрава России, в том числе по дальнейшему развитию и совершенствованию медико-генетической службы, кардиохирургической помощи детям, охране репродуктивного здоровья мальчиков и юношей-подростков. Утверждены инструкции о порядке разрешения и проведения искусственного прерывания беременности в поздние сроки по социальным показаниям, по организации работы женской консультации, по применению методов вспомогательных репродуктивных технологий, по оздоровлению беременных женщин в санаториях и санаториях-профилактор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тверждены также схемы динамического наблюдения за беременными и родильницами, гинекологическими больными, рекомендуемая структура, перечень оборудования и оснащения центров по лечению бесплодия и д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гламентирована медицинская помощь новорожденным детям в акушерских стационарах, определено раздельное финансирование койки родильницы и койки новорожденного, временная их статистическая отчетность, в том числе коек реанимации и интенсивной терапии новорожденных; снижена нагрузка на медицинский персона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ановлением Правительства Российской Федерации №255 от 6 мая 2007 г. субъектам Российской Федерации рекомендовано оказывать бесплатную медицинскую помощь беременным, роженицам, родильницам и новорожденным детям в приоритетном порядке, за счет своего и местных бюджетов, а также средств территориальных фондов обязательного медицинского страхо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амках подпрограммы «Здоровый ребенок» Федеральной целевой программы «Дети России» решаются задачи по снижению показателей материнской, младенческой и детской смертности, заболеваемости, инвалидности среди детей до 18 лет, повышению уровня здоровья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 счет средств программы проводилось оснащение лечебно-профилактических педиатрических и акушерских учреждений современным оборудованием: наркозно-дыхательной аппаратурой, реанимационными комплексами для новорожденных, электрокардиографами, цветными сенсорными прикроватными мониторами, ультразвуковыми сканерами и ингаляторами, наборами реагентов для проведения неона-тального скрининга на фенилкетонурию и врожденный гипотирео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и первого года жизни, страдающие фенилкето-нурией, обеспечены белковыми гидролизатами. На эти же средства закуплены медикаменты и оборудование, поставленные в указанные учреждения более чем 80 регионов России; осуществлены научные исследования по разработке новых методов профилактики, диагностики и лечения в педиатрии и акушерств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читывая все изложенное, к основным направлениям совершенствования охраны здоровья детей следует отнести: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обеспечение достаточного уровня финансирования системы мер по охране здоровья матери и ребенка в объеме не менее 30% консолидированного бюджета здравоохран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повышение структурной эффективности здравоохранения в части охраны материнства и детс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дальнейшее развитие специализированного коечного фонда и сети дневных стационаров для детей с созданием межрайонных специализированных и реанимационно-консультативных центр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мониторинг здоровья детей и младенческой смертнос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 формирование территориальных и федерального регистра врожденных и наследственных заболеваний и пороков, внедрение мер по их профилактик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) увеличение объема профилактических мер на основе внедрения современных технологий и переноса части объемов помощи из стационарного сектора в амбулатор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) совершенствование медико-социальной и психологической помощи детям из многодетных, неполных семей, имеющих физические и психические ограничения, беспризорным и безнадзор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Материнский капитал— форма государственной поддержки родителям после рождения второго ребенка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м преимуществом материнского капитала является его социальная помощь в виде денежного довольствия. Но получить его могут не все, а лишь те родители, у которых это уже второй ребенок в семье (или еще больш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ют право на материнский капита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· Родители и ребенок, но обязательно, чтобы были гражданами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· Родители и чадо, если даже имеют двойное гражданство. Но, деньги можно будет получить и тратить только на территории РФ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· Родители и приемный ребенок (до 18 лет). Но, если суд РФ принимает решение об отмене прав усыновления, то сертификат теряет свою си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Матери и дет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– это те категория населения любой страны, которые нуждаются в особой поддержке и заботе со стороны государства, т.к. от них напрямую зависит будущее страны, ее демографический статус, количество работоспособного человеческого ресурса – и в целом экономическое, социальное и культурное процветание государства. Тем более в настоящее время, когда с каждым годом население России снижаетс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В результате выше сказанного были получены следующие выводы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Семья, материнство и детство охраняются в нашей стране Конституцией, международными и национальными правовыми акт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атеринство – это реализованная способность женщины к рождению, выкармливанию, воспитанию детей. В понятие «материнство» входят гарантированные законом права женщины по воспитанию, уходу и общению с детьми. В свою очередь «ребенок» определяется действующим законодательством как лицо, не достигшее 18 лет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Охрана материнства и детства – это созданные государством условия, направленные на обеспечение необходимых условий для рождения, выживания и защиты детей, их полноценного развития и для реализации семьей всех ее функций в жизни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Семейное законодательство регулирует в своих нормах семейные права детей и родителей в целях укрепления семьи. Семейное законодательство стремится установить в семье такие отношения, при которых нашли бы свое удовлетворение интересы личности (родителей и детей) и были созданы необходимые условия, обеспечивающие достойную жизнь и свободное развитие каждого члена семьи, воспитание де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Трудовой кодекс РФ 2001г. закрепляет и защищает трудовые права беременных женщин, матерей с детьми и несовершеннолетних работников, гарантируя им защиту в случае нарушения их конституционного права на тру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Нормы иных отраслей права (уголовного, административного, права социального обеспечения и др.) также максимально поддерживают и защищают интересы рассматриваемых групп. Санкции и наказание за нарушение их прав должны быть жесткими и безоговороч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ОХРАНА МАТЕРИНСТВА И ДЕТСТВ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система государственных и общественных мероприятий, направленных на обеспечение здоровья матери и ребенка, укрепление семьи, поощрение материнства, создание наиболее благоприятных условий для воспитания детей, их физического, интеллектуального и нравственного развити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Государство должно быть заинтересовано в обеспечении прав детей, молодежи, матерей. Государственная политика должна эффективно работать по направлениям, охватывающим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ддержку молодых и многодетных сем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циальную, правовую и экономическую защиту семьи, в целях обеспечения ее всестороннего развития, включая поощрение роста рождаем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казание социальной помощи неполным семьям с низкими доход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циальную помощь детям, оставшимся без попечения роди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беспечение всестороннего физического, интеллектуального и духовного развития детей и молодеж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олько при таких условиях государство будет сильным, успешным, уважаемым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«Материнство- реализованная способность женщины к рождению, выкармливанию, воспитанию детей. Понятие материнства не сводимо к биологическим аспектам репродуктивной способности; его нельзя также ограничивать отношениями между матерью и ребенком непосредственно после родов и в первый год жизни. Понятие материнства охватывает родственную связь матери и детей и в более старшем возрасте, осознание ею позитивной ответственности за здоровье и нормальное развитие детей, реализацию прав и исполнение обязанностей по отношению к детям, эмоциональные отношения с ними»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з данного рассуждения следует, материнство не сводится к биологической репродуктивной функции женщины – материнство это и отношения в связи с приемными детьми, а также последующие, можно сказать, пожизненные отношения с ребенком (детьми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Термин «ребенок» означает любого ребенка, независимо от того, состояли ли его родители в браке или нет (ст.2 Конвенции МОТ № 103). Согласно ст.1 Конвенции о правах ребенка, «ребенком является каждое человеческое существо до достижения 18-летнего возраста, если по закону, применимому к данному ребенку, он не достигает совершеннолетия раньше». Российское законодательство, прежде всего, семейное, определяет ребенка как лицо, не достигшее возраста восемнадцати лет (совершеннолетия) (п.1.ст.54 СК РФ). 18 лет - возраст гражданского совершеннолетия по российскому законодательству – с этой даты лицо считается полностью дееспособным, взрослым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и использовании термина «дети» в законодательстве значение его может быть различным. Термин «дети» может употребляться для обозначения конкретных кровных и некровных сыновей и дочерей, несовершеннолетних или, наоборот, трудоспособных детей, достигших 18 лет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Законодательство об охране здоровья граждан закрепляет право каждой женщины самой решать вопрос о материнстве. Оно обеспечивается предоставлением ей возможности: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ть бесплатные консультации по вопросам планирования семьи, пройти медико-генетические обследования с целью предупреждения наследственных заболеваний у потом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извести искусственное прерывание беременности при различных сроках беременности в зависимости от показаний, добровольную медицинскую стерилизацию при достижении 35- летнего возраста или наличии не менее двух детей (независимо от этих условий – по медицинским показаниям), искусственное оплодотворение или имплантацию эмбрион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ользоваться в период беременности, во время и после родов бесплатной специализированной медицинской помощь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ть во время беременности и в связи с рождением ребенка специальные отпуска: по беременности и родам, по уходу за ребен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ащита материнства и детства, семьи носит комплексный социально-экономический характер и осуществляется путем принятия разнообразных государственных мер по поощрению материнства, охране интересов матери и ребенка, укреплению семьи, ее социальной поддержке, обеспечению семейных прав граждан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тановление и развитие социалистической системы охраны материнства и детства тесно связаны с именем В. И. Ленина. Сразу же после Великой Октябрьской социалистической революции Коммунистическая партия и молодое советское государство в тяжелый для страны период по инициативе и при непосредственном участии В. И. Ленина провели гигантскую работу по развитию сети учреждений, которые были призваны в первую очередь сохранить жизнь и здоровье детей, спасти их от голода и инфекционных болезней, а также оказать максимальную помощь женщине-матери. К этим учреждениям относились дома матери и ребенка, дома ребенка, детские дома, ясли, детские консультации, молочные кухни. В целях усиления внимания к нуждам детей и матерей в феврале 1919 г. был издан декрет "Об учреждении Совета защиты детей", подписанный В. И. Лениным, где, в частности, указывалось, что дело снабжения детей пищей, одеждой, помещением, топливом, медицинской помощью следует считать одной из важнейших государственных задач. В 1920 г. дело охраны материнства и младенчества было передано из Народного комиссариата социального обеспечения в ведение Народного комиссариата здравоохранени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 дальнейшем на всех этапах развития социалистического государства забота об охране здоровья матери и ребенка являлась важнейшей социальной задачей общества. 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авовые нормы, обеспечивающие охрану здоровья женщины-матери и подрастающего поколения, закреплены в Конституции СССР и других законодательных актах нашего государства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Статья 35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онституции СССР гласит: "Женщина и мужчина имеют в СССР равные права. Осуществление этих прав обеспечивается предоставлением женщинам равных с мужчинами возможностей в получении образования и профессиональной подготовки, в труде, созданием условий, позволяющих женщинам сочетать труд с материнством; правовой защитой, материальной и моральн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ддержкой материнства и детства, включая предоставление оплачиваемых отпусков и других льгот беременным женщинам и матерям, постепенное сокращение рабочего времени женщин, имеющих малолетних детей"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йствующее законодательство запрещает применять женский труд на тяжелых и связанных с производственными вредностями работах, привлекать беременных к работе в ночное время, выходные дни, сверхурочно, направлять их в командиров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о оплачивает пособия по беременности и родам, многодетным семьям и одиноким матерям, семьям, имеющим детей-инвалидов, пособия на детей из малообеспеченных семей, листки нетрудоспособности по уходу за больным ребен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ям на первом и втором годах жизни из многодетных и малообеспеченных семей бесплатно отпускаются донорское молоко, молочные смеси и другие продукты детского пит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больных детей первых трех лет жизни, находящихся на амбулаторном лечении, бесплатно выдаются все медикаменты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 общем и целом, деятельность государства по защите материнства и детства можно разделить на три пласта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ринимаются соответствующие законодательные акты, прописываются гарантии и нормы реализации гарантий. Разрабатываются программы на федеральном и региональном уровня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Создаются механизмы и институты, направленные на реализацию этих гарантий и нор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арабатывается практика, совершенствуются институты и нормы, создаются дополнительные условия, корректируются в соответствии с изменением экономических, социальных и иных обстоятельств в государстве и в мире в целом, поскольку защита материнства и детства – феномены динамичные, развивающие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6T14:44:15Z</dcterms:created>
  <dc:creator>Валентина</dc:creator>
  <dc:description/>
  <dc:language>en-US</dc:language>
  <cp:lastModifiedBy>Виктория Кляйн</cp:lastModifiedBy>
  <dcterms:modified xsi:type="dcterms:W3CDTF">2019-06-01T17:02:55Z</dcterms:modified>
  <cp:revision>4</cp:revision>
  <dc:subject/>
  <dc:title>Мини-проект «Государственная система охраны материнства и детств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